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56B-8E8F-4F5B-938F-015F9BE2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E6E-FCEF-43C1-8470-7FA97405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208-1AD6-4044-B23A-3FDE0B44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1C4-BC9F-4AE9-BB08-27F5388C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F6B-D766-4348-A04D-4F82B0A2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1A7-BA3F-41A7-B568-87B1618B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5B1-BF81-4292-AA5B-6C8C03EE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2FD-6B8C-4C92-96FC-9998323F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1E0-0DF6-496F-9BE4-B3449609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0E4-B7A7-4718-8074-6B86D376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8F6-EF11-4255-92FD-E3851634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684-448D-4F77-905C-CF9D60CF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1E95-9E86-42DB-8FAA-05F48471D5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tionalization of water consump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676520" y="4419720"/>
            <a:ext cx="67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Conserv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7614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Chapters should be covered during this Course PPS 5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1 Function and Properties of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2 Soil and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3) Root growth and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4) Water Movement in the Soil-Plant-Atmosphere Continu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5) Factors Affecting the Absorption of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6) Transpi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7) Water deficits and Plant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8) Drought Tolerance and Water Us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9) Soil Salinity and Plant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10) Soil and Plant water status measu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ater consumption or (WU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) Water use in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) Water use in Eva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) Water use in Transpi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Factors effecting W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1) Climatic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2) Plant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3) Soil 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609480" y="9907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conservation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752480" y="1828800"/>
            <a:ext cx="55198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ationalizatio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election for drought res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819520" y="43434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election for water use efficiency ( W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onomic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lection of suitab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owing 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- Selection of suitab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owing 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-Suitable and good fert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Weeds and pests res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Using of sewag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Using of suitable irrig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5345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) Using of suitable irrigation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raditional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Based on interval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cientific meth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Based on mathematical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Using crop water stress index(CWS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Using Cumulative evaporation pan (CP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5345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ing new crops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water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ought-resist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 growing seas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Magnetic Technologies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ion of irrigation water sali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vaporat_0.tmp"/>
          <p:cNvPicPr/>
          <p:nvPr/>
        </p:nvPicPr>
        <p:blipFill>
          <a:blip r:embed="rId1"/>
          <a:stretch/>
        </p:blipFill>
        <p:spPr>
          <a:xfrm>
            <a:off x="2390760" y="1819440"/>
            <a:ext cx="436248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G1US1XCA_0.tmp"/>
          <p:cNvPicPr/>
          <p:nvPr/>
        </p:nvPicPr>
        <p:blipFill>
          <a:blip r:embed="rId1"/>
          <a:stretch/>
        </p:blipFill>
        <p:spPr>
          <a:xfrm>
            <a:off x="2133720" y="1295280"/>
            <a:ext cx="47242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infgun_0.tmp"/>
          <p:cNvPicPr/>
          <p:nvPr/>
        </p:nvPicPr>
        <p:blipFill>
          <a:blip r:embed="rId1"/>
          <a:stretch/>
        </p:blipFill>
        <p:spPr>
          <a:xfrm>
            <a:off x="2219400" y="1647720"/>
            <a:ext cx="47052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06:23:12Z</dcterms:created>
  <dc:creator> Haranatha Rao</dc:creator>
  <dc:description/>
  <dc:language>en-US</dc:language>
  <cp:lastModifiedBy>user</cp:lastModifiedBy>
  <dcterms:modified xsi:type="dcterms:W3CDTF">2012-03-04T07:40:10Z</dcterms:modified>
  <cp:revision>104</cp:revision>
  <dc:subject/>
  <dc:title>Soil-Water Relationship</dc:title>
</cp:coreProperties>
</file>