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A88-EBE8-4983-B373-1DE4E8B7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0B2F-6852-4361-899E-6E10BB74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92D-668C-4E02-8D65-190C14D3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A13-6548-4173-B48E-80863788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2EC-0D0C-43C1-818C-A3C546C1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602-6EE0-4860-8BA9-87E79DF0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199D-24AD-43B8-88B4-CE103CF4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B6B-7A56-4042-B5B5-960FA721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85C-A32D-4770-88A2-B1302570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141-9B6D-4DB0-BFB5-0F121151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BC8-04BF-4DFC-A80F-CDF051F0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517-4791-4A86-9772-0798F154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78D2-FA15-4676-B975-FAF5ABDA63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ationalization of water consump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676520" y="4419720"/>
            <a:ext cx="67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Conserv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0" y="7614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Chapters should be covered during this Course PPS 5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1 Function and Properties of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2 Soil and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3) Root growth and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4) Water Movement in the Soil-Plant-Atmosphere Continu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5) Factors Affecting the Absorption of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6) Transpi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7) Water deficits and Plant Grow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8) Drought Tolerance and Water Us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9) Soil Salinity and Plant Grow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10) Soil and Plant water status measu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ater consumption or (WU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) Water use in p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) Water use in Eva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) Water use in Transpi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Factors effecting W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1) Climatic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2) Plant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3) Soil 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609480" y="9907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conservation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752480" y="1828800"/>
            <a:ext cx="55198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ationalizatio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Selection for drought res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819520" y="434340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Selection for water use efficiency ( W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onomic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election of suitab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owing 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- Selection of suitab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owing 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-Suitable and good ferti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Weeds and pests res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Using of sewage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Using of suitable irrigatio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5345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) Using of suitable irrigation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raditional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Based on interval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cientific metho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Based on mathematical equ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Using crop water stress index(CWS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Using Cumulative evaporation pan (CP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5345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ing new crops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 water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ought-resista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rt growing seas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Magnetic Technologies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tion of irrigation water sali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Evaporat_0.tmp"/>
          <p:cNvPicPr/>
          <p:nvPr/>
        </p:nvPicPr>
        <p:blipFill>
          <a:blip r:embed="rId1"/>
          <a:stretch/>
        </p:blipFill>
        <p:spPr>
          <a:xfrm>
            <a:off x="2390760" y="1819440"/>
            <a:ext cx="436248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G1US1XCA_0.tmp"/>
          <p:cNvPicPr/>
          <p:nvPr/>
        </p:nvPicPr>
        <p:blipFill>
          <a:blip r:embed="rId1"/>
          <a:stretch/>
        </p:blipFill>
        <p:spPr>
          <a:xfrm>
            <a:off x="2133720" y="1295280"/>
            <a:ext cx="47242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infgun_0.tmp"/>
          <p:cNvPicPr/>
          <p:nvPr/>
        </p:nvPicPr>
        <p:blipFill>
          <a:blip r:embed="rId1"/>
          <a:stretch/>
        </p:blipFill>
        <p:spPr>
          <a:xfrm>
            <a:off x="2219400" y="1647720"/>
            <a:ext cx="470520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2T06:23:12Z</dcterms:created>
  <dc:creator> Haranatha Rao</dc:creator>
  <dc:description/>
  <dc:language>en-US</dc:language>
  <cp:lastModifiedBy>user</cp:lastModifiedBy>
  <dcterms:modified xsi:type="dcterms:W3CDTF">2012-03-04T07:40:10Z</dcterms:modified>
  <cp:revision>104</cp:revision>
  <dc:subject/>
  <dc:title>Soil-Water Relationship</dc:title>
</cp:coreProperties>
</file>