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A14-4352-4AEB-9821-611C9793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830-5FB3-4EE5-A212-3553F16D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ED0-FC5F-4B15-870A-48D99D00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9F3-2C56-4625-993E-FBCE261D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260-1E6B-4ABC-8BEE-80336773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38A-26F1-409B-B9B7-98CDAA15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62D-50BF-48F4-AC66-937FC28A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B7E-64D9-4729-8C74-3EF087E7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E04-E262-44FE-8E5B-B2EDA277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C2B-4BE7-4B32-BCB1-2E5C7176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385-1456-44EF-A9E3-135C3A8F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C2E-E953-477F-BC38-D987E379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A7B1-315F-49F4-9F5B-D1316586AF54}" type="slidenum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f I told you once, it must be...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2819520"/>
            <a:ext cx="5257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Comic Sans MS"/>
              </a:rPr>
              <a:t>Recurs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424-AD11-4F90-BB53-81CCCB369C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P(n) be the statement “3n belongs to S”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asis step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(1) is true, because 3 is in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uctive step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show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P(n) is true, then P(n + 1)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sume 3n is in S. Since 3n is in S and 3 is in S, it follows from the recursive definition of S tha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n + 3 = 3(n + 1) is also in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lusion of Part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76D-8113-4773-8169-E8E5BD15E6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Part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show: 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asis step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show: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 initial elements of S are in A. 3 is in A.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uctive step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show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+ y) is in A whenever x and y are in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x and y are both in A, it follows that 3 | x and 3 | y. From Theorem I, Section 2.3, it follows that 3 | (x + y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lusion of Part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verall conclus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=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DB6-0F11-4CCA-863B-DC5103195C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well-formed formulae of variables, numerals and operators from {+, -, *, /, ^} are defined b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is a well-formed formula if x is a numeral or variab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 + g), (f – g), (f * g), (f / g), (f ^ g) are well-formed formulae if f and g ar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9A4-2F48-4963-9555-A87159B873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ith this definition, we can construct formulae such a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–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(z / 3) –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(z / 3) – (6 + 5)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(z / (2 * 4)) – (6 + 5)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49B-BDF1-4CEE-AC34-DFDFD619E5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algorithm is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v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it solves a problem by reducing it to an instance of the same problem with smaller inpu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ecursive Euclidean Algorith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cedu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cd(a, b: nonnegative integers with a &lt; b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= 0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cd(a, b) := 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s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cd(a, b) := gcd(b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o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, a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F11-72A8-4B6E-9C0C-C6A2D022CB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ecursive Fibonacci Algorith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cedu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ibo(n: nonnegative intege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 = 0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bo(0) :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se i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 = 1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bo(1) :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s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ibo(n) := fibo(n – 1) + fibo(n – 2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6CF-248E-471D-821A-A606CBB53E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cursive Fibonacci Evalua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038480" y="1905120"/>
            <a:ext cx="1143000" cy="533160"/>
            <a:chOff x="4038480" y="1905120"/>
            <a:chExt cx="1143000" cy="533160"/>
          </a:xfrm>
        </p:grpSpPr>
        <p:sp>
          <p:nvSpPr>
            <p:cNvPr id="74" name=""/>
            <p:cNvSpPr/>
            <p:nvPr/>
          </p:nvSpPr>
          <p:spPr>
            <a:xfrm>
              <a:off x="4038480" y="228600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7080" y="19051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4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flipH="1">
            <a:off x="3271320" y="2438280"/>
            <a:ext cx="690840" cy="6876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2438280"/>
            <a:ext cx="6858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666880" y="335268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81400" y="335124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495680" y="335268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10200" y="335124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57400" y="426708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71920" y="426564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133720" y="2743200"/>
            <a:ext cx="1143000" cy="533520"/>
            <a:chOff x="2133720" y="2743200"/>
            <a:chExt cx="1143000" cy="533520"/>
          </a:xfrm>
        </p:grpSpPr>
        <p:sp>
          <p:nvSpPr>
            <p:cNvPr id="85" name=""/>
            <p:cNvSpPr/>
            <p:nvPr/>
          </p:nvSpPr>
          <p:spPr>
            <a:xfrm>
              <a:off x="3124080" y="3124080"/>
              <a:ext cx="152640" cy="15264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27432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3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523880" y="3657600"/>
            <a:ext cx="1148040" cy="531720"/>
            <a:chOff x="1523880" y="3657600"/>
            <a:chExt cx="1148040" cy="531720"/>
          </a:xfrm>
        </p:grpSpPr>
        <p:sp>
          <p:nvSpPr>
            <p:cNvPr id="88" name=""/>
            <p:cNvSpPr/>
            <p:nvPr/>
          </p:nvSpPr>
          <p:spPr>
            <a:xfrm>
              <a:off x="2519280" y="403704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23880" y="36576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066680" y="4951440"/>
            <a:ext cx="995400" cy="674640"/>
            <a:chOff x="1066680" y="4951440"/>
            <a:chExt cx="995400" cy="674640"/>
          </a:xfrm>
        </p:grpSpPr>
        <p:sp>
          <p:nvSpPr>
            <p:cNvPr id="91" name=""/>
            <p:cNvSpPr/>
            <p:nvPr/>
          </p:nvSpPr>
          <p:spPr>
            <a:xfrm>
              <a:off x="1909800" y="495144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66680" y="5105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95480" y="4951440"/>
            <a:ext cx="914400" cy="750600"/>
            <a:chOff x="2895480" y="4951440"/>
            <a:chExt cx="914400" cy="750600"/>
          </a:xfrm>
        </p:grpSpPr>
        <p:sp>
          <p:nvSpPr>
            <p:cNvPr id="94" name=""/>
            <p:cNvSpPr/>
            <p:nvPr/>
          </p:nvSpPr>
          <p:spPr>
            <a:xfrm>
              <a:off x="3052800" y="495144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95480" y="51814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352680" y="4037040"/>
            <a:ext cx="914400" cy="750600"/>
            <a:chOff x="3352680" y="4037040"/>
            <a:chExt cx="914400" cy="750600"/>
          </a:xfrm>
        </p:grpSpPr>
        <p:sp>
          <p:nvSpPr>
            <p:cNvPr id="97" name=""/>
            <p:cNvSpPr/>
            <p:nvPr/>
          </p:nvSpPr>
          <p:spPr>
            <a:xfrm>
              <a:off x="3662280" y="403704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52680" y="4267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876920" y="2743200"/>
            <a:ext cx="1143000" cy="533520"/>
            <a:chOff x="4876920" y="2743200"/>
            <a:chExt cx="1143000" cy="533520"/>
          </a:xfrm>
        </p:grpSpPr>
        <p:sp>
          <p:nvSpPr>
            <p:cNvPr id="100" name=""/>
            <p:cNvSpPr/>
            <p:nvPr/>
          </p:nvSpPr>
          <p:spPr>
            <a:xfrm>
              <a:off x="4876920" y="3124080"/>
              <a:ext cx="152280" cy="15264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27432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343400" y="4037040"/>
            <a:ext cx="914400" cy="750600"/>
            <a:chOff x="4343400" y="4037040"/>
            <a:chExt cx="914400" cy="750600"/>
          </a:xfrm>
        </p:grpSpPr>
        <p:sp>
          <p:nvSpPr>
            <p:cNvPr id="103" name=""/>
            <p:cNvSpPr/>
            <p:nvPr/>
          </p:nvSpPr>
          <p:spPr>
            <a:xfrm>
              <a:off x="4348080" y="403704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43400" y="4267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491080" y="4037040"/>
            <a:ext cx="986040" cy="674640"/>
            <a:chOff x="5491080" y="4037040"/>
            <a:chExt cx="986040" cy="674640"/>
          </a:xfrm>
        </p:grpSpPr>
        <p:sp>
          <p:nvSpPr>
            <p:cNvPr id="106" name=""/>
            <p:cNvSpPr/>
            <p:nvPr/>
          </p:nvSpPr>
          <p:spPr>
            <a:xfrm>
              <a:off x="5491080" y="403704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62720" y="41911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E0B-B692-481F-8332-FE4ADA3A3C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procedur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iterative_fibo(n: nonnegative integer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n = 0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th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:= 0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els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begi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 := 0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:= 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 := 1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to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n-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begi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 := x + y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 : = y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:= z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en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en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{y is the n-th Fibonacci number}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6F2-8D9C-40FF-B060-F393A25BB6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very recursive algorithm, there is an equivalent iterative algorith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cursive algorithms are often shorter, more elegant, and easier to understand than their iterative counterpar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ever, iterative algorithms are usually more efficient in their use of space and time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D85-AAC1-4E46-80D3-1B5FAEA02B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Defini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principle closely related to mathematical induc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ve defini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n object is defined in terms of itsel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recursively defin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quenc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unction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2F5-F0BD-476B-9B57-2979703F10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quen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equence {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 of powers of 2 is given b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 n = 0, 1, 2, … 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ame sequence can also be defin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vel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+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n = 0, 1, 2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Obviously, induction and recursion are similar princip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7C2-8448-43BD-8233-B04A5AABAE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use the following method to define a function with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natural number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 its domai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pecify the value of the function at zer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ive a rule for finding its value at any integer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from its values at smaller intege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ch a definition is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v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uctive defini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191-C889-4ECD-A2BD-36E8525EB9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n + 1) = 2f(n) +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1) = 2f(0) + 3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 + 3 = 9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2) = 2f(1) + 3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9 + 3 = 2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3) = 2f(2) + 3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1 + 3 = 45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4) = 2f(3) + 3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5 + 3 = 9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309-42EE-40AE-A147-8786E8D6A8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ow can we recursively define the factorial function f(n) = n! ?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n + 1) = (n + 1)f(n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1) = 1f(0) = 1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2) = 2f(1)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3) = 3f(2) = 3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= 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4) = 4f(3) = 4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 = 2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35D-9E0D-4335-9B18-65DB96550D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 famous example: The Fibonacci numbers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0, f(1)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n) = f(n – 1) + f(n - 2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1)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2) = f(1) + f(0) = 1 + 0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3) = f(2) + f(1) = 1 + 1 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4) = f(3) + f(2) = 2 + 1 =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5) = f(4) + f(3) = 3 + 2 = 5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6) = f(5) + f(4) = 5 + 3 = 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1B3-B305-4216-ADA1-950B7BB369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want to recursively define a set, we need to provide two thing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itial se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elements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ul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 the construction of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ddition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elements from elements in the se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S be recursively defined b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+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 if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) and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 is the set of positive integers divisible by 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1F7-ACB4-47B7-B688-8415B2744A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o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A be the set of all positive integers divisible by 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o show that A = S, we must show tha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 and 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Part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prove that 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, we must show that every positive integer divisible by 3 is in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will use mathematical induction to show this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47F-120C-4F2E-990B-76648DB8C7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Paul Artola</cp:lastModifiedBy>
  <dcterms:modified xsi:type="dcterms:W3CDTF">2002-08-21T05:00:13Z</dcterms:modified>
  <cp:revision>115</cp:revision>
  <dc:subject/>
  <dc:title>PowerPoint Presentation</dc:title>
</cp:coreProperties>
</file>