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0C80-E5A2-4E4E-8CAD-6DA0510A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4E-E0CC-4F87-A5B6-D8B0613D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4080-F9C4-452F-8CCE-FB6CECCD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D04-2322-41E3-B75C-8BBA48BE9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EAB-2363-45E5-80C4-3749A453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E0A6-89CF-4B35-AC2B-654E9621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18B-A6BD-4F85-B3EF-7A1D0FE0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9026-CC19-455E-B893-5F7BDE79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957-A226-4882-B1A0-C84DB170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E5A-4038-41B5-AA9C-375E6B26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B70-F588-42E6-8241-D7ACB17F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B39-AF29-429E-AD57-25AC0A1A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Fal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059C8-82B9-4F0D-91DB-DEAFC3D2E83B}" type="slidenum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f I told you once, it must be.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819520"/>
            <a:ext cx="5257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E93-44CC-44F1-9A8E-B8912D79BD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statement “3n belongs to S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(1) is true, because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P(n) is true, then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3n is in S. Since 3n is in S and 3 is in S, it follows from the recursive definition of S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n + 3 = 3(n + 1) is also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04F-1003-4C9D-96F9-E35F620C3E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initial elements of S are in A. 3 is in A.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is in A whenever x and y are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and y are both in A, it follows that 3 | x and 3 | y. From Theorem I, Section 2.3, it follows that 3 | (x + y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verall conclus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273-2981-40BF-8D30-2CE313466A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well-formed formulae of variables, numerals and operators from {+, -, *, /, ^} are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is a well-formed formula if x is a numeral or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, (f – g), (f * g), (f / g), (f ^ g) are well-formed formulae if f and g a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D8B-9D8D-4FC3-B5F7-7929B48FF9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is definition, we can construct formulae such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(2 * 4)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0A0F-09C6-4D4A-8DAB-ECC5C76E29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algorithm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solves a problem by reducing it to an instance of the same problem with smaller inpu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Euclidean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: nonnegative integers with a &lt; 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cd(a, b) :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) := gcd(b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,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048-5EFA-4A61-8F22-61357D2672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Fibonacci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: nonnegative integ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0) :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 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1) :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) := fibo(n – 1) + fibo(n – 2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948-F98D-4625-877E-B2F150F4D6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Fibonacci Evalu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038480" y="1905120"/>
            <a:ext cx="1143000" cy="533160"/>
            <a:chOff x="4038480" y="1905120"/>
            <a:chExt cx="1143000" cy="533160"/>
          </a:xfrm>
        </p:grpSpPr>
        <p:sp>
          <p:nvSpPr>
            <p:cNvPr id="74" name=""/>
            <p:cNvSpPr/>
            <p:nvPr/>
          </p:nvSpPr>
          <p:spPr>
            <a:xfrm>
              <a:off x="4038480" y="228600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1905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4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3271320" y="2438280"/>
            <a:ext cx="690840" cy="6876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91120" y="2438280"/>
            <a:ext cx="6858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6668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814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4956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102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057400" y="42670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71920" y="42656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133720" y="2743200"/>
            <a:ext cx="1143000" cy="533520"/>
            <a:chOff x="2133720" y="2743200"/>
            <a:chExt cx="1143000" cy="533520"/>
          </a:xfrm>
        </p:grpSpPr>
        <p:sp>
          <p:nvSpPr>
            <p:cNvPr id="85" name=""/>
            <p:cNvSpPr/>
            <p:nvPr/>
          </p:nvSpPr>
          <p:spPr>
            <a:xfrm>
              <a:off x="3124080" y="3124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3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3657600"/>
            <a:ext cx="1148040" cy="531720"/>
            <a:chOff x="1523880" y="3657600"/>
            <a:chExt cx="1148040" cy="531720"/>
          </a:xfrm>
        </p:grpSpPr>
        <p:sp>
          <p:nvSpPr>
            <p:cNvPr id="88" name=""/>
            <p:cNvSpPr/>
            <p:nvPr/>
          </p:nvSpPr>
          <p:spPr>
            <a:xfrm>
              <a:off x="2519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23880" y="3657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66680" y="4951440"/>
            <a:ext cx="995400" cy="674640"/>
            <a:chOff x="1066680" y="4951440"/>
            <a:chExt cx="995400" cy="674640"/>
          </a:xfrm>
        </p:grpSpPr>
        <p:sp>
          <p:nvSpPr>
            <p:cNvPr id="91" name=""/>
            <p:cNvSpPr/>
            <p:nvPr/>
          </p:nvSpPr>
          <p:spPr>
            <a:xfrm>
              <a:off x="1909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6680" y="5105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95480" y="4951440"/>
            <a:ext cx="914400" cy="750600"/>
            <a:chOff x="2895480" y="4951440"/>
            <a:chExt cx="914400" cy="750600"/>
          </a:xfrm>
        </p:grpSpPr>
        <p:sp>
          <p:nvSpPr>
            <p:cNvPr id="94" name=""/>
            <p:cNvSpPr/>
            <p:nvPr/>
          </p:nvSpPr>
          <p:spPr>
            <a:xfrm>
              <a:off x="3052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95480" y="5181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352680" y="4037040"/>
            <a:ext cx="914400" cy="750600"/>
            <a:chOff x="3352680" y="4037040"/>
            <a:chExt cx="914400" cy="750600"/>
          </a:xfrm>
        </p:grpSpPr>
        <p:sp>
          <p:nvSpPr>
            <p:cNvPr id="97" name=""/>
            <p:cNvSpPr/>
            <p:nvPr/>
          </p:nvSpPr>
          <p:spPr>
            <a:xfrm>
              <a:off x="3662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5268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876920" y="2743200"/>
            <a:ext cx="1143000" cy="533520"/>
            <a:chOff x="4876920" y="2743200"/>
            <a:chExt cx="1143000" cy="533520"/>
          </a:xfrm>
        </p:grpSpPr>
        <p:sp>
          <p:nvSpPr>
            <p:cNvPr id="100" name=""/>
            <p:cNvSpPr/>
            <p:nvPr/>
          </p:nvSpPr>
          <p:spPr>
            <a:xfrm>
              <a:off x="4876920" y="3124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055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343400" y="4037040"/>
            <a:ext cx="914400" cy="750600"/>
            <a:chOff x="4343400" y="4037040"/>
            <a:chExt cx="914400" cy="750600"/>
          </a:xfrm>
        </p:grpSpPr>
        <p:sp>
          <p:nvSpPr>
            <p:cNvPr id="103" name=""/>
            <p:cNvSpPr/>
            <p:nvPr/>
          </p:nvSpPr>
          <p:spPr>
            <a:xfrm>
              <a:off x="4348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4340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491080" y="4037040"/>
            <a:ext cx="986040" cy="674640"/>
            <a:chOff x="5491080" y="4037040"/>
            <a:chExt cx="986040" cy="674640"/>
          </a:xfrm>
        </p:grpSpPr>
        <p:sp>
          <p:nvSpPr>
            <p:cNvPr id="106" name=""/>
            <p:cNvSpPr/>
            <p:nvPr/>
          </p:nvSpPr>
          <p:spPr>
            <a:xfrm>
              <a:off x="5491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62720" y="4191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457-4241-44D5-B99B-96D20E2A9F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iterative_fibo(n: nonnegative integer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 := 1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-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 := x +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 =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z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{y is the n-th Fibonacci number}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51D-9C76-4B25-B7A0-4F37E23C83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recursive algorithm, there is an equivalent iterative algorith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algorithms are often shorter, more elegant, and easier to understand than their iterative counterpar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terative algorithms are usually more efficient in their use of space and tim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115-CDFC-4AEE-9D20-871A0805C5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Defin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inciple closely related to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 object is defined in terms of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recursively defi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ECF6-5350-4ED5-92A6-74EED3B2B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qu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quence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of powers of 2 is given b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n = 0, 1, 2, … 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ame sequence can also be defin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, 1, 2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bviously, induction and recursion are similar princi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6FB-EAA5-486B-A58A-589A0A4027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e following method to define a function with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its dom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fy the value of the function at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ive a rule for finding its value at any integer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from its values at smaller integ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ch a definition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5285-6BDA-4343-92F1-8C62BA1E1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2f(n) +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f(0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+ 3 = 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9 + 3 = 2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2f(2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+ 3 = 4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2f(3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5 + 3 = 9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261-A75D-49C5-BAC4-E01DFCFC4E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can we recursively define the factorial function f(n) = n! ?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(n + 1)f(n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f(0) =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3f(2) = 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4f(3) = 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2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03E-BDD1-45E5-87E5-E9F06EFF7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 famous example: The Fibonacci number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, 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) = f(n – 1) + f(n - 2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f(1) + f(0) = 1 + 0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2) + f(1) = 1 + 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f(3) + f(2) = 2 + 1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5) = f(4) + f(3) = 3 + 2 =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6) = f(5) + f(4) = 5 + 3 = 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CF0-E6BF-4480-84CB-2A78552A7E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recursively define a set, we need to provide two thing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itial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the construction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ddition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elements from elements in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be recursively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if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and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 is the set of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6E0-A7FE-4A77-BE8F-0B23447ABC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b1b6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A be the set of all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show that A = S, we must show tha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and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prove that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, we must show that every positive integer divisible by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use mathematical induction to show thi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1CE9-BE13-4B16-BE8E-9B0C92EA4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Paul Artola</cp:lastModifiedBy>
  <dcterms:modified xsi:type="dcterms:W3CDTF">2002-08-21T05:00:13Z</dcterms:modified>
  <cp:revision>115</cp:revision>
  <dc:subject/>
  <dc:title>PowerPoint Presentation</dc:title>
</cp:coreProperties>
</file>