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3F7-F166-4D05-AF18-21CB45E1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02B-0733-4CDB-BED1-C153CB81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BCD-2186-482B-8139-D7AEACC0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42B-73C4-458F-8126-2E09380C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E74C-1308-4784-A37C-584978B8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D912-5ADD-460C-99AD-AC020B59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19D0-074D-4790-A137-CA3DDDAD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C1AF-6CEA-4C75-AACE-C379BC2C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4791-4204-433B-81DA-95999A40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15B7-560B-4AA0-9B6A-1C7E865F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1796-0784-47C5-A4A0-BDD2BD90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4EB-FF75-4D06-9270-42239B5D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0141-E0D6-4BC9-8412-5AA82C3C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591B-9635-4123-B5B9-7FD392C7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BCFB-144A-4E83-99EF-7B7D7E41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AC0B-7D60-489E-A288-924D0788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4BCE-3A1C-435D-9887-1532CF9C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AAC9A-8DFF-4A2E-B750-E6A246D7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9D1FA-A6F8-481F-82FF-877FD8D4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6BCA9-E471-47FC-A097-AD9865A4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B633B-882D-440D-B6D3-C0DD6CE7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F53C9-90CB-427F-9CC5-26B47A5A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1E3E-64AD-448C-A5DF-C1AC9465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0510C-2E35-4908-BE35-DD43BF42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62690-7FD9-47D3-B295-B81CF65C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26330-0A2F-40C1-98EC-98E88D36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92E98-E072-49BE-87BF-93B6CF7F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54E39-6D3A-46F2-8796-15806DC5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FC685-5B1A-4B4E-8465-F1800AD9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D7D2-FFEE-423A-BE95-D0C296AB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D1B8A-8FEA-41E4-BC86-3D56EFE0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56644-CD4B-4993-9871-830C685F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13E6B-6FE7-4A7A-91D1-C3A6FC48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014-5038-4C6B-B7DE-8DCE778D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A6050-440A-4583-9A90-50E7672C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DC7F7-B4A3-4225-8A6A-06A5E6ED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2FACB-4657-444F-AE9A-10D77A4F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BC300-C561-48B8-BE54-6415EDE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733C4-8DE7-42EC-8D8C-6D6F8FB8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D46B1-CF71-4BEA-82FF-4E9AE6E6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22A52-DC3E-4942-B42A-0227C37F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F0059-5604-4837-BA32-E5004647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DFB62-7734-484C-854B-0F44B217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46D61-CE78-423A-926E-CEEC4203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2FC-4952-4D7A-B916-00E68C04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A62A6-C228-49FD-9C48-6207704B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E4EF6-5ED5-4240-A04A-3AC53F2F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4CCA8-D428-47CF-BE95-FF7CC786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47810-8D2C-4B69-928D-EDBFA83C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BF0FF-6DED-42A1-934D-D3664C44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03486-2F99-480D-ABC1-D99A5766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3F3F2-7F6B-4859-AEB4-27EE238B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3A447-5405-4036-BB70-0DC0F544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BA738-49F6-4F1F-BDD1-12DEFA86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F06C1-4283-4B71-B1F6-65FAE723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5B4-1060-4F85-9F97-16871520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83153-B95E-4478-A728-8FF34FE6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CDFAC-DFA4-49F5-A145-C5E75A8C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5AF6E-2827-4486-B0F1-D20BE3D6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41320-3745-4173-82D9-D24593AF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0A5D1-4182-42BF-A5DD-4CF6C6BD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3E104-D9B3-4FAC-970E-2E2AB958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D7497-190C-4060-8CA9-9F7A41D3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AC1A3-3B88-4348-967C-634C8B8D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A694A-7A7E-4A51-B05E-8A50348D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C9A79-0D35-4DCB-B630-6C19B230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451-C3F2-4C02-88C7-AAF47D85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874E7-F583-4F01-950A-19A65A12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E185E-965E-47CC-B0D3-D846C11E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1C75D-9A52-4C8F-973B-C728C801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B62EB-F1E1-4817-9BC4-59ADDC20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FE98D-BB15-451E-B953-22BCC46C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8E14F-96E6-4EDF-818E-08721648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0F07C-BCA2-4A13-8376-ADA74368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0EA88-1E5F-4651-BAC3-A72EF812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F2F32-2826-488A-920D-5995A4DA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F6333-8C6A-47B3-A5C4-E16FA5A3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EB8-145D-4F16-9026-E9590DF9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621A5-9672-4000-AC23-B74E2A88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11771-D60D-4D70-B172-789E7940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5C7F2-90BB-4D1C-B205-6C7212BF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0428F-0187-47BB-8CE1-02705087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1C4FC-E05B-4D61-918B-A506C8E4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096AA-D11C-4562-AB83-A96BA207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3A2DD-F948-4383-AE33-59CA6E06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74B6A-1823-4F11-B4BE-882670E9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C8861-2996-4196-8C11-1118E562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E22D6-D212-4210-8E81-7DB51720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84D-944D-4113-9CDE-98DC2BDA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28E6C-BACA-44FF-987A-4F27AB90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54391-F1B5-4D4A-9ADE-05995866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D8CF5-C231-4C9E-AAC8-51FD88AD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B2C00-CE45-4367-B0BA-CE5803C4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837AB-F1C6-499C-8517-65A8AEA0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148C3-B6E3-4022-BD9F-00AA36C8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4117A-24ED-4A1D-A5A5-2011EE48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5209-BE9C-4FD1-A455-8128666E50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F805-46FC-46B3-B87D-E1988D31CE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547E-E43B-4608-B4B3-5E1D7D003D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C409-49C0-45DE-8140-8D3893AD4A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E882-0FF4-4706-AB14-3C5391F301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BA23-3930-41D2-9935-9EA08900F6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34C5-C260-4B53-B84F-9920895D97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0899-203F-44E9-9AFA-7D296C8083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12 Naj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Is the following sentence punctuated correctly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Only people, who speak Russian, should apply for the job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Incorrect!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Only people who speak Russian should apply for the job. √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Do the following sentences contain restrictive clauses or non-restrictive clauses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My brother who lives in Ohio is a civil engineer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Restrictiv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My brother, who lives in Virginia, is a rocket scientist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Non-restrictiv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The book that is lying on the coffee table belongs to Cherie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strictiv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The book, which is lying on the coffee table, belongs to Cherie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A restrictive relative clause provides essential information.  (No commas used)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Non-restrictiv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It reminded him of the house. [which house?]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It reminded him of the house 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that he used to live in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The tickets had all been sold to the fans who arrived before noon.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Lucida Sans Unicode"/>
              </a:rPr>
              <a:t>This sentence implies the existence of other fans who arrived after noon and couldn't buy tickets.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The passenger who was wearing her seatbelt wasn't injured when the car skidded into the phone pole.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Lucida Sans Unicode"/>
              </a:rPr>
              <a:t>This sentence implies that there was another passenger who wasn't wearing a seatbelt and was injured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Lyle's brother who lives in Detroit is an engineer.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Lucida Sans Unicode"/>
              </a:rPr>
              <a:t>Again, this sentence implies the existence of someone else: apparently Lyle has another brother who does not live in Detroit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A non-restrictive relative clause provides information that can be left out without affecting the meaning or structure of the sentence. (Commas are used)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 items, 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which are believed to be very old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included a grandfather clock worth around £3,000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 items included a grandfather clock worth around £3,000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The Titanic, which sank in April 1912, is the subject of a recent movie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6:54:49Z</dcterms:created>
  <dc:creator>Samsung</dc:creator>
  <dc:description/>
  <dc:language>en-US</dc:language>
  <cp:lastModifiedBy>Samsung</cp:lastModifiedBy>
  <dcterms:modified xsi:type="dcterms:W3CDTF">2013-12-15T17:59:49Z</dcterms:modified>
  <cp:revision>7</cp:revision>
  <dc:subject/>
  <dc:title>Relative Clauses</dc:title>
</cp:coreProperties>
</file>