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05E-3F7D-4EB5-8C1C-3CA0FD83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22D-2D0D-43CB-AD91-CD5CA7B8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B01-DE47-4137-9C35-6C4A78AE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BA8-C5D6-485B-9CCB-99E3CF88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F860-92CA-4B49-A31E-52427A23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3ADF-1D7B-4F5A-AA91-507A764A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A198-51F6-430E-A38F-22FD58A6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5714-E1A6-4F38-A37F-704C1AD3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A6A2-F39A-4CD6-9795-F8175876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FC44-BF2F-4979-ABAB-1B4883FE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6EA7-5187-4CEC-A6B2-A4F75521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E68-1DA9-4D46-81B9-00049184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BFB8-6550-4C15-8C7F-D3F4F840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2EA5-BEA2-4C41-B042-1770D03F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3D0C-C72D-45C1-87E5-3CD46838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F02A-83A3-4485-B523-15782EFE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257E-4778-42B5-B1DA-89A0C67F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55603-40A9-4498-A778-FD6A0DAE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800BD-8E1A-4EF8-B19F-08ADFC0B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E707-C26D-4C88-8D71-0F31291B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48F51-BE96-461A-972A-6BF219AE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30218-D51E-42A4-BB48-7092A568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82B-F479-4FA9-A4A7-BAF5813C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2E0A-E1E0-49EE-B07B-4E00A652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8DD33-AE08-411E-B8DE-3E11BE71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2B9D-9573-4E80-9A8B-EFE48576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A759D-8048-463F-A11F-305D8D12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339A6-BBD1-4F9A-9476-0E6077BB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5A73F-5544-4B85-BC4E-D1034150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0D40-1A1C-4060-B863-850AB1BE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F1505-0E1F-4B0A-9A1C-3169B0B0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D7188-69CE-4C67-84D0-D11968D5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F9904-9DF9-44D8-825D-970FFEC8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E2D-4064-422E-BD88-1E007AB2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D9974-4B39-4219-8349-A31725CF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100DE-2B0C-4768-8178-082967F3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1594F-33BB-48C6-8174-5F99FB05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7D709-FDC8-42BC-BFA1-1D773676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AEFF0-3267-43F0-BAC5-326AAD7C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363EB-4725-4803-80F4-A42C6AB3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E5B0E-F35F-4EA8-AA07-7146F366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3F12B-1D6F-458E-8CEC-9EE68A88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1C3EC-687B-42AC-A285-F38AC27D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1CD25-69CF-43D4-B163-DF25DB31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D24-C349-41D7-81EB-B993112A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45215-C9C5-48A4-813C-6B248DAF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C9860-5913-4F80-A7F3-F01D758C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88D6D-7190-4686-8EDC-A61095B7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F2A8F-F341-4386-8A18-6FD18291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29348-6146-42A3-9310-F3C4339F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EB5E5-F265-49BD-9AB0-5B45997A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734CF-623E-4FA0-A21C-08E9A7BE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DF6BD-E58C-4211-924F-35333E05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0EF33-1B91-4CC5-A342-386AC911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F4DE2-47FC-4961-8970-463D9E2B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310-4467-4EF3-B1B4-A3603781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7D933-8CCC-4CFD-9B8B-4A43A408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39FA0-74AC-4FFA-A3C9-DA8A3701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F4948-7DBF-472D-9077-35CEDC2F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3AE46-EFFF-45C3-94D0-F8178B0C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08F2C-5635-4FE4-A4C1-AFA36A34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FB7A0-E2B9-4A59-B7C9-31F7D821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8870D-776A-4C25-8A8E-3C4A5D38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AD973-1A5B-4DDD-8473-38B81A5B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15423-F322-488E-A194-6EE0B510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C9090-F545-4AE5-A426-6E18C4EC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7DA-D700-4BC0-8912-A8487393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88390-1DB2-48ED-B1E9-7ACE0544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634ED-A7A0-4AA8-8BA4-3001A15C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C8A3F-7BC6-4CC2-AF2E-59249F20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5127B-10DD-4212-93B5-2E82B3D1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D461C-5083-446F-99AF-8EB4FE29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98923-D656-4CA7-9CF8-3285740B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79612-8575-441E-9505-41CD96F6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01859-38E6-48E6-9107-F040FB46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0884C-83F7-4A58-B7B5-EA688420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5A9CF-2F2C-492C-9399-A3B5E217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CE4-E746-4D0B-9098-0E2E7F41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FA1BF-8523-4127-966A-AF5EC149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F36C0-BBEA-4FB0-86F9-762DC365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AC2A6-E6E1-4905-9775-C1082020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B6A78-72BC-485A-A310-EF80A8C6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5D1A7-8880-445F-B881-33A8B14C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54431-4D9B-42AD-BD83-84C9CCF3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5CB8D-BB6E-48DB-ADE1-785B2B57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DD14E-87A4-4241-8F94-D7F8F58F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F3547-0026-4DBF-9DEA-B1F8E063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B0968-615B-4B02-92B2-B59712D5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08C-D938-4920-B9DF-90B384A3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2E858-2346-41C7-A244-D04F0536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41527-E549-4525-AFD5-AB2257D3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FA8B6-DC8D-4158-B934-C600AE78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D1285-3DE5-4313-95B8-8B1DB378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9745C-FDF6-4DC2-8193-D51B4A91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16966-7E70-42BC-838B-0CBD20CE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5BF52-C7E6-4417-B005-926622C7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743A-1D40-476E-8E85-D51D0BCBC1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0A2E-3435-4DBE-A31F-2395122DF0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69A7-77DC-420B-B296-35870EC231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9D21-707E-4001-9752-4CFAD50E22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820D-3F75-4EA1-9170-310B9F876E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D748-4856-4C80-9704-9ECD1BE387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F82D-34B6-4380-9B1E-1E5848FBF8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287E-5183-4692-BF30-0B3EA6BD2B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12 Naj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Is the following sentence punctuated correctly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Only people, who speak Russian, should apply for the job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Incorrect!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Only people who speak Russian should apply for the job. √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Do the following sentences contain restrictive clauses or non-restrictive clauses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My brother who lives in Ohio is a civil engineer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Restrictiv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My brother, who lives in Virginia, is a rocket scientist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Non-restrictiv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The book that is lying on the coffee table belongs to Cherie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strictiv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The book, which is lying on the coffee table, belongs to Cherie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A restrictive relative clause provides essential information.  (No commas used)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Non-restrictiv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It reminded him of the house. [which house?]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It reminded him of the house 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that he used to live in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The tickets had all been sold to the fans who arrived before noon.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Lucida Sans Unicode"/>
              </a:rPr>
              <a:t>This sentence implies the existence of other fans who arrived after noon and couldn't buy tickets.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The passenger who was wearing her seatbelt wasn't injured when the car skidded into the phone pole.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Lucida Sans Unicode"/>
              </a:rPr>
              <a:t>This sentence implies that there was another passenger who wasn't wearing a seatbelt and was injured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Lyle's brother who lives in Detroit is an engineer.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Lucida Sans Unicode"/>
              </a:rPr>
              <a:t>Again, this sentence implies the existence of someone else: apparently Lyle has another brother who does not live in Detroit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A non-restrictive relative clause provides information that can be left out without affecting the meaning or structure of the sentence. (Commas are used)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 items, 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which are believed to be very old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included a grandfather clock worth around £3,000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 items included a grandfather clock worth around £3,000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The Titanic, which sank in April 1912, is the subject of a recent movie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6:54:49Z</dcterms:created>
  <dc:creator>Samsung</dc:creator>
  <dc:description/>
  <dc:language>en-US</dc:language>
  <cp:lastModifiedBy>Samsung</cp:lastModifiedBy>
  <dcterms:modified xsi:type="dcterms:W3CDTF">2013-12-15T17:59:49Z</dcterms:modified>
  <cp:revision>7</cp:revision>
  <dc:subject/>
  <dc:title>Relative Clauses</dc:title>
</cp:coreProperties>
</file>