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235-0B17-4D38-A2E7-3880C0B04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B12-27E2-46AF-A38B-8170F9B2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E37-85C3-477C-BD53-D10F8321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DB2F-DF87-400A-ABB9-B9C17A08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4CD0-1729-479C-939F-90A859A4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69E-373D-4DDF-8E07-39712BD3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BCA-EDFA-474C-9104-CBF76021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69B-3B35-45E0-A9DE-92AE7450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8F09-151A-44A9-BEB1-49804308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024C-3A37-4325-B1E9-4604339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215F-6993-43D8-8E87-E9A1267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6CA6-F82A-4742-A554-E4A0F66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69B-4189-4C41-BAE4-BE1760C6CD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4292640"/>
            <a:ext cx="331164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</a:rPr>
              <a:t>Rat Dis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1484280"/>
            <a:ext cx="7128000" cy="70344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Verdana"/>
              </a:rPr>
              <a:t>Review for the Final 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3720" y="5589720"/>
            <a:ext cx="7758360" cy="36828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ttp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:/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ww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hilipdarrenjone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m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eb_documents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rat_dissection</a:t>
            </a:r>
            <a:r>
              <a:rPr b="1" lang="ar-SA" sz="1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2"/>
          <a:stretch/>
        </p:blipFill>
        <p:spPr>
          <a:xfrm>
            <a:off x="744480" y="299880"/>
            <a:ext cx="7140600" cy="6369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45" name=""/>
          <p:cNvSpPr/>
          <p:nvPr/>
        </p:nvSpPr>
        <p:spPr>
          <a:xfrm rot="5400000">
            <a:off x="6627240" y="3209760"/>
            <a:ext cx="4032360" cy="581400"/>
          </a:xfrm>
          <a:prstGeom prst="rect">
            <a:avLst/>
          </a:prstGeom>
          <a:solidFill>
            <a:srgbClr val="99ff99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ood Dissec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703520" y="0"/>
            <a:ext cx="57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39640" y="446040"/>
            <a:ext cx="8353440" cy="59817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7669080" y="692280"/>
            <a:ext cx="719280" cy="792000"/>
          </a:xfrm>
          <a:prstGeom prst="ellipse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219640" y="76500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47520" y="858960"/>
            <a:ext cx="9056880" cy="4900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7837560" y="907920"/>
            <a:ext cx="576360" cy="649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140976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0:57:12Z</dcterms:created>
  <dc:creator>khale</dc:creator>
  <dc:description/>
  <dc:language>en-US</dc:language>
  <cp:lastModifiedBy>خالد</cp:lastModifiedBy>
  <dcterms:modified xsi:type="dcterms:W3CDTF">2013-05-04T08:41:22Z</dcterms:modified>
  <cp:revision>6</cp:revision>
  <dc:subject/>
  <dc:title>الشريحة 1</dc:title>
</cp:coreProperties>
</file>