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7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11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0.wmf" ContentType="image/x-wmf"/>
  <Override PartName="/ppt/media/image9.wmf" ContentType="image/x-wmf"/>
  <Override PartName="/ppt/media/image14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7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46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</p:sldMasterIdLst>
  <p:notesMasterIdLst>
    <p:notesMasterId r:id="rId48"/>
  </p:notesMasterIdLst>
  <p:sldIdLst>
    <p:sldId id="256" r:id="rId49"/>
    <p:sldId id="257" r:id="rId50"/>
    <p:sldId id="258" r:id="rId51"/>
    <p:sldId id="259" r:id="rId52"/>
    <p:sldId id="260" r:id="rId53"/>
    <p:sldId id="261" r:id="rId54"/>
    <p:sldId id="262" r:id="rId55"/>
    <p:sldId id="263" r:id="rId56"/>
    <p:sldId id="264" r:id="rId57"/>
    <p:sldId id="265" r:id="rId58"/>
    <p:sldId id="266" r:id="rId59"/>
    <p:sldId id="267" r:id="rId60"/>
    <p:sldId id="268" r:id="rId61"/>
    <p:sldId id="269" r:id="rId62"/>
    <p:sldId id="270" r:id="rId63"/>
    <p:sldId id="271" r:id="rId64"/>
    <p:sldId id="272" r:id="rId65"/>
    <p:sldId id="273" r:id="rId66"/>
    <p:sldId id="274" r:id="rId67"/>
    <p:sldId id="275" r:id="rId68"/>
    <p:sldId id="276" r:id="rId69"/>
    <p:sldId id="277" r:id="rId70"/>
    <p:sldId id="278" r:id="rId71"/>
    <p:sldId id="279" r:id="rId72"/>
    <p:sldId id="280" r:id="rId73"/>
    <p:sldId id="281" r:id="rId74"/>
    <p:sldId id="282" r:id="rId75"/>
    <p:sldId id="283" r:id="rId76"/>
    <p:sldId id="284" r:id="rId77"/>
    <p:sldId id="285" r:id="rId78"/>
    <p:sldId id="286" r:id="rId79"/>
    <p:sldId id="287" r:id="rId80"/>
    <p:sldId id="288" r:id="rId81"/>
    <p:sldId id="289" r:id="rId82"/>
    <p:sldId id="290" r:id="rId83"/>
    <p:sldId id="291" r:id="rId84"/>
    <p:sldId id="292" r:id="rId85"/>
    <p:sldId id="293" r:id="rId86"/>
    <p:sldId id="294" r:id="rId87"/>
    <p:sldId id="295" r:id="rId88"/>
    <p:sldId id="296" r:id="rId89"/>
    <p:sldId id="297" r:id="rId90"/>
    <p:sldId id="298" r:id="rId91"/>
    <p:sldId id="299" r:id="rId92"/>
    <p:sldId id="300" r:id="rId93"/>
    <p:sldId id="301" r:id="rId94"/>
    <p:sldId id="302" r:id="rId95"/>
    <p:sldId id="303" r:id="rId96"/>
    <p:sldId id="304" r:id="rId97"/>
    <p:sldId id="305" r:id="rId98"/>
    <p:sldId id="306" r:id="rId99"/>
    <p:sldId id="307" r:id="rId100"/>
    <p:sldId id="308" r:id="rId101"/>
    <p:sldId id="309" r:id="rId102"/>
    <p:sldId id="310" r:id="rId103"/>
    <p:sldId id="311" r:id="rId104"/>
    <p:sldId id="312" r:id="rId105"/>
    <p:sldId id="313" r:id="rId106"/>
    <p:sldId id="314" r:id="rId107"/>
    <p:sldId id="315" r:id="rId108"/>
    <p:sldId id="316" r:id="rId109"/>
    <p:sldId id="317" r:id="rId110"/>
    <p:sldId id="318" r:id="rId111"/>
    <p:sldId id="319" r:id="rId112"/>
    <p:sldId id="320" r:id="rId113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notesMaster" Target="notesMasters/notesMaster1.xml"/><Relationship Id="rId49" Type="http://schemas.openxmlformats.org/officeDocument/2006/relationships/slide" Target="slides/slide1.xml"/><Relationship Id="rId50" Type="http://schemas.openxmlformats.org/officeDocument/2006/relationships/slide" Target="slides/slide2.xml"/><Relationship Id="rId51" Type="http://schemas.openxmlformats.org/officeDocument/2006/relationships/slide" Target="slides/slide3.xml"/><Relationship Id="rId52" Type="http://schemas.openxmlformats.org/officeDocument/2006/relationships/slide" Target="slides/slide4.xml"/><Relationship Id="rId53" Type="http://schemas.openxmlformats.org/officeDocument/2006/relationships/slide" Target="slides/slide5.xml"/><Relationship Id="rId54" Type="http://schemas.openxmlformats.org/officeDocument/2006/relationships/slide" Target="slides/slide6.xml"/><Relationship Id="rId55" Type="http://schemas.openxmlformats.org/officeDocument/2006/relationships/slide" Target="slides/slide7.xml"/><Relationship Id="rId56" Type="http://schemas.openxmlformats.org/officeDocument/2006/relationships/slide" Target="slides/slide8.xml"/><Relationship Id="rId57" Type="http://schemas.openxmlformats.org/officeDocument/2006/relationships/slide" Target="slides/slide9.xml"/><Relationship Id="rId58" Type="http://schemas.openxmlformats.org/officeDocument/2006/relationships/slide" Target="slides/slide10.xml"/><Relationship Id="rId59" Type="http://schemas.openxmlformats.org/officeDocument/2006/relationships/slide" Target="slides/slide11.xml"/><Relationship Id="rId60" Type="http://schemas.openxmlformats.org/officeDocument/2006/relationships/slide" Target="slides/slide12.xml"/><Relationship Id="rId61" Type="http://schemas.openxmlformats.org/officeDocument/2006/relationships/slide" Target="slides/slide13.xml"/><Relationship Id="rId62" Type="http://schemas.openxmlformats.org/officeDocument/2006/relationships/slide" Target="slides/slide14.xml"/><Relationship Id="rId63" Type="http://schemas.openxmlformats.org/officeDocument/2006/relationships/slide" Target="slides/slide15.xml"/><Relationship Id="rId64" Type="http://schemas.openxmlformats.org/officeDocument/2006/relationships/slide" Target="slides/slide16.xml"/><Relationship Id="rId65" Type="http://schemas.openxmlformats.org/officeDocument/2006/relationships/slide" Target="slides/slide17.xml"/><Relationship Id="rId66" Type="http://schemas.openxmlformats.org/officeDocument/2006/relationships/slide" Target="slides/slide18.xml"/><Relationship Id="rId67" Type="http://schemas.openxmlformats.org/officeDocument/2006/relationships/slide" Target="slides/slide19.xml"/><Relationship Id="rId68" Type="http://schemas.openxmlformats.org/officeDocument/2006/relationships/slide" Target="slides/slide20.xml"/><Relationship Id="rId69" Type="http://schemas.openxmlformats.org/officeDocument/2006/relationships/slide" Target="slides/slide21.xml"/><Relationship Id="rId70" Type="http://schemas.openxmlformats.org/officeDocument/2006/relationships/slide" Target="slides/slide22.xml"/><Relationship Id="rId71" Type="http://schemas.openxmlformats.org/officeDocument/2006/relationships/slide" Target="slides/slide23.xml"/><Relationship Id="rId72" Type="http://schemas.openxmlformats.org/officeDocument/2006/relationships/slide" Target="slides/slide24.xml"/><Relationship Id="rId73" Type="http://schemas.openxmlformats.org/officeDocument/2006/relationships/slide" Target="slides/slide25.xml"/><Relationship Id="rId74" Type="http://schemas.openxmlformats.org/officeDocument/2006/relationships/slide" Target="slides/slide26.xml"/><Relationship Id="rId75" Type="http://schemas.openxmlformats.org/officeDocument/2006/relationships/slide" Target="slides/slide27.xml"/><Relationship Id="rId76" Type="http://schemas.openxmlformats.org/officeDocument/2006/relationships/slide" Target="slides/slide28.xml"/><Relationship Id="rId77" Type="http://schemas.openxmlformats.org/officeDocument/2006/relationships/slide" Target="slides/slide29.xml"/><Relationship Id="rId78" Type="http://schemas.openxmlformats.org/officeDocument/2006/relationships/slide" Target="slides/slide30.xml"/><Relationship Id="rId79" Type="http://schemas.openxmlformats.org/officeDocument/2006/relationships/slide" Target="slides/slide31.xml"/><Relationship Id="rId80" Type="http://schemas.openxmlformats.org/officeDocument/2006/relationships/slide" Target="slides/slide32.xml"/><Relationship Id="rId81" Type="http://schemas.openxmlformats.org/officeDocument/2006/relationships/slide" Target="slides/slide33.xml"/><Relationship Id="rId82" Type="http://schemas.openxmlformats.org/officeDocument/2006/relationships/slide" Target="slides/slide34.xml"/><Relationship Id="rId83" Type="http://schemas.openxmlformats.org/officeDocument/2006/relationships/slide" Target="slides/slide35.xml"/><Relationship Id="rId84" Type="http://schemas.openxmlformats.org/officeDocument/2006/relationships/slide" Target="slides/slide36.xml"/><Relationship Id="rId85" Type="http://schemas.openxmlformats.org/officeDocument/2006/relationships/slide" Target="slides/slide37.xml"/><Relationship Id="rId86" Type="http://schemas.openxmlformats.org/officeDocument/2006/relationships/slide" Target="slides/slide38.xml"/><Relationship Id="rId87" Type="http://schemas.openxmlformats.org/officeDocument/2006/relationships/slide" Target="slides/slide39.xml"/><Relationship Id="rId88" Type="http://schemas.openxmlformats.org/officeDocument/2006/relationships/slide" Target="slides/slide40.xml"/><Relationship Id="rId89" Type="http://schemas.openxmlformats.org/officeDocument/2006/relationships/slide" Target="slides/slide41.xml"/><Relationship Id="rId90" Type="http://schemas.openxmlformats.org/officeDocument/2006/relationships/slide" Target="slides/slide42.xml"/><Relationship Id="rId91" Type="http://schemas.openxmlformats.org/officeDocument/2006/relationships/slide" Target="slides/slide43.xml"/><Relationship Id="rId92" Type="http://schemas.openxmlformats.org/officeDocument/2006/relationships/slide" Target="slides/slide44.xml"/><Relationship Id="rId93" Type="http://schemas.openxmlformats.org/officeDocument/2006/relationships/slide" Target="slides/slide45.xml"/><Relationship Id="rId94" Type="http://schemas.openxmlformats.org/officeDocument/2006/relationships/slide" Target="slides/slide46.xml"/><Relationship Id="rId95" Type="http://schemas.openxmlformats.org/officeDocument/2006/relationships/slide" Target="slides/slide47.xml"/><Relationship Id="rId96" Type="http://schemas.openxmlformats.org/officeDocument/2006/relationships/slide" Target="slides/slide48.xml"/><Relationship Id="rId97" Type="http://schemas.openxmlformats.org/officeDocument/2006/relationships/slide" Target="slides/slide49.xml"/><Relationship Id="rId98" Type="http://schemas.openxmlformats.org/officeDocument/2006/relationships/slide" Target="slides/slide50.xml"/><Relationship Id="rId99" Type="http://schemas.openxmlformats.org/officeDocument/2006/relationships/slide" Target="slides/slide51.xml"/><Relationship Id="rId100" Type="http://schemas.openxmlformats.org/officeDocument/2006/relationships/slide" Target="slides/slide52.xml"/><Relationship Id="rId101" Type="http://schemas.openxmlformats.org/officeDocument/2006/relationships/slide" Target="slides/slide53.xml"/><Relationship Id="rId102" Type="http://schemas.openxmlformats.org/officeDocument/2006/relationships/slide" Target="slides/slide54.xml"/><Relationship Id="rId103" Type="http://schemas.openxmlformats.org/officeDocument/2006/relationships/slide" Target="slides/slide55.xml"/><Relationship Id="rId104" Type="http://schemas.openxmlformats.org/officeDocument/2006/relationships/slide" Target="slides/slide56.xml"/><Relationship Id="rId105" Type="http://schemas.openxmlformats.org/officeDocument/2006/relationships/slide" Target="slides/slide57.xml"/><Relationship Id="rId106" Type="http://schemas.openxmlformats.org/officeDocument/2006/relationships/slide" Target="slides/slide58.xml"/><Relationship Id="rId107" Type="http://schemas.openxmlformats.org/officeDocument/2006/relationships/slide" Target="slides/slide59.xml"/><Relationship Id="rId108" Type="http://schemas.openxmlformats.org/officeDocument/2006/relationships/slide" Target="slides/slide60.xml"/><Relationship Id="rId109" Type="http://schemas.openxmlformats.org/officeDocument/2006/relationships/slide" Target="slides/slide61.xml"/><Relationship Id="rId110" Type="http://schemas.openxmlformats.org/officeDocument/2006/relationships/slide" Target="slides/slide62.xml"/><Relationship Id="rId111" Type="http://schemas.openxmlformats.org/officeDocument/2006/relationships/slide" Target="slides/slide63.xml"/><Relationship Id="rId112" Type="http://schemas.openxmlformats.org/officeDocument/2006/relationships/slide" Target="slides/slide64.xml"/><Relationship Id="rId113" Type="http://schemas.openxmlformats.org/officeDocument/2006/relationships/slide" Target="slides/slide65.xml"/><Relationship Id="rId1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dt" idx="77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move the slid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5" name="PlaceHolder 5"/>
          <p:cNvSpPr>
            <a:spLocks noGrp="1"/>
          </p:cNvSpPr>
          <p:nvPr>
            <p:ph type="ftr" idx="78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PlaceHolder 6"/>
          <p:cNvSpPr>
            <a:spLocks noGrp="1"/>
          </p:cNvSpPr>
          <p:nvPr>
            <p:ph type="sldNum" idx="79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1A83838-6BF4-46DC-8A26-05EF054D7A2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57AB2DB-1BC3-42C7-8EB4-0A0CDBE4B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4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4F09BC4-4711-4C13-AAAB-C0245F5DE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7B9C819-24AE-48DA-B71F-28E8BB9F1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0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5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BCD2849-44AF-44FA-BBD7-CADD32654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3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5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344FB04-A2E4-4D08-A0F7-1503B2C88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6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32AFC14-2427-435F-8D11-0D720BE73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9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6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FB58553-4CAE-42F0-9A84-56E8AAFC6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2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EFB3BDC-CD1E-4420-A3BF-2ED83A5FD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5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6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8869ADD-864D-4D7D-A2F9-F9019CCF0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8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236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36AAEFE-70E1-4F1D-B826-167C8ABB7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1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7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7400F27-2D95-4247-B42C-68EF8B0D3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7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7B95553-1481-4089-B39E-900452CE1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7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7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F0224A1-6A97-4A9A-B610-DE5CA209D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0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2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59FE672-CAB7-4904-80CB-16B3C0390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3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8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6C6A0C9-7328-45CA-B4BA-5E583F7DD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6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D9B721D-C013-4A7F-884F-D5D57CB8A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9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9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0246711-B4F0-4B3D-9F71-F2282A217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2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9FF8D9A-E7E7-4087-A263-782ABEDF9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5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9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7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9324C51-D6BA-47F4-A71B-00E354A38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8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1CD9-22AF-41B5-9AE3-72C1F6AD40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9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2330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87E8244-9CDA-4913-84C0-91D6096EE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1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0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6843B3B-B75B-47A5-B7CB-7508230B9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4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6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2A42F63-2462-48F9-905C-694975B9C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7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0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9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84FEA56-9210-446C-8C88-CD42E5D58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0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FABD7B8-622F-42C7-AFE2-B6829C3FF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3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1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61568D3-CC70-4D4D-ACA4-FA8035DBF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0990F5B-12B2-402D-AE0A-69D88AB40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9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2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2CF4EC1-60E4-4195-BB7F-20D7364F0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2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3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20BEA11-6512-4816-9698-C3DFB5C30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2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7DB3454-814F-40CE-9B64-397E36905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5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2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F7C8B70-D0DE-499C-B479-A9140E139B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8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2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6CB5EDA-A54F-4942-BE13-C24473B06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3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59FD8A7-D754-4A1C-BCFC-71E796745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4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34B8398-16B2-46DE-A36D-8D5C8FCE3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7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A121E5D-39F1-4FD9-BBDE-FACCA87CC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0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2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67181DA-A4DE-41EE-8E47-63B44EEE2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3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44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5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73ED4F7-CC0C-4382-9056-12DD17B4A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C6F0AC9-6F4F-4754-9D8A-E7019D82A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9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50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B1F908F-42C3-4FCC-972F-2846CB45A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2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3B046F4-9C5D-41D9-A82E-0EF737A66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5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5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7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2E9511B-B681-456F-A739-24C526904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8" name="PlaceHolder 1"/>
          <p:cNvSpPr>
            <a:spLocks noGrp="1"/>
          </p:cNvSpPr>
          <p:nvPr>
            <p:ph type="sldImg"/>
          </p:nvPr>
        </p:nvSpPr>
        <p:spPr>
          <a:xfrm>
            <a:off x="776160" y="765000"/>
            <a:ext cx="5546880" cy="3840480"/>
          </a:xfrm>
          <a:prstGeom prst="rect">
            <a:avLst/>
          </a:prstGeom>
          <a:ln w="0">
            <a:noFill/>
          </a:ln>
        </p:spPr>
      </p:sp>
      <p:sp>
        <p:nvSpPr>
          <p:cNvPr id="2459" name="PlaceHolder 2"/>
          <p:cNvSpPr>
            <a:spLocks noGrp="1"/>
          </p:cNvSpPr>
          <p:nvPr>
            <p:ph type="body"/>
          </p:nvPr>
        </p:nvSpPr>
        <p:spPr>
          <a:xfrm>
            <a:off x="709560" y="4862160"/>
            <a:ext cx="56800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FA3CED8-3A69-4729-B42F-862C8FB87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5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3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8250E08-10DF-4200-A706-4FBDE8705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1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6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F19F5DB-D52A-400E-91BA-73BD524D7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4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1DA21EB-C4F2-4502-BC0B-F42A2849E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2FC93BA-7260-4131-877D-6539A416C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0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4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4DC0FFD-39FE-4F35-B59C-E145FE683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8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3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0CF5EEF-C664-4D26-AD77-66D8AEE46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1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3640"/>
          </a:xfrm>
          <a:prstGeom prst="rect">
            <a:avLst/>
          </a:prstGeom>
          <a:ln w="0">
            <a:noFill/>
          </a:ln>
        </p:spPr>
      </p:sp>
      <p:sp>
        <p:nvSpPr>
          <p:cNvPr id="234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19D0A-321C-477E-918E-9B2304593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893A1-DC98-4CE1-89B4-7C0688907F6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078717-BBBC-4B6B-BC8B-7273A45416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E44B3-4625-45E1-AE8C-AFC11C2E9A2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6E3DF6-B428-424A-B8DA-4FF77F6475F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8BF958-9CA2-4C5E-91FC-CDA35B22EEB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0E06F5-9ABA-42C0-8098-77CEE96C084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941A2A-9E80-4D2E-9976-BF559D23434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565E60-D632-46AA-A508-9D3AB137131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CE3D1E-72C5-43E8-9A03-8B6FFF966DC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A8B785-31E4-462F-815D-FB8F9D841E4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BD017D-6CCB-4A57-A9A3-447B8702432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16F3D2-7276-4DF9-B58A-F10F4ECB3D0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9F4332-393A-4848-B066-3331469909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D9CC7-9F5D-42FC-BDA0-F818F9BE2E1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F18891-B303-49CC-AC67-CE4DCB79A54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1E8673-07E8-4718-8017-C2AF4FFA118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2B8306-3C89-497B-BACB-1A1746A8B98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95B595-01A9-4F10-B343-8940690970C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7BEAE7-6930-4469-9F96-63204A3EAEC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14926E-B9F8-4603-B3F4-D70814DA671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5FFA68-A430-4DB0-8956-D4D786A061F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41C629-9FF1-43FA-A13F-95F823F83A4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5DD467-BB36-486E-8CAD-EC382248FFC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3E7D2B-3D6A-4065-977B-562FE19E10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CC77B2-042A-4E75-9860-E17EDE56617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682DFD-CC3A-46DC-B105-674745C665C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A313A8-660F-4175-84C0-7522AF2A321A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A5930A-8A37-4C75-A35E-12BF8DF9E0D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E4A03E-2A07-4469-BBBA-B7F9EB22359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2759DE-9F72-404B-8914-70B190D7391F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1CA875-4215-4896-96F6-832C3221D12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E72066-4E90-4FC9-9F07-0691037035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8EF28D-D7D7-4DA3-944B-65BEF8EDE34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FB0A4A-BD9A-473B-A734-B89829A8E1B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0B24E0-53FC-4B59-984B-2EAFC835759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A76AC6-478D-4C5C-8A8B-F7046D73E6A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D3CBC4-F4E9-45E9-B3B8-C04A16DFE2B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6D2DA4-EECF-4FC9-9776-1298C1CECF13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168490-F084-42FE-B61F-D9DCAA162E8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FC7BF2-D867-4DE8-A780-37AFAF43E3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9FE82B-7809-4417-A8F3-4358044092E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FDF212-E247-44C2-A86A-29C77C95D0E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CCC7D8-DEAC-40C7-B034-BDCB749ECC9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08D777-DE3E-40DE-9F7D-0BA47F52599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18FD54-A436-46C7-B3C0-FDD8D357E37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FEAF5D-4772-4DD5-8AD7-8D8818DBA18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3085F8-DD74-414A-8797-ED22079ACBFA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F42E66-47FE-4A29-9158-6CF59644B85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89C96A-52EF-417A-B12A-F1E5342B9D4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8AAFEB-FE8E-4A65-9746-744FF84BD7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4171FB-7855-45C7-8B67-26E7DEEB648D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BFA0C4-F03D-4134-9AB9-B9C70652A4C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71C62F-23AB-45C1-B24C-177381831155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341B49-5AAB-4BCD-A4E8-9E2E9F5F9536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056A47-99A4-439C-87BE-3F9230B4CFB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3630F1-2B82-4A32-ACFA-5F83E0D67C4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9685F4-0E98-4094-949C-FA5E7697101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FD3507-8296-4B54-AD21-F997DD55666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4C6C916-9002-44CE-91B2-BB4D7DECB70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36C253-D874-4A3F-BA9A-0D211615F1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97A2C2-430B-4229-AD78-D3C41849B2B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99D7D6-5E21-407C-A8B7-F5A195D62C4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4F9C4B-E36D-415D-8BEA-26FEF9ACF65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B3AA8-287F-4E64-946A-62E01CA66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E682B-8199-459C-8033-261D2984843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4F686-810A-4BBF-908B-A1859D00D6F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B6D2C-2904-4859-93AE-EEDD94581E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B16C3-1061-4631-ADD5-388B7B48EB29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61584-F310-45F4-8323-5AADA10B5429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2337C-64E2-4516-A5EE-59FE69E5F92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17C47-A572-4174-B241-B6A67667559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84E4A-B18E-4838-B0B2-F2AEB67039C6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B84E7-345D-4142-99DE-E88E3792A95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97C09-B5E0-4CC5-9699-DAFC0CDC45A5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765C8-46CB-4BED-81C6-8BC434E61518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4209F-3313-4F8A-A793-CB36DC4C4115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30AE9F-7718-4DBA-8A5F-5F489AC146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83404B-2C3B-4B4B-921B-3BCC52447F7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D73E00-6376-42F9-BBC9-6FD0C49A91A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C0774A-F44F-4278-A39C-2DB19923048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FC234D-050A-4D4D-B8D6-9092FC79C16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933D7C-C3D6-4C33-ABDF-6907AA9313C7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3C754C-DAB1-413E-A38C-E279E58D117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94E000-9367-44E5-A1E9-1279E53E8F1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4674FB-99D0-49F3-8B64-BDA546495DF1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3EE8B4-35D3-47F6-9952-273E82D9899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87C620-A25B-4200-B194-C08C7A4CDB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BBF894-ECFB-4479-BE16-F5B64E1222D1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6EF20-659E-4956-848F-11CF2F68C09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2292D2-4B53-4F50-8114-CB59A4A9008A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AB39A4-03B1-40A6-9517-B9B366C3635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7CF205-6AE1-4BC1-8D0C-29A4503D1C7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2B7F8B-1BCD-4670-B04A-167F6074862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FC1874-C087-4559-A298-F89A48C8624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6ADD74-AE52-47A0-96C8-76B046B5274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23A03C-01C7-4FB6-BA03-26BFB0E685EC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42A960-33AC-4935-AE43-FE5DD46396A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8123B3-2DA7-484A-A5F9-DDA8D1D28A8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9BC752-7F86-41BD-A4DE-0FFDBB0C16B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D1B6E1-6DC5-4A1E-ABDE-1676EC0C807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AF42B0-780D-480D-82F1-04A412FAAF76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FF9BE-F516-4C65-AFBC-89C575BE509E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CE919-2F12-4693-900D-A07CB80AE60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06BFA-78F7-4024-BF88-355D2BE7A48F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89D6C-9CB1-4867-B755-A32FBA5F634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2AB24E-8C5D-4E6D-A748-5698426D9CAB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05CDC-74A7-4306-A137-9C4AC19F6A9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DF6C6-21F3-4BB2-BE65-E47933763D70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B82D7-4B5D-41D5-82F1-BF155D2114F4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F7490-1799-45E9-BD20-A4EC4DB88147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DC481-0EBB-4BAF-945D-72425A789232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864839-D860-4CF6-A095-94DC6AF87248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25A74F-5C4F-42FA-A57E-7E5B92AC6EEF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41C9C-2B60-4FA4-B39F-BB17C0804F8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373B8-563B-4E49-AF6E-DBFBA8CFBC0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D46F5F1-C279-44D3-A0E7-E882FFD59DD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56BEA1F-6046-4251-9143-D273AD3DFCE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18443F-5252-4BA6-B500-860481F2E21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3FAD0F-6074-4613-A3D5-E9FFABBAECF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FDE99A3-D84B-4049-AE93-669F44AA4CC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91B94B-C1CC-4BC1-BF15-FFF6EDC86BF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8165D65-0F62-47F4-856D-F62DD59221CA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E050354-077D-4B3B-978E-43B068F7F84E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454279-44FF-44EB-9ADC-9D5DB607645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C00933-F959-47FD-A4B3-98034A5C1E1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DA2252-AB97-4EDE-96F2-281D1ECD69C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4DF5655-D33E-4D1A-97F2-BD687318B48C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7495E4-7379-43DE-88C6-685943EECF0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82D7EF-8723-4E77-AE61-617C022B9B7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A03DF-85FF-41BA-89BF-7BEE7858A67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7AABE8-B293-4FA9-9AFA-B8223DD509D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5456F6-90D0-4F91-A4D2-C58D56A1E0A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B666C1-AA34-46BD-9EB7-750BC05795F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9D780C-EED6-46BB-9B4B-52B46A2A1BC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66F42A-0E42-490C-A43C-4EC52DE23E82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B2874D-402A-4C18-82DF-28F2F6FDE555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50D4E9-DDAE-4788-8E70-8713BC1E2E7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012EB4-3E7B-40DD-B702-F576342B3BC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EB817E-77BA-44B1-8BDB-018E6090595E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4D9DA5-B353-4779-B99A-91B0F0D7A5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D3D53-8788-4ABD-BE75-347B36C5C5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6F0A09-26E7-4BF4-A9B0-3388DC80DCAC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4FF5FC-055B-4ADC-99A3-457260BF34C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1514F-6D72-481D-A17B-989317084BF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F1214-A234-40A7-A625-48EA2B1A6CA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7F5F4-0E67-4DD3-95F8-D61214EEC23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2224C-8EB1-4B3B-8550-4A32380DA7B9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1E275-8977-41AA-90C5-232AFFDC2BC3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9AE81-46ED-41D8-AA58-B771A5FF92E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062F4B-6120-4A7F-89BE-B438E1D0C7AF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40805-E531-4AF5-881D-80F6C068996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E0025-0577-4BE8-8C0A-6649E6FC583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0857D-7915-430F-841E-C2078663AC61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CC7EED-7723-4A3F-95CB-D022CB4811D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E7F32-CE7A-4110-B8AD-C0C4CC66D58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8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D6F66-E3F8-42D0-8414-313D2D1C3CB0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3CEAB8-C98A-49FC-ACC9-BBCA20722390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B9A9D1-7076-4574-B129-92EAD8AAE70A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1FA015-4D90-417B-9664-DFD9E62815DD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1AA748-102A-4667-BF45-32F802546816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52685ED-C8E1-43DA-9910-3D5E44CE17B0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E4D86B-3029-40FF-843D-C69F2BD6C251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82C7AB-3CCA-4AFE-90CD-DF08B31B02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FACA7-365E-4ECE-AABC-201754E01E4F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F1C267-E2F7-4407-AF4B-5628DB9CA191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C938C30-9966-4F42-831E-3521EFDD7F25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6391C5-9644-4779-A4B1-5DFB2B15EA82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EA6D4D-64F5-4186-84B9-50E2045308A2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CB43A4-E164-4A60-901A-28753F1C5DB8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81B81FB-C469-4BE3-B9C3-6FEE34E5908A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8E67AEA-445F-44E5-AC92-1B88B45E34C7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E4E4F5A-57AE-4CBC-9B8E-E254AB708044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28446CA-972C-4895-9F4B-21EC494CF2DA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E0B9593-A0CD-49B5-9EDA-3B64A0463A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4E236-804F-4FBF-916F-D9F61DF2368D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18123C2-8298-4C41-BD97-2162A6BCD396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945CBAE-F1CB-4C1F-93CD-E44B57989ED3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C8AFDAF-636D-497C-8002-424DD940DC06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DEC6873-EC0F-4B79-AFBD-1BB6DD046A3F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B201CD1-CA6E-4113-936E-415798645B24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DF619A3-9640-4F3C-89D6-3AEAC320732B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3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38870B6-1115-476F-A4D4-40A248820776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1058F0-3A0D-440C-A368-358D7A0F5FA4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539BC6-183F-4812-8E94-7B3B68795B00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919635-488C-4342-B17E-6885B7CFE9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982AA6-E5A2-4410-9787-E149358F3610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81E6E2-77F5-4A56-9EE0-CABB0E4CFBF6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0C4CB4-C032-426B-8B36-41B1A58C887B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961713-687A-4111-9292-FB40D7A99DBC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7A062A-7AA1-4801-94CF-100357D110A6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0F37D0-F116-4035-8B21-9B4B08A8400D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BC5025-2932-40AF-BBA1-28A84CDB8A2C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DC03D3-3024-4AF7-9B4C-720F28596ECD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325C16-9B0A-47BF-B2D5-20BCC92AE45F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5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6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7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6597B6-6E0C-40DB-AF73-18786E95D4F9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B4905C6-B0FD-4162-9F27-E8EBFF1FEF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8437B3-B747-43F2-9543-945B0667FBC3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E980BB6-4F3D-44D6-906F-58849EC16E23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E1E6D5-932D-4F68-820D-37AAE380E8E6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36345A6-B364-44C8-8199-33CF2556B596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41F85CC-D04C-4B67-AF4C-160257DCD502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A2A6E9B-2392-437B-B935-4BE27D62B814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52FF84E-BB6F-447B-87D4-4C83902F8074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0C2DDC6-D77A-4155-A067-469DC35932BA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5337FFD-38DD-44AF-92BA-C5B800A1D4C2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FD514D4-0460-4FD0-881A-59AFC1B27209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7994A4D-9C7F-46D4-BAC9-41710402A9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09EB3-9E9F-4766-9FA0-D7AE97AAA396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9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94CBD64-B8D0-407E-B9F6-9920C9AC5B55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D361A28-1ACF-46CC-BE2A-B200F8D19F4F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4BAD914-49D3-4552-96B9-875413D362B5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3CA90A6-517E-4D61-940C-8FDA3F923122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1C6FB88-E858-4125-9C51-EED75DC2EF44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B675D78-DBD5-4313-9525-CA200AC1757E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CBCFEC7-101C-49DE-B517-EFF68B5DFDE8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BCBB93F-F4A6-4316-9183-C2A7AB491C04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E777B24-72A8-462A-8978-1BFAF8BE7642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29E00B9-5902-449A-B3F8-A4CDCA96CB0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BFB3-5083-4136-B2CE-168290368793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E702C1A-18BE-4168-8D9B-278EA67131B7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25AB00B-F14B-4791-92E1-71B9703D99C4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3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6FE93C6-37EE-4B92-BD71-C722B66BADC0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CA405C-DA42-432E-935C-B98A0E1ECAE6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8599F7-CFF5-4ABA-A07C-C23AC643E73D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6A59E4-A84F-4AA1-8093-649657D5916D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7B7D15-1381-4AC0-AD80-5DA130F6D766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1AE404-3404-4FCC-852B-3B09E44C2EF4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9691F6-771D-4D02-A7B2-63B0D06A4335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EEA54D-990C-4CA8-ADB5-01B96B19EE0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1614D-E129-4E05-A729-3710F0A22EB4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2DE05E-1893-4354-A56E-1312B872A2D9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0EFE8B-D55A-4157-8727-28C416D9C5F4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BDED18-DCA8-4557-B84F-797984EDDA2F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6E3678-9D24-4803-87ED-17C77C27A973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6FC452-16F7-4EAF-9475-78BB76393FFB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003F2B3-3550-40BE-96E9-0438A93CAD8A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EC9F744-16D9-484A-B52F-087697D93B92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52A347B-A3F5-453D-A3D9-BD23913707C9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8465264-4B05-457A-954F-E0D8724B2C7D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DFD51BB-85A8-48C9-A50C-4274613AF05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9223-97B7-4628-983B-21E119115E75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AC06227-72E0-45EB-BB9C-B3B414BA394F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07978AB-C00D-4F67-877A-683EBC8328B9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F001E92-35E0-42B5-A393-2BFF9314E2F1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47D47C9-7CC1-4A17-B006-54B6DBB607A7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FAA6E06-3F55-42AD-A6B2-44F22FEC7BAE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5169CE3-A0DB-44B0-94CB-F4A7414FA561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7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C4F8172-2FF5-4CA6-B96F-D1F20065EFA5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D241D47-4331-477A-8824-78663BACD6F2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E953A0E-4827-41F2-83A5-C46B7955D192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09112D5-6ACC-4D5B-B112-801B54ED3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E4450-3A2B-48C1-B0B6-913B5E2E58B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D84DD-2BF3-4617-8297-7620D5A8D9C4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E94EDED-D5C0-4E68-819E-A15921D035E0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BD85341-BA1F-459B-84D2-96214B37B951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3731ECE-C16D-4765-8A40-1D903A2207DD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B9C1441-3E0C-4895-8B2E-8230758D4AED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018B65B-0A64-4478-A072-51FD33D2FD34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6D40E1F-7FE0-445A-B0DC-04C94EFA8B0A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77D0D40-BAB5-4299-88F0-C003A4529802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5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11F8EEA-3984-49A9-BF94-C9F3FDF3D022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0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0061A2E5-9ADB-4B64-9563-83D981724ADD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B738E8B-7394-4A53-B4DC-3DE1ECE1BAB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6766-91D6-4165-BFA0-D2A7E5A8CC3E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C2F4C10-5C68-4993-B485-2ACF8A2487E3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AAE47C6-6411-4E36-BD9F-15B009612A88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8498531-FB94-4E1B-BCE9-A396E5541B36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AE4DEA5-E4B0-4E2B-B17A-62C9228230A9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35D98B3-2124-4BE0-9551-B78DD0FC8F14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DBF0951-A46C-4941-84A6-DB93AB4FB9E0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041313F-ADE6-4376-BA2A-F21F8D14DA03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D7A9B43-6DD3-41FF-B2FC-AF53C3815323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2D62902-BC40-46B9-994D-823FEC9156BC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400AA60-1714-4D30-9080-AE324B6E6BA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F20F-0921-4F9D-B89F-6CDC7C9EBB08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5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3758DDD-661F-41CA-A4B9-E74C459B8AD3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88C1589-A556-407A-BFFC-43AB8DB9B8FF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3065E96-9BB2-4C22-A42B-C3C736036830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9CADF76-365B-45A1-9375-6D2887A78504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5F31BC7-7FD7-487C-9F47-865859E14C2C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99CDC8E-5795-40E5-9717-7EE5660A93F8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0B556B9-1178-4340-A394-D6BC289D0BF3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FEAE723-9A68-4098-8885-F63709F3C006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FE5B5BF-0D1F-4FF1-8851-54702EA78FE2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500D614-3DC9-4FA9-AA05-42906C3BBA8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AED4-9267-4171-9730-8CBAE837E2CB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A9EF5D9-2E07-4F35-B22C-7FF8509572ED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4E07E67D-3695-4724-A775-8AC1ED300BC9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936BD11-2DB5-4CFE-A277-CCAF1E2C452B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6A7F84-EE73-4094-B727-094F12B6ACC4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F9D306-477E-43F5-BDE8-EFA271E318BE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A07180-D3C7-4877-8033-A11A4B70C56F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087345-D201-40FB-BD18-CD7D748EDE8E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9A31F0-1350-4BC1-8539-B59B211A8778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8D7D9E-7BE8-4094-BC34-1AFE76B2305B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246283-501C-41BF-B34B-502F79A53B6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37F0-AEC4-4886-B3B7-B019130C41A3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32FD5C-A22B-4DC1-9BCA-31DD67F05D7F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44CC50-2FA3-4007-BEF3-026C1F79E173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E9E6CD-3B05-49BA-BA9D-C6B3058CA3BD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2100F5-B07C-491F-B4A7-5FBE6A6447D9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1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9ED3FA-CCAB-4716-96C7-BAE0C1AC9D02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6567A55-A3D6-412A-A4B7-9B22EFE2E3D5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D60D602-5C1D-4BD5-A63B-809F0A826E20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D042A59-22C5-4A0D-A5A0-EE56EABA6C6B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5785A39-3554-48E4-B5EC-F1B0696A5F8E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AFB7880-3A8A-4047-A263-C6C3DC88F65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06D3-7A49-48CE-A645-1586EF503D22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7042FB6-3F74-488E-AC64-9F2908DDA975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9E00409A-C2F5-4332-9732-47D6C76E0171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E5A2C58-8293-4D45-9B68-9BC3D7B5BB6C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00088987-1A08-471A-8DB2-54F93B618A8E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3951592E-7579-4FEF-87DB-75A818D53493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F379147-8C6E-402F-A0F9-018482A08512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2F21ED2-CB14-421D-B9A4-BD2A3CF3B623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D7450F-C379-4CA3-B66B-4ECFF03F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766B26-1917-4D88-AAF3-2077B5A3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E0D2B1-EAA7-41E0-A070-C079C7C9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1612-2276-4E3B-819E-E6E2FA0A07FB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B475B6-32D2-4241-AF5A-6C4D1A41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98BDF7-A3C3-4314-B1AB-D22B5CFC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477EF2-3B36-4F59-A032-B2EF7384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C9A31B-5975-407D-B6C1-6C172EA8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16BA4F-8CE7-4172-9BB3-011C152A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E70809-1A4B-43DF-ACB9-F7FE0654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EA1AAC-53DD-4461-80CD-1FF34630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156A4E-A399-4018-9F77-6538F9C27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5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901B70-3E01-4D45-9C21-DA31849B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CDB7-5189-4439-98C7-DC6AF18F5222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8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4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36288-C228-42DF-A526-023097E845F7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1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53857A3-CE5E-4ADA-91BE-B81C7D8ED707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7941B1C-88B8-4D30-9776-EB69E0C2EF15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23A1170-38B4-450B-81CF-918B4BC3550B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A818412-4531-4AA8-84D2-3DDE7A5122C7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2B07E34-C1B8-4F4D-9110-17628CE37D3A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4048FC7-16A1-46F9-8A0D-2F280600F5DE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7F3D706-AFB1-47FB-813F-1AB27FE8BF56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A7F548D-0CA3-4DEE-817D-C1D7C11227EB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F1582F6-E60C-44BB-8AEC-62CD6D8C6FE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370E936-7F10-4D14-8C77-3AA6AB035632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7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F16718B-310A-4A13-87D4-90AC8BC985D6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3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4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6C34565-1221-419A-9AEC-63FD17255CC2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FAC479-53C7-462D-AEC6-D62C79952F0B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380578-01A4-4D31-9BA9-E600DCC1D303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F35536-EEFD-4A48-A8B9-E8FEADF35BAC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2E93C5-B1C0-42A1-B95B-665764C2B500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8D9196-7682-4AA0-B631-EA19D8422511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1B881A-69EF-47F3-9E0A-10B34563DD86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73A90A-6986-4A39-9C12-2B811B19F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C03BA-26B9-40BD-845A-26BF5DA145C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C6FBB8-2B72-4EA7-ADCC-35E89BF59F90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E3A62F-306F-41B7-9151-3247897E0370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D88458-E1DB-4FA7-BC5A-CD0848BAD699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0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033FA8-9BFA-4023-B632-99619593DF8E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5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6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7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ADFE18-EB1A-4FD7-8A65-2B260985668D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1BB396-B1B7-4FFE-AE16-9E6056E78149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06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861721-773C-41B7-A5E2-8D07F2862DF4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6A426D-6C7E-4053-9000-6A6A842FDFC2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E3C677-35F8-4C82-8617-5DD7C0BE5ED3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3E63F1-8B2B-4134-80FB-A8C97BBE765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B45CA7-6EB6-4AB6-8D0E-BF3D1844A317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813DBD-EE0C-478A-8DD1-558EE25BC944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3C9034-E8B1-4BBD-B032-35494A1AD099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4284AB-1F9B-420F-BEB2-B7DD97D55D77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E4A1CB-24EB-40CA-8684-608365E957D8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3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6D9814-8206-4692-83BD-2A17E6C9C5DE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8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9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0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5DB748-56EE-4768-80DE-317BD8B8A3D6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41ED286E-A385-433D-9FA6-F11B515E82E9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3FF0856-E745-4975-9D38-FA8B0671B950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7FB2174F-4C39-41F7-9AF0-448C6E4DE10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F775665-64E8-4BB9-8E78-4A09AA718F8C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C2BF223-18B2-4999-AA22-2938729F9F4D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84E872A-881A-46DB-84A5-09A664E93236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7C57D2B-4A32-4442-93CD-5A3CECB686D5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32E518BD-E0FD-42FA-9801-B05F35BD7EFF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1336DE0-A9AD-4C64-BF84-6D2CA655758D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61CB488-F0E7-4E08-81E2-7BFCEB636EE6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6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D90A688-45AA-4C45-B0F0-726FF4042F78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2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3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A9648922-6FD5-4709-A075-AF7462ECDFAE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33EF8A4-F4BD-4133-B555-941F3180207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D153222-EA01-44B7-B6E3-CB1104B24AC5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F15C8C8-7847-4D4F-8C82-B23EF96CE4D3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E22B5AB-CD74-4021-9418-910E572A3C81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5F60436-394A-4026-846D-A90D5ABAA4A5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F434543-A657-4D4C-A55D-69A42B58B943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79B9244-032E-4CCE-9006-6EEA74C0CDD7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33C522B-97A4-402F-8E4E-759BF9581F3C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8659DA4-BD99-4448-A576-F6D58765D1FE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EBE5B96-50C5-4151-B2C9-F9C8B769A878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AA2748A-6917-47D4-9E1C-3D0860A7BBB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7CE1399-1ED6-4080-9055-84950A59649F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7A48071-D4FC-4ABC-9195-E4B3EAE17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33E56C2-B6BF-4872-914D-4084B99A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10F3441-CF50-4A84-9A15-B0CF5E31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C58F98F-29DC-4E5A-808E-9D9155A5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F677C77-DDBD-413E-9BC7-68818E4A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B7F8F77-6103-4696-9529-BB42B370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22FD52C-5867-45A9-B83D-29F1C749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2F2EA20-10E0-421D-A95F-F39559F0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FC9D9E9-B0A3-4325-A3DA-CF455C6E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4F959A6-750D-418E-8A8D-4D18B74A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B63F811-EFAB-48E8-8443-93E71D0E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8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9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8E17BA6-14CF-457E-BEB1-D7DBAD7F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31D0E-7544-414E-8560-C785643A953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F83479-E5B1-4C2A-8B89-53930BCB8B2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F693E5-9DA8-40AB-98A1-39D550848DB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7FD4A1-8059-4F8B-A329-BDCECEA2AE3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1C54F9-B591-49F6-A92D-1858CE2706B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46FF3-D861-4687-96E8-CC5E8D805C4C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881154-5FC8-42AB-A76A-A0C693E68D4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C4B11-D64C-493A-8028-68E047C5BC3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F3F25C-F465-4B44-960A-00AAA242941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3154C-DA47-47A3-AEA0-8E70A457C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875C3-8B05-4D4A-88B4-5F1B897E575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125714-2910-45C7-BC58-F275E32C98D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016045-2CBF-482E-92FA-C8F1EFAFC6A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231CED-D3BA-4F07-8746-C47396F0B0A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2FF38-CA4D-48C8-8BDD-DBBE01D94E2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389DB-5FEC-4AE6-B51A-2DCA6B5921A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5DBF4-ACBC-499C-B3BD-0FF9F51317C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4CCE3-0206-4EF7-8E5D-C59DFD6F10A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38BCD-EFC2-4770-AFFC-C04851CB6A7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31180-5BBA-476B-A0B4-5CBD80EB39A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9EC50-3296-429A-8CB3-C796BF0E88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ABB4B-E47C-484D-88AB-E5C662CE63E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A6C8E-B9AE-4F04-8F6E-53ADB4388CB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B440A-C31E-4F4E-9F64-D34FC1ABF3C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02C70-DAFC-460C-A11C-2372A50CD73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58822-A7EF-4E9F-B7B3-7BE9DF41F3B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A3CE3-40E3-4D98-96ED-21072C1FF91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9CA02-3551-4971-B7E4-AD256C5D0E8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EA4E8-FD12-4BA9-BA6E-F48F2A9FC77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AF488-356A-46CC-B420-26C9176212C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F77B3-BCF5-4989-A252-022CB37418E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A2E70-96ED-4362-B193-311954DF7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E338F-F2B1-4DE8-BB3B-D25510AE4B9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394920" y="395280"/>
            <a:ext cx="910908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C9857-6516-438E-8F25-CDBE366BC32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C6569-8448-40D6-9BE8-67C27854EBD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BE52A-B2E7-4DDF-BC73-B9D9CA140C7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7CEB8-1D10-44E9-B3A6-917117AFB5A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4920" y="3910320"/>
            <a:ext cx="9109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9D7C6-0640-4752-AF59-37D4106E20E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62320" y="154620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949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5062320" y="3910320"/>
            <a:ext cx="4444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ED429-AEDF-4530-B821-27C6DD28DD5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47472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554880" y="154620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3949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47472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554880" y="3910320"/>
            <a:ext cx="2932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EFCB8-5F72-4AB0-8DE5-6E1C6399C64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53.xml"/><Relationship Id="rId7" Type="http://schemas.openxmlformats.org/officeDocument/2006/relationships/slideLayout" Target="../slideLayouts/slideLayout254.xml"/><Relationship Id="rId8" Type="http://schemas.openxmlformats.org/officeDocument/2006/relationships/slideLayout" Target="../slideLayouts/slideLayout255.xml"/><Relationship Id="rId9" Type="http://schemas.openxmlformats.org/officeDocument/2006/relationships/slideLayout" Target="../slideLayouts/slideLayout256.xml"/><Relationship Id="rId10" Type="http://schemas.openxmlformats.org/officeDocument/2006/relationships/slideLayout" Target="../slideLayouts/slideLayout257.xml"/><Relationship Id="rId11" Type="http://schemas.openxmlformats.org/officeDocument/2006/relationships/slideLayout" Target="../slideLayouts/slideLayout258.xml"/><Relationship Id="rId12" Type="http://schemas.openxmlformats.org/officeDocument/2006/relationships/slideLayout" Target="../slideLayouts/slideLayout259.xml"/><Relationship Id="rId13" Type="http://schemas.openxmlformats.org/officeDocument/2006/relationships/slideLayout" Target="../slideLayouts/slideLayout260.xml"/><Relationship Id="rId14" Type="http://schemas.openxmlformats.org/officeDocument/2006/relationships/slideLayout" Target="../slideLayouts/slideLayout261.xml"/><Relationship Id="rId15" Type="http://schemas.openxmlformats.org/officeDocument/2006/relationships/slideLayout" Target="../slideLayouts/slideLayout262.xml"/><Relationship Id="rId16" Type="http://schemas.openxmlformats.org/officeDocument/2006/relationships/slideLayout" Target="../slideLayouts/slideLayout263.xml"/><Relationship Id="rId17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469.xml"/><Relationship Id="rId7" Type="http://schemas.openxmlformats.org/officeDocument/2006/relationships/slideLayout" Target="../slideLayouts/slideLayout470.xml"/><Relationship Id="rId8" Type="http://schemas.openxmlformats.org/officeDocument/2006/relationships/slideLayout" Target="../slideLayouts/slideLayout471.xml"/><Relationship Id="rId9" Type="http://schemas.openxmlformats.org/officeDocument/2006/relationships/slideLayout" Target="../slideLayouts/slideLayout472.xml"/><Relationship Id="rId10" Type="http://schemas.openxmlformats.org/officeDocument/2006/relationships/slideLayout" Target="../slideLayouts/slideLayout473.xml"/><Relationship Id="rId11" Type="http://schemas.openxmlformats.org/officeDocument/2006/relationships/slideLayout" Target="../slideLayouts/slideLayout474.xml"/><Relationship Id="rId12" Type="http://schemas.openxmlformats.org/officeDocument/2006/relationships/slideLayout" Target="../slideLayouts/slideLayout475.xml"/><Relationship Id="rId13" Type="http://schemas.openxmlformats.org/officeDocument/2006/relationships/slideLayout" Target="../slideLayouts/slideLayout476.xml"/><Relationship Id="rId14" Type="http://schemas.openxmlformats.org/officeDocument/2006/relationships/slideLayout" Target="../slideLayouts/slideLayout477.xml"/><Relationship Id="rId15" Type="http://schemas.openxmlformats.org/officeDocument/2006/relationships/slideLayout" Target="../slideLayouts/slideLayout478.xml"/><Relationship Id="rId16" Type="http://schemas.openxmlformats.org/officeDocument/2006/relationships/slideLayout" Target="../slideLayouts/slideLayout479.xml"/><Relationship Id="rId17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582E-B2EB-430A-8AED-9673A4760143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48280" y="-29226240"/>
            <a:ext cx="28796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2000"/>
          </a:bodyPr>
          <a:p>
            <a:pPr marL="35640" indent="-35640" algn="r"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78120" indent="-3816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118800" indent="-3600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178560" indent="-4032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452520" indent="-5004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452520" indent="-5004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452520" indent="-5004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Line 7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ftr" idx="13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14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60176-46B5-4A67-91FA-864EF76551DD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Picture 22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9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60469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394920" y="3562200"/>
            <a:ext cx="604692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51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82160" indent="66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35680" indent="-1868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ftr" idx="15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sldNum" idx="16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5E6E-652D-4DAB-B677-A885AD16AC84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Picture 17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430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60469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394920" y="3562200"/>
            <a:ext cx="604692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51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82160" indent="66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35680" indent="-1868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69" name="Line 14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Rectangle 15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909800" cy="49356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7" descr="Pearson_Bound_White"/>
          <p:cNvPicPr/>
          <p:nvPr/>
        </p:nvPicPr>
        <p:blipFill>
          <a:blip r:embed="rId3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7"/>
          <p:cNvSpPr/>
          <p:nvPr/>
        </p:nvSpPr>
        <p:spPr>
          <a:xfrm>
            <a:off x="412920" y="228600"/>
            <a:ext cx="8915400" cy="609480"/>
          </a:xfrm>
          <a:custGeom>
            <a:avLst/>
            <a:gdLst>
              <a:gd name="textAreaLeft" fmla="*/ 0 w 8915400"/>
              <a:gd name="textAreaRight" fmla="*/ 8915760 w 89154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495360" y="6172200"/>
            <a:ext cx="8915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sldNum" idx="17"/>
          </p:nvPr>
        </p:nvSpPr>
        <p:spPr>
          <a:xfrm>
            <a:off x="7016400" y="61718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2 -</a:t>
            </a:r>
            <a:fld id="{60A23F88-FAB6-4E60-A0C4-3D2E4BD7F881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18"/>
          </p:nvPr>
        </p:nvSpPr>
        <p:spPr>
          <a:xfrm>
            <a:off x="412560" y="6171840"/>
            <a:ext cx="6026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394920" y="1762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554" name="Picture 16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98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48280" y="-29226240"/>
            <a:ext cx="28796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2000"/>
          </a:bodyPr>
          <a:p>
            <a:pPr marL="35640" indent="-35640" algn="r"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78120" indent="-3816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118800" indent="-3600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178560" indent="-4032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452520" indent="-5004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452520" indent="-5004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452520" indent="-5004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Line 7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ftr" idx="19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sldNum" idx="20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9E82-BAEF-40C0-B8B0-D4F170DDCA22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22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9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60469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394920" y="3562200"/>
            <a:ext cx="604692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51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82160" indent="66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35680" indent="-1868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ftr" idx="21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sldNum" idx="22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5813-F05D-4990-B366-B93335972AD9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17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641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60469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394920" y="3562200"/>
            <a:ext cx="604692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51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82160" indent="66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35680" indent="-1868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680" name="Line 14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Rectangle 15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2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909800" cy="493560"/>
          </a:xfrm>
          <a:prstGeom prst="rect">
            <a:avLst/>
          </a:prstGeom>
          <a:ln w="0">
            <a:noFill/>
          </a:ln>
        </p:spPr>
      </p:pic>
      <p:pic>
        <p:nvPicPr>
          <p:cNvPr id="683" name="Picture 17" descr="Pearson_Bound_White"/>
          <p:cNvPicPr/>
          <p:nvPr/>
        </p:nvPicPr>
        <p:blipFill>
          <a:blip r:embed="rId3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0" name="Picture 7" descr="Pearson_Bound_White"/>
          <p:cNvPicPr/>
          <p:nvPr/>
        </p:nvPicPr>
        <p:blipFill>
          <a:blip r:embed="rId2"/>
          <a:stretch/>
        </p:blipFill>
        <p:spPr>
          <a:xfrm>
            <a:off x="8432640" y="6496200"/>
            <a:ext cx="1289160" cy="223560"/>
          </a:xfrm>
          <a:prstGeom prst="rect">
            <a:avLst/>
          </a:prstGeom>
          <a:ln w="0">
            <a:noFill/>
          </a:ln>
        </p:spPr>
      </p:pic>
      <p:sp>
        <p:nvSpPr>
          <p:cNvPr id="721" name="Line 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2" name="Picture 9" descr="Always_Learning_Text_Orange_RGB"/>
          <p:cNvPicPr/>
          <p:nvPr/>
        </p:nvPicPr>
        <p:blipFill>
          <a:blip r:embed="rId3"/>
          <a:stretch/>
        </p:blipFill>
        <p:spPr>
          <a:xfrm>
            <a:off x="1366920" y="2330280"/>
            <a:ext cx="7161120" cy="1727280"/>
          </a:xfrm>
          <a:prstGeom prst="rect">
            <a:avLst/>
          </a:prstGeom>
          <a:ln w="0">
            <a:noFill/>
          </a:ln>
        </p:spPr>
      </p:pic>
      <p:sp>
        <p:nvSpPr>
          <p:cNvPr id="723" name="Rectangle 10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4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9800" cy="49356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4" descr="Pearson_Bound_White"/>
          <p:cNvPicPr/>
          <p:nvPr/>
        </p:nvPicPr>
        <p:blipFill>
          <a:blip r:embed="rId5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5" name="Picture 16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9800" cy="493560"/>
          </a:xfrm>
          <a:prstGeom prst="rect">
            <a:avLst/>
          </a:prstGeom>
          <a:ln w="0">
            <a:noFill/>
          </a:ln>
        </p:spPr>
      </p:pic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394920" y="1762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ftr" idx="23"/>
          </p:nvPr>
        </p:nvSpPr>
        <p:spPr>
          <a:xfrm>
            <a:off x="412560" y="6171840"/>
            <a:ext cx="6026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sldNum" idx="24"/>
          </p:nvPr>
        </p:nvSpPr>
        <p:spPr>
          <a:xfrm>
            <a:off x="7016400" y="61718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168EFD00-55F9-4FE9-B621-A3385CF969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94920" y="1762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46" name="Picture 16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98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8" name="Picture 16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9800" cy="493560"/>
          </a:xfrm>
          <a:prstGeom prst="rect">
            <a:avLst/>
          </a:prstGeom>
          <a:ln w="0">
            <a:noFill/>
          </a:ln>
        </p:spPr>
      </p:pic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394920" y="1762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ftr" idx="25"/>
          </p:nvPr>
        </p:nvSpPr>
        <p:spPr>
          <a:xfrm>
            <a:off x="412560" y="6171840"/>
            <a:ext cx="6026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sldNum" idx="26"/>
          </p:nvPr>
        </p:nvSpPr>
        <p:spPr>
          <a:xfrm>
            <a:off x="7016400" y="61718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7345A6A1-FA8B-495E-9B61-2FC4C1CD47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1" name="Picture 16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9800" cy="493560"/>
          </a:xfrm>
          <a:prstGeom prst="rect">
            <a:avLst/>
          </a:prstGeom>
          <a:ln w="0">
            <a:noFill/>
          </a:ln>
        </p:spPr>
      </p:pic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394920" y="1762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 type="ftr" idx="27"/>
          </p:nvPr>
        </p:nvSpPr>
        <p:spPr>
          <a:xfrm>
            <a:off x="412560" y="6171840"/>
            <a:ext cx="6026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sldNum" idx="28"/>
          </p:nvPr>
        </p:nvSpPr>
        <p:spPr>
          <a:xfrm>
            <a:off x="7016400" y="61718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B8BEAB3B-C1F0-411E-BA63-E77C99B5E8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Picture 7" descr="Pearson_Bound_White"/>
          <p:cNvPicPr/>
          <p:nvPr/>
        </p:nvPicPr>
        <p:blipFill>
          <a:blip r:embed="rId2"/>
          <a:stretch/>
        </p:blipFill>
        <p:spPr>
          <a:xfrm>
            <a:off x="8432640" y="6496200"/>
            <a:ext cx="1289160" cy="223560"/>
          </a:xfrm>
          <a:prstGeom prst="rect">
            <a:avLst/>
          </a:prstGeom>
          <a:ln w="0">
            <a:noFill/>
          </a:ln>
        </p:spPr>
      </p:pic>
      <p:sp>
        <p:nvSpPr>
          <p:cNvPr id="894" name="Line 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5" name="Picture 9" descr="Always_Learning_Text_Orange_RGB"/>
          <p:cNvPicPr/>
          <p:nvPr/>
        </p:nvPicPr>
        <p:blipFill>
          <a:blip r:embed="rId3"/>
          <a:stretch/>
        </p:blipFill>
        <p:spPr>
          <a:xfrm>
            <a:off x="1366920" y="2330280"/>
            <a:ext cx="7161120" cy="1727280"/>
          </a:xfrm>
          <a:prstGeom prst="rect">
            <a:avLst/>
          </a:prstGeom>
          <a:ln w="0">
            <a:noFill/>
          </a:ln>
        </p:spPr>
      </p:pic>
      <p:sp>
        <p:nvSpPr>
          <p:cNvPr id="896" name="Rectangle 10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7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9800" cy="49356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14" descr="Pearson_Bound_White"/>
          <p:cNvPicPr/>
          <p:nvPr/>
        </p:nvPicPr>
        <p:blipFill>
          <a:blip r:embed="rId5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6"/>
    <p:sldLayoutId id="2147483923" r:id="rId7"/>
    <p:sldLayoutId id="2147483924" r:id="rId8"/>
    <p:sldLayoutId id="2147483925" r:id="rId9"/>
    <p:sldLayoutId id="2147483926" r:id="rId10"/>
    <p:sldLayoutId id="2147483927" r:id="rId11"/>
    <p:sldLayoutId id="2147483928" r:id="rId12"/>
    <p:sldLayoutId id="2147483929" r:id="rId13"/>
    <p:sldLayoutId id="2147483930" r:id="rId14"/>
    <p:sldLayoutId id="2147483931" r:id="rId15"/>
    <p:sldLayoutId id="2147483932" r:id="rId16"/>
    <p:sldLayoutId id="2147483933" r:id="rId17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9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ftr" idx="29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sldNum" idx="30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6471A9A7-D9D0-486A-910C-249D5877E524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2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ftr" idx="31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sldNum" idx="32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FFB44972-B90B-44AB-BBE9-7B084C1AD425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5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 type="ftr" idx="33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 type="sldNum" idx="34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4F8E506E-2D50-4255-8B01-5AAC75E3F194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8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ftr" idx="35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 type="sldNum" idx="36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B234C5CD-C18E-4D0F-A7C1-F11C44103A37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1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ftr" idx="37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sldNum" idx="38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DFBB9472-27F6-414A-94EE-AFBF2CC2D521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3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4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ftr" idx="39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sldNum" idx="40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61C4C76E-3970-41EB-8CFD-DC2CF4D875E9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6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7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 type="ftr" idx="41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 type="sldNum" idx="42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B9E6ECE4-563E-40A0-A7E1-57D7D1AB02A1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6b0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48280" y="-29226240"/>
            <a:ext cx="28796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 fontScale="22000"/>
          </a:bodyPr>
          <a:p>
            <a:pPr marL="35640" indent="-35640" algn="r">
              <a:buClr>
                <a:srgbClr val="ffffff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1" marL="78120" indent="-38160" algn="r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2" marL="118800" indent="-36000" algn="r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3" marL="178560" indent="-40320" algn="r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4" marL="452520" indent="-5004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5" marL="452520" indent="-5004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  <a:p>
            <a:pPr lvl="6" marL="452520" indent="-50040" algn="r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5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1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Line 7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3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4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6DD81-C96B-4468-9214-E9D14BB53165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22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9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0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 type="ftr" idx="43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 type="sldNum" idx="44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E8E6EF48-1241-4551-8B57-7A8018B1C1A7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2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3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ftr" idx="45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sldNum" idx="46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874B2F98-B166-4988-8655-23545124727A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5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6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 type="ftr" idx="47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 type="sldNum" idx="48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B580633B-6B3C-4DB3-A484-D22BDD0AD596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8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9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 type="ftr" idx="49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 type="sldNum" idx="50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B88C2554-2C26-4756-92B3-4417D3C15964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1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2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 type="ftr" idx="51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 type="sldNum" idx="52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1 -</a:t>
            </a:r>
            <a:fld id="{3E5C4F75-9827-450D-9A8F-A67038C411F2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4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5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 type="sldNum" idx="53"/>
          </p:nvPr>
        </p:nvSpPr>
        <p:spPr>
          <a:xfrm>
            <a:off x="7016400" y="61718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1 -</a:t>
            </a:r>
            <a:fld id="{AF56FBAB-DAE4-4096-B46D-8CB62A6177B9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 type="ftr" idx="54"/>
          </p:nvPr>
        </p:nvSpPr>
        <p:spPr>
          <a:xfrm>
            <a:off x="412560" y="6171840"/>
            <a:ext cx="60260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8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 type="sldNum" idx="55"/>
          </p:nvPr>
        </p:nvSpPr>
        <p:spPr>
          <a:xfrm>
            <a:off x="7016400" y="61718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1 -</a:t>
            </a:r>
            <a:fld id="{988DC15F-BDB6-4882-A474-FBC9620F2E19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 type="ftr" idx="56"/>
          </p:nvPr>
        </p:nvSpPr>
        <p:spPr>
          <a:xfrm>
            <a:off x="412560" y="6171840"/>
            <a:ext cx="60260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0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1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 type="sldNum" idx="57"/>
          </p:nvPr>
        </p:nvSpPr>
        <p:spPr>
          <a:xfrm>
            <a:off x="7016400" y="61718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C3B2BB65-3465-49C4-8CF3-7270D5D21F47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 type="ftr" idx="58"/>
          </p:nvPr>
        </p:nvSpPr>
        <p:spPr>
          <a:xfrm>
            <a:off x="412560" y="6171840"/>
            <a:ext cx="60260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3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4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 type="sldNum" idx="59"/>
          </p:nvPr>
        </p:nvSpPr>
        <p:spPr>
          <a:xfrm>
            <a:off x="7016400" y="61718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65D87B2C-EA74-4FF4-96CA-E3436C1AA388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 type="ftr" idx="60"/>
          </p:nvPr>
        </p:nvSpPr>
        <p:spPr>
          <a:xfrm>
            <a:off x="412560" y="6171840"/>
            <a:ext cx="60260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Freeform 7"/>
          <p:cNvSpPr/>
          <p:nvPr/>
        </p:nvSpPr>
        <p:spPr>
          <a:xfrm>
            <a:off x="660240" y="1219320"/>
            <a:ext cx="8585280" cy="914400"/>
          </a:xfrm>
          <a:custGeom>
            <a:avLst/>
            <a:gdLst>
              <a:gd name="textAreaLeft" fmla="*/ 0 w 8585280"/>
              <a:gd name="textAreaRight" fmla="*/ 8585640 w 8585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6" name="Line 8"/>
          <p:cNvSpPr/>
          <p:nvPr/>
        </p:nvSpPr>
        <p:spPr>
          <a:xfrm>
            <a:off x="2146320" y="3962520"/>
            <a:ext cx="705492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 type="dt" idx="61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 type="ftr" idx="62"/>
          </p:nvPr>
        </p:nvSpPr>
        <p:spPr>
          <a:xfrm>
            <a:off x="3384360" y="6243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 type="sldNum" idx="63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B90E-9588-4C32-9B98-4266632DB5A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9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60469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94920" y="3562200"/>
            <a:ext cx="604692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51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82160" indent="66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35680" indent="-1868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5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6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75E1-2CD8-4EE6-8F27-406CAC0F9094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17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33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8" name="Picture 7" descr="Pearson_Bound_White"/>
          <p:cNvPicPr/>
          <p:nvPr/>
        </p:nvPicPr>
        <p:blipFill>
          <a:blip r:embed="rId2"/>
          <a:stretch/>
        </p:blipFill>
        <p:spPr>
          <a:xfrm>
            <a:off x="8432640" y="6496200"/>
            <a:ext cx="1289160" cy="223560"/>
          </a:xfrm>
          <a:prstGeom prst="rect">
            <a:avLst/>
          </a:prstGeom>
          <a:ln w="0">
            <a:noFill/>
          </a:ln>
        </p:spPr>
      </p:pic>
      <p:sp>
        <p:nvSpPr>
          <p:cNvPr id="1669" name="Line 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0" name="Picture 9" descr="Always_Learning_Text_Orange_RGB"/>
          <p:cNvPicPr/>
          <p:nvPr/>
        </p:nvPicPr>
        <p:blipFill>
          <a:blip r:embed="rId3"/>
          <a:stretch/>
        </p:blipFill>
        <p:spPr>
          <a:xfrm>
            <a:off x="1366920" y="2330280"/>
            <a:ext cx="7161120" cy="1727280"/>
          </a:xfrm>
          <a:prstGeom prst="rect">
            <a:avLst/>
          </a:prstGeom>
          <a:ln w="0">
            <a:noFill/>
          </a:ln>
        </p:spPr>
      </p:pic>
      <p:sp>
        <p:nvSpPr>
          <p:cNvPr id="1671" name="Rectangle 10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2" name="Picture 13" descr="Pearson_Strap_Bound_White"/>
          <p:cNvPicPr/>
          <p:nvPr/>
        </p:nvPicPr>
        <p:blipFill>
          <a:blip r:embed="rId4"/>
          <a:stretch/>
        </p:blipFill>
        <p:spPr>
          <a:xfrm>
            <a:off x="0" y="6356520"/>
            <a:ext cx="1909800" cy="493560"/>
          </a:xfrm>
          <a:prstGeom prst="rect">
            <a:avLst/>
          </a:prstGeom>
          <a:ln w="0">
            <a:noFill/>
          </a:ln>
        </p:spPr>
      </p:pic>
      <p:pic>
        <p:nvPicPr>
          <p:cNvPr id="1673" name="Picture 14" descr="Pearson_Bound_White"/>
          <p:cNvPicPr/>
          <p:nvPr/>
        </p:nvPicPr>
        <p:blipFill>
          <a:blip r:embed="rId5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6"/>
    <p:sldLayoutId id="2147484157" r:id="rId7"/>
    <p:sldLayoutId id="2147484158" r:id="rId8"/>
    <p:sldLayoutId id="2147484159" r:id="rId9"/>
    <p:sldLayoutId id="2147484160" r:id="rId10"/>
    <p:sldLayoutId id="2147484161" r:id="rId11"/>
    <p:sldLayoutId id="2147484162" r:id="rId12"/>
    <p:sldLayoutId id="2147484163" r:id="rId13"/>
    <p:sldLayoutId id="2147484164" r:id="rId14"/>
    <p:sldLayoutId id="2147484165" r:id="rId15"/>
    <p:sldLayoutId id="2147484166" r:id="rId16"/>
    <p:sldLayoutId id="2147484167" r:id="rId17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3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4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 type="sldNum" idx="64"/>
          </p:nvPr>
        </p:nvSpPr>
        <p:spPr>
          <a:xfrm>
            <a:off x="7016400" y="61718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71E1250B-5719-4E12-A7B5-0D4718056E33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 type="ftr" idx="65"/>
          </p:nvPr>
        </p:nvSpPr>
        <p:spPr>
          <a:xfrm>
            <a:off x="412560" y="6171840"/>
            <a:ext cx="60260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6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7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 type="sldNum" idx="66"/>
          </p:nvPr>
        </p:nvSpPr>
        <p:spPr>
          <a:xfrm>
            <a:off x="7016400" y="61718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3DA0C2C0-98A8-4840-9472-0E63D703B071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 type="ftr" idx="67"/>
          </p:nvPr>
        </p:nvSpPr>
        <p:spPr>
          <a:xfrm>
            <a:off x="412560" y="6171840"/>
            <a:ext cx="60260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Rectangle 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9" name="Picture 16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9800" cy="493560"/>
          </a:xfrm>
          <a:prstGeom prst="rect">
            <a:avLst/>
          </a:prstGeom>
          <a:ln w="0">
            <a:noFill/>
          </a:ln>
        </p:spPr>
      </p:pic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394920" y="1762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 type="ftr" idx="68"/>
          </p:nvPr>
        </p:nvSpPr>
        <p:spPr>
          <a:xfrm>
            <a:off x="412560" y="6171840"/>
            <a:ext cx="6026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 type="sldNum" idx="69"/>
          </p:nvPr>
        </p:nvSpPr>
        <p:spPr>
          <a:xfrm>
            <a:off x="7016400" y="61718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ED25A2E8-F33B-49B4-A662-12F339DA81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Rectangle 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2" name="Picture 16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843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9800" cy="493560"/>
          </a:xfrm>
          <a:prstGeom prst="rect">
            <a:avLst/>
          </a:prstGeom>
          <a:ln w="0">
            <a:noFill/>
          </a:ln>
        </p:spPr>
      </p:pic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body"/>
          </p:nvPr>
        </p:nvSpPr>
        <p:spPr>
          <a:xfrm>
            <a:off x="394920" y="1762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 type="ftr" idx="70"/>
          </p:nvPr>
        </p:nvSpPr>
        <p:spPr>
          <a:xfrm>
            <a:off x="412560" y="6171840"/>
            <a:ext cx="6026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 type="sldNum" idx="71"/>
          </p:nvPr>
        </p:nvSpPr>
        <p:spPr>
          <a:xfrm>
            <a:off x="7016400" y="61718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0E27B113-5D6B-44ED-8298-FD23039D0E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5" name="Picture 16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1886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9800" cy="493560"/>
          </a:xfrm>
          <a:prstGeom prst="rect">
            <a:avLst/>
          </a:prstGeom>
          <a:ln w="0">
            <a:noFill/>
          </a:ln>
        </p:spPr>
      </p:pic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 type="body"/>
          </p:nvPr>
        </p:nvSpPr>
        <p:spPr>
          <a:xfrm>
            <a:off x="394920" y="1762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889" name="PlaceHolder 3"/>
          <p:cNvSpPr>
            <a:spLocks noGrp="1"/>
          </p:cNvSpPr>
          <p:nvPr>
            <p:ph type="ftr" idx="72"/>
          </p:nvPr>
        </p:nvSpPr>
        <p:spPr>
          <a:xfrm>
            <a:off x="412560" y="6171840"/>
            <a:ext cx="6026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2009 Pearson Education, In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ing as Prentice H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PlaceHolder 4"/>
          <p:cNvSpPr>
            <a:spLocks noGrp="1"/>
          </p:cNvSpPr>
          <p:nvPr>
            <p:ph type="sldNum" idx="73"/>
          </p:nvPr>
        </p:nvSpPr>
        <p:spPr>
          <a:xfrm>
            <a:off x="7016400" y="61718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 1 -</a:t>
            </a:r>
            <a:fld id="{F1909DA9-9E03-493D-90CA-77BBD20A98B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Freeform 7"/>
          <p:cNvSpPr/>
          <p:nvPr/>
        </p:nvSpPr>
        <p:spPr>
          <a:xfrm>
            <a:off x="660240" y="1219320"/>
            <a:ext cx="8585280" cy="914400"/>
          </a:xfrm>
          <a:custGeom>
            <a:avLst/>
            <a:gdLst>
              <a:gd name="textAreaLeft" fmla="*/ 0 w 8585280"/>
              <a:gd name="textAreaRight" fmla="*/ 8585640 w 8585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Line 8"/>
          <p:cNvSpPr/>
          <p:nvPr/>
        </p:nvSpPr>
        <p:spPr>
          <a:xfrm>
            <a:off x="2146320" y="3962520"/>
            <a:ext cx="705492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 type="dt" idx="74"/>
          </p:nvPr>
        </p:nvSpPr>
        <p:spPr>
          <a:xfrm>
            <a:off x="495360" y="624348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 type="ftr" idx="75"/>
          </p:nvPr>
        </p:nvSpPr>
        <p:spPr>
          <a:xfrm>
            <a:off x="3384360" y="6243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opyright 2005 Prentice H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PlaceHolder 5"/>
          <p:cNvSpPr>
            <a:spLocks noGrp="1"/>
          </p:cNvSpPr>
          <p:nvPr>
            <p:ph type="sldNum" idx="76"/>
          </p:nvPr>
        </p:nvSpPr>
        <p:spPr>
          <a:xfrm>
            <a:off x="7098840" y="624348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BC44A-FA2C-4F06-889D-13C2481E117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60469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394920" y="3562200"/>
            <a:ext cx="6046920" cy="25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1080" indent="45108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182160" indent="666000">
              <a:buClr>
                <a:srgbClr val="00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535680" indent="-1868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714600" indent="-17748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Picture 16" descr="Pearson_Strap_Bound_White"/>
          <p:cNvPicPr/>
          <p:nvPr/>
        </p:nvPicPr>
        <p:blipFill>
          <a:blip r:embed="rId2"/>
          <a:stretch/>
        </p:blipFill>
        <p:spPr>
          <a:xfrm>
            <a:off x="0" y="6356520"/>
            <a:ext cx="1909800" cy="493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7" descr="Pearson_Bound_White"/>
          <p:cNvPicPr/>
          <p:nvPr/>
        </p:nvPicPr>
        <p:blipFill>
          <a:blip r:embed="rId3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7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Presentation Title runs here  l  00/00/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8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B6B4-AE73-4ECA-9612-6742CE6D3255}" type="slidenum">
              <a:rPr b="0" lang="en-GB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000" y="277920"/>
            <a:ext cx="89154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9500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7"/>
          <p:cNvSpPr/>
          <p:nvPr/>
        </p:nvSpPr>
        <p:spPr>
          <a:xfrm>
            <a:off x="412920" y="228600"/>
            <a:ext cx="8915400" cy="609480"/>
          </a:xfrm>
          <a:custGeom>
            <a:avLst/>
            <a:gdLst>
              <a:gd name="textAreaLeft" fmla="*/ 0 w 8915400"/>
              <a:gd name="textAreaRight" fmla="*/ 8915760 w 89154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Line 8"/>
          <p:cNvSpPr/>
          <p:nvPr/>
        </p:nvSpPr>
        <p:spPr>
          <a:xfrm>
            <a:off x="495360" y="6172200"/>
            <a:ext cx="89154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sldNum" idx="9"/>
          </p:nvPr>
        </p:nvSpPr>
        <p:spPr>
          <a:xfrm>
            <a:off x="7016400" y="61718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Ch 3 -</a:t>
            </a:r>
            <a:fld id="{BFF01B01-F953-4526-8EDE-C216C965B862}" type="slidenum">
              <a:rPr b="0" lang="en-US" sz="1400" spc="-1" strike="noStrike">
                <a:solidFill>
                  <a:srgbClr val="71602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0"/>
          </p:nvPr>
        </p:nvSpPr>
        <p:spPr>
          <a:xfrm>
            <a:off x="412560" y="6171840"/>
            <a:ext cx="6026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71602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Copyright © 2009 Pearson Education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71602f"/>
                </a:solidFill>
                <a:latin typeface="Times New Roman"/>
              </a:rPr>
              <a:t>Publishing as Prentice H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541440" indent="-18900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–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722160" indent="-179280">
              <a:lnSpc>
                <a:spcPct val="120000"/>
              </a:lnSpc>
              <a:buClr>
                <a:srgbClr val="000000"/>
              </a:buClr>
              <a:buSzPct val="80000"/>
              <a:buFont typeface="Arial"/>
              <a:buChar char="○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11"/>
          </p:nvPr>
        </p:nvSpPr>
        <p:spPr>
          <a:xfrm>
            <a:off x="54900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12"/>
          </p:nvPr>
        </p:nvSpPr>
        <p:spPr>
          <a:xfrm>
            <a:off x="29016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bf5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Ch 3 -</a:t>
            </a:r>
            <a:fld id="{41B12F07-8AD6-400A-B31A-411438A397C1}" type="slidenum">
              <a:rPr b="0" lang="en-US" sz="900" spc="-1" strike="noStrike">
                <a:solidFill>
                  <a:srgbClr val="fbf5ea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18"/>
          <p:cNvSpPr/>
          <p:nvPr/>
        </p:nvSpPr>
        <p:spPr>
          <a:xfrm>
            <a:off x="0" y="6397560"/>
            <a:ext cx="990108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Picture 19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5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0" y="6397560"/>
            <a:ext cx="9907560" cy="457200"/>
          </a:xfrm>
          <a:prstGeom prst="rect">
            <a:avLst/>
          </a:prstGeom>
          <a:solidFill>
            <a:srgbClr val="ed6b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4920" y="394920"/>
            <a:ext cx="9109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6b06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94920" y="1762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buClr>
                <a:srgbClr val="ed6b06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1" marL="3240" indent="-1800"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2" marL="879480" indent="-165240"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3" marL="1243080" indent="-184320">
              <a:buClr>
                <a:srgbClr val="000000"/>
              </a:buClr>
              <a:buSzPct val="80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4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5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  <a:p>
            <a:pPr lvl="6" marL="2057400" indent="-228600"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pic>
        <p:nvPicPr>
          <p:cNvPr id="343" name="Picture 16" descr="Pearson_Bound_White"/>
          <p:cNvPicPr/>
          <p:nvPr/>
        </p:nvPicPr>
        <p:blipFill>
          <a:blip r:embed="rId2"/>
          <a:stretch/>
        </p:blipFill>
        <p:spPr>
          <a:xfrm>
            <a:off x="8247240" y="6356520"/>
            <a:ext cx="1655640" cy="4935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7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9800" cy="49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6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0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89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97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2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2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7" name="Picture 2" descr="Always_Learning_Text_Orange_RGB"/>
          <p:cNvPicPr/>
          <p:nvPr/>
        </p:nvPicPr>
        <p:blipFill>
          <a:blip r:embed="rId1"/>
          <a:stretch/>
        </p:blipFill>
        <p:spPr>
          <a:xfrm>
            <a:off x="1366920" y="2330280"/>
            <a:ext cx="7161120" cy="1727280"/>
          </a:xfrm>
          <a:prstGeom prst="rect">
            <a:avLst/>
          </a:prstGeom>
          <a:ln w="0">
            <a:noFill/>
          </a:ln>
        </p:spPr>
      </p:pic>
      <p:sp>
        <p:nvSpPr>
          <p:cNvPr id="197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101B12C7-1D93-49AE-9201-4DF2139F7DE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"/>
          <p:cNvSpPr txBox="1"/>
          <p:nvPr/>
        </p:nvSpPr>
        <p:spPr>
          <a:xfrm>
            <a:off x="659880" y="17521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0" name="Slide Number Placeholder 4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9B9D6749-071A-40E1-9438-B534179D076B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1" name="Oval 3"/>
          <p:cNvSpPr/>
          <p:nvPr/>
        </p:nvSpPr>
        <p:spPr>
          <a:xfrm>
            <a:off x="617400" y="1454040"/>
            <a:ext cx="4292640" cy="1067040"/>
          </a:xfrm>
          <a:prstGeom prst="ellipse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rategy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2" name="Rectangle 4"/>
          <p:cNvSpPr/>
          <p:nvPr/>
        </p:nvSpPr>
        <p:spPr>
          <a:xfrm>
            <a:off x="4414680" y="3054240"/>
            <a:ext cx="4210200" cy="60984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rnal Re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3" name="Line 5"/>
          <p:cNvSpPr/>
          <p:nvPr/>
        </p:nvSpPr>
        <p:spPr>
          <a:xfrm>
            <a:off x="2681280" y="2521080"/>
            <a:ext cx="0" cy="312408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4" name="Line 6"/>
          <p:cNvSpPr/>
          <p:nvPr/>
        </p:nvSpPr>
        <p:spPr>
          <a:xfrm>
            <a:off x="2681280" y="5645160"/>
            <a:ext cx="1733400" cy="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5" name="Line 7"/>
          <p:cNvSpPr/>
          <p:nvPr/>
        </p:nvSpPr>
        <p:spPr>
          <a:xfrm>
            <a:off x="2681280" y="4121280"/>
            <a:ext cx="1733400" cy="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6" name="Line 8"/>
          <p:cNvSpPr/>
          <p:nvPr/>
        </p:nvSpPr>
        <p:spPr>
          <a:xfrm>
            <a:off x="2681280" y="3359160"/>
            <a:ext cx="1733400" cy="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Rectangle 9"/>
          <p:cNvSpPr/>
          <p:nvPr/>
        </p:nvSpPr>
        <p:spPr>
          <a:xfrm>
            <a:off x="4414680" y="3816360"/>
            <a:ext cx="4210200" cy="60948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ternal Re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8" name="Rectangle 10"/>
          <p:cNvSpPr/>
          <p:nvPr/>
        </p:nvSpPr>
        <p:spPr>
          <a:xfrm>
            <a:off x="4414680" y="4578480"/>
            <a:ext cx="4210200" cy="60948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erformance Metr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9" name="Rectangle 11"/>
          <p:cNvSpPr/>
          <p:nvPr/>
        </p:nvSpPr>
        <p:spPr>
          <a:xfrm>
            <a:off x="4414680" y="5340240"/>
            <a:ext cx="4210200" cy="60984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rrective A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0" name="Line 12"/>
          <p:cNvSpPr/>
          <p:nvPr/>
        </p:nvSpPr>
        <p:spPr>
          <a:xfrm>
            <a:off x="2681280" y="4883040"/>
            <a:ext cx="1733400" cy="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56164B8D-946C-4CBE-A860-28F3FD8BD78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3" name="Text Box 3"/>
          <p:cNvSpPr/>
          <p:nvPr/>
        </p:nvSpPr>
        <p:spPr>
          <a:xfrm>
            <a:off x="495360" y="457200"/>
            <a:ext cx="64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ic management process step: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4" name=""/>
          <p:cNvSpPr txBox="1"/>
          <p:nvPr/>
        </p:nvSpPr>
        <p:spPr>
          <a:xfrm>
            <a:off x="631440" y="2133360"/>
            <a:ext cx="8642520" cy="16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2800" spc="-1" strike="noStrike">
                <a:solidFill>
                  <a:srgbClr val="f6861f"/>
                </a:solidFill>
                <a:latin typeface="Verdana"/>
              </a:rPr>
              <a:t>“</a:t>
            </a:r>
            <a:r>
              <a:rPr b="1" i="1" lang="en-US" sz="2800" spc="-1" strike="noStrike">
                <a:solidFill>
                  <a:srgbClr val="f6861f"/>
                </a:solidFill>
                <a:latin typeface="Verdana"/>
              </a:rPr>
              <a:t>Think through the overall mission of a business.  Ask the key question: What is our Business?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eter Druck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Slide Number Placeholder 4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999D2E44-F9BE-4E38-ABDE-EFCF0FB06C5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6" name="Text Box 3"/>
          <p:cNvSpPr/>
          <p:nvPr/>
        </p:nvSpPr>
        <p:spPr>
          <a:xfrm>
            <a:off x="577800" y="457200"/>
            <a:ext cx="90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Prime Task of Strategic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333C1C1C-32E5-49FB-AFCF-33841F1702E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0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0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"/>
          <p:cNvSpPr txBox="1"/>
          <p:nvPr/>
        </p:nvSpPr>
        <p:spPr>
          <a:xfrm>
            <a:off x="576360" y="1928520"/>
            <a:ext cx="8337600" cy="25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strategic management process attempts to organize quantitative and qualitative information under conditions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uncertainty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0" name="Slide Number Placeholder 4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AEB0E037-98FE-420E-8CBB-ABC51FFC74F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1" name="Text Box 3"/>
          <p:cNvSpPr/>
          <p:nvPr/>
        </p:nvSpPr>
        <p:spPr>
          <a:xfrm>
            <a:off x="577800" y="457200"/>
            <a:ext cx="84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Integrating Intuition &amp;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F777C6D8-65AF-411B-8F30-B6D003E74B2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"/>
          <p:cNvSpPr txBox="1"/>
          <p:nvPr/>
        </p:nvSpPr>
        <p:spPr>
          <a:xfrm>
            <a:off x="560520" y="1557360"/>
            <a:ext cx="8353440" cy="244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uition is based 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st experi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udg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el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5" name="Slide Number Placeholder 4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54DC5555-A7D5-4F5B-97B4-84AB30DA814B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6" name="Text Box 3"/>
          <p:cNvSpPr/>
          <p:nvPr/>
        </p:nvSpPr>
        <p:spPr>
          <a:xfrm>
            <a:off x="577800" y="457200"/>
            <a:ext cx="84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Integrating Intuition &amp;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Rectangle 4"/>
          <p:cNvSpPr/>
          <p:nvPr/>
        </p:nvSpPr>
        <p:spPr>
          <a:xfrm>
            <a:off x="560520" y="4149720"/>
            <a:ext cx="8353440" cy="18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uition is useful for decision making i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ditions of great uncertain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ditions with little preced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8" name="Picture 5" descr="j0297707"/>
          <p:cNvPicPr/>
          <p:nvPr/>
        </p:nvPicPr>
        <p:blipFill>
          <a:blip r:embed="rId1"/>
          <a:stretch/>
        </p:blipFill>
        <p:spPr>
          <a:xfrm>
            <a:off x="6753240" y="1125360"/>
            <a:ext cx="2154240" cy="2448000"/>
          </a:xfrm>
          <a:prstGeom prst="rect">
            <a:avLst/>
          </a:prstGeom>
          <a:ln w="0">
            <a:noFill/>
          </a:ln>
        </p:spPr>
      </p:pic>
      <p:sp>
        <p:nvSpPr>
          <p:cNvPr id="207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FAD96BC5-AB4F-4357-8C39-D445372D2A7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0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20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0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0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0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0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0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"/>
          <p:cNvSpPr txBox="1"/>
          <p:nvPr/>
        </p:nvSpPr>
        <p:spPr>
          <a:xfrm>
            <a:off x="659880" y="17521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2" name="Slide Number Placeholder 4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8870D593-A635-492C-ADC9-13BB67C7A73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3" name="AutoShape 4"/>
          <p:cNvSpPr/>
          <p:nvPr/>
        </p:nvSpPr>
        <p:spPr>
          <a:xfrm>
            <a:off x="2505240" y="1844640"/>
            <a:ext cx="4705200" cy="914400"/>
          </a:xfrm>
          <a:prstGeom prst="roundRect">
            <a:avLst>
              <a:gd name="adj" fmla="val 16667"/>
            </a:avLst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alytical Thin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4" name="Text Box 7"/>
          <p:cNvSpPr/>
          <p:nvPr/>
        </p:nvSpPr>
        <p:spPr>
          <a:xfrm>
            <a:off x="577800" y="457200"/>
            <a:ext cx="84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Integrating Intuition &amp;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5" name="AutoShape 8"/>
          <p:cNvSpPr/>
          <p:nvPr/>
        </p:nvSpPr>
        <p:spPr>
          <a:xfrm>
            <a:off x="2505240" y="4149720"/>
            <a:ext cx="4705200" cy="914400"/>
          </a:xfrm>
          <a:prstGeom prst="roundRect">
            <a:avLst>
              <a:gd name="adj" fmla="val 16667"/>
            </a:avLst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uitive Thin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6" name="AutoShape 9"/>
          <p:cNvSpPr/>
          <p:nvPr/>
        </p:nvSpPr>
        <p:spPr>
          <a:xfrm>
            <a:off x="4592520" y="2852640"/>
            <a:ext cx="495360" cy="1219320"/>
          </a:xfrm>
          <a:prstGeom prst="upDownArrow">
            <a:avLst>
              <a:gd name="adj1" fmla="val 50000"/>
              <a:gd name="adj2" fmla="val 53332"/>
            </a:avLst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DFBE2C8D-762C-43FB-B42A-1CC21B36DB3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"/>
          <p:cNvSpPr txBox="1"/>
          <p:nvPr/>
        </p:nvSpPr>
        <p:spPr>
          <a:xfrm>
            <a:off x="560160" y="1628640"/>
            <a:ext cx="8337240" cy="338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 the Arab world, there is a cultural tendency to emphasize on the role of intuition and imagination in decision making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re are many companies which, because of luck and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Abundant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portunities, have experienced great growth but only for 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hort tim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0" name="Slide Number Placeholder 4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FF3ADD0D-47A1-4872-ABD6-B68D6A12723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1" name="Text Box 3"/>
          <p:cNvSpPr/>
          <p:nvPr/>
        </p:nvSpPr>
        <p:spPr>
          <a:xfrm>
            <a:off x="577800" y="457200"/>
            <a:ext cx="84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Note: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7660FB9A-0408-4C08-9529-32F8611E495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0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20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Key Terms in strategic Management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95" name=""/>
          <p:cNvSpPr txBox="1"/>
          <p:nvPr/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etitive advant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rategis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Vision &amp; miss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ternal opportunity &amp; threat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ernal strengths &amp; weakness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ng – term objectiv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rategi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nual (short- term)objectiv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lic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6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7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3 -</a:t>
            </a:r>
            <a:fld id="{6E3A93F0-FBDF-406B-923B-4D12EAD743EC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"/>
          <p:cNvSpPr txBox="1"/>
          <p:nvPr/>
        </p:nvSpPr>
        <p:spPr>
          <a:xfrm>
            <a:off x="743040" y="1125360"/>
            <a:ext cx="8254800" cy="337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mpetitive Advantage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ything that a firm does especially well, compared to rival fir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9" name="Slide Number Placeholder 4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40D2943F-7329-4622-8604-AE836CD737B0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0" name="Text Box 3"/>
          <p:cNvSpPr/>
          <p:nvPr/>
        </p:nvSpPr>
        <p:spPr>
          <a:xfrm>
            <a:off x="577800" y="457200"/>
            <a:ext cx="89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M :key term (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69E97130-C7E1-49DF-9281-1AA48B8F095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2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0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"/>
          <p:cNvSpPr txBox="1"/>
          <p:nvPr/>
        </p:nvSpPr>
        <p:spPr>
          <a:xfrm>
            <a:off x="631440" y="1700280"/>
            <a:ext cx="8255160" cy="39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pting to change in external trends, internal capabilities,  and re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ffectively formulating, implementing, and evaluating strateg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8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4" name="Slide Number Placeholder 4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F049293A-5DB8-4211-92CE-A75EA99C7144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5" name="Text Box 3"/>
          <p:cNvSpPr/>
          <p:nvPr/>
        </p:nvSpPr>
        <p:spPr>
          <a:xfrm>
            <a:off x="577800" y="457200"/>
            <a:ext cx="93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Organizations is said to have a SCA when it is: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6" name="Picture 5" descr="BD09205_"/>
          <p:cNvPicPr/>
          <p:nvPr/>
        </p:nvPicPr>
        <p:blipFill>
          <a:blip r:embed="rId1"/>
          <a:stretch/>
        </p:blipFill>
        <p:spPr>
          <a:xfrm>
            <a:off x="7705800" y="4325760"/>
            <a:ext cx="1568520" cy="1258920"/>
          </a:xfrm>
          <a:prstGeom prst="rect">
            <a:avLst/>
          </a:prstGeom>
          <a:ln w="0">
            <a:noFill/>
          </a:ln>
        </p:spPr>
      </p:pic>
      <p:sp>
        <p:nvSpPr>
          <p:cNvPr id="210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26443235-B33D-4209-A31E-151633B54986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659880" y="456840"/>
            <a:ext cx="7099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.M. Key Term (2)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10" name="Slide Number Placeholder 4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6E68430D-6B10-40BD-A02A-DE6E59995BC0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1" name="Rectangle 5"/>
          <p:cNvSpPr/>
          <p:nvPr/>
        </p:nvSpPr>
        <p:spPr>
          <a:xfrm>
            <a:off x="1065240" y="1916280"/>
            <a:ext cx="7512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2" name="Text Box 7"/>
          <p:cNvSpPr/>
          <p:nvPr/>
        </p:nvSpPr>
        <p:spPr>
          <a:xfrm>
            <a:off x="577800" y="1219320"/>
            <a:ext cx="8832960" cy="452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rategists – Those that affect a firm’s success or failur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hief Executive Officer (CE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hief Strategy Officer (C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resid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Own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Board 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Executive Direc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79827C53-933F-4790-9DEE-E4DFF4464A0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2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8036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d6b06"/>
                </a:solidFill>
                <a:latin typeface="Verdana"/>
              </a:rPr>
              <a:t>Strategic Management: Concepts and Cases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395280" y="1546200"/>
            <a:ext cx="4702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Arab World Ed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red R. Dav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bas J. 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bdulrahman Y. Al-A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Chapter 1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The Nature of Strateg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0">
              <a:lnSpc>
                <a:spcPct val="12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2" name="Picture 4" descr="CVR_STMA_SB_ARW_5674_CVR"/>
          <p:cNvPicPr/>
          <p:nvPr/>
        </p:nvPicPr>
        <p:blipFill>
          <a:blip r:embed="rId1"/>
          <a:stretch/>
        </p:blipFill>
        <p:spPr>
          <a:xfrm>
            <a:off x="5861160" y="1523880"/>
            <a:ext cx="3114720" cy="4138560"/>
          </a:xfrm>
          <a:prstGeom prst="rect">
            <a:avLst/>
          </a:prstGeom>
          <a:ln w="0">
            <a:noFill/>
          </a:ln>
        </p:spPr>
      </p:pic>
      <p:sp>
        <p:nvSpPr>
          <p:cNvPr id="198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63CE794F-2B97-44ED-825E-C0BF24DA655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/>
          </p:nvPr>
        </p:nvSpPr>
        <p:spPr>
          <a:xfrm>
            <a:off x="596520" y="1980720"/>
            <a:ext cx="817236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ision Statement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do we want to becom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ission Statement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our business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6" name="Text Box 3"/>
          <p:cNvSpPr/>
          <p:nvPr/>
        </p:nvSpPr>
        <p:spPr>
          <a:xfrm>
            <a:off x="577800" y="457200"/>
            <a:ext cx="660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.M. Key Term (3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7" name="Picture 6" descr="q231pxf4[1]"/>
          <p:cNvPicPr/>
          <p:nvPr/>
        </p:nvPicPr>
        <p:blipFill>
          <a:blip r:embed="rId1"/>
          <a:stretch/>
        </p:blipFill>
        <p:spPr>
          <a:xfrm>
            <a:off x="6951600" y="3321000"/>
            <a:ext cx="2394000" cy="2629080"/>
          </a:xfrm>
          <a:prstGeom prst="rect">
            <a:avLst/>
          </a:prstGeom>
          <a:ln w="0">
            <a:noFill/>
          </a:ln>
        </p:spPr>
      </p:pic>
      <p:sp>
        <p:nvSpPr>
          <p:cNvPr id="211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87403244-B052-4ADA-A070-7265A58522B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2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Text Box 3"/>
          <p:cNvSpPr/>
          <p:nvPr/>
        </p:nvSpPr>
        <p:spPr>
          <a:xfrm>
            <a:off x="560520" y="620640"/>
            <a:ext cx="83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.M. Key Term (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Opportunities and Threats </a:t>
            </a:r>
            <a:r>
              <a:rPr b="1" lang="en-US" sz="1200" spc="-1" strike="noStrike">
                <a:solidFill>
                  <a:srgbClr val="ed6b06"/>
                </a:solidFill>
                <a:latin typeface="Verdana"/>
              </a:rPr>
              <a:t>(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External analysi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FB40D671-3BD5-4A65-8AB0-B544DDD4A664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3" name="Text Box 8"/>
          <p:cNvSpPr/>
          <p:nvPr/>
        </p:nvSpPr>
        <p:spPr>
          <a:xfrm>
            <a:off x="776160" y="2421000"/>
            <a:ext cx="6985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ternal opportunities and threats are largely out of the control of a single organiz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Text Box 3"/>
          <p:cNvSpPr/>
          <p:nvPr/>
        </p:nvSpPr>
        <p:spPr>
          <a:xfrm>
            <a:off x="577800" y="457200"/>
            <a:ext cx="82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Oportunities and Threats (External) Cont’d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5" name="Text Box 5"/>
          <p:cNvSpPr/>
          <p:nvPr/>
        </p:nvSpPr>
        <p:spPr>
          <a:xfrm>
            <a:off x="631800" y="1557360"/>
            <a:ext cx="759456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nalysis of Trend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Econom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Soci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ultur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Demographic/Environmen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olitical, Legal, Governmen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Technologic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ompeti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6" name="Picture 6" descr="fvcvrxzc[1]"/>
          <p:cNvPicPr/>
          <p:nvPr/>
        </p:nvPicPr>
        <p:blipFill>
          <a:blip r:embed="rId1"/>
          <a:stretch/>
        </p:blipFill>
        <p:spPr>
          <a:xfrm>
            <a:off x="6824520" y="2060640"/>
            <a:ext cx="2283120" cy="3357360"/>
          </a:xfrm>
          <a:prstGeom prst="rect">
            <a:avLst/>
          </a:prstGeom>
          <a:ln w="0">
            <a:noFill/>
          </a:ln>
        </p:spPr>
      </p:pic>
      <p:sp>
        <p:nvSpPr>
          <p:cNvPr id="212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CCB538F5-4951-48D6-ACEF-A8CE622A3885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/>
          </p:nvPr>
        </p:nvSpPr>
        <p:spPr>
          <a:xfrm>
            <a:off x="560160" y="1557360"/>
            <a:ext cx="817236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basic tenet of strategic managemen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Oval 4"/>
          <p:cNvSpPr/>
          <p:nvPr/>
        </p:nvSpPr>
        <p:spPr>
          <a:xfrm>
            <a:off x="704880" y="2895480"/>
            <a:ext cx="3270240" cy="2286000"/>
          </a:xfrm>
          <a:prstGeom prst="ellipse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bf5ea"/>
                </a:solidFill>
                <a:latin typeface="Verdana"/>
              </a:rPr>
              <a:t>Strategy Formul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filecab3"/>
          <p:cNvSpPr/>
          <p:nvPr/>
        </p:nvSpPr>
        <p:spPr>
          <a:xfrm>
            <a:off x="4718160" y="2666880"/>
            <a:ext cx="4127400" cy="990720"/>
          </a:xfrm>
          <a:prstGeom prst="pie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ake advantage of External Opportun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2" name="filecab3"/>
          <p:cNvSpPr/>
          <p:nvPr/>
        </p:nvSpPr>
        <p:spPr>
          <a:xfrm>
            <a:off x="4718160" y="4586400"/>
            <a:ext cx="4127400" cy="1003320"/>
          </a:xfrm>
          <a:prstGeom prst="pie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void/minimize impact of External Threa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3" name="Line 11"/>
          <p:cNvSpPr/>
          <p:nvPr/>
        </p:nvSpPr>
        <p:spPr>
          <a:xfrm flipV="1">
            <a:off x="3975120" y="3276720"/>
            <a:ext cx="74304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4" name="Line 13"/>
          <p:cNvSpPr/>
          <p:nvPr/>
        </p:nvSpPr>
        <p:spPr>
          <a:xfrm>
            <a:off x="3975120" y="4038480"/>
            <a:ext cx="7430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5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BF58255F-3585-4D1D-B10F-16882475CA7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6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" dur="20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2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/>
          </p:nvPr>
        </p:nvSpPr>
        <p:spPr>
          <a:xfrm>
            <a:off x="560160" y="1700280"/>
            <a:ext cx="817236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rengths &amp; Weaknesses (Internal)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rollable activities performed especially well or poor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8" name="Text Box 3"/>
          <p:cNvSpPr/>
          <p:nvPr/>
        </p:nvSpPr>
        <p:spPr>
          <a:xfrm>
            <a:off x="577800" y="457200"/>
            <a:ext cx="847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.M. key term (5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engths and Weaknesses (Internal analysis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9" name="Text Box 4"/>
          <p:cNvSpPr/>
          <p:nvPr/>
        </p:nvSpPr>
        <p:spPr>
          <a:xfrm>
            <a:off x="560520" y="1371600"/>
            <a:ext cx="808992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0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CB8C1366-DC6B-4B54-B080-D4B3767FAD4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1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0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2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2" name="Picture 6" descr="x0iwhrju[1]"/>
          <p:cNvPicPr/>
          <p:nvPr/>
        </p:nvPicPr>
        <p:blipFill>
          <a:blip r:embed="rId1"/>
          <a:stretch/>
        </p:blipFill>
        <p:spPr>
          <a:xfrm>
            <a:off x="6726240" y="2924280"/>
            <a:ext cx="2548080" cy="1950840"/>
          </a:xfrm>
          <a:prstGeom prst="rect">
            <a:avLst/>
          </a:prstGeom>
          <a:ln w="0">
            <a:noFill/>
          </a:ln>
        </p:spPr>
      </p:pic>
      <p:sp>
        <p:nvSpPr>
          <p:cNvPr id="2143" name="Text Box 3"/>
          <p:cNvSpPr/>
          <p:nvPr/>
        </p:nvSpPr>
        <p:spPr>
          <a:xfrm>
            <a:off x="577800" y="457200"/>
            <a:ext cx="83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engths and Weaknesses (Internal) Cont’d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Text Box 4"/>
          <p:cNvSpPr/>
          <p:nvPr/>
        </p:nvSpPr>
        <p:spPr>
          <a:xfrm>
            <a:off x="631800" y="1801800"/>
            <a:ext cx="759456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engths and weaknesses are typically located in the functional areas of the firm, such a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216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216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arke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216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Finance/Account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216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roduction/Oper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216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Research &amp;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216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omputer Information Syst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5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1B4BB58E-6D76-4E10-93BC-9A050BC2723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6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2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Text Box 3"/>
          <p:cNvSpPr/>
          <p:nvPr/>
        </p:nvSpPr>
        <p:spPr>
          <a:xfrm>
            <a:off x="577800" y="457200"/>
            <a:ext cx="905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Assessing the Internal Enviro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8" name="Oval 4"/>
          <p:cNvSpPr/>
          <p:nvPr/>
        </p:nvSpPr>
        <p:spPr>
          <a:xfrm>
            <a:off x="1065240" y="2492280"/>
            <a:ext cx="3054240" cy="2286000"/>
          </a:xfrm>
          <a:prstGeom prst="ellipse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f5ea"/>
                </a:solidFill>
                <a:latin typeface="Verdana"/>
              </a:rPr>
              <a:t>Internal Fac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9" name="Rectangle 9"/>
          <p:cNvSpPr/>
          <p:nvPr/>
        </p:nvSpPr>
        <p:spPr>
          <a:xfrm>
            <a:off x="5024520" y="2924280"/>
            <a:ext cx="3219480" cy="60948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erformance Metri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0" name="Rectangle 10"/>
          <p:cNvSpPr/>
          <p:nvPr/>
        </p:nvSpPr>
        <p:spPr>
          <a:xfrm>
            <a:off x="5024520" y="2060640"/>
            <a:ext cx="3219480" cy="60948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inancial Rat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1" name="Rectangle 11"/>
          <p:cNvSpPr/>
          <p:nvPr/>
        </p:nvSpPr>
        <p:spPr>
          <a:xfrm>
            <a:off x="5024520" y="3789360"/>
            <a:ext cx="3219480" cy="60948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dustry Avera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Rectangle 12"/>
          <p:cNvSpPr/>
          <p:nvPr/>
        </p:nvSpPr>
        <p:spPr>
          <a:xfrm>
            <a:off x="5024520" y="4653000"/>
            <a:ext cx="3219480" cy="60948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urvey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3" name="Line 14"/>
          <p:cNvSpPr/>
          <p:nvPr/>
        </p:nvSpPr>
        <p:spPr>
          <a:xfrm flipV="1">
            <a:off x="4089240" y="2421000"/>
            <a:ext cx="9082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4" name="Line 15"/>
          <p:cNvSpPr/>
          <p:nvPr/>
        </p:nvSpPr>
        <p:spPr>
          <a:xfrm flipV="1">
            <a:off x="4089240" y="3284640"/>
            <a:ext cx="908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5" name="Line 16"/>
          <p:cNvSpPr/>
          <p:nvPr/>
        </p:nvSpPr>
        <p:spPr>
          <a:xfrm>
            <a:off x="4089240" y="3716280"/>
            <a:ext cx="908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6" name="Line 17"/>
          <p:cNvSpPr/>
          <p:nvPr/>
        </p:nvSpPr>
        <p:spPr>
          <a:xfrm>
            <a:off x="4089240" y="3789360"/>
            <a:ext cx="908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9724BB1F-697D-4888-AB77-7C6D26C7A55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2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2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/>
          </p:nvPr>
        </p:nvSpPr>
        <p:spPr>
          <a:xfrm>
            <a:off x="596520" y="1773360"/>
            <a:ext cx="817236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ng-term Objective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ssion-driven pursuit of specified results more than one year 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0" name="Text Box 3"/>
          <p:cNvSpPr/>
          <p:nvPr/>
        </p:nvSpPr>
        <p:spPr>
          <a:xfrm>
            <a:off x="577800" y="457200"/>
            <a:ext cx="660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Long Term Objective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1" name="Text Box 4"/>
          <p:cNvSpPr/>
          <p:nvPr/>
        </p:nvSpPr>
        <p:spPr>
          <a:xfrm>
            <a:off x="584280" y="1600200"/>
            <a:ext cx="88326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73486736-8C74-4920-A714-6602310EB9B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0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2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Text Box 3"/>
          <p:cNvSpPr/>
          <p:nvPr/>
        </p:nvSpPr>
        <p:spPr>
          <a:xfrm>
            <a:off x="577800" y="457200"/>
            <a:ext cx="660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.M. key term (6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Long Term Objectives (Cont’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5" name="Text Box 4"/>
          <p:cNvSpPr/>
          <p:nvPr/>
        </p:nvSpPr>
        <p:spPr>
          <a:xfrm>
            <a:off x="560520" y="1708200"/>
            <a:ext cx="7594560" cy="33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ng term objectives are essential for ensuring a firm’s success. The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Provide dir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Help with eval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reate syner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Focus coordin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3648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Basis for planning, motivating, an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control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6" name="Picture 7" descr="we4utkib[1]"/>
          <p:cNvPicPr/>
          <p:nvPr/>
        </p:nvPicPr>
        <p:blipFill>
          <a:blip r:embed="rId1"/>
          <a:stretch/>
        </p:blipFill>
        <p:spPr>
          <a:xfrm>
            <a:off x="7184880" y="2421000"/>
            <a:ext cx="1665360" cy="2535120"/>
          </a:xfrm>
          <a:prstGeom prst="rect">
            <a:avLst/>
          </a:prstGeom>
          <a:ln w="0">
            <a:noFill/>
          </a:ln>
        </p:spPr>
      </p:pic>
      <p:sp>
        <p:nvSpPr>
          <p:cNvPr id="216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5ACAD39B-DAB6-41BE-A9E4-3EA0A7C55958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0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2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2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2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2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2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/>
          </p:nvPr>
        </p:nvSpPr>
        <p:spPr>
          <a:xfrm>
            <a:off x="560160" y="1557360"/>
            <a:ext cx="8172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rategie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means by which long-term objectives are achiev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0" name="Text Box 3"/>
          <p:cNvSpPr/>
          <p:nvPr/>
        </p:nvSpPr>
        <p:spPr>
          <a:xfrm>
            <a:off x="577800" y="457200"/>
            <a:ext cx="6604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.M. key term (7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ie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47498CFC-CB33-4F49-8DC4-2900E8BAD250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3" name="Picture 7" descr="a2dbze2x[1]"/>
          <p:cNvPicPr/>
          <p:nvPr/>
        </p:nvPicPr>
        <p:blipFill>
          <a:blip r:embed="rId1"/>
          <a:stretch/>
        </p:blipFill>
        <p:spPr>
          <a:xfrm>
            <a:off x="5529240" y="2133720"/>
            <a:ext cx="3941640" cy="39272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0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659880" y="456840"/>
            <a:ext cx="7099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Chapter Outline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86" name="Slide Number Placeholder 3"/>
          <p:cNvSpPr/>
          <p:nvPr/>
        </p:nvSpPr>
        <p:spPr>
          <a:xfrm>
            <a:off x="290520" y="6546960"/>
            <a:ext cx="534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Arial"/>
              </a:rPr>
              <a:t>Ch 1 -</a:t>
            </a:r>
            <a:fld id="{28916FEE-02D0-48E5-AC2F-81F0B1747F15}" type="slidenum">
              <a:rPr b="0" lang="en-US" sz="900" spc="-1" strike="noStrike">
                <a:solidFill>
                  <a:srgbClr val="fbf5ea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7" name="Rectangle 6"/>
          <p:cNvSpPr/>
          <p:nvPr/>
        </p:nvSpPr>
        <p:spPr>
          <a:xfrm>
            <a:off x="577800" y="1052640"/>
            <a:ext cx="858528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at is Strategic Management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Key Terms in Strategic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Strategic-Management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enefits of Strategic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y Some Firms Do No Strategic Plan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itfalls in Strategic Plan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uidelines for Effective Strategic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8" name="Slide Number Placeholder 5"/>
          <p:cNvSpPr/>
          <p:nvPr/>
        </p:nvSpPr>
        <p:spPr>
          <a:xfrm>
            <a:off x="1542960" y="6524640"/>
            <a:ext cx="304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796680" y="476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Strategies (Cont’d)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75" name="Text Box 4"/>
          <p:cNvSpPr/>
          <p:nvPr/>
        </p:nvSpPr>
        <p:spPr>
          <a:xfrm>
            <a:off x="704880" y="1557360"/>
            <a:ext cx="759456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examples of different strategies ar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4160" indent="-4316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Geographic expan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4160" indent="-4316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Diversif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4160" indent="-4316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Acqui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4160" indent="-4316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Market pene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4160" indent="-4316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Retrench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4160" indent="-4316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Liqui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84160" indent="-4316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Arial"/>
              </a:rPr>
              <a:t>Joint ven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1" dur="500"/>
                                        <p:tgtEl>
                                          <p:spTgt spid="2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2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2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2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2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2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500"/>
                            </p:stCondLst>
                            <p:childTnLst>
                              <p:par>
                                <p:cTn id="4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2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Text Box 3"/>
          <p:cNvSpPr/>
          <p:nvPr/>
        </p:nvSpPr>
        <p:spPr>
          <a:xfrm>
            <a:off x="577800" y="457200"/>
            <a:ext cx="660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.M. Key Terms (8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7" name="Text Box 4"/>
          <p:cNvSpPr/>
          <p:nvPr/>
        </p:nvSpPr>
        <p:spPr>
          <a:xfrm>
            <a:off x="560520" y="2349360"/>
            <a:ext cx="8832600" cy="193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nnual Objective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rt-term achievements  that firms must recognize to attain long-term obj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02E9D62C-20F6-433A-AFAB-3ACB83335EE0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Text Box 3"/>
          <p:cNvSpPr/>
          <p:nvPr/>
        </p:nvSpPr>
        <p:spPr>
          <a:xfrm>
            <a:off x="577800" y="457200"/>
            <a:ext cx="660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Key Terms (9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1" name="Text Box 4"/>
          <p:cNvSpPr/>
          <p:nvPr/>
        </p:nvSpPr>
        <p:spPr>
          <a:xfrm>
            <a:off x="560520" y="2421000"/>
            <a:ext cx="88326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licies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ns by which annual objectives will be achiev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4EC550A3-EE8E-474D-B213-93887667F5E8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46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ASSIGNMENT </a:t>
            </a:r>
            <a:br>
              <a:rPr sz="2400"/>
            </a:b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(1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     Strategic Management Key Terms</a:t>
            </a:r>
            <a:br>
              <a:rPr sz="2400"/>
            </a:b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(1-9)</a:t>
            </a:r>
            <a:br>
              <a:rPr sz="2400"/>
            </a:b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Research </a:t>
            </a:r>
            <a:br>
              <a:rPr sz="2400"/>
            </a:b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one page / term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185" name="Footer Placeholder 4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6" name="Slide Number Placeholder 5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E8DA7759-953A-4320-906C-439EFD6CE28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Slide Number Placeholder 3"/>
          <p:cNvSpPr/>
          <p:nvPr/>
        </p:nvSpPr>
        <p:spPr>
          <a:xfrm>
            <a:off x="415800" y="6524640"/>
            <a:ext cx="1206720" cy="1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F2B08617-81E3-4914-A368-613EBBAB258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8" name="Picture 9" descr=""/>
          <p:cNvPicPr/>
          <p:nvPr/>
        </p:nvPicPr>
        <p:blipFill>
          <a:blip r:embed="rId1"/>
          <a:srcRect l="0" t="0" r="0" b="4879"/>
          <a:stretch/>
        </p:blipFill>
        <p:spPr>
          <a:xfrm>
            <a:off x="415800" y="209520"/>
            <a:ext cx="9145800" cy="5850000"/>
          </a:xfrm>
          <a:prstGeom prst="rect">
            <a:avLst/>
          </a:prstGeom>
          <a:ln w="0">
            <a:noFill/>
          </a:ln>
        </p:spPr>
      </p:pic>
      <p:sp>
        <p:nvSpPr>
          <p:cNvPr id="218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0" name="Rectangle 2"/>
          <p:cNvSpPr/>
          <p:nvPr/>
        </p:nvSpPr>
        <p:spPr>
          <a:xfrm>
            <a:off x="57240" y="6093000"/>
            <a:ext cx="98488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: Adapted from Fred R. David, “How Companies Define Their Mission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,” Long Range Planning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2, no 3 (June 1988):4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1" name="Picture 7" descr="lew_l2jq[1]"/>
          <p:cNvPicPr/>
          <p:nvPr/>
        </p:nvPicPr>
        <p:blipFill>
          <a:blip r:embed="rId1"/>
          <a:stretch/>
        </p:blipFill>
        <p:spPr>
          <a:xfrm>
            <a:off x="6321600" y="1916280"/>
            <a:ext cx="2806560" cy="2590560"/>
          </a:xfrm>
          <a:prstGeom prst="rect">
            <a:avLst/>
          </a:prstGeom>
          <a:ln w="0">
            <a:noFill/>
          </a:ln>
        </p:spPr>
      </p:pic>
      <p:sp>
        <p:nvSpPr>
          <p:cNvPr id="2192" name="Text Box 3"/>
          <p:cNvSpPr/>
          <p:nvPr/>
        </p:nvSpPr>
        <p:spPr>
          <a:xfrm>
            <a:off x="577800" y="457200"/>
            <a:ext cx="84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ic Management Model (Cont’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63D64D29-3616-40E9-BE26-F6FBF0016FC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5" name="PlaceHolder 1"/>
          <p:cNvSpPr>
            <a:spLocks noGrp="1"/>
          </p:cNvSpPr>
          <p:nvPr>
            <p:ph/>
          </p:nvPr>
        </p:nvSpPr>
        <p:spPr>
          <a:xfrm>
            <a:off x="631800" y="1844640"/>
            <a:ext cx="5616720" cy="32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Existing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s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9040" indent="-419040">
              <a:lnSpc>
                <a:spcPct val="150000"/>
              </a:lnSpc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dit external enviro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9040" indent="-419040">
              <a:lnSpc>
                <a:spcPct val="150000"/>
              </a:lnSpc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dit internal enviro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9040" indent="-419040">
              <a:lnSpc>
                <a:spcPct val="150000"/>
              </a:lnSpc>
              <a:buClr>
                <a:srgbClr val="000000"/>
              </a:buClr>
              <a:buSzPct val="80000"/>
              <a:buFont typeface="Verdana"/>
              <a:buAutoNum type="arabicPeriod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eting in the global market-pl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2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2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2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9" dur="500"/>
                                        <p:tgtEl>
                                          <p:spTgt spid="2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500"/>
                            </p:stCondLst>
                            <p:childTnLst>
                              <p:par>
                                <p:cTn id="4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/>
          </p:nvPr>
        </p:nvSpPr>
        <p:spPr>
          <a:xfrm>
            <a:off x="631440" y="1988640"/>
            <a:ext cx="8172360" cy="28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-419040">
              <a:lnSpc>
                <a:spcPct val="150000"/>
              </a:lnSpc>
              <a:buClr>
                <a:srgbClr val="000000"/>
              </a:buClr>
              <a:buSzPct val="80000"/>
              <a:buFont typeface="Verdana"/>
              <a:buAutoNum type="arabicPeriod" startAt="5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ablish long-term obj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9040" indent="-419040">
              <a:lnSpc>
                <a:spcPct val="150000"/>
              </a:lnSpc>
              <a:buClr>
                <a:srgbClr val="000000"/>
              </a:buClr>
              <a:buSzPct val="80000"/>
              <a:buFont typeface="Verdana"/>
              <a:buAutoNum type="arabicPeriod" startAt="5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rate, evaluate, and select strateg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9040" indent="-419040">
              <a:lnSpc>
                <a:spcPct val="150000"/>
              </a:lnSpc>
              <a:buClr>
                <a:srgbClr val="000000"/>
              </a:buClr>
              <a:buSzPct val="80000"/>
              <a:buFont typeface="Verdana"/>
              <a:buAutoNum type="arabicPeriod" startAt="5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selected strateg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9040" indent="-419040">
              <a:lnSpc>
                <a:spcPct val="150000"/>
              </a:lnSpc>
              <a:buClr>
                <a:srgbClr val="000000"/>
              </a:buClr>
              <a:buSzPct val="80000"/>
              <a:buFont typeface="Verdana"/>
              <a:buAutoNum type="arabicPeriod" startAt="5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adership and cul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9040" indent="-419040">
              <a:lnSpc>
                <a:spcPct val="150000"/>
              </a:lnSpc>
              <a:buClr>
                <a:srgbClr val="000000"/>
              </a:buClr>
              <a:buSzPct val="80000"/>
              <a:buFont typeface="Verdana"/>
              <a:buAutoNum type="arabicPeriod" startAt="5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asure &amp; evaluate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7" name="Text Box 3"/>
          <p:cNvSpPr/>
          <p:nvPr/>
        </p:nvSpPr>
        <p:spPr>
          <a:xfrm>
            <a:off x="577800" y="457200"/>
            <a:ext cx="80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ic Management Model (Cont’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8" name="Rectangle 8"/>
          <p:cNvSpPr/>
          <p:nvPr/>
        </p:nvSpPr>
        <p:spPr>
          <a:xfrm>
            <a:off x="-44280" y="4830840"/>
            <a:ext cx="6458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ed6b06"/>
              </a:buClr>
              <a:buSzPct val="6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9732C836-9F88-4E1C-B32E-3AC872E9BF3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2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000"/>
                            </p:stCondLst>
                            <p:childTnLst>
                              <p:par>
                                <p:cTn id="5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Text Box 3"/>
          <p:cNvSpPr/>
          <p:nvPr/>
        </p:nvSpPr>
        <p:spPr>
          <a:xfrm>
            <a:off x="488880" y="457200"/>
            <a:ext cx="8623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enefits of Strategic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2" name="Text Box 4"/>
          <p:cNvSpPr/>
          <p:nvPr/>
        </p:nvSpPr>
        <p:spPr>
          <a:xfrm>
            <a:off x="495360" y="2133720"/>
            <a:ext cx="8832960" cy="21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rategic  benefit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proactive in shaping firm’s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itiates and influences firm’s activ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elps to formulate better strategies that are systematic, logical, and  rati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73F18F1D-8A23-43ED-A51F-0042C0FE49E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5" name="Picture 7" descr="gbjxruuh[1]"/>
          <p:cNvPicPr/>
          <p:nvPr/>
        </p:nvPicPr>
        <p:blipFill>
          <a:blip r:embed="rId1"/>
          <a:stretch/>
        </p:blipFill>
        <p:spPr>
          <a:xfrm>
            <a:off x="5556240" y="2060640"/>
            <a:ext cx="3573360" cy="3421080"/>
          </a:xfrm>
          <a:prstGeom prst="rect">
            <a:avLst/>
          </a:prstGeom>
          <a:ln w="0">
            <a:noFill/>
          </a:ln>
        </p:spPr>
      </p:pic>
      <p:sp>
        <p:nvSpPr>
          <p:cNvPr id="2206" name="Slide Number Placeholder 5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07A2AB34-9C7C-4E7C-BC88-37D66D09DFC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Text Box 2"/>
          <p:cNvSpPr/>
          <p:nvPr/>
        </p:nvSpPr>
        <p:spPr>
          <a:xfrm>
            <a:off x="488880" y="457200"/>
            <a:ext cx="804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enefits of Strategic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ial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Text Box 4"/>
          <p:cNvSpPr/>
          <p:nvPr/>
        </p:nvSpPr>
        <p:spPr>
          <a:xfrm>
            <a:off x="560520" y="2637000"/>
            <a:ext cx="73468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ement in sa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ement in profita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tivity improv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E0AE3469-8ECB-4B0A-A94B-E145142CA6D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nodeType="clickEffect" fill="hold">
                      <p:stCondLst>
                        <p:cond delay="0"/>
                      </p:stCondLst>
                      <p:childTnLst>
                        <p:par>
                          <p:cTn id="5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Slide Number Placeholder 5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4AAC97C1-83C2-4527-9962-8A8F3C86994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Text Box 2"/>
          <p:cNvSpPr/>
          <p:nvPr/>
        </p:nvSpPr>
        <p:spPr>
          <a:xfrm>
            <a:off x="488880" y="457200"/>
            <a:ext cx="660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enefits of Strategic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3" name="Text Box 3"/>
          <p:cNvSpPr/>
          <p:nvPr/>
        </p:nvSpPr>
        <p:spPr>
          <a:xfrm>
            <a:off x="415800" y="981000"/>
            <a:ext cx="8832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nfinancial Benef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4" name="Text Box 4"/>
          <p:cNvSpPr/>
          <p:nvPr/>
        </p:nvSpPr>
        <p:spPr>
          <a:xfrm>
            <a:off x="488880" y="2565360"/>
            <a:ext cx="850284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ed understanding of competitors’ strateg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hanced awareness of threa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employee productiv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 resistance to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hanced problem-prevention capab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68458986-D705-4FB7-8CDA-02AFE6CFA5C2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0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8" dur="500"/>
                                        <p:tgtEl>
                                          <p:spTgt spid="2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2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2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"/>
          <p:cNvSpPr txBox="1"/>
          <p:nvPr/>
        </p:nvSpPr>
        <p:spPr>
          <a:xfrm>
            <a:off x="560520" y="1699920"/>
            <a:ext cx="8556480" cy="17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50000"/>
          </a:bodyPr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t &amp; science of formulating, implementing, and evaluating, cross-functional decisions that enable an organization to achieve its obj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essence, th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rategic pla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a company’s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ame pla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e : Strategic management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SM)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 used exchangeable with strategic planning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urpose of SM is to exploit and create new and different opportunity f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tomorrow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0" name="Slide Number Placeholder 4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092F041A-F50E-485A-82C6-981A76806082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1" name="Text Box 4"/>
          <p:cNvSpPr/>
          <p:nvPr/>
        </p:nvSpPr>
        <p:spPr>
          <a:xfrm>
            <a:off x="577800" y="457200"/>
            <a:ext cx="86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ic Management – Defin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9760C41D-A3EA-437E-A1FA-1686AC2DA3DB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3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9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9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9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9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Text Box 2"/>
          <p:cNvSpPr/>
          <p:nvPr/>
        </p:nvSpPr>
        <p:spPr>
          <a:xfrm>
            <a:off x="488880" y="457200"/>
            <a:ext cx="8496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According t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Gordon Greenley 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of Aston Business school in the united Kingdom S.M. offers the following benefits :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8" name="Text Box 3"/>
          <p:cNvSpPr/>
          <p:nvPr/>
        </p:nvSpPr>
        <p:spPr>
          <a:xfrm>
            <a:off x="495360" y="1773360"/>
            <a:ext cx="8832960" cy="37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allows for identification of opportun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provides an objective view of management proble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represents a framework for improved coordination &amp; control of activiti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minimizes the negative effects of conditions &amp; chang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allows major decisions to better support established obj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allows more effective allocation of time and re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reduces resources and time to be spent in correcting erroneous decis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2C921273-B01B-4FE1-A4DB-392D981208F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2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5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Text Box 2"/>
          <p:cNvSpPr/>
          <p:nvPr/>
        </p:nvSpPr>
        <p:spPr>
          <a:xfrm>
            <a:off x="488880" y="457200"/>
            <a:ext cx="9417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enefits of Strategic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Cont’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2" name="Text Box 3"/>
          <p:cNvSpPr/>
          <p:nvPr/>
        </p:nvSpPr>
        <p:spPr>
          <a:xfrm>
            <a:off x="488880" y="1916280"/>
            <a:ext cx="8832960" cy="355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creates a framework for internal communication among personn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provides a basis for clarifying individual responsib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encourages forward think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provides a cooperative approach to tackling problems and opportun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encourages a favorable attitude toward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gives a discipline to the management of busi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DCD39143-43A6-4306-9D22-7A23D896793B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6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500"/>
                            </p:stCondLst>
                            <p:childTnLst>
                              <p:par>
                                <p:cTn id="6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Text Box 3"/>
          <p:cNvSpPr/>
          <p:nvPr/>
        </p:nvSpPr>
        <p:spPr>
          <a:xfrm>
            <a:off x="631800" y="1197000"/>
            <a:ext cx="8183520" cy="425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sons why some firms are resistant to strategic planning inclu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or reward struc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e-fighting (it deeply so busy in crisis mag. So  it has no  time to pla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ief executives’ ori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ck of access to needed re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ste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o expens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ziness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6" name="Text Box 2"/>
          <p:cNvSpPr/>
          <p:nvPr/>
        </p:nvSpPr>
        <p:spPr>
          <a:xfrm>
            <a:off x="506520" y="457200"/>
            <a:ext cx="862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Why Some Firms Do No Strategic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E890D040-0032-4921-8ABD-8F02A85DF8D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2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2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2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Text Box 2"/>
          <p:cNvSpPr/>
          <p:nvPr/>
        </p:nvSpPr>
        <p:spPr>
          <a:xfrm>
            <a:off x="560520" y="4572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Why Some Firms Do No Strategic Planning (Cont’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0" name="Text Box 3"/>
          <p:cNvSpPr/>
          <p:nvPr/>
        </p:nvSpPr>
        <p:spPr>
          <a:xfrm>
            <a:off x="584280" y="1905120"/>
            <a:ext cx="8832600" cy="318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ar of fail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confid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or bad experie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lf-intere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ear of the unknow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nest difference of opin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spic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1DD1E412-570A-4FF5-B09F-8913039002E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0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2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00"/>
                                        <p:tgtEl>
                                          <p:spTgt spid="2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2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500"/>
                                        <p:tgtEl>
                                          <p:spTgt spid="2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500"/>
                                        <p:tgtEl>
                                          <p:spTgt spid="2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00"/>
                                        <p:tgtEl>
                                          <p:spTgt spid="2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00"/>
                                        <p:tgtEl>
                                          <p:spTgt spid="2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Text Box 2"/>
          <p:cNvSpPr/>
          <p:nvPr/>
        </p:nvSpPr>
        <p:spPr>
          <a:xfrm>
            <a:off x="560520" y="457200"/>
            <a:ext cx="789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Pitfalls in Strategic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4" name="Text Box 3"/>
          <p:cNvSpPr/>
          <p:nvPr/>
        </p:nvSpPr>
        <p:spPr>
          <a:xfrm>
            <a:off x="584280" y="1905120"/>
            <a:ext cx="8832600" cy="22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d6b06"/>
                </a:solidFill>
                <a:latin typeface="Verdana"/>
              </a:rPr>
              <a:t>Being aware of potential pitfalls of strategic planning and being prepared to address them is essential to succes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5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33F54B3C-FE2F-47CD-9B0E-0DBA70A66258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6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2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Text Box 2"/>
          <p:cNvSpPr/>
          <p:nvPr/>
        </p:nvSpPr>
        <p:spPr>
          <a:xfrm>
            <a:off x="560520" y="457200"/>
            <a:ext cx="825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Pitfalls in Strategic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me pitfalls to watch out for and avoid in strategic planning (Cont’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8" name="Text Box 3"/>
          <p:cNvSpPr/>
          <p:nvPr/>
        </p:nvSpPr>
        <p:spPr>
          <a:xfrm>
            <a:off x="560520" y="2349360"/>
            <a:ext cx="9138960" cy="30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ing it to gain control over decisions and resou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ing it only to satisfy accreditation and regulatory requireme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ing planning as unnecessary or unimporta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iling to communicate the plan to employe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 managers making many intuitive decisions tha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nflict with the formal pl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9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9F01DE71-9623-4665-929C-D43C6A27F368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0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0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500"/>
                                        <p:tgtEl>
                                          <p:spTgt spid="2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00"/>
                                        <p:tgtEl>
                                          <p:spTgt spid="2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00"/>
                                        <p:tgtEl>
                                          <p:spTgt spid="2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500"/>
                            </p:stCondLst>
                            <p:childTnLst>
                              <p:par>
                                <p:cTn id="7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2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00"/>
                                        <p:tgtEl>
                                          <p:spTgt spid="2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Text Box 2"/>
          <p:cNvSpPr/>
          <p:nvPr/>
        </p:nvSpPr>
        <p:spPr>
          <a:xfrm>
            <a:off x="493560" y="457200"/>
            <a:ext cx="95727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Pitfalls in Strategic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me pitfalls to watch out for and avoid in strategic planning (Cont’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2" name="Text Box 3"/>
          <p:cNvSpPr/>
          <p:nvPr/>
        </p:nvSpPr>
        <p:spPr>
          <a:xfrm>
            <a:off x="488880" y="2276640"/>
            <a:ext cx="8921880" cy="255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p managers not actively supporting the strategic planning proc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iling to use plans as a standard for measuring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gating planning to a ‘planner’ rather than involving a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nag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ing so formal in planning that flexibility and creativity are stif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iling to create a collaborative climate supportive of chan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2C334F83-F820-4126-A73E-95F57406949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4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nodeType="clickEffect" fill="hold">
                      <p:stCondLst>
                        <p:cond delay="0"/>
                      </p:stCondLst>
                      <p:childTnLst>
                        <p:par>
                          <p:cTn id="74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0" dur="500"/>
                                        <p:tgtEl>
                                          <p:spTgt spid="2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4" dur="500"/>
                                        <p:tgtEl>
                                          <p:spTgt spid="2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8" dur="500"/>
                                        <p:tgtEl>
                                          <p:spTgt spid="2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2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000"/>
                            </p:stCondLst>
                            <p:childTnLst>
                              <p:par>
                                <p:cTn id="7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00"/>
                                        <p:tgtEl>
                                          <p:spTgt spid="2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Text Box 2"/>
          <p:cNvSpPr/>
          <p:nvPr/>
        </p:nvSpPr>
        <p:spPr>
          <a:xfrm>
            <a:off x="452520" y="457200"/>
            <a:ext cx="90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Guidelines for Effective Strategic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6" name="Text Box 3"/>
          <p:cNvSpPr/>
          <p:nvPr/>
        </p:nvSpPr>
        <p:spPr>
          <a:xfrm>
            <a:off x="495360" y="1700280"/>
            <a:ext cx="9137520" cy="209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spcBef>
                <a:spcPts val="1250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ep the SM process as simple and non-routine  as possibl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M. must not become  rigi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key role of strategists is to facilitate continuous  organizational learning and change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55680" indent="-35568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M require trade –offs between long- range short –range orient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832FFCD3-E8FB-4825-9BA0-DEA2EB569C44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0"/>
                      </p:stCondLst>
                      <p:childTnLst>
                        <p:par>
                          <p:cTn id="7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00"/>
                                        <p:tgtEl>
                                          <p:spTgt spid="2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7" dur="500"/>
                                        <p:tgtEl>
                                          <p:spTgt spid="2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2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2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Text Box 3"/>
          <p:cNvSpPr/>
          <p:nvPr/>
        </p:nvSpPr>
        <p:spPr>
          <a:xfrm>
            <a:off x="577800" y="457200"/>
            <a:ext cx="86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usiness Ethics &amp; Strategic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0" name="Text Box 4"/>
          <p:cNvSpPr/>
          <p:nvPr/>
        </p:nvSpPr>
        <p:spPr>
          <a:xfrm>
            <a:off x="704880" y="2133720"/>
            <a:ext cx="8832960" cy="286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usiness Ethic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inciples of conduct within organizations that guide decision making and behavi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de of Business Ethics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s basis on which policies can be devised to guide daily behavior and decisions in the workpl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F6358FDE-D09D-4C6E-83CF-5904270EA725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Text Box 3"/>
          <p:cNvSpPr/>
          <p:nvPr/>
        </p:nvSpPr>
        <p:spPr>
          <a:xfrm>
            <a:off x="577800" y="45720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usiness Ethics &amp; Strategic Management (Cont’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4" name="Text Box 4"/>
          <p:cNvSpPr/>
          <p:nvPr/>
        </p:nvSpPr>
        <p:spPr>
          <a:xfrm>
            <a:off x="631800" y="2637000"/>
            <a:ext cx="8832960" cy="138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d6b06"/>
                </a:solidFill>
                <a:latin typeface="Verdana"/>
              </a:rPr>
              <a:t>Good business ethics are prerequisite for good strategic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5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5D1BD341-3231-4BE9-81E1-6DD2913ADE63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6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M characteristics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1995" name=""/>
          <p:cNvSpPr txBox="1"/>
          <p:nvPr/>
        </p:nvSpPr>
        <p:spPr>
          <a:xfrm>
            <a:off x="415800" y="1557000"/>
            <a:ext cx="9088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01680" indent="-30168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not a reaction to short – term changes -------while it is a response to long –term perspectives (5-10 year or more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not a quantitative exercise-------- but it is a qualitative in nature and reflects a realistic imagination of how the future look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not a normative statement of where the firm would like to be in the future --------while it is a road map which describes  the steps the firm should undertake to get the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ally it is  a set of practical ,well thought–out perspectives and actions  on how to deal with uncertainties  of the futur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6" name="Footer Placeholder 2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7" name="Slide Number Placeholder 3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3 -</a:t>
            </a:r>
            <a:fld id="{A5025C4F-9AD3-4A25-B726-9FFF9426CC1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usiness Ethics of Savola Group in </a:t>
            </a:r>
            <a:r>
              <a:rPr b="1" lang="en-US" sz="2400" spc="-1" strike="noStrike" u="sng">
                <a:solidFill>
                  <a:srgbClr val="ed6b06"/>
                </a:solidFill>
                <a:uFillTx/>
                <a:latin typeface="Verdana"/>
              </a:rPr>
              <a:t>Saudi Arabia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58" name=""/>
          <p:cNvSpPr txBox="1"/>
          <p:nvPr/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ways tell the tru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ways fulfill our promises and obligatio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ways honor our pledges to oth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ways commit to resolving conflicts with respect and objectivit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9" name="Footer Placeholder 4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0" name="Slide Number Placeholder 5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C8E2BF35-2169-483C-8770-94BD4FF03BC2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/>
          </p:nvPr>
        </p:nvSpPr>
        <p:spPr>
          <a:xfrm>
            <a:off x="704520" y="2492280"/>
            <a:ext cx="8172360" cy="29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sleading advertis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sleading labe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rm to the enviro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ider tr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umping flawed products on foreign mark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2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87B03ABB-7CA3-40C1-8E24-EB54ABC66E14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3" name="Text Box 3"/>
          <p:cNvSpPr/>
          <p:nvPr/>
        </p:nvSpPr>
        <p:spPr>
          <a:xfrm>
            <a:off x="577800" y="45720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usiness Ethics &amp; Strategic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ethical Business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4" name="Text Box 4"/>
          <p:cNvSpPr/>
          <p:nvPr/>
        </p:nvSpPr>
        <p:spPr>
          <a:xfrm>
            <a:off x="577800" y="1844640"/>
            <a:ext cx="88329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siness practices that are always considered unethical includ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5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nodeType="clickEffect" fill="hold">
                      <p:stCondLst>
                        <p:cond delay="0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2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2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2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2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/>
          </p:nvPr>
        </p:nvSpPr>
        <p:spPr>
          <a:xfrm>
            <a:off x="631440" y="2060640"/>
            <a:ext cx="8172360" cy="35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or product or service safe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ck of equal opportunities for foreign work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verpric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ring child la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A303BC82-794F-4476-96CC-75325EC9F61B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8" name="Text Box 3"/>
          <p:cNvSpPr/>
          <p:nvPr/>
        </p:nvSpPr>
        <p:spPr>
          <a:xfrm>
            <a:off x="577800" y="457200"/>
            <a:ext cx="8915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usiness Ethics &amp; Strategic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ethical Business Practices (Cont’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0"/>
                      </p:stCondLst>
                      <p:childTnLst>
                        <p:par>
                          <p:cTn id="81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2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2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2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2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395280" y="395280"/>
            <a:ext cx="923760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Natural Environment Perspectiv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ing ISO 14000 Certification to Gain Strategic Advantage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71" name=""/>
          <p:cNvSpPr txBox="1"/>
          <p:nvPr/>
        </p:nvSpPr>
        <p:spPr>
          <a:xfrm>
            <a:off x="488880" y="2349360"/>
            <a:ext cx="8352000" cy="31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are ISO 14000 &amp; 14001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 for ISO 1400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vironmental Management Systems (EM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1440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Slide Number Placeholder 5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92C19F74-AAA5-4F91-840C-9EF0A1FD685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31BD1EBA-BB0A-4F79-84B7-1ACF36CD5A1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14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ISO 14000 Family is a series of guidance documents and standards to help organizations address environmental issues on air ,water, soil quality …….etc. </a:t>
            </a:r>
            <a:br>
              <a:rPr sz="2400"/>
            </a:b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75" name=""/>
          <p:cNvSpPr txBox="1"/>
          <p:nvPr/>
        </p:nvSpPr>
        <p:spPr>
          <a:xfrm>
            <a:off x="394920" y="1916280"/>
            <a:ext cx="9109080" cy="41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001: Environmental Management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004: EMS general guide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010: Guidelines for Environmental Audi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011: Guidelines for Auditing of an 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012: Auditing - Qualification criter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020: Environmental Labe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030: Env. Performance Evaluation (EP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82520" indent="-181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4040: Life-Cycle Assessment (LC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6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3 -</a:t>
            </a:r>
            <a:fld id="{636024BC-8897-49E8-8F72-AD7120B3F9E5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Environmental Management System (EMS)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79" name=""/>
          <p:cNvSpPr txBox="1"/>
          <p:nvPr/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 14001 is the specification standard that is a model for an environmental management system (EM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S is a systematic way of managing an organization’s environmental affai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focused 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ontinual Improvement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f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addresses immediate and long-term impact of an organization’s products, services and processes on the enviro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is a tool to improve environmental performance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0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3 -</a:t>
            </a:r>
            <a:fld id="{9FB92417-8684-47DB-B192-E3D5C737C5E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15440" y="404640"/>
            <a:ext cx="9109080" cy="11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Requirements </a:t>
            </a:r>
            <a:r>
              <a:rPr b="1" lang="en-GB" sz="2400" spc="-1" strike="noStrike">
                <a:solidFill>
                  <a:srgbClr val="ed6b06"/>
                </a:solidFill>
                <a:latin typeface="Verdana"/>
              </a:rPr>
              <a:t>for ISO 14001; </a:t>
            </a:r>
            <a:br>
              <a:rPr sz="2400"/>
            </a:br>
            <a:r>
              <a:rPr b="1" lang="en-GB" sz="2400" spc="-1" strike="noStrike" u="sng">
                <a:solidFill>
                  <a:srgbClr val="ed6b06"/>
                </a:solidFill>
                <a:uFillTx/>
                <a:latin typeface="Verdana"/>
              </a:rPr>
              <a:t>To achieve certification in terms of ISO 14001, a company needs to undertake a series practices by which organization can perform the EMS :-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83" name=""/>
          <p:cNvSpPr txBox="1"/>
          <p:nvPr/>
        </p:nvSpPr>
        <p:spPr>
          <a:xfrm>
            <a:off x="394920" y="1989000"/>
            <a:ext cx="910908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351000" indent="-16668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sess the environmental impacts of its activ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 an environmental policy that includes commitments to prevention of pollution – continuous improvement – compliance with all applicable requirement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t environment objectives and targets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stablish and maintain an environmental management program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mplement procedures for training employees, establishing work instructions , and practices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4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5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3 -</a:t>
            </a:r>
            <a:fld id="{07052C95-163A-41FD-A562-FCF8143EDEE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87" name=""/>
          <p:cNvSpPr txBox="1"/>
          <p:nvPr/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351000" indent="-16668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nitor, measure and communicate its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dertake environmental audits and management revie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351000" indent="-16668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ake correction actions to overcome the occurrence of any deviations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8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9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3 -</a:t>
            </a:r>
            <a:fld id="{52E2A715-7026-4022-BCEE-B421BADD4D0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By implementing ISO 14000, any company can become truly competitive through the following :- </a:t>
            </a:r>
            <a:br>
              <a:rPr sz="2400"/>
            </a:b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91" name=""/>
          <p:cNvSpPr txBox="1"/>
          <p:nvPr/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reasing costs through increased efficienci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ing and maintaining new market opportunities in areas such as Europe, which may make registration to the standards a necessary condition of doing business within their specification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nstrating environmental leadershi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roving both its own corporate image and community goodwi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eamlining/simplifying its EM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2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3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3 -</a:t>
            </a:r>
            <a:fld id="{0BD83C62-3FE7-4383-8657-7120E2C1F73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394920" y="2133360"/>
            <a:ext cx="910908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b73a18"/>
                </a:solidFill>
                <a:latin typeface="Verdana"/>
              </a:rPr>
              <a:t>to succeed in business today it means to succeed in the international competition</a:t>
            </a:r>
            <a:endParaRPr b="1" lang="en-US" sz="36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295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6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3 -</a:t>
            </a:r>
            <a:fld id="{C1693785-F42A-4FAC-A75C-A70F6641F50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"/>
          <p:cNvSpPr txBox="1"/>
          <p:nvPr/>
        </p:nvSpPr>
        <p:spPr>
          <a:xfrm>
            <a:off x="659880" y="17521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9" name="Slide Number Placeholder 4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1780E7C7-5B86-4E04-9505-BCC439BF0A7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0" name="Text Box 2"/>
          <p:cNvSpPr/>
          <p:nvPr/>
        </p:nvSpPr>
        <p:spPr>
          <a:xfrm>
            <a:off x="560520" y="1143000"/>
            <a:ext cx="833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rategic management achieves a firm’s success through integration:</a:t>
            </a:r>
            <a:r>
              <a:rPr b="0" lang="en-US" sz="2000" spc="-1" strike="noStrike">
                <a:solidFill>
                  <a:srgbClr val="ed6b06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1" name="Rectangle 4"/>
          <p:cNvSpPr/>
          <p:nvPr/>
        </p:nvSpPr>
        <p:spPr>
          <a:xfrm>
            <a:off x="1403280" y="3048120"/>
            <a:ext cx="3384720" cy="60948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Rectangle 5"/>
          <p:cNvSpPr/>
          <p:nvPr/>
        </p:nvSpPr>
        <p:spPr>
          <a:xfrm>
            <a:off x="4788000" y="4191120"/>
            <a:ext cx="3384360" cy="609480"/>
          </a:xfrm>
          <a:prstGeom prst="rect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3" name="Rectangle 6"/>
          <p:cNvSpPr/>
          <p:nvPr/>
        </p:nvSpPr>
        <p:spPr>
          <a:xfrm>
            <a:off x="4788000" y="3581280"/>
            <a:ext cx="3384360" cy="60984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duction/Oper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4" name="Rectangle 7"/>
          <p:cNvSpPr/>
          <p:nvPr/>
        </p:nvSpPr>
        <p:spPr>
          <a:xfrm>
            <a:off x="1403280" y="3581280"/>
            <a:ext cx="3384720" cy="609840"/>
          </a:xfrm>
          <a:prstGeom prst="rect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inance/Accoun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5" name="Rectangle 8"/>
          <p:cNvSpPr/>
          <p:nvPr/>
        </p:nvSpPr>
        <p:spPr>
          <a:xfrm>
            <a:off x="4788000" y="3048120"/>
            <a:ext cx="3384360" cy="533160"/>
          </a:xfrm>
          <a:prstGeom prst="rect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6" name="Rectangle 9"/>
          <p:cNvSpPr/>
          <p:nvPr/>
        </p:nvSpPr>
        <p:spPr>
          <a:xfrm>
            <a:off x="1403280" y="4191120"/>
            <a:ext cx="3384720" cy="60948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search &amp; Develop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7" name="Oval 10"/>
          <p:cNvSpPr/>
          <p:nvPr/>
        </p:nvSpPr>
        <p:spPr>
          <a:xfrm>
            <a:off x="247680" y="2209680"/>
            <a:ext cx="9327960" cy="3505320"/>
          </a:xfrm>
          <a:prstGeom prst="ellipse">
            <a:avLst/>
          </a:prstGeom>
          <a:noFill/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8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C2C497B2-EC60-40BC-A885-0208728BE3E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9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0" name="Text Box 4"/>
          <p:cNvSpPr/>
          <p:nvPr/>
        </p:nvSpPr>
        <p:spPr>
          <a:xfrm>
            <a:off x="577800" y="457200"/>
            <a:ext cx="86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ic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/>
          </p:nvPr>
        </p:nvSpPr>
        <p:spPr>
          <a:xfrm>
            <a:off x="560160" y="2808360"/>
            <a:ext cx="842004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rent company  ….refers to a firm investing in international operation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st  country…….refers to the country where that business is conduct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8" name="Picture 6" descr="zkadz4f0[1]"/>
          <p:cNvPicPr/>
          <p:nvPr/>
        </p:nvPicPr>
        <p:blipFill>
          <a:blip r:embed="rId1"/>
          <a:stretch/>
        </p:blipFill>
        <p:spPr>
          <a:xfrm>
            <a:off x="6824520" y="4724280"/>
            <a:ext cx="2907000" cy="1641600"/>
          </a:xfrm>
          <a:prstGeom prst="rect">
            <a:avLst/>
          </a:prstGeom>
          <a:ln w="0">
            <a:noFill/>
          </a:ln>
        </p:spPr>
      </p:pic>
      <p:sp>
        <p:nvSpPr>
          <p:cNvPr id="2299" name="Text Box 3"/>
          <p:cNvSpPr/>
          <p:nvPr/>
        </p:nvSpPr>
        <p:spPr>
          <a:xfrm>
            <a:off x="433440" y="457200"/>
            <a:ext cx="87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The Nature of Global Compet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0" name="Text Box 4"/>
          <p:cNvSpPr/>
          <p:nvPr/>
        </p:nvSpPr>
        <p:spPr>
          <a:xfrm>
            <a:off x="488880" y="1197000"/>
            <a:ext cx="883296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rnational/multinational organizations ------ refers to organizations that conduct business operations across national bord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80C17FC6-25E1-4129-B91A-84CD5A19D28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0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/>
                                        <p:tgtEl>
                                          <p:spTgt spid="2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2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Global completion and strategic management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04" name=""/>
          <p:cNvSpPr txBox="1"/>
          <p:nvPr/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trategic management  process is </a:t>
            </a:r>
            <a:r>
              <a:rPr b="1" lang="en-US" sz="2000" spc="-1" strike="noStrike" u="sng">
                <a:solidFill>
                  <a:srgbClr val="ed6b06"/>
                </a:solidFill>
                <a:uFillTx/>
                <a:latin typeface="Verdana"/>
              </a:rPr>
              <a:t>conceptual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same for international/multinational  as for domestic firms however  </a:t>
            </a:r>
            <a:r>
              <a:rPr b="1" lang="en-US" sz="2000" spc="-1" strike="noStrike" u="sng">
                <a:solidFill>
                  <a:srgbClr val="ed6b06"/>
                </a:solidFill>
                <a:uFillTx/>
                <a:latin typeface="Verdana"/>
              </a:rPr>
              <a:t>practical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t is more complex for the following reasons :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esence of more variables and relationship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re  social , cultural,  demographics ,political, governmental, legal , technological and competitive  opportunities and threats  are address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re time and efforts  are required to identify and evaluate external trends and event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communication between domestic headquarter and overseas operation is more difficul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5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6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3 -</a:t>
            </a:r>
            <a:fld id="{26431B73-C01E-49E9-BA49-6C3E9A3FF39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Slide Number Placeholder 3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93D69693-24BE-45E4-AB6A-98DB745B202A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8" name="Text Box 2"/>
          <p:cNvSpPr/>
          <p:nvPr/>
        </p:nvSpPr>
        <p:spPr>
          <a:xfrm>
            <a:off x="577800" y="457200"/>
            <a:ext cx="866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Advantages of International Op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9" name="Text Box 3"/>
          <p:cNvSpPr/>
          <p:nvPr/>
        </p:nvSpPr>
        <p:spPr>
          <a:xfrm>
            <a:off x="584280" y="1844640"/>
            <a:ext cx="8832600" cy="352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bsorb excess capacity/reduce unit cos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 the product life cyc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-cost production facil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ss intense compet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read risk over wider marke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0" name="Picture 4" descr="cncpxufm[1]"/>
          <p:cNvPicPr/>
          <p:nvPr/>
        </p:nvPicPr>
        <p:blipFill>
          <a:blip r:embed="rId1"/>
          <a:stretch/>
        </p:blipFill>
        <p:spPr>
          <a:xfrm>
            <a:off x="7118280" y="3860640"/>
            <a:ext cx="2127240" cy="2000520"/>
          </a:xfrm>
          <a:prstGeom prst="rect">
            <a:avLst/>
          </a:prstGeom>
          <a:ln w="0">
            <a:noFill/>
          </a:ln>
        </p:spPr>
      </p:pic>
      <p:sp>
        <p:nvSpPr>
          <p:cNvPr id="231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EFB4FA42-15B4-41FE-B35A-388581AC1951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0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2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500"/>
                                        <p:tgtEl>
                                          <p:spTgt spid="2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2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0" dur="500"/>
                                        <p:tgtEl>
                                          <p:spTgt spid="2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2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3" name="Slide Number Placeholder 3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2CBE28E3-BDC0-4371-B895-CF3E882A4145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4" name="Text Box 2"/>
          <p:cNvSpPr/>
          <p:nvPr/>
        </p:nvSpPr>
        <p:spPr>
          <a:xfrm>
            <a:off x="577800" y="457200"/>
            <a:ext cx="89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Advantages of International Operations (cont’d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5" name="Text Box 3"/>
          <p:cNvSpPr/>
          <p:nvPr/>
        </p:nvSpPr>
        <p:spPr>
          <a:xfrm>
            <a:off x="584280" y="1851120"/>
            <a:ext cx="8832600" cy="286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tential lower tax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int ventures to build networks and 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eign government incen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conomies of sca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6" name="Picture 4" descr="cncpxufm[1]"/>
          <p:cNvPicPr/>
          <p:nvPr/>
        </p:nvPicPr>
        <p:blipFill>
          <a:blip r:embed="rId1"/>
          <a:stretch/>
        </p:blipFill>
        <p:spPr>
          <a:xfrm>
            <a:off x="7113600" y="3860640"/>
            <a:ext cx="2127240" cy="2000520"/>
          </a:xfrm>
          <a:prstGeom prst="rect">
            <a:avLst/>
          </a:prstGeom>
          <a:ln w="0">
            <a:noFill/>
          </a:ln>
        </p:spPr>
      </p:pic>
      <p:sp>
        <p:nvSpPr>
          <p:cNvPr id="2317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44833398-CEBA-48E8-A64C-9C92F915B96F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8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9" name="Slide Number Placeholder 5"/>
          <p:cNvSpPr/>
          <p:nvPr/>
        </p:nvSpPr>
        <p:spPr>
          <a:xfrm>
            <a:off x="1639800" y="6740640"/>
            <a:ext cx="280836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Slide Number Placeholder 5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22C7B5E9-CFF8-40AF-A2A9-933B2390A0C9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1" name="Text Box 2"/>
          <p:cNvSpPr/>
          <p:nvPr/>
        </p:nvSpPr>
        <p:spPr>
          <a:xfrm>
            <a:off x="577800" y="457200"/>
            <a:ext cx="81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Disadvantages of International Oper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2" name="Text Box 3"/>
          <p:cNvSpPr/>
          <p:nvPr/>
        </p:nvSpPr>
        <p:spPr>
          <a:xfrm>
            <a:off x="631800" y="1557360"/>
            <a:ext cx="8832960" cy="363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fficult commun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derestimate foreign compet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ltural barriers to effectiv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 understanding of regional trade organiz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lications arising from currency differen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ck of market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3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BECDD996-423E-4DF3-90F7-7884DA4FF3E6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0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500"/>
                                        <p:tgtEl>
                                          <p:spTgt spid="2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325" name=""/>
          <p:cNvSpPr txBox="1"/>
          <p:nvPr/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Verdana"/>
              </a:rPr>
              <a:t>The End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6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7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3 -</a:t>
            </a:r>
            <a:fld id="{3C09AF9D-CA44-4A81-B4E0-9C5823ABB21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394920" y="395280"/>
            <a:ext cx="9109080" cy="9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ages of strategic management </a:t>
            </a:r>
            <a:endParaRPr b="1" lang="en-US" sz="2400" spc="-1" strike="noStrike">
              <a:solidFill>
                <a:srgbClr val="ed6b06"/>
              </a:solidFill>
              <a:latin typeface="Verdana"/>
            </a:endParaRPr>
          </a:p>
        </p:txBody>
      </p:sp>
      <p:sp>
        <p:nvSpPr>
          <p:cNvPr id="2012" name=""/>
          <p:cNvSpPr txBox="1"/>
          <p:nvPr/>
        </p:nvSpPr>
        <p:spPr>
          <a:xfrm>
            <a:off x="394920" y="1546200"/>
            <a:ext cx="91090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SM process consists of three main stag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Verdana"/>
              <a:buChar char="•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ategy formul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ategy implement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rategy evolu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3" name="Footer Placeholder 3"/>
          <p:cNvSpPr/>
          <p:nvPr/>
        </p:nvSpPr>
        <p:spPr>
          <a:xfrm>
            <a:off x="549360" y="6546960"/>
            <a:ext cx="539892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09 Pearson Education, Inc. 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Publishing as Prentice Hal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4" name="Slide Number Placeholder 4"/>
          <p:cNvSpPr/>
          <p:nvPr/>
        </p:nvSpPr>
        <p:spPr>
          <a:xfrm>
            <a:off x="290520" y="6546960"/>
            <a:ext cx="36036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3 -</a:t>
            </a:r>
            <a:fld id="{B5857AA1-6318-4AD6-A749-D267BB6DCB3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"/>
          <p:cNvSpPr txBox="1"/>
          <p:nvPr/>
        </p:nvSpPr>
        <p:spPr>
          <a:xfrm>
            <a:off x="659880" y="17521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6" name="Slide Number Placeholder 4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E0128F7F-8FB7-40D1-918E-1646D4ED269E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7" name="Rectangle 4"/>
          <p:cNvSpPr/>
          <p:nvPr/>
        </p:nvSpPr>
        <p:spPr>
          <a:xfrm>
            <a:off x="4540320" y="2448000"/>
            <a:ext cx="4209840" cy="38088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ision &amp; Miss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8" name="Oval 10"/>
          <p:cNvSpPr/>
          <p:nvPr/>
        </p:nvSpPr>
        <p:spPr>
          <a:xfrm>
            <a:off x="907920" y="1228680"/>
            <a:ext cx="4044960" cy="1066680"/>
          </a:xfrm>
          <a:prstGeom prst="ellipse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rategy Formul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9" name="Rectangle 11"/>
          <p:cNvSpPr/>
          <p:nvPr/>
        </p:nvSpPr>
        <p:spPr>
          <a:xfrm>
            <a:off x="4521240" y="4292640"/>
            <a:ext cx="4209840" cy="38088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xternal Opportunities &amp; Threa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0" name="Rectangle 12"/>
          <p:cNvSpPr/>
          <p:nvPr/>
        </p:nvSpPr>
        <p:spPr>
          <a:xfrm>
            <a:off x="4540320" y="3666960"/>
            <a:ext cx="4209840" cy="38124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rnal Strengths &amp; Weakness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1" name="Rectangle 13"/>
          <p:cNvSpPr/>
          <p:nvPr/>
        </p:nvSpPr>
        <p:spPr>
          <a:xfrm>
            <a:off x="4521240" y="2997360"/>
            <a:ext cx="4209840" cy="38088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ng-Term Objectiv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2" name="Rectangle 14"/>
          <p:cNvSpPr/>
          <p:nvPr/>
        </p:nvSpPr>
        <p:spPr>
          <a:xfrm>
            <a:off x="4540320" y="4886280"/>
            <a:ext cx="4209840" cy="38088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lternative Strateg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3" name="Rectangle 15"/>
          <p:cNvSpPr/>
          <p:nvPr/>
        </p:nvSpPr>
        <p:spPr>
          <a:xfrm>
            <a:off x="4540320" y="5495760"/>
            <a:ext cx="4209840" cy="38124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trategy Sel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4" name="Line 17"/>
          <p:cNvSpPr/>
          <p:nvPr/>
        </p:nvSpPr>
        <p:spPr>
          <a:xfrm>
            <a:off x="2806560" y="2295360"/>
            <a:ext cx="0" cy="342900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5" name="Line 18"/>
          <p:cNvSpPr/>
          <p:nvPr/>
        </p:nvSpPr>
        <p:spPr>
          <a:xfrm>
            <a:off x="2806560" y="5724360"/>
            <a:ext cx="1733760" cy="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6" name="Line 19"/>
          <p:cNvSpPr/>
          <p:nvPr/>
        </p:nvSpPr>
        <p:spPr>
          <a:xfrm>
            <a:off x="2806560" y="2676600"/>
            <a:ext cx="1733760" cy="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7" name="Line 20"/>
          <p:cNvSpPr/>
          <p:nvPr/>
        </p:nvSpPr>
        <p:spPr>
          <a:xfrm>
            <a:off x="2806560" y="3895560"/>
            <a:ext cx="1733760" cy="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8" name="Line 21"/>
          <p:cNvSpPr/>
          <p:nvPr/>
        </p:nvSpPr>
        <p:spPr>
          <a:xfrm>
            <a:off x="2806560" y="4505400"/>
            <a:ext cx="1733760" cy="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9" name="Line 22"/>
          <p:cNvSpPr/>
          <p:nvPr/>
        </p:nvSpPr>
        <p:spPr>
          <a:xfrm>
            <a:off x="2806560" y="5038560"/>
            <a:ext cx="1733760" cy="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0" name="Line 23"/>
          <p:cNvSpPr/>
          <p:nvPr/>
        </p:nvSpPr>
        <p:spPr>
          <a:xfrm>
            <a:off x="2806560" y="3286080"/>
            <a:ext cx="1733760" cy="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1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840EEDC7-80D6-4A7A-8CC8-85474F0533D7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2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3" name="Text Box 4"/>
          <p:cNvSpPr/>
          <p:nvPr/>
        </p:nvSpPr>
        <p:spPr>
          <a:xfrm>
            <a:off x="577800" y="457200"/>
            <a:ext cx="86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ic Management process  step:1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"/>
          <p:cNvSpPr txBox="1"/>
          <p:nvPr/>
        </p:nvSpPr>
        <p:spPr>
          <a:xfrm>
            <a:off x="659880" y="149544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57160"/>
                <a:tab algn="l" pos="1714680"/>
                <a:tab algn="l" pos="2571840"/>
                <a:tab algn="l" pos="3429000"/>
                <a:tab algn="l" pos="4286160"/>
                <a:tab algn="l" pos="5143680"/>
                <a:tab algn="l" pos="6000840"/>
                <a:tab algn="l" pos="6858000"/>
                <a:tab algn="l" pos="7715160"/>
                <a:tab algn="l" pos="8572680"/>
                <a:tab algn="l" pos="9429840"/>
                <a:tab algn="l" pos="102870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5" name="Slide Number Placeholder 4"/>
          <p:cNvSpPr/>
          <p:nvPr/>
        </p:nvSpPr>
        <p:spPr>
          <a:xfrm>
            <a:off x="7016760" y="61722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72F0EFE6-DB04-4A1B-BD73-CBE8B5CE041D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6" name="Oval 4"/>
          <p:cNvSpPr/>
          <p:nvPr/>
        </p:nvSpPr>
        <p:spPr>
          <a:xfrm>
            <a:off x="631800" y="1341360"/>
            <a:ext cx="4292640" cy="1067040"/>
          </a:xfrm>
          <a:prstGeom prst="ellipse">
            <a:avLst/>
          </a:prstGeom>
          <a:solidFill>
            <a:srgbClr val="ed6b0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trategy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Implement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7" name="Rectangle 5"/>
          <p:cNvSpPr/>
          <p:nvPr/>
        </p:nvSpPr>
        <p:spPr>
          <a:xfrm>
            <a:off x="4429080" y="2941560"/>
            <a:ext cx="4210200" cy="60984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nnual Objec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8" name="Line 10"/>
          <p:cNvSpPr/>
          <p:nvPr/>
        </p:nvSpPr>
        <p:spPr>
          <a:xfrm>
            <a:off x="2695680" y="2408400"/>
            <a:ext cx="0" cy="312408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9" name="Line 11"/>
          <p:cNvSpPr/>
          <p:nvPr/>
        </p:nvSpPr>
        <p:spPr>
          <a:xfrm>
            <a:off x="2695680" y="5532480"/>
            <a:ext cx="1733400" cy="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0" name="Line 13"/>
          <p:cNvSpPr/>
          <p:nvPr/>
        </p:nvSpPr>
        <p:spPr>
          <a:xfrm>
            <a:off x="2695680" y="4008600"/>
            <a:ext cx="1733400" cy="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1" name="Line 16"/>
          <p:cNvSpPr/>
          <p:nvPr/>
        </p:nvSpPr>
        <p:spPr>
          <a:xfrm>
            <a:off x="2695680" y="3246480"/>
            <a:ext cx="1733400" cy="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2" name="Rectangle 17"/>
          <p:cNvSpPr/>
          <p:nvPr/>
        </p:nvSpPr>
        <p:spPr>
          <a:xfrm>
            <a:off x="4429080" y="3703680"/>
            <a:ext cx="4210200" cy="60948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licies &amp; proced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3" name="Rectangle 18"/>
          <p:cNvSpPr/>
          <p:nvPr/>
        </p:nvSpPr>
        <p:spPr>
          <a:xfrm>
            <a:off x="4429080" y="4465800"/>
            <a:ext cx="4210200" cy="60948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mployee Motiv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4" name="Rectangle 19"/>
          <p:cNvSpPr/>
          <p:nvPr/>
        </p:nvSpPr>
        <p:spPr>
          <a:xfrm>
            <a:off x="4429080" y="5227560"/>
            <a:ext cx="4210200" cy="609840"/>
          </a:xfrm>
          <a:prstGeom prst="rect">
            <a:avLst/>
          </a:prstGeom>
          <a:solidFill>
            <a:srgbClr val="f39b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source Allo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5" name="Line 20"/>
          <p:cNvSpPr/>
          <p:nvPr/>
        </p:nvSpPr>
        <p:spPr>
          <a:xfrm>
            <a:off x="2695680" y="4770360"/>
            <a:ext cx="1733400" cy="0"/>
          </a:xfrm>
          <a:prstGeom prst="line">
            <a:avLst/>
          </a:prstGeom>
          <a:ln w="76320">
            <a:solidFill>
              <a:srgbClr val="ed6b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6" name="Slide Number Placeholder 5"/>
          <p:cNvSpPr/>
          <p:nvPr/>
        </p:nvSpPr>
        <p:spPr>
          <a:xfrm>
            <a:off x="290520" y="6524640"/>
            <a:ext cx="70164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h 1 -</a:t>
            </a:r>
            <a:fld id="{BBE20473-41ED-4F20-86D3-5AA556DF6E86}" type="slidenum">
              <a:rPr b="0" lang="en-US" sz="900" spc="-1" strike="noStrike">
                <a:solidFill>
                  <a:srgbClr val="fbf5ea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7" name="Slide Number Placeholder 5"/>
          <p:cNvSpPr/>
          <p:nvPr/>
        </p:nvSpPr>
        <p:spPr>
          <a:xfrm>
            <a:off x="1424160" y="6524640"/>
            <a:ext cx="280800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bf5ea"/>
                </a:solidFill>
                <a:latin typeface="Verdana"/>
              </a:rPr>
              <a:t>Copyright © 2011 Pearson Education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8" name="Text Box 3"/>
          <p:cNvSpPr/>
          <p:nvPr/>
        </p:nvSpPr>
        <p:spPr>
          <a:xfrm>
            <a:off x="495360" y="457200"/>
            <a:ext cx="61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d6b06"/>
                </a:solidFill>
                <a:latin typeface="Verdana"/>
              </a:rPr>
              <a:t>Strategic Management process step :2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5:26:23Z</dcterms:created>
  <dc:creator>rosimerr</dc:creator>
  <dc:description>Built by: www.mediasterling.com</dc:description>
  <dc:language>en-US</dc:language>
  <cp:lastModifiedBy>Default</cp:lastModifiedBy>
  <dcterms:modified xsi:type="dcterms:W3CDTF">2012-09-14T13:41:47Z</dcterms:modified>
  <cp:revision>16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version">
    <vt:lpwstr>v1.0.4</vt:lpwstr>
  </property>
</Properties>
</file>