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11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wmf" ContentType="image/x-wmf"/>
  <Override PartName="/ppt/media/image9.wmf" ContentType="image/x-wmf"/>
  <Override PartName="/ppt/media/image1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46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</p:sldMasterIdLst>
  <p:notesMasterIdLst>
    <p:notesMasterId r:id="rId48"/>
  </p:notesMasterIdLst>
  <p:sldIdLst>
    <p:sldId id="256" r:id="rId49"/>
    <p:sldId id="257" r:id="rId50"/>
    <p:sldId id="258" r:id="rId51"/>
    <p:sldId id="259" r:id="rId52"/>
    <p:sldId id="260" r:id="rId53"/>
    <p:sldId id="261" r:id="rId54"/>
    <p:sldId id="262" r:id="rId55"/>
    <p:sldId id="263" r:id="rId56"/>
    <p:sldId id="264" r:id="rId57"/>
    <p:sldId id="265" r:id="rId58"/>
    <p:sldId id="266" r:id="rId59"/>
    <p:sldId id="267" r:id="rId60"/>
    <p:sldId id="268" r:id="rId61"/>
    <p:sldId id="269" r:id="rId62"/>
    <p:sldId id="270" r:id="rId63"/>
    <p:sldId id="271" r:id="rId64"/>
    <p:sldId id="272" r:id="rId65"/>
    <p:sldId id="273" r:id="rId66"/>
    <p:sldId id="274" r:id="rId67"/>
    <p:sldId id="275" r:id="rId68"/>
    <p:sldId id="276" r:id="rId69"/>
    <p:sldId id="277" r:id="rId70"/>
    <p:sldId id="278" r:id="rId71"/>
    <p:sldId id="279" r:id="rId72"/>
    <p:sldId id="280" r:id="rId73"/>
    <p:sldId id="281" r:id="rId74"/>
    <p:sldId id="282" r:id="rId75"/>
    <p:sldId id="283" r:id="rId76"/>
    <p:sldId id="284" r:id="rId77"/>
    <p:sldId id="285" r:id="rId78"/>
    <p:sldId id="286" r:id="rId79"/>
    <p:sldId id="287" r:id="rId80"/>
    <p:sldId id="288" r:id="rId81"/>
    <p:sldId id="289" r:id="rId82"/>
    <p:sldId id="290" r:id="rId83"/>
    <p:sldId id="291" r:id="rId84"/>
    <p:sldId id="292" r:id="rId85"/>
    <p:sldId id="293" r:id="rId86"/>
    <p:sldId id="294" r:id="rId87"/>
    <p:sldId id="295" r:id="rId88"/>
    <p:sldId id="296" r:id="rId89"/>
    <p:sldId id="297" r:id="rId90"/>
    <p:sldId id="298" r:id="rId91"/>
    <p:sldId id="299" r:id="rId92"/>
    <p:sldId id="300" r:id="rId93"/>
    <p:sldId id="301" r:id="rId94"/>
    <p:sldId id="302" r:id="rId95"/>
    <p:sldId id="303" r:id="rId96"/>
    <p:sldId id="304" r:id="rId97"/>
    <p:sldId id="305" r:id="rId98"/>
    <p:sldId id="306" r:id="rId99"/>
    <p:sldId id="307" r:id="rId100"/>
    <p:sldId id="308" r:id="rId101"/>
    <p:sldId id="309" r:id="rId102"/>
    <p:sldId id="310" r:id="rId103"/>
    <p:sldId id="311" r:id="rId104"/>
    <p:sldId id="312" r:id="rId105"/>
    <p:sldId id="313" r:id="rId106"/>
    <p:sldId id="314" r:id="rId107"/>
    <p:sldId id="315" r:id="rId108"/>
    <p:sldId id="316" r:id="rId109"/>
    <p:sldId id="317" r:id="rId110"/>
    <p:sldId id="318" r:id="rId111"/>
    <p:sldId id="319" r:id="rId112"/>
    <p:sldId id="320" r:id="rId11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notesMaster" Target="notesMasters/notesMaster1.xml"/><Relationship Id="rId49" Type="http://schemas.openxmlformats.org/officeDocument/2006/relationships/slide" Target="slides/slide1.xml"/><Relationship Id="rId50" Type="http://schemas.openxmlformats.org/officeDocument/2006/relationships/slide" Target="slides/slide2.xml"/><Relationship Id="rId51" Type="http://schemas.openxmlformats.org/officeDocument/2006/relationships/slide" Target="slides/slide3.xml"/><Relationship Id="rId52" Type="http://schemas.openxmlformats.org/officeDocument/2006/relationships/slide" Target="slides/slide4.xml"/><Relationship Id="rId53" Type="http://schemas.openxmlformats.org/officeDocument/2006/relationships/slide" Target="slides/slide5.xml"/><Relationship Id="rId54" Type="http://schemas.openxmlformats.org/officeDocument/2006/relationships/slide" Target="slides/slide6.xml"/><Relationship Id="rId55" Type="http://schemas.openxmlformats.org/officeDocument/2006/relationships/slide" Target="slides/slide7.xml"/><Relationship Id="rId56" Type="http://schemas.openxmlformats.org/officeDocument/2006/relationships/slide" Target="slides/slide8.xml"/><Relationship Id="rId57" Type="http://schemas.openxmlformats.org/officeDocument/2006/relationships/slide" Target="slides/slide9.xml"/><Relationship Id="rId58" Type="http://schemas.openxmlformats.org/officeDocument/2006/relationships/slide" Target="slides/slide10.xml"/><Relationship Id="rId59" Type="http://schemas.openxmlformats.org/officeDocument/2006/relationships/slide" Target="slides/slide11.xml"/><Relationship Id="rId60" Type="http://schemas.openxmlformats.org/officeDocument/2006/relationships/slide" Target="slides/slide12.xml"/><Relationship Id="rId61" Type="http://schemas.openxmlformats.org/officeDocument/2006/relationships/slide" Target="slides/slide13.xml"/><Relationship Id="rId62" Type="http://schemas.openxmlformats.org/officeDocument/2006/relationships/slide" Target="slides/slide14.xml"/><Relationship Id="rId63" Type="http://schemas.openxmlformats.org/officeDocument/2006/relationships/slide" Target="slides/slide15.xml"/><Relationship Id="rId64" Type="http://schemas.openxmlformats.org/officeDocument/2006/relationships/slide" Target="slides/slide16.xml"/><Relationship Id="rId65" Type="http://schemas.openxmlformats.org/officeDocument/2006/relationships/slide" Target="slides/slide17.xml"/><Relationship Id="rId66" Type="http://schemas.openxmlformats.org/officeDocument/2006/relationships/slide" Target="slides/slide18.xml"/><Relationship Id="rId67" Type="http://schemas.openxmlformats.org/officeDocument/2006/relationships/slide" Target="slides/slide19.xml"/><Relationship Id="rId68" Type="http://schemas.openxmlformats.org/officeDocument/2006/relationships/slide" Target="slides/slide20.xml"/><Relationship Id="rId69" Type="http://schemas.openxmlformats.org/officeDocument/2006/relationships/slide" Target="slides/slide21.xml"/><Relationship Id="rId70" Type="http://schemas.openxmlformats.org/officeDocument/2006/relationships/slide" Target="slides/slide22.xml"/><Relationship Id="rId71" Type="http://schemas.openxmlformats.org/officeDocument/2006/relationships/slide" Target="slides/slide23.xml"/><Relationship Id="rId72" Type="http://schemas.openxmlformats.org/officeDocument/2006/relationships/slide" Target="slides/slide24.xml"/><Relationship Id="rId73" Type="http://schemas.openxmlformats.org/officeDocument/2006/relationships/slide" Target="slides/slide25.xml"/><Relationship Id="rId74" Type="http://schemas.openxmlformats.org/officeDocument/2006/relationships/slide" Target="slides/slide26.xml"/><Relationship Id="rId75" Type="http://schemas.openxmlformats.org/officeDocument/2006/relationships/slide" Target="slides/slide27.xml"/><Relationship Id="rId76" Type="http://schemas.openxmlformats.org/officeDocument/2006/relationships/slide" Target="slides/slide28.xml"/><Relationship Id="rId77" Type="http://schemas.openxmlformats.org/officeDocument/2006/relationships/slide" Target="slides/slide29.xml"/><Relationship Id="rId78" Type="http://schemas.openxmlformats.org/officeDocument/2006/relationships/slide" Target="slides/slide30.xml"/><Relationship Id="rId79" Type="http://schemas.openxmlformats.org/officeDocument/2006/relationships/slide" Target="slides/slide31.xml"/><Relationship Id="rId80" Type="http://schemas.openxmlformats.org/officeDocument/2006/relationships/slide" Target="slides/slide32.xml"/><Relationship Id="rId81" Type="http://schemas.openxmlformats.org/officeDocument/2006/relationships/slide" Target="slides/slide33.xml"/><Relationship Id="rId82" Type="http://schemas.openxmlformats.org/officeDocument/2006/relationships/slide" Target="slides/slide34.xml"/><Relationship Id="rId83" Type="http://schemas.openxmlformats.org/officeDocument/2006/relationships/slide" Target="slides/slide35.xml"/><Relationship Id="rId84" Type="http://schemas.openxmlformats.org/officeDocument/2006/relationships/slide" Target="slides/slide36.xml"/><Relationship Id="rId85" Type="http://schemas.openxmlformats.org/officeDocument/2006/relationships/slide" Target="slides/slide37.xml"/><Relationship Id="rId86" Type="http://schemas.openxmlformats.org/officeDocument/2006/relationships/slide" Target="slides/slide38.xml"/><Relationship Id="rId87" Type="http://schemas.openxmlformats.org/officeDocument/2006/relationships/slide" Target="slides/slide39.xml"/><Relationship Id="rId88" Type="http://schemas.openxmlformats.org/officeDocument/2006/relationships/slide" Target="slides/slide40.xml"/><Relationship Id="rId89" Type="http://schemas.openxmlformats.org/officeDocument/2006/relationships/slide" Target="slides/slide41.xml"/><Relationship Id="rId90" Type="http://schemas.openxmlformats.org/officeDocument/2006/relationships/slide" Target="slides/slide42.xml"/><Relationship Id="rId91" Type="http://schemas.openxmlformats.org/officeDocument/2006/relationships/slide" Target="slides/slide43.xml"/><Relationship Id="rId92" Type="http://schemas.openxmlformats.org/officeDocument/2006/relationships/slide" Target="slides/slide44.xml"/><Relationship Id="rId93" Type="http://schemas.openxmlformats.org/officeDocument/2006/relationships/slide" Target="slides/slide45.xml"/><Relationship Id="rId94" Type="http://schemas.openxmlformats.org/officeDocument/2006/relationships/slide" Target="slides/slide46.xml"/><Relationship Id="rId95" Type="http://schemas.openxmlformats.org/officeDocument/2006/relationships/slide" Target="slides/slide47.xml"/><Relationship Id="rId96" Type="http://schemas.openxmlformats.org/officeDocument/2006/relationships/slide" Target="slides/slide48.xml"/><Relationship Id="rId97" Type="http://schemas.openxmlformats.org/officeDocument/2006/relationships/slide" Target="slides/slide49.xml"/><Relationship Id="rId98" Type="http://schemas.openxmlformats.org/officeDocument/2006/relationships/slide" Target="slides/slide50.xml"/><Relationship Id="rId99" Type="http://schemas.openxmlformats.org/officeDocument/2006/relationships/slide" Target="slides/slide51.xml"/><Relationship Id="rId100" Type="http://schemas.openxmlformats.org/officeDocument/2006/relationships/slide" Target="slides/slide52.xml"/><Relationship Id="rId101" Type="http://schemas.openxmlformats.org/officeDocument/2006/relationships/slide" Target="slides/slide53.xml"/><Relationship Id="rId102" Type="http://schemas.openxmlformats.org/officeDocument/2006/relationships/slide" Target="slides/slide54.xml"/><Relationship Id="rId103" Type="http://schemas.openxmlformats.org/officeDocument/2006/relationships/slide" Target="slides/slide55.xml"/><Relationship Id="rId104" Type="http://schemas.openxmlformats.org/officeDocument/2006/relationships/slide" Target="slides/slide56.xml"/><Relationship Id="rId105" Type="http://schemas.openxmlformats.org/officeDocument/2006/relationships/slide" Target="slides/slide57.xml"/><Relationship Id="rId106" Type="http://schemas.openxmlformats.org/officeDocument/2006/relationships/slide" Target="slides/slide58.xml"/><Relationship Id="rId107" Type="http://schemas.openxmlformats.org/officeDocument/2006/relationships/slide" Target="slides/slide59.xml"/><Relationship Id="rId108" Type="http://schemas.openxmlformats.org/officeDocument/2006/relationships/slide" Target="slides/slide60.xml"/><Relationship Id="rId109" Type="http://schemas.openxmlformats.org/officeDocument/2006/relationships/slide" Target="slides/slide61.xml"/><Relationship Id="rId110" Type="http://schemas.openxmlformats.org/officeDocument/2006/relationships/slide" Target="slides/slide62.xml"/><Relationship Id="rId111" Type="http://schemas.openxmlformats.org/officeDocument/2006/relationships/slide" Target="slides/slide63.xml"/><Relationship Id="rId112" Type="http://schemas.openxmlformats.org/officeDocument/2006/relationships/slide" Target="slides/slide64.xml"/><Relationship Id="rId113" Type="http://schemas.openxmlformats.org/officeDocument/2006/relationships/slide" Target="slides/slide65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dt" idx="7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ftr" idx="7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6"/>
          <p:cNvSpPr>
            <a:spLocks noGrp="1"/>
          </p:cNvSpPr>
          <p:nvPr>
            <p:ph type="sldNum" idx="7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E5BB468-977C-468F-A678-3166B6A2A4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2469E5-3089-4468-9CDF-DDDC813A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9A1785-A85B-45A4-9134-2AB856F6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0319AB-C29C-4AFF-A7AA-00E774AB1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E028CE-259E-4AE3-B1F4-14FF2868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288390-6BB7-40E9-91B4-4089C4A1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E9D739A-238F-4F45-8864-873EE3374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74B64C-2B4B-4402-875B-8CDCF966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FF2E76-80AF-4E73-88F5-7F79DCA1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309388-FBC0-40F7-952D-53AC56F86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9955089-B8E1-4A0C-8E24-8870497E1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9E073B-55B6-455D-9E11-B68EEC02D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53185CA-2280-4D1A-A613-133BCEFA8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48DAA66-4F42-48D5-829A-322020C8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39C398F-0873-49EC-90B4-6D05CAF8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DCDA18-61F7-42CC-B23E-9A1D8325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9FB097-5B7F-46D7-AE88-CDFCD804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0462BE-017C-4822-8944-1153F439F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A877999-4C2F-4706-A927-C841253D6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BCF9B8-D20F-470A-9E87-BC0CE82C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9AA-57D0-42A3-9EA8-591CAF7D7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82C422E-D975-4919-835F-9C7AFCCC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E3925F-072D-4D3B-971B-AB6265821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C550606-2377-48EF-A3AE-311AB5D79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F2512D-41A3-462E-A11A-7059CD96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90E415-48BE-4B49-BF1B-EAA791991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3B2161-EB0F-4102-81F3-C60EABBB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4CFD2E-379E-4FCE-A82F-4DA5BB886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0492611-1EF2-4C1F-A1A9-AB6601DD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B75366-82E3-49B2-9147-4054E0CF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1BCB7BC-6A14-4E1C-8EAC-A4619FFA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17C1762-B5A7-4035-A57A-DD1DC91B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D3C67F-F94D-4492-BF09-19E7A1135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0497F6-C248-4AEF-84A5-88C3864F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3D9C45-B379-43DF-B713-F12518F8B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F1E753-8066-475A-8224-BBC85BEEF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5B742A1-BE94-4A33-9845-FF7387CC9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7CD27F-14CE-4B95-A519-414EA4EA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CCE37D-FA61-478A-82AD-8786628B9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BF1C37-A0AD-4559-BFA2-077D6D88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DFE58D-EBB3-45A3-9C2E-D4CE802D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AB61863-DF12-4408-A362-F42C83441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D80CE04-D488-44E7-AC55-F75B76F79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05030A-A666-4A05-ACBE-51A829A0C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14C656-A310-42D4-9C1D-7160A0C02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9A62319-85FB-4729-B5D3-39E2672F6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90F303-1321-4B55-AF33-F53AA35E7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CBE9E3-0CEA-4AAC-99CA-9A3C5B49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122297-7914-4571-95CE-F46CEBCAB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6513-5341-4110-8595-CC35F9C57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F1CC-DC8E-434F-809D-6EF1AD97BBC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48A07-2E63-42BB-80BF-6CA94FAFF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EEE4-EF9C-4998-81FA-8802BDF77FC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FC502-1F05-436F-B6E4-A52609B4A49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9E1F4-C862-467D-A09E-0140560BA87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32474-87EA-478D-8825-D24ADE2084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2060C-9E9E-406A-85F1-08AA0982056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F8924-3798-40B1-BC76-56B00BFF56F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99790-1DF9-4205-AAE7-132F13E7A3A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B8BF8-46B5-478A-A1E8-6FC93CF55B8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8F83C-8C31-4BF8-A5D9-F01C9516EA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2F89A-7FE7-42D6-A46E-EBA20BC5321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77AB2-F423-424A-8C31-1FAC94223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FFEC-C721-455B-9427-34A81D51C06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19BC8-D072-465E-89A4-64DA32910C7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DA380E-74AF-40A7-B2FA-C25359065DD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FA3C12-98CF-4132-9C35-5CC85CA17AC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1C32E0-C8BF-4A3D-8F8E-3D958414B5D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96C84E-C076-4046-A017-235FDD78EA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E8D5ED-6662-4260-9314-6D493D02E30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E090C-A5B9-44C9-A68A-70C8B0F33B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49CBD9-314B-4B0E-8F2E-77F973C6D71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1703F4-0927-44B8-92A2-25482CC6CCD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647A18-707A-4316-B357-4A17DAF16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7E6A7-6E58-453E-A44A-AE8EF7BDC62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90921-3A8E-4CCF-84DC-DDAECED221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E61489-B3FF-403F-9597-D9B62C4FC8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E75C5-E2CB-4B55-AF5C-C0539888A04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B432B-49C5-4793-AE34-6BCC32E134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D7418-060E-4FCD-B414-E782B3EF624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48DD4-C16A-4CD3-B228-22871FD0CBB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3D382-909B-40F5-A87A-AB6A62D12A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3B17A-8122-4E79-BA45-E8F1104931E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3FD3B-710C-4837-A680-E74C4384419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7D59E-9B9C-433C-9A23-0F72906CBD2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03431-ABD6-4CA8-93FD-817866BEB53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CFA50-CB32-491E-BBBB-7A10713EE61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059BC-EE1C-48DA-9CA4-6BFD2A195F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B496F-A2DF-4A05-A065-D29C4A90B8C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FF67C-C311-4391-90C1-9B06662998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FED81-CAD6-49A3-BFC8-1B3084FA713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BF47C-C560-466D-B0B6-8091F022D43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1B950-FCE6-4501-A21B-FCE3A40BE68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F604C-2D97-42CC-B145-0B65EF936FC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BF0B8-E7A6-434F-B41D-E74CFEE2D57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CF30D-1A7B-476B-AD9B-D822FB2F5FF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CC791-45A8-46AA-9AD9-99DF805311D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E7CB7-06E7-41D4-9389-4B7A4DE1CCD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D8125-BB7C-4D7B-9DB6-36330B1D348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80617-1982-4DF3-BB49-BC37172958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C3939-EE14-49EC-B4AB-88A280DD636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6482C3-AF7D-4EB4-8308-FFCF6B1B886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D14AE2-66FE-4EB6-BF6C-E28807BC2DD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F80298-9E22-4FB4-A012-AA7C7BA59D3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B29DC4-B36A-401A-A9FA-80C89B81847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5394EF-767F-44A8-A77B-58ACF771A15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C104FE-A9FC-42AD-B40C-B70143919AB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13B1A4-C6CA-4BB0-86DC-21A9BE3E14A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BB9833-62B0-4A6C-9163-A7966A2A4F4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73AAC-8288-4E1C-9ABB-B236C65B37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75932B-C9F7-4087-B2AF-92B695D30C8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2F6A33-8D73-4D4F-827B-0CFA69F4977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7D8177-A06F-410D-9329-AED79883F9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8EF7-5324-4E15-9345-A4D598928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D9945-A719-4566-B6DD-2A44671C8B2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3A6AA-D3EE-4EAA-9DEB-AAEC47F4BE5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FC8CD-B2C6-4CBF-8195-77614C30FA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6E79B-24A4-4BA7-B119-EEEE72909F5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1625E-B883-45B8-A6A4-AEF08BD0D9E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655E4-7C1C-4758-A1AD-9CCCDB8B761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E4690-CACF-4266-BF2D-36D0D21A6EA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D2787-C987-462F-9CD4-EBB51F8A57D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1CEA6-2D9B-409F-8916-97EAC48D2D7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BA101-1466-4742-9793-543B59B7CBD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9B93D-665E-4978-8DF1-D4A122921D0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42D42-6474-4503-AD99-CCED2424812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E08C36-8E39-4B7B-A73E-52C7D42A6C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4F90FA-F1DA-4F9D-8611-53DB05C7183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56A0C0-14E3-4539-ACC8-9DA525939FD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C5188D-881C-4179-A336-ED27F8DD83C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56CA0-67E8-412A-B89E-332C3FD55E9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C15553-561A-4608-B7DE-AF1338FEC43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C077CE-50C0-4834-A641-3254F4EDACE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2C9AF6-4726-406A-87D9-BA0D333F5D2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2728ED-DA90-4714-BAAE-6B919FC2756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DE0B66-CB50-4456-B17E-1B382B510BF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2E14BE-2DDF-4B81-A4AB-6E364330E6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5C298A-85D3-43AD-A6E9-9AF7088EC06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1E08D-1036-476E-A788-4A2383A1AFF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86E55-8EDA-4D37-9391-DA443F3A949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18A91-0AA5-474F-B954-B7B9CFA8F5B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6AB79-C424-4440-83E0-001C70E9BC6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82DD2-EB3C-4606-BF86-52F1C56DA52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81944-E6F4-4731-99A6-9C7622852A0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4C443-5834-4D77-A7D9-51A1D9A0B83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E9C5E-08AE-4A91-B56A-430CEEBB91B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202A7-A5EE-43F4-BD06-DD8C581307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4E14A-E3D8-4C5B-A6E8-225084D0B47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5EFEB-8E56-40E7-B593-702041D0B09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17164-CA2B-441C-891E-4729A33800A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F690F-9B63-470D-B6CD-DD7E130E5A2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44B7E-E760-4D38-BFD2-24CD6DB25B0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CF217-11E7-48E8-B3D2-574D3AD0C69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BC397-1991-4BEA-B279-E3772DD6D14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FA4EC-48A6-4292-96AF-DFF159335A6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161B6-BAF2-481A-8078-5BD68DF3CB4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58EFA-D352-4863-B4E4-F222614710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C1AF6-D2C9-4D94-897F-119439BCCB8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B912D-4A52-431E-AC97-34C28A0C8CD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3165B-D869-4E01-8BF7-2B126E7F2DA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D82C6-3990-4F40-A90E-38A4E2BF57F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A4A3B-5A5C-477F-82AD-088BACD6CA9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6D2B7-42D9-4AD4-886C-44D8BBE8B15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60F3C-4C5D-4B5E-B061-7919302497B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76E09-A354-4083-9754-B4EA1169FE5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E61DB0-4B0D-4C3B-A4E5-07986B65326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B001C1-ABD1-41DE-9576-223F6360DBD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5D9551-781D-4A8C-85BA-36EC3FD6E4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E4FA-8DB6-48D8-A346-0711590B72F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C9262C-995E-4424-A241-F813C80D008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C09214-47C0-48AD-924B-E2055BD53A6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6DD032-EB5B-478F-8162-9F25FD205B8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DE83CD-14A0-46A1-A061-D6753ACEA7D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C55798-6E5D-485E-8ADF-69D297EAB28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A73BF0-C74C-447A-9BCE-61ED2F5B75E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8E0783-E29D-48CD-AAAE-7B80DB72B31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D06F03-B1B3-4F12-9549-515B6ED88B0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6BB8CB-4A16-4C7A-B363-F3AEC5D1B83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AC2E0-5C2E-411A-A421-153A2D30E5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0EE76-5171-45BD-A222-B4FCBEC2374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5FB9A-3971-4AEB-A2D5-1B9987DEBE3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CA8EB-85A7-4089-9B2E-271F32B0A53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477FD-97FB-4ED4-AC4C-7925BF6474D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514C8-73A7-4EA0-A1AB-F08FA6CCC01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BF281-4F92-40F3-8D66-1270616ABE1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5688F-EE51-4F45-828A-C075FBA8BB1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FD150-A686-4AE8-8AA8-1FFC93805EE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9B1A6-442D-41E8-B56D-A8F722154A3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5D359-14D6-4BD1-BC43-AC9281C63D1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EBA68-F2AE-4B2B-8C3F-5F3213CD3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C667-BED6-4052-9B18-17F55709BD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A6F2B-0B22-479E-A986-CD580751D53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2A270-3841-4BDD-B804-B2C848B7B4D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7945D-D4BC-439C-BF79-3E2C19A8E20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8DE40-D468-4206-AF85-4F58C375DFB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72824-362D-4C57-8281-23406890D3C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9C34D-B0A6-4A86-B36F-003497B6647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4694C-C162-492C-AD5D-F47B395E907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1827D-38C5-4E5A-8E04-76204FF986B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D5336-52B1-4A29-8E2E-AB89F01F6CD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DA2BF-3AD6-45FC-98C8-68E46643EC7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41102-7E60-4395-ACCC-12DBC253EC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0F883-D5B0-488F-BD3F-7A2207DCCA9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73946-657A-4E23-A744-81654E9D327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C0103-B8C5-4927-939E-52451DFFE34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3FDAB-6370-43CE-BAF1-3DE1C2DA55B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12BAA4-06E8-4722-B6DA-85B22AC522F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E3B414-1C08-49E4-B027-1D27690A7C7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C7682A-FAC6-431E-82CF-A0BF69488A6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65195F-E0AD-4522-9477-B6A0B2E12BA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C1504A-2D7B-4123-B66E-D91932259DF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280936-E1E7-4131-ABA2-D89CE42BB00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CA81EC-B9A1-4849-8C5F-951ADB1329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52674-4F34-4013-9A69-312C699DFD4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E117B2-4B98-4B74-894F-3A0EDB1A2F1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136B14-1493-45A5-A2CA-4D66AECFA7C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029202-C12B-4B87-A76F-845D607EA14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1C7BF2-97B7-4EFD-A64A-AE1CC9982C3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1D93CD-196E-46AB-8153-7F726D4687D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EA22ED-3D2B-4980-A112-6FD2AACCB48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2F8763-67F5-451B-A4E6-B75F4B4F3C5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D33068-A7D9-4AA8-81B6-FBC3F5AF169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059DF1-1D05-4C90-9309-E3CA729F4BE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7CB2BC-E008-45AA-9290-E6A4C2AFDB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FCAEB-A783-4FE8-B004-0E3EEF6F102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2B2EF3-2D1F-4968-9072-29FF180C563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871021-DB0E-4A0F-BD14-ADBA6CC6ADF9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13F299-2D1E-43E0-9CD0-F680B3B81DE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856FC5-1EF4-4BEC-8F52-AABA35F0F3FD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CC45E7-25E3-4E8A-B9D1-9029517ED00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57DE1D-C82F-41EA-A8C3-8EA8E1FA53DC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566EB4-D935-468A-BE55-D1765F33314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379A2-3BC0-49FE-A0F4-8AAE42E7C6B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EC266-65C1-4C05-9935-252C0D5B111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573A7-6104-470C-92A1-6074C561A5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C73DA-D4C4-4110-B3F1-5305F38A0632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BED6A-B9EA-4944-AC8C-31EF0C99900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10946-89D4-4DE6-82C7-1CAF93A2729D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1DD5F-CBF3-4B3A-84A3-0B683FCC7109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CABC1-C207-45DD-96DB-E21D525979C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168FE-20A3-40D9-A4E2-1BBDD060DA2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A08ED-159D-4583-9578-5CCF50FBF4E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E21D4-8507-40A3-B410-DF06849ABF8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4ED88-816D-40DD-AA10-5AB577AA18A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57423-1B5D-49E4-920E-28C11E00B2FC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BCCAD9-DBB7-4009-84BA-91A96DCFD8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A71ED-D97E-4779-B884-101B6B2A56A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0CF8F5-9864-4479-9669-73A4F1523ACE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C2F032-96D9-4DD1-9293-3F7BFD3C8889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4B86A5-3833-4A13-916E-987BFB3C3F0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D78FC3-E632-4AB6-AF37-75B3D051B6AC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FA755A-94DC-45FA-9EE6-17D84230265E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2519DC-79D1-48A0-A082-F0F1D064F7A1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B6F1E6-2D94-4302-B35E-8EDB43AC5D90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D48BD5-FD46-4252-8EA8-A50832205825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E7A752-9612-42E9-ACF5-020A4CA4FA7C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4FF69D-7A94-4E7B-A170-D02A838518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FEDC6-AD59-4F7D-A331-ED8FD730C03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B58670-A6D9-4629-85AD-6E4F0D4D971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D53C51-72BC-4C81-9862-0B2347FD6AF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5E067F-B754-4121-86CC-1CE77952DDD7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AEA47C-7ACC-45FF-BD7C-A36D8B6D16D9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94CEBD-93BE-40BF-B4CB-7E6103D760C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5F4B79-4B6D-4292-BE33-89345FC9CFD1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DBA7AF9-BBA0-41A1-ABE9-7BA9AE08C2FC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1C6657-58B0-4A8E-9687-37CF86C4DC25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F57B98-A5E0-4748-9C00-C9070B02D283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3B95EC-6A8B-42CB-ABFF-061F9EADC2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8858-ED89-4E2A-979B-B3DC98FA4E39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3DD6BF-C1C8-4BA5-9E83-E1887D6D3AB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5F433F-F801-4405-B122-7D1AFF1C927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8B2403-1605-4256-9273-412C0C82CE3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5FF92-F9EA-4D69-8DF6-8B69DAE6B33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78BF5-1731-42CC-B52C-A4A3996687A1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7303C-912E-4D36-A61A-C7E500569A1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C32C6-64BF-4E53-A578-C41B97002C6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4E1D2-1620-4378-8416-48A46B230BA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01978-5E58-48A4-9A90-54166E18A32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B4D74-5A63-430A-AC10-FCC3838F95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944E-CD2C-4D6E-9E42-00AE2CCE5190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92766-37E6-4A48-838F-330904FB435F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6DCC6-D237-4BBD-A69A-A4AB2116CF0B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44EA7-D453-4E9B-8DA1-B1D6E2C38714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AFD50-5FD0-4AC5-9B7B-513D791FDE1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F9CE2-4524-49D8-8A84-430E24F3A968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A46A39-D113-497A-97BE-5BF18110085B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B72D0E-9C40-45E3-A3BB-C8D48CD920D7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C0796F-0D21-4D87-8FF7-4D701889A1A1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7BC797-BD95-4259-BDDB-90C3EF3EC389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F1AB54-A235-4054-9B5F-59F5AE8358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1DD8-904B-4B84-8A51-F568ECC733D8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7BE910-BBE0-40CD-BE68-D447D0DF398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CA22B3-CCAE-4B7E-860F-F38D062F655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589E98-2EC2-4C04-8EA9-562AD5D94FA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6E5A46-A8D5-4A86-BAE4-DA1AEFA002E5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400486-9AF1-4F79-93FC-4F5F0EBE8B0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DAE3EA-B401-4412-A147-00E0BA83143E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DDF365-64BE-47FC-BAAF-9059436B0605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14EA67-8742-412E-A2E1-E538398E191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CB49765-41D7-4EF4-8694-1F4AEBC2B78B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99AEFE-3DBC-4C37-A72A-C33B90F28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F0AB-4AA9-443F-A59A-34B9C56C0A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73FD-6103-4845-B75E-5055872DE0DE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0586C3-257D-422D-9CDC-7B1B30EE9C5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139856-4DDB-4DB5-9433-FC95CCD794E9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7D4D76-1BE5-41DC-9C26-5C6426F5205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206120-4AC7-4C19-BAA9-72F0620C52F7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94C638-72F8-4287-AC10-809475160F3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587DA2-3FBC-48F0-86A9-695202439B6E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E005EB-02B7-4969-8891-D30709EB4776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2DA9F6-4A78-4D69-8C0D-5E9183A14E3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CADF85-2AE8-45A2-BFAD-C41A02354EE1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2E0FDF-D8AE-4F77-A233-CF021555AD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47CD-EDA5-476F-BE2B-8A660B8E8B0A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D751387-B597-49DE-B668-9832AF7ED1EC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9D4A8A-F0AC-4F8E-B51B-73B415386EA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E01796-6B45-4A71-8A3E-0B61B25418B2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4CF28F-CE7B-4B72-A760-F074C5DED342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CAC41F8-ED75-4135-972F-EED9F410BA80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EBA29B-9FF1-4845-AE09-B06D8E766CEB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6CABA4-7B07-4BCA-9197-C145CB60481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9D4B78-62CD-4B63-9DFE-28005B6F2CB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C99B87-A9D5-4A2E-AB77-D9AAFD3078FC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5F84AD-6511-4B2D-856C-D225D320C6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FC84-2F2D-401E-8F3E-46E04ED37A2C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35B455-D9ED-462F-A8F4-6789C91A17BE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80D7B68-43F2-4866-B136-B907668E18DF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927728-3754-433D-A647-BB06D7C8C4E7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45BA621-798D-4B40-917C-10C10A611528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344AA79-80B9-402A-A3D8-E9B7215DE1B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8EF474-2753-4042-A067-F8B4FC36D5DE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2DCA58F-736F-4A59-9DCC-A61AA613A5A5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FC1CEB-5A24-4EF1-8A40-FFF1843B56EF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2669BE-7872-4BC6-9F46-A82370C3E805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C25DA33-54CB-4489-A438-8E7D427BBF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1D9A-96D7-4329-B414-C77F1D086D7D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AC13FC8-6218-4931-80DC-2B2C60533767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2B624EF-0EF8-4BA5-A878-8830B942F2A7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6F62608-5E3B-4EEE-8141-95C7A9C22F47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ADF0C-73C8-4F3D-9C7D-5994AF0A7D42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42302-4157-4C1A-9A21-71739D8B232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226BB-A9EE-4A0A-B2B7-6EFE18544E17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B09E4-DAFD-4C07-939B-D73CEBB460F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9F59FB-68B7-41C2-A4A6-93DB575AFD8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5EA82-74ED-4143-9768-AAE27CE22B8A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BB6376-09D9-4828-AAF4-6B4916B640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15B4-8C46-4384-98D1-9C4CF7395978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8CE12-3DC7-4EC0-8A11-8FA4C5E9E298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B6C1F-581C-44DE-AC93-8FFF8ED32D7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049D6-9206-4448-9E0D-2326BEF7A421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A53B8D-CB11-438F-974C-0284DC4EE77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524C96-C98C-4571-A68A-C0B5F69904BA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8BC1BBD-F585-4ABF-A691-93312EC4C9A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BD3652-5AA5-4748-ABE8-F22985F70E97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A956AC-AE46-43EE-8071-EA2F91DA8625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2BC8CE-2F13-4E68-992F-818642EF7DCF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38252E-DC75-48EB-98D0-A0CE802615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6571-B8D3-4EBE-BB91-0A0272FEE628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B2AABF4-5A9C-4298-8787-DA4A6F66D45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FDA050-A91B-4572-9C89-05310163A83F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CD761E7-8FB5-4F9A-B5BF-019C8F5A5404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A9641F-38EF-4CF6-B0E8-8C8227D1485F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DBD699A-CF77-4FAD-A836-1B2E02833D23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67E743A-4EBF-4E7F-B3F6-2F46E417F4A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62B8F4A-6155-4A0F-A218-B0BCA25A94C3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51DDFA-8A24-4C6D-BE19-10085005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433389-64EE-4FFD-9EC4-E4A9CB28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F6BE78-7FA8-4D4F-BFD6-3D28F372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389E-1F5C-4B6E-B95A-A9DE88C8A197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9D9401-FD9A-46A1-AF5F-7CD6A153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9F6C9-F4DB-4434-B645-2AB238D9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2D229C-AF01-4D82-8320-9723E8E4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9D2F2E-4841-47D3-884B-22A2544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59F03A-3515-4E1F-BBFC-C67DFD94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33D10B-45DE-419C-A52F-FB91B7B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EE1CB-C783-4340-86F4-82754112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1C96A-4458-4CAF-B47D-C96032DB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E1EE7-FF78-4779-A511-611D9653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63DC-6156-4ACD-8027-C09FFBDE657E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F401-6E5D-4841-96DB-A8CA12D9A7BD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D16A34F-3D62-4344-A2FD-7D39A76D7AC9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6D3EC71-3204-43B1-95A7-4CC9E1A2DD04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58BF2B8-B2F4-4454-B238-9A4E353720FE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612D88-7E1D-4247-8445-335930928073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6B0D8A9-4ED2-4C7C-B526-19D9C2109B3F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76F235-10C0-40BA-8FB0-5654D8FC5862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81CA385-4655-4883-8BA3-4A6C1C078A77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056AEA2-158E-4489-A887-2E0C3CA1BCA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260320A-3BD2-460E-AC5D-A8EC542211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AFBE209-6655-4690-8C1D-68CEB3615EDD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CC1F6CF-0DCF-4455-B94E-6FAD48D163EB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9E5C00E-642E-40B2-8DBE-03AE249795A1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0FE3FA-5575-45E4-BF16-7E242A85804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25847B-A584-49A6-A87A-194C70DBCE2C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21766D-AF39-4F87-8AF7-609964F527D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6628BC-7746-460C-A9BD-B747DDEC98AC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2533A3-C138-4808-8FBD-FE9AAFFF17DD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D03375-5F76-44A8-AFB5-F8922F9B558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6280B7-5121-4D21-A789-84A6E378A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0419-55C6-4D1D-A216-50D5BAAEDE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BB6C2-A652-45F0-BF08-F91EF79466D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B493EA-6832-432F-A4EB-65149C76C03F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FAD50C-5C22-497C-B82F-F038F0EB46BC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7D0628-BF42-47FC-9B08-4A7D541166F6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82FC6F-D479-431E-9A5A-D5B5E2C74FE0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631443-F18A-4510-ACEB-5850E5EC3588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E5A62A-E50C-48ED-A307-DC42AC630F97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C7BAD5-74FE-4065-8605-9DB2BCA75666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A2EC8B-CB96-4209-9F7C-2D31DED3BC2F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0620DB-EB42-4AF2-8B87-C117A731AD6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3467D2-9C03-405F-A2E5-BCE3CCA0F450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E1AB7-E561-4B2D-9570-5A6AAE6D15CB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BBFACF-A4F0-40C4-9C84-155CD3B8A60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3C4D26-7B68-468D-84B0-EA976985DDEC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E34115-E2D6-4D5D-BA4E-C8FFD1AF274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68CD8B-8FF8-4B5C-A368-32E87218F8D6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71014-E257-42AF-80E0-A1DBD248F0B4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6FA5CFA-40F9-4BBD-80AC-3623AAAC1846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80BF7E5-EE9D-4BE7-9713-1B37D2229107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D7901D-70DC-4703-8F8D-BAEFA9A1A4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C5FF77-B06B-478C-9747-E1DDBE8627E6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F34D3BC-139E-457F-A3C4-247C247AFBF9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8668F5-76AA-4AF6-8E82-CCE65384AACA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537AEA8-6732-446E-A4A5-FD3B4C24C73D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7168E40-73CC-402E-A8AE-09FCE3D7B4C6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3DB081D-E913-426A-A5E3-EF31A4F98968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E6E171D-E52B-460E-AEFA-3AF16C92905B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28DB7B-5573-49C7-8926-F0E7804C5CF4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EAA1FA-779B-4E68-B9E4-B05FD9EDDD55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3632539-3DAE-4B39-8CC1-07D5D32D20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9538106-5943-45E0-A2B7-EB96FE84F180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DED6246-0038-4780-AEF3-8852A83730F8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918132-DF51-4946-B856-80290221D5A6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7DAD001-177B-49D9-BE3C-CFBD4337018E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5AF845-78A4-4450-8B1F-35D288432AA4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513540-2555-439E-A580-28FC6360BA6B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E7154F-E738-4DBB-8555-19EB485C173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0A75936-D3FE-4A84-A297-115896FF9887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B56673A-6D3F-4B05-880E-3DB171D6904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D1FE50-589A-41D1-97B6-9A9069E70F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117C87-7FFE-44C2-962C-A214BAC339DE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70CDF03-56C9-4E0A-A98E-4697D642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0EBEC73-39DF-4D1E-9F6A-8EB7E44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12FE357-E950-4DAA-81DE-864679FE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A0C5091-C82A-4490-A397-8AFA98DC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CB64A0E-EB64-4683-9FAB-8235303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46A39E6-C9F3-4536-87BC-67F4AC2F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18E8C08-230A-4701-9EDF-423F5DF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62B9CF0-4E7A-4DE8-815B-83CB17C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AFE7364-BB89-4A56-925A-1DE3B1B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227EF93-34E0-4742-AB8A-A01BCE10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9E60DA-E3BF-41A6-A483-8F3C38FC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6DFFB67-01D7-4415-82DC-13CE1FD7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A569-9E49-414B-B27F-B2AD508655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C71C8-BACB-4ACD-AD05-C814F96F9F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59E18-695C-4ED6-A144-BD3A182D26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E0346-7F68-4C87-9A32-70BBD0BA67A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053DF-42A7-40F9-ADEC-A22381C8EE2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A59DB-B0A4-4869-9048-23BF451DA86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EA0C2-15B5-4618-B441-E0BABFD778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3DEE6-04F4-4AF6-98D1-68003C1725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5FCCD-B88A-45CE-A3BD-95484C86E9E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48384-5C3A-45C5-B926-5788012D3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662D-72E3-4499-A555-40F8E6B599F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B6C11-0E83-4768-BF17-8023851B06F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ED24B-AFC4-4D57-A322-3451DDC7359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4E9DC-E345-4D11-A074-4283A6A166F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7956-F444-42A2-90E9-630D0FA7E5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36A9-0407-4D7C-87C1-62021D9997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FDEC3-A3A1-4155-B554-9883E19941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A2C7-73B9-4ED7-9597-A3AF9F635F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A4D0-B52A-4947-BC01-2440BBF7B9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6694-8BED-40AB-90A4-04EA177E81D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C49DF-5C1B-4D20-8F62-5621ED735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842F-6FBE-432D-81A5-DCCE64D076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DCE6-8EEA-4D04-AC25-2111F8CF10B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F297C-5C12-4F33-9C32-DCBA2FFBE66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9C3B-8400-4832-80D5-C51CBB09DE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F19A-DA5A-4FA1-803B-9F0871B374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1CAF-EE21-4699-8A20-BCD8A4548F2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AD7B-AD9C-4B47-A4BF-C5ED29EF3F0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44BA-8A4A-49D0-89D9-DE2741854F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5A11-4792-4956-AAF3-9E4CDFF231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DEDC-9FA6-4F1E-8D61-21F22D866F8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47C4F-F5AD-4123-9592-745EA5B9C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DA98-0CE1-419E-A93A-BE39133529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F6AC-286A-4CC2-A4FC-6FD69080E1D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B4B46-385D-4A04-80AB-523E8F2F2A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534B-86B0-4B27-9540-C74A91C19E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F216-BC00-4A3C-845F-7BADA5A923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DE83-181B-4113-951B-CAE4FB23CBA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554D-E52A-48D9-935C-03CE8DE621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1EA44-A369-4FF8-9B29-0F1735CE87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69.xml"/><Relationship Id="rId7" Type="http://schemas.openxmlformats.org/officeDocument/2006/relationships/slideLayout" Target="../slideLayouts/slideLayout470.xml"/><Relationship Id="rId8" Type="http://schemas.openxmlformats.org/officeDocument/2006/relationships/slideLayout" Target="../slideLayouts/slideLayout471.xml"/><Relationship Id="rId9" Type="http://schemas.openxmlformats.org/officeDocument/2006/relationships/slideLayout" Target="../slideLayouts/slideLayout472.xml"/><Relationship Id="rId10" Type="http://schemas.openxmlformats.org/officeDocument/2006/relationships/slideLayout" Target="../slideLayouts/slideLayout473.xml"/><Relationship Id="rId11" Type="http://schemas.openxmlformats.org/officeDocument/2006/relationships/slideLayout" Target="../slideLayouts/slideLayout474.xml"/><Relationship Id="rId12" Type="http://schemas.openxmlformats.org/officeDocument/2006/relationships/slideLayout" Target="../slideLayouts/slideLayout475.xml"/><Relationship Id="rId13" Type="http://schemas.openxmlformats.org/officeDocument/2006/relationships/slideLayout" Target="../slideLayouts/slideLayout476.xml"/><Relationship Id="rId14" Type="http://schemas.openxmlformats.org/officeDocument/2006/relationships/slideLayout" Target="../slideLayouts/slideLayout477.xml"/><Relationship Id="rId15" Type="http://schemas.openxmlformats.org/officeDocument/2006/relationships/slideLayout" Target="../slideLayouts/slideLayout478.xml"/><Relationship Id="rId16" Type="http://schemas.openxmlformats.org/officeDocument/2006/relationships/slideLayout" Target="../slideLayouts/slideLayout479.xml"/><Relationship Id="rId17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3486-1FF0-4FE4-B4EA-5148EBC485E0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-356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8120" indent="-381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8800" indent="-3600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8560" indent="-403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1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1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BB3-F4FD-42A0-9E0E-750F5B66EC58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ftr" idx="1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1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2089-55E6-4BEF-B0EF-C2323F150ABF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3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7"/>
          <p:cNvSpPr/>
          <p:nvPr/>
        </p:nvSpPr>
        <p:spPr>
          <a:xfrm>
            <a:off x="412920" y="228600"/>
            <a:ext cx="8915400" cy="609480"/>
          </a:xfrm>
          <a:custGeom>
            <a:avLst/>
            <a:gdLst>
              <a:gd name="textAreaLeft" fmla="*/ 0 w 8915400"/>
              <a:gd name="textAreaRight" fmla="*/ 8915760 w 8915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95360" y="6172200"/>
            <a:ext cx="8915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7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CE93505E-7903-4F3D-8125-6168AA8EEDB4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8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554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-356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8120" indent="-381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8800" indent="-3600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8560" indent="-403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19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20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9911-978B-406E-9ED4-D476AF129F8D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ftr" idx="2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sldNum" idx="2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379B-3ACA-4F7C-9149-9D6E4A403926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641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721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5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ftr" idx="23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24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EEE6EC34-7182-48BE-A796-43B8D8B53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46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8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ftr" idx="25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sldNum" idx="26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79BBC1D4-8498-4792-8EA6-2F49F02610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1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ftr" idx="27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28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16F40650-D92A-4516-9617-6625FFD8C3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894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9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29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0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17A9830B-918E-4D0F-8540-E92082AA169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2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ftr" idx="3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sldNum" idx="3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8F303D48-AC30-4821-8D94-30990426CE8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ftr" idx="3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sldNum" idx="3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29C5656A-2971-4127-B2A5-527AF1946F0A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ftr" idx="3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sldNum" idx="3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82EC6BD7-7A5E-4651-82F5-7222B8C3C231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1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ftr" idx="37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sldNum" idx="38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B2A9F468-AF14-493A-9959-D2BD53C2CE5F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ftr" idx="39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sldNum" idx="40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E795045E-360C-440E-865C-BA8AD72DE84C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7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ftr" idx="4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sldNum" idx="4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DBEDBCD3-EEAB-4D7F-9C94-DCEBC34C7B8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-356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8120" indent="-381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8800" indent="-3600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8560" indent="-403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90ED-0BCF-484E-80BF-4109C10DEDE1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ftr" idx="4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sldNum" idx="4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39D47DA2-FE75-4766-988F-207D4606E41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3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ftr" idx="4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sldNum" idx="4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FF01DCA8-8B87-4AF2-9490-2192BB59BE0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6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 type="ftr" idx="47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 type="sldNum" idx="48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0E43D1C8-A86B-41F1-BD4B-072DED7CF600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9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 type="ftr" idx="49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 type="sldNum" idx="50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F184BF65-1DA9-4F8E-BCB7-DACA09C68CB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2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ftr" idx="5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 type="sldNum" idx="5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1 -</a:t>
            </a:r>
            <a:fld id="{F059FD4F-11BE-4439-8250-AC7168108FDF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sldNum" idx="53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1 -</a:t>
            </a:r>
            <a:fld id="{7865D135-A431-4816-9C36-206D60D6E08E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54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8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 type="sldNum" idx="55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1 -</a:t>
            </a:r>
            <a:fld id="{70C8C17E-853A-4F1A-BE9C-5CD557A638F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 type="ftr" idx="56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1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sldNum" idx="57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B462C404-03AD-4FE5-B8E5-FBE2AE6CFB2A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58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sldNum" idx="59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621A28EF-A60E-4800-91D0-898C7997874F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60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7"/>
          <p:cNvSpPr/>
          <p:nvPr/>
        </p:nvSpPr>
        <p:spPr>
          <a:xfrm>
            <a:off x="660240" y="1219320"/>
            <a:ext cx="8585280" cy="914400"/>
          </a:xfrm>
          <a:custGeom>
            <a:avLst/>
            <a:gdLst>
              <a:gd name="textAreaLeft" fmla="*/ 0 w 8585280"/>
              <a:gd name="textAreaRight" fmla="*/ 8585640 w 8585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Line 8"/>
          <p:cNvSpPr/>
          <p:nvPr/>
        </p:nvSpPr>
        <p:spPr>
          <a:xfrm>
            <a:off x="2146320" y="3962520"/>
            <a:ext cx="70549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 type="dt" idx="6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 type="ftr" idx="62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 type="sldNum" idx="6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57FB-3509-419A-B35E-9CC07C88BC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8B36-C77F-4629-B2E5-58B90C9A42ED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1669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0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1671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2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6"/>
    <p:sldLayoutId id="2147484157" r:id="rId7"/>
    <p:sldLayoutId id="2147484158" r:id="rId8"/>
    <p:sldLayoutId id="2147484159" r:id="rId9"/>
    <p:sldLayoutId id="2147484160" r:id="rId10"/>
    <p:sldLayoutId id="2147484161" r:id="rId11"/>
    <p:sldLayoutId id="2147484162" r:id="rId12"/>
    <p:sldLayoutId id="2147484163" r:id="rId13"/>
    <p:sldLayoutId id="2147484164" r:id="rId14"/>
    <p:sldLayoutId id="2147484165" r:id="rId15"/>
    <p:sldLayoutId id="2147484166" r:id="rId16"/>
    <p:sldLayoutId id="2147484167" r:id="rId17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sldNum" idx="64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A503C4B5-A890-453A-8B49-E36C843566CA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65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7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sldNum" idx="66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03E33BF3-588D-48EB-B807-8764EFE8B016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67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9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ftr" idx="68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sldNum" idx="69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5604BB6C-85BB-4DF2-AE4C-D8F5DC9785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2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843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ftr" idx="70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sldNum" idx="71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225539ED-AEC2-463A-B253-CD7E3C7777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5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ftr" idx="72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sldNum" idx="73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2D900520-80DB-4C8E-BA4C-62C2F33413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Freeform 7"/>
          <p:cNvSpPr/>
          <p:nvPr/>
        </p:nvSpPr>
        <p:spPr>
          <a:xfrm>
            <a:off x="660240" y="1219320"/>
            <a:ext cx="8585280" cy="914400"/>
          </a:xfrm>
          <a:custGeom>
            <a:avLst/>
            <a:gdLst>
              <a:gd name="textAreaLeft" fmla="*/ 0 w 8585280"/>
              <a:gd name="textAreaRight" fmla="*/ 8585640 w 8585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Line 8"/>
          <p:cNvSpPr/>
          <p:nvPr/>
        </p:nvSpPr>
        <p:spPr>
          <a:xfrm>
            <a:off x="2146320" y="3962520"/>
            <a:ext cx="70549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7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75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7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09A6-6CA2-49DE-9237-B5FFDEE47E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7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8D72-AF93-449B-B20F-EEAC2ED575A0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"/>
          <p:cNvSpPr/>
          <p:nvPr/>
        </p:nvSpPr>
        <p:spPr>
          <a:xfrm>
            <a:off x="412920" y="228600"/>
            <a:ext cx="8915400" cy="609480"/>
          </a:xfrm>
          <a:custGeom>
            <a:avLst/>
            <a:gdLst>
              <a:gd name="textAreaLeft" fmla="*/ 0 w 8915400"/>
              <a:gd name="textAreaRight" fmla="*/ 8915760 w 8915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495360" y="6172200"/>
            <a:ext cx="8915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9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4760BE78-E00F-46E7-B095-031A15DDA435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0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99FE8842-3C89-445A-9DF4-148E450147B5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3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7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197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3DBE3CA8-2DC5-494E-8C8B-0D8C83A49EA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 txBox="1"/>
          <p:nvPr/>
        </p:nvSpPr>
        <p:spPr>
          <a:xfrm>
            <a:off x="659880" y="1752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1DF77881-5731-4996-8852-F6DEF9DAF53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Oval 3"/>
          <p:cNvSpPr/>
          <p:nvPr/>
        </p:nvSpPr>
        <p:spPr>
          <a:xfrm>
            <a:off x="617400" y="1454040"/>
            <a:ext cx="4292640" cy="106704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tegy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Rectangle 4"/>
          <p:cNvSpPr/>
          <p:nvPr/>
        </p:nvSpPr>
        <p:spPr>
          <a:xfrm>
            <a:off x="4414680" y="3054240"/>
            <a:ext cx="421020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nal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3" name="Line 5"/>
          <p:cNvSpPr/>
          <p:nvPr/>
        </p:nvSpPr>
        <p:spPr>
          <a:xfrm>
            <a:off x="2681280" y="2521080"/>
            <a:ext cx="0" cy="312408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4" name="Line 6"/>
          <p:cNvSpPr/>
          <p:nvPr/>
        </p:nvSpPr>
        <p:spPr>
          <a:xfrm>
            <a:off x="2681280" y="564516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Line 7"/>
          <p:cNvSpPr/>
          <p:nvPr/>
        </p:nvSpPr>
        <p:spPr>
          <a:xfrm>
            <a:off x="2681280" y="412128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Line 8"/>
          <p:cNvSpPr/>
          <p:nvPr/>
        </p:nvSpPr>
        <p:spPr>
          <a:xfrm>
            <a:off x="2681280" y="335916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Rectangle 9"/>
          <p:cNvSpPr/>
          <p:nvPr/>
        </p:nvSpPr>
        <p:spPr>
          <a:xfrm>
            <a:off x="4414680" y="3816360"/>
            <a:ext cx="421020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Rectangle 10"/>
          <p:cNvSpPr/>
          <p:nvPr/>
        </p:nvSpPr>
        <p:spPr>
          <a:xfrm>
            <a:off x="4414680" y="4578480"/>
            <a:ext cx="421020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Rectangle 11"/>
          <p:cNvSpPr/>
          <p:nvPr/>
        </p:nvSpPr>
        <p:spPr>
          <a:xfrm>
            <a:off x="4414680" y="5340240"/>
            <a:ext cx="421020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Line 12"/>
          <p:cNvSpPr/>
          <p:nvPr/>
        </p:nvSpPr>
        <p:spPr>
          <a:xfrm>
            <a:off x="2681280" y="488304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B5B66FDE-9D00-4719-9B6C-631230C3226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Text Box 3"/>
          <p:cNvSpPr/>
          <p:nvPr/>
        </p:nvSpPr>
        <p:spPr>
          <a:xfrm>
            <a:off x="495360" y="457200"/>
            <a:ext cx="64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process step: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"/>
          <p:cNvSpPr txBox="1"/>
          <p:nvPr/>
        </p:nvSpPr>
        <p:spPr>
          <a:xfrm>
            <a:off x="631440" y="2133360"/>
            <a:ext cx="864252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2800" spc="-1" strike="noStrike">
                <a:solidFill>
                  <a:srgbClr val="f6861f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f6861f"/>
                </a:solidFill>
                <a:latin typeface="Verdana"/>
              </a:rPr>
              <a:t>Think through the overall mission of a business.  Ask the key question: What is our Business?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eter Druck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BBDEA41B-B853-43CA-9CC9-1AB61175982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Text Box 3"/>
          <p:cNvSpPr/>
          <p:nvPr/>
        </p:nvSpPr>
        <p:spPr>
          <a:xfrm>
            <a:off x="577800" y="457200"/>
            <a:ext cx="90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ime Task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A02435A5-21D5-4C15-864D-E6758744CDF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 txBox="1"/>
          <p:nvPr/>
        </p:nvSpPr>
        <p:spPr>
          <a:xfrm>
            <a:off x="576360" y="1928520"/>
            <a:ext cx="833760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strategic management process attempts to organize quantitative and qualitative information under condition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certaint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11307759-33C3-4D3A-B4BF-308789AD70A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Text Box 3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ntegrating Intuition &amp;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64A9287-7C1B-4B6A-AB03-F3029062571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"/>
          <p:cNvSpPr txBox="1"/>
          <p:nvPr/>
        </p:nvSpPr>
        <p:spPr>
          <a:xfrm>
            <a:off x="560520" y="1557360"/>
            <a:ext cx="8353440" cy="24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uition is based 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 experi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dg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el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913DD87-3AF4-48DD-972D-20AB0019425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Text Box 3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ntegrating Intuition &amp;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Rectangle 4"/>
          <p:cNvSpPr/>
          <p:nvPr/>
        </p:nvSpPr>
        <p:spPr>
          <a:xfrm>
            <a:off x="560520" y="4149720"/>
            <a:ext cx="835344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uition is useful for decision making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s of great uncertain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s with little prece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8" name="Picture 5" descr="j0297707"/>
          <p:cNvPicPr/>
          <p:nvPr/>
        </p:nvPicPr>
        <p:blipFill>
          <a:blip r:embed="rId1"/>
          <a:stretch/>
        </p:blipFill>
        <p:spPr>
          <a:xfrm>
            <a:off x="6753240" y="112536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7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187BFDB3-CB0B-40F3-8CF8-F1A077C4F7A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 txBox="1"/>
          <p:nvPr/>
        </p:nvSpPr>
        <p:spPr>
          <a:xfrm>
            <a:off x="659880" y="1752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2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B5B4472B-D67D-4EF7-903E-83B137201D1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3" name="AutoShape 4"/>
          <p:cNvSpPr/>
          <p:nvPr/>
        </p:nvSpPr>
        <p:spPr>
          <a:xfrm>
            <a:off x="2505240" y="1844640"/>
            <a:ext cx="4705200" cy="914400"/>
          </a:xfrm>
          <a:prstGeom prst="roundRect">
            <a:avLst>
              <a:gd name="adj" fmla="val 16667"/>
            </a:avLst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ytical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4" name="Text Box 7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ntegrating Intuition &amp;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AutoShape 8"/>
          <p:cNvSpPr/>
          <p:nvPr/>
        </p:nvSpPr>
        <p:spPr>
          <a:xfrm>
            <a:off x="2505240" y="4149720"/>
            <a:ext cx="4705200" cy="914400"/>
          </a:xfrm>
          <a:prstGeom prst="roundRect">
            <a:avLst>
              <a:gd name="adj" fmla="val 16667"/>
            </a:avLst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uitive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AutoShape 9"/>
          <p:cNvSpPr/>
          <p:nvPr/>
        </p:nvSpPr>
        <p:spPr>
          <a:xfrm>
            <a:off x="4592520" y="2852640"/>
            <a:ext cx="495360" cy="1219320"/>
          </a:xfrm>
          <a:prstGeom prst="upDownArrow">
            <a:avLst>
              <a:gd name="adj1" fmla="val 50000"/>
              <a:gd name="adj2" fmla="val 53332"/>
            </a:avLst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7897868-FEC8-4318-B17E-A204BCA4279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 txBox="1"/>
          <p:nvPr/>
        </p:nvSpPr>
        <p:spPr>
          <a:xfrm>
            <a:off x="560160" y="1628640"/>
            <a:ext cx="83372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the Arab world, there is a cultural tendency to emphasize on the role of intuition and imagination in decision mak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are many companies which, because of luck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bundan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portunities, have experienced great growth but only for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 tim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BC90492-B1C5-4CAA-843C-FBB19AA684C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Text Box 3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Note: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C683A04-4192-4715-AB6D-4A6C74C569F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Key Terms in strategic Management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itive advant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ategis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sion &amp; miss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ternal opportunity &amp; threa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strengths &amp; weaknes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ng – term objecti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ateg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nual (short- term)objecti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l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7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9DB3D2C4-2CDA-4E45-883D-94897F06F3A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 txBox="1"/>
          <p:nvPr/>
        </p:nvSpPr>
        <p:spPr>
          <a:xfrm>
            <a:off x="743040" y="1125360"/>
            <a:ext cx="825480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etitive Advantag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thing that a firm does especially well, compared to rival fi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9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B2872273-EB94-47DE-B79F-9E10AF3BBB9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577800" y="457200"/>
            <a:ext cx="89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M :key term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B5320C38-F910-422A-A0C5-49191C3A8A7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 txBox="1"/>
          <p:nvPr/>
        </p:nvSpPr>
        <p:spPr>
          <a:xfrm>
            <a:off x="631440" y="1700280"/>
            <a:ext cx="825516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ing to change in external trends, internal capabilities, 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ively formulating, implementing, and evaluating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4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3CAF807C-AAB7-46F6-8ADE-66D1927C7A0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5" name="Text Box 3"/>
          <p:cNvSpPr/>
          <p:nvPr/>
        </p:nvSpPr>
        <p:spPr>
          <a:xfrm>
            <a:off x="577800" y="457200"/>
            <a:ext cx="93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rganizations is said to have a SCA when it is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6" name="Picture 5" descr="BD09205_"/>
          <p:cNvPicPr/>
          <p:nvPr/>
        </p:nvPicPr>
        <p:blipFill>
          <a:blip r:embed="rId1"/>
          <a:stretch/>
        </p:blipFill>
        <p:spPr>
          <a:xfrm>
            <a:off x="7705800" y="4325760"/>
            <a:ext cx="1568520" cy="1258920"/>
          </a:xfrm>
          <a:prstGeom prst="rect">
            <a:avLst/>
          </a:prstGeom>
          <a:ln w="0">
            <a:noFill/>
          </a:ln>
        </p:spPr>
      </p:pic>
      <p:sp>
        <p:nvSpPr>
          <p:cNvPr id="210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2BCC7FF-78CB-48B8-BBCF-A8FB3B2E1D4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59880" y="456840"/>
            <a:ext cx="7099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2)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1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ADA5D5AC-6CA9-4482-A75F-976EF1C522E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Rectangle 5"/>
          <p:cNvSpPr/>
          <p:nvPr/>
        </p:nvSpPr>
        <p:spPr>
          <a:xfrm>
            <a:off x="1065240" y="1916280"/>
            <a:ext cx="7512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Text Box 7"/>
          <p:cNvSpPr/>
          <p:nvPr/>
        </p:nvSpPr>
        <p:spPr>
          <a:xfrm>
            <a:off x="577800" y="1219320"/>
            <a:ext cx="8832960" cy="452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sts – Those that affect a firm’s success or failu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hief Executive Officer (CE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hief Strategy Officer (C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esi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oard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xecutive Dir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98E76C2-0BB4-45E6-ADCA-26C7D06C74B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803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95280" y="1546200"/>
            <a:ext cx="4702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Nature of Strateg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2" name="Picture 4" descr="CVR_STMA_SB_ARW_5674_CVR"/>
          <p:cNvPicPr/>
          <p:nvPr/>
        </p:nvPicPr>
        <p:blipFill>
          <a:blip r:embed="rId1"/>
          <a:stretch/>
        </p:blipFill>
        <p:spPr>
          <a:xfrm>
            <a:off x="5861160" y="1523880"/>
            <a:ext cx="3114720" cy="4138560"/>
          </a:xfrm>
          <a:prstGeom prst="rect">
            <a:avLst/>
          </a:prstGeom>
          <a:ln w="0">
            <a:noFill/>
          </a:ln>
        </p:spPr>
      </p:pic>
      <p:sp>
        <p:nvSpPr>
          <p:cNvPr id="198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DE3F2C5D-46F3-48DC-85F9-99C4B36456C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/>
          </p:nvPr>
        </p:nvSpPr>
        <p:spPr>
          <a:xfrm>
            <a:off x="596520" y="1980720"/>
            <a:ext cx="817236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sion Statemen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 we want to beco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ssion Statemen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our busine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Text Box 3"/>
          <p:cNvSpPr/>
          <p:nvPr/>
        </p:nvSpPr>
        <p:spPr>
          <a:xfrm>
            <a:off x="577800" y="45720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3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7" name="Picture 6" descr="q231pxf4[1]"/>
          <p:cNvPicPr/>
          <p:nvPr/>
        </p:nvPicPr>
        <p:blipFill>
          <a:blip r:embed="rId1"/>
          <a:stretch/>
        </p:blipFill>
        <p:spPr>
          <a:xfrm>
            <a:off x="6951600" y="3321000"/>
            <a:ext cx="2394000" cy="2629080"/>
          </a:xfrm>
          <a:prstGeom prst="rect">
            <a:avLst/>
          </a:prstGeom>
          <a:ln w="0">
            <a:noFill/>
          </a:ln>
        </p:spPr>
      </p:pic>
      <p:sp>
        <p:nvSpPr>
          <p:cNvPr id="211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02C9BB1-C975-43A5-874E-52B3C6AB7D6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Text Box 3"/>
          <p:cNvSpPr/>
          <p:nvPr/>
        </p:nvSpPr>
        <p:spPr>
          <a:xfrm>
            <a:off x="560520" y="62064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pportunities and Threats </a:t>
            </a:r>
            <a:r>
              <a:rPr b="1" lang="en-US" sz="1200" spc="-1" strike="noStrike">
                <a:solidFill>
                  <a:srgbClr val="ed6b06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External analys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AA07999D-DA0F-4371-B4A8-06188E1DE3C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Text Box 8"/>
          <p:cNvSpPr/>
          <p:nvPr/>
        </p:nvSpPr>
        <p:spPr>
          <a:xfrm>
            <a:off x="776160" y="2421000"/>
            <a:ext cx="6985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rnal opportunities and threats are largely out of the control of a single organ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 Box 3"/>
          <p:cNvSpPr/>
          <p:nvPr/>
        </p:nvSpPr>
        <p:spPr>
          <a:xfrm>
            <a:off x="577800" y="457200"/>
            <a:ext cx="82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portunities and Threats (External) Cont’d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Text Box 5"/>
          <p:cNvSpPr/>
          <p:nvPr/>
        </p:nvSpPr>
        <p:spPr>
          <a:xfrm>
            <a:off x="631800" y="1557360"/>
            <a:ext cx="75945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alysis of Tren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mographic/Environmen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olitical, Legal, Governmen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echnolog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6" name="Picture 6" descr="fvcvrxzc[1]"/>
          <p:cNvPicPr/>
          <p:nvPr/>
        </p:nvPicPr>
        <p:blipFill>
          <a:blip r:embed="rId1"/>
          <a:stretch/>
        </p:blipFill>
        <p:spPr>
          <a:xfrm>
            <a:off x="6824520" y="2060640"/>
            <a:ext cx="2283120" cy="3357360"/>
          </a:xfrm>
          <a:prstGeom prst="rect">
            <a:avLst/>
          </a:prstGeom>
          <a:ln w="0">
            <a:noFill/>
          </a:ln>
        </p:spPr>
      </p:pic>
      <p:sp>
        <p:nvSpPr>
          <p:cNvPr id="212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A58AF67-241D-46E6-920B-DB994EE9728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/>
          </p:nvPr>
        </p:nvSpPr>
        <p:spPr>
          <a:xfrm>
            <a:off x="560160" y="1557360"/>
            <a:ext cx="8172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basic tenet of strategic manage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Oval 4"/>
          <p:cNvSpPr/>
          <p:nvPr/>
        </p:nvSpPr>
        <p:spPr>
          <a:xfrm>
            <a:off x="704880" y="2895480"/>
            <a:ext cx="3270240" cy="228600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Strategy Form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ilecab3"/>
          <p:cNvSpPr/>
          <p:nvPr/>
        </p:nvSpPr>
        <p:spPr>
          <a:xfrm>
            <a:off x="4718160" y="2666880"/>
            <a:ext cx="4127400" cy="990720"/>
          </a:xfrm>
          <a:prstGeom prst="pie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ke advantage of External Opport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2" name="filecab3"/>
          <p:cNvSpPr/>
          <p:nvPr/>
        </p:nvSpPr>
        <p:spPr>
          <a:xfrm>
            <a:off x="4718160" y="4586400"/>
            <a:ext cx="4127400" cy="1003320"/>
          </a:xfrm>
          <a:prstGeom prst="pie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void/minimize impact of External Thre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Line 11"/>
          <p:cNvSpPr/>
          <p:nvPr/>
        </p:nvSpPr>
        <p:spPr>
          <a:xfrm flipV="1">
            <a:off x="3975120" y="3276720"/>
            <a:ext cx="743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Line 13"/>
          <p:cNvSpPr/>
          <p:nvPr/>
        </p:nvSpPr>
        <p:spPr>
          <a:xfrm>
            <a:off x="3975120" y="4038480"/>
            <a:ext cx="743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7B3B4C3-80F6-4A25-914A-40C783581EE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/>
          </p:nvPr>
        </p:nvSpPr>
        <p:spPr>
          <a:xfrm>
            <a:off x="560160" y="1700280"/>
            <a:ext cx="81723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engths &amp; Weaknesses (Internal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lable activities performed especially well or poor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Text Box 3"/>
          <p:cNvSpPr/>
          <p:nvPr/>
        </p:nvSpPr>
        <p:spPr>
          <a:xfrm>
            <a:off x="577800" y="457200"/>
            <a:ext cx="847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5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engths and Weaknesses (Internal analysis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Text Box 4"/>
          <p:cNvSpPr/>
          <p:nvPr/>
        </p:nvSpPr>
        <p:spPr>
          <a:xfrm>
            <a:off x="560520" y="1371600"/>
            <a:ext cx="80899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12007EE0-2107-493B-8FAF-11C12D479A5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6" descr="x0iwhrju[1]"/>
          <p:cNvPicPr/>
          <p:nvPr/>
        </p:nvPicPr>
        <p:blipFill>
          <a:blip r:embed="rId1"/>
          <a:stretch/>
        </p:blipFill>
        <p:spPr>
          <a:xfrm>
            <a:off x="6726240" y="2924280"/>
            <a:ext cx="2548080" cy="195084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3"/>
          <p:cNvSpPr/>
          <p:nvPr/>
        </p:nvSpPr>
        <p:spPr>
          <a:xfrm>
            <a:off x="577800" y="457200"/>
            <a:ext cx="83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engths and Weaknesses (Internal) Cont’d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631800" y="1801800"/>
            <a:ext cx="75945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 and weaknesses are typically located in the functional areas of the firm, such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inance/Accou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duction/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mputer 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5FADC23-9F76-4814-A285-BB25EC2D05D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Text Box 3"/>
          <p:cNvSpPr/>
          <p:nvPr/>
        </p:nvSpPr>
        <p:spPr>
          <a:xfrm>
            <a:off x="577800" y="457200"/>
            <a:ext cx="90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ssessing the Inter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8" name="Oval 4"/>
          <p:cNvSpPr/>
          <p:nvPr/>
        </p:nvSpPr>
        <p:spPr>
          <a:xfrm>
            <a:off x="1065240" y="2492280"/>
            <a:ext cx="3054240" cy="228600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f5ea"/>
                </a:solidFill>
                <a:latin typeface="Verdana"/>
              </a:rPr>
              <a:t>Internal Fa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Rectangle 9"/>
          <p:cNvSpPr/>
          <p:nvPr/>
        </p:nvSpPr>
        <p:spPr>
          <a:xfrm>
            <a:off x="5024520" y="2924280"/>
            <a:ext cx="321948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Rectangle 10"/>
          <p:cNvSpPr/>
          <p:nvPr/>
        </p:nvSpPr>
        <p:spPr>
          <a:xfrm>
            <a:off x="5024520" y="2060640"/>
            <a:ext cx="321948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Rectangle 11"/>
          <p:cNvSpPr/>
          <p:nvPr/>
        </p:nvSpPr>
        <p:spPr>
          <a:xfrm>
            <a:off x="5024520" y="3789360"/>
            <a:ext cx="321948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ustry Aver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Rectangle 12"/>
          <p:cNvSpPr/>
          <p:nvPr/>
        </p:nvSpPr>
        <p:spPr>
          <a:xfrm>
            <a:off x="5024520" y="4653000"/>
            <a:ext cx="321948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rvey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Line 14"/>
          <p:cNvSpPr/>
          <p:nvPr/>
        </p:nvSpPr>
        <p:spPr>
          <a:xfrm flipV="1">
            <a:off x="4089240" y="2421000"/>
            <a:ext cx="908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Line 15"/>
          <p:cNvSpPr/>
          <p:nvPr/>
        </p:nvSpPr>
        <p:spPr>
          <a:xfrm flipV="1">
            <a:off x="4089240" y="3284640"/>
            <a:ext cx="90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5" name="Line 16"/>
          <p:cNvSpPr/>
          <p:nvPr/>
        </p:nvSpPr>
        <p:spPr>
          <a:xfrm>
            <a:off x="4089240" y="3716280"/>
            <a:ext cx="908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6" name="Line 17"/>
          <p:cNvSpPr/>
          <p:nvPr/>
        </p:nvSpPr>
        <p:spPr>
          <a:xfrm>
            <a:off x="4089240" y="3789360"/>
            <a:ext cx="90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30C7F8D-A2F1-4834-AD4E-E1A8B5FE5C3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/>
          </p:nvPr>
        </p:nvSpPr>
        <p:spPr>
          <a:xfrm>
            <a:off x="596520" y="1773360"/>
            <a:ext cx="81723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ng-term Objectiv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sion-driven pursuit of specified results more than one year 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0" name="Text Box 3"/>
          <p:cNvSpPr/>
          <p:nvPr/>
        </p:nvSpPr>
        <p:spPr>
          <a:xfrm>
            <a:off x="577800" y="457200"/>
            <a:ext cx="66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Long Term Objectiv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Text Box 4"/>
          <p:cNvSpPr/>
          <p:nvPr/>
        </p:nvSpPr>
        <p:spPr>
          <a:xfrm>
            <a:off x="584280" y="1600200"/>
            <a:ext cx="88326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3C8EA9DB-A2BE-421D-84F3-E7638D059C9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Text Box 3"/>
          <p:cNvSpPr/>
          <p:nvPr/>
        </p:nvSpPr>
        <p:spPr>
          <a:xfrm>
            <a:off x="577800" y="457200"/>
            <a:ext cx="660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Long Term Objectives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Text Box 4"/>
          <p:cNvSpPr/>
          <p:nvPr/>
        </p:nvSpPr>
        <p:spPr>
          <a:xfrm>
            <a:off x="560520" y="1708200"/>
            <a:ext cx="75945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 term objectives are essential for ensuring a firm’s success. The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vide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elp with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reate syner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ocus coord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asis for planning, motivating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ntrol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6" name="Picture 7" descr="we4utkib[1]"/>
          <p:cNvPicPr/>
          <p:nvPr/>
        </p:nvPicPr>
        <p:blipFill>
          <a:blip r:embed="rId1"/>
          <a:stretch/>
        </p:blipFill>
        <p:spPr>
          <a:xfrm>
            <a:off x="7184880" y="2421000"/>
            <a:ext cx="1665360" cy="2535120"/>
          </a:xfrm>
          <a:prstGeom prst="rect">
            <a:avLst/>
          </a:prstGeom>
          <a:ln w="0">
            <a:noFill/>
          </a:ln>
        </p:spPr>
      </p:pic>
      <p:sp>
        <p:nvSpPr>
          <p:cNvPr id="216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A6F5EFD2-4CDD-435A-82EC-96F17651AE3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/>
          </p:nvPr>
        </p:nvSpPr>
        <p:spPr>
          <a:xfrm>
            <a:off x="560160" y="1557360"/>
            <a:ext cx="8172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ans by which long-term objectives are achie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0" name="Text Box 3"/>
          <p:cNvSpPr/>
          <p:nvPr/>
        </p:nvSpPr>
        <p:spPr>
          <a:xfrm>
            <a:off x="577800" y="457200"/>
            <a:ext cx="6604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7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0D60D3A-6994-45DA-BE49-8E3282DA04A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3" name="Picture 7" descr="a2dbze2x[1]"/>
          <p:cNvPicPr/>
          <p:nvPr/>
        </p:nvPicPr>
        <p:blipFill>
          <a:blip r:embed="rId1"/>
          <a:stretch/>
        </p:blipFill>
        <p:spPr>
          <a:xfrm>
            <a:off x="5529240" y="2133720"/>
            <a:ext cx="3941640" cy="3927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59880" y="456840"/>
            <a:ext cx="7099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6" name="Slide Number Placeholder 3"/>
          <p:cNvSpPr/>
          <p:nvPr/>
        </p:nvSpPr>
        <p:spPr>
          <a:xfrm>
            <a:off x="290520" y="6546960"/>
            <a:ext cx="534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1 -</a:t>
            </a:r>
            <a:fld id="{81224224-4EBE-4415-9285-FCEDD5F264E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Rectangle 6"/>
          <p:cNvSpPr/>
          <p:nvPr/>
        </p:nvSpPr>
        <p:spPr>
          <a:xfrm>
            <a:off x="577800" y="1052640"/>
            <a:ext cx="85852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is Strategic Manag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y Terms in Strategic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trategic-Managem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nefits of Strategic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y Some Firms Do No Strategic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tfalls in Strategic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uidelines for Effective Strategic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8" name="Slide Number Placeholder 5"/>
          <p:cNvSpPr/>
          <p:nvPr/>
        </p:nvSpPr>
        <p:spPr>
          <a:xfrm>
            <a:off x="1542960" y="6524640"/>
            <a:ext cx="304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796680" y="476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Strategies (Cont’d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75" name="Text Box 4"/>
          <p:cNvSpPr/>
          <p:nvPr/>
        </p:nvSpPr>
        <p:spPr>
          <a:xfrm>
            <a:off x="704880" y="1557360"/>
            <a:ext cx="75945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examples of different strategies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eographic expa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cqui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rket pene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trench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Joint ven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2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Text Box 3"/>
          <p:cNvSpPr/>
          <p:nvPr/>
        </p:nvSpPr>
        <p:spPr>
          <a:xfrm>
            <a:off x="577800" y="457200"/>
            <a:ext cx="66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s (8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Text Box 4"/>
          <p:cNvSpPr/>
          <p:nvPr/>
        </p:nvSpPr>
        <p:spPr>
          <a:xfrm>
            <a:off x="560520" y="2349360"/>
            <a:ext cx="8832600" cy="19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nual Objectiv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-term achievements  that firms must recognize to attain long-term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22C5911E-425F-41F5-9528-3A3657B4EF9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Text Box 3"/>
          <p:cNvSpPr/>
          <p:nvPr/>
        </p:nvSpPr>
        <p:spPr>
          <a:xfrm>
            <a:off x="577800" y="457200"/>
            <a:ext cx="66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Key Terms (9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Text Box 4"/>
          <p:cNvSpPr/>
          <p:nvPr/>
        </p:nvSpPr>
        <p:spPr>
          <a:xfrm>
            <a:off x="560520" y="2421000"/>
            <a:ext cx="8832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ici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 by which annual objectives will be achie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D4FA8D0-F955-4EF0-8BC2-24DC44FCA29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SSIGNMENT 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(1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Strategic Management Key Terms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(1-9)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ne page / term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85" name="Footer Placeholder 4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6" name="Slide Number Placeholder 5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D691A113-76F6-494B-9F9A-8150CED5CA4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Slide Number Placeholder 3"/>
          <p:cNvSpPr/>
          <p:nvPr/>
        </p:nvSpPr>
        <p:spPr>
          <a:xfrm>
            <a:off x="415800" y="6524640"/>
            <a:ext cx="1206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C5319C2-4DD2-42CE-BBB9-116DEF036B0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8" name="Picture 9" descr=""/>
          <p:cNvPicPr/>
          <p:nvPr/>
        </p:nvPicPr>
        <p:blipFill>
          <a:blip r:embed="rId1"/>
          <a:srcRect l="0" t="0" r="0" b="4879"/>
          <a:stretch/>
        </p:blipFill>
        <p:spPr>
          <a:xfrm>
            <a:off x="415800" y="209520"/>
            <a:ext cx="9145800" cy="5850000"/>
          </a:xfrm>
          <a:prstGeom prst="rect">
            <a:avLst/>
          </a:prstGeom>
          <a:ln w="0">
            <a:noFill/>
          </a:ln>
        </p:spPr>
      </p:pic>
      <p:sp>
        <p:nvSpPr>
          <p:cNvPr id="218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0" name="Rectangle 2"/>
          <p:cNvSpPr/>
          <p:nvPr/>
        </p:nvSpPr>
        <p:spPr>
          <a:xfrm>
            <a:off x="57240" y="6093000"/>
            <a:ext cx="9848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” 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no 3 (June 1988):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1" name="Picture 7" descr="lew_l2jq[1]"/>
          <p:cNvPicPr/>
          <p:nvPr/>
        </p:nvPicPr>
        <p:blipFill>
          <a:blip r:embed="rId1"/>
          <a:stretch/>
        </p:blipFill>
        <p:spPr>
          <a:xfrm>
            <a:off x="6321600" y="1916280"/>
            <a:ext cx="2806560" cy="2590560"/>
          </a:xfrm>
          <a:prstGeom prst="rect">
            <a:avLst/>
          </a:prstGeom>
          <a:ln w="0">
            <a:noFill/>
          </a:ln>
        </p:spPr>
      </p:pic>
      <p:sp>
        <p:nvSpPr>
          <p:cNvPr id="2192" name="Text Box 3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Model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040F9A5A-10B0-4FEE-93E0-29C5249268E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/>
          </p:nvPr>
        </p:nvSpPr>
        <p:spPr>
          <a:xfrm>
            <a:off x="631800" y="1844640"/>
            <a:ext cx="561672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Existing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 external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 internal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ng in the global market-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/>
          </p:nvPr>
        </p:nvSpPr>
        <p:spPr>
          <a:xfrm>
            <a:off x="631440" y="1988640"/>
            <a:ext cx="817236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long-term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e, evaluate, and select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selected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ship and c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 &amp; evaluate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7" name="Text Box 3"/>
          <p:cNvSpPr/>
          <p:nvPr/>
        </p:nvSpPr>
        <p:spPr>
          <a:xfrm>
            <a:off x="577800" y="457200"/>
            <a:ext cx="80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Model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Rectangle 8"/>
          <p:cNvSpPr/>
          <p:nvPr/>
        </p:nvSpPr>
        <p:spPr>
          <a:xfrm>
            <a:off x="-44280" y="4830840"/>
            <a:ext cx="645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ed6b06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9A196C1D-FA0E-4C3B-9309-B0CEB5A5D6E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Text Box 3"/>
          <p:cNvSpPr/>
          <p:nvPr/>
        </p:nvSpPr>
        <p:spPr>
          <a:xfrm>
            <a:off x="488880" y="457200"/>
            <a:ext cx="862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Text Box 4"/>
          <p:cNvSpPr/>
          <p:nvPr/>
        </p:nvSpPr>
        <p:spPr>
          <a:xfrm>
            <a:off x="495360" y="2133720"/>
            <a:ext cx="8832960" cy="21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ic  benefit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proactive in shaping firm’s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tes and influences firm’s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to formulate better strategies that are systematic, logical, and  ra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8F8D338-1E4D-4104-B7E1-5AE8B5A4703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7" descr="gbjxruuh[1]"/>
          <p:cNvPicPr/>
          <p:nvPr/>
        </p:nvPicPr>
        <p:blipFill>
          <a:blip r:embed="rId1"/>
          <a:stretch/>
        </p:blipFill>
        <p:spPr>
          <a:xfrm>
            <a:off x="5556240" y="2060640"/>
            <a:ext cx="3573360" cy="3421080"/>
          </a:xfrm>
          <a:prstGeom prst="rect">
            <a:avLst/>
          </a:prstGeom>
          <a:ln w="0">
            <a:noFill/>
          </a:ln>
        </p:spPr>
      </p:pic>
      <p:sp>
        <p:nvSpPr>
          <p:cNvPr id="2206" name="Slide Number Placeholder 5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381014BA-0A35-41D8-AE92-5DFE3A83936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Text Box 2"/>
          <p:cNvSpPr/>
          <p:nvPr/>
        </p:nvSpPr>
        <p:spPr>
          <a:xfrm>
            <a:off x="488880" y="457200"/>
            <a:ext cx="804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i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Text Box 4"/>
          <p:cNvSpPr/>
          <p:nvPr/>
        </p:nvSpPr>
        <p:spPr>
          <a:xfrm>
            <a:off x="560520" y="2637000"/>
            <a:ext cx="7346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ment in s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ment in profi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vity impro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F7A8216B-ECD9-4E2A-94F7-83421D53C62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Slide Number Placeholder 5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052526ED-7D39-42B2-97C5-E32A440A3A6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Text Box 2"/>
          <p:cNvSpPr/>
          <p:nvPr/>
        </p:nvSpPr>
        <p:spPr>
          <a:xfrm>
            <a:off x="488880" y="45720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Text Box 3"/>
          <p:cNvSpPr/>
          <p:nvPr/>
        </p:nvSpPr>
        <p:spPr>
          <a:xfrm>
            <a:off x="415800" y="981000"/>
            <a:ext cx="883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nfinanci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4" name="Text Box 4"/>
          <p:cNvSpPr/>
          <p:nvPr/>
        </p:nvSpPr>
        <p:spPr>
          <a:xfrm>
            <a:off x="488880" y="2565360"/>
            <a:ext cx="8502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understanding of competitors’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d awareness of thre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employee produ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resistance to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d problem-prevention capa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9B70074-7FDD-48D7-8C0B-363F39630AA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 txBox="1"/>
          <p:nvPr/>
        </p:nvSpPr>
        <p:spPr>
          <a:xfrm>
            <a:off x="560520" y="1699920"/>
            <a:ext cx="8556480" cy="17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 &amp; science of formulating, implementing, and evaluating, cross-functional decisions that enable an organization to achieve its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ssence,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c pla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company’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ame pl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e : Strategic managemen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SM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used exchangeable with strategic plan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urpose of SM is to exploit and create new and different opportunity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morrow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DD59687-622C-4870-A5BA-44964388A00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Text Box 4"/>
          <p:cNvSpPr/>
          <p:nvPr/>
        </p:nvSpPr>
        <p:spPr>
          <a:xfrm>
            <a:off x="577800" y="457200"/>
            <a:ext cx="86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– 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321A31E-F80B-4775-A0C5-F35E39CC541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2"/>
          <p:cNvSpPr/>
          <p:nvPr/>
        </p:nvSpPr>
        <p:spPr>
          <a:xfrm>
            <a:off x="488880" y="457200"/>
            <a:ext cx="849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ccording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ordon Greenley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f Aston Business school in the united Kingdom S.M. offers the following benefits 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Text Box 3"/>
          <p:cNvSpPr/>
          <p:nvPr/>
        </p:nvSpPr>
        <p:spPr>
          <a:xfrm>
            <a:off x="495360" y="1773360"/>
            <a:ext cx="8832960" cy="37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lows for identification of opport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provides an objective view of management 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represents a framework for improved coordination &amp; control of activ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minimizes the negative effects of conditions &amp;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lows major decisions to better support established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lows more effective allocation of time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reduces resources and time to be spent in correcting erroneous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31EF4670-4C91-4445-94FD-2C364470563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Text Box 2"/>
          <p:cNvSpPr/>
          <p:nvPr/>
        </p:nvSpPr>
        <p:spPr>
          <a:xfrm>
            <a:off x="488880" y="457200"/>
            <a:ext cx="9417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Text Box 3"/>
          <p:cNvSpPr/>
          <p:nvPr/>
        </p:nvSpPr>
        <p:spPr>
          <a:xfrm>
            <a:off x="488880" y="1916280"/>
            <a:ext cx="8832960" cy="35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reates a framework for internal communication among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provides a basis for clarifying individual respons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encourages forward thin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provides a cooperative approach to tackling problems and opport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encourages a favorable attitude toward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gives a discipline to the management of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CFBCC82-1F33-40AE-8B12-6F35347E499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Text Box 3"/>
          <p:cNvSpPr/>
          <p:nvPr/>
        </p:nvSpPr>
        <p:spPr>
          <a:xfrm>
            <a:off x="631800" y="1197000"/>
            <a:ext cx="8183520" cy="42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why some firms are resistant to strategic planning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r reward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e-fighting (it deeply so busy in crisis mag. So  it has no  time to 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ef executives’ ori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access to neede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te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 expen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zines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Text Box 2"/>
          <p:cNvSpPr/>
          <p:nvPr/>
        </p:nvSpPr>
        <p:spPr>
          <a:xfrm>
            <a:off x="506520" y="457200"/>
            <a:ext cx="86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Why Some Firms Do No Strategic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04FE0BB-BDA0-4CFA-855B-7FA429851EA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Text Box 2"/>
          <p:cNvSpPr/>
          <p:nvPr/>
        </p:nvSpPr>
        <p:spPr>
          <a:xfrm>
            <a:off x="560520" y="4572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Why Some Firms Do No Strategic Planning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Text Box 3"/>
          <p:cNvSpPr/>
          <p:nvPr/>
        </p:nvSpPr>
        <p:spPr>
          <a:xfrm>
            <a:off x="584280" y="1905120"/>
            <a:ext cx="88326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r of fail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conf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bad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inte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r of the unkn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nest difference of opin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spi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AA99AB60-6226-4DAA-BFCC-64A834AD0C5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2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2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 Box 2"/>
          <p:cNvSpPr/>
          <p:nvPr/>
        </p:nvSpPr>
        <p:spPr>
          <a:xfrm>
            <a:off x="560520" y="45720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itfalls in Strategic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4" name="Text Box 3"/>
          <p:cNvSpPr/>
          <p:nvPr/>
        </p:nvSpPr>
        <p:spPr>
          <a:xfrm>
            <a:off x="584280" y="1905120"/>
            <a:ext cx="8832600" cy="22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Being aware of potential pitfalls of strategic planning and being prepared to address them is essential to suc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0790D24-E228-4A42-8498-2C8909FA268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2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Text Box 2"/>
          <p:cNvSpPr/>
          <p:nvPr/>
        </p:nvSpPr>
        <p:spPr>
          <a:xfrm>
            <a:off x="560520" y="457200"/>
            <a:ext cx="825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itfalls in Strategic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me pitfalls to watch out for and avoid in strategic planning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8" name="Text Box 3"/>
          <p:cNvSpPr/>
          <p:nvPr/>
        </p:nvSpPr>
        <p:spPr>
          <a:xfrm>
            <a:off x="560520" y="2349360"/>
            <a:ext cx="9138960" cy="30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ing it to gain control over decisions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ing it only to satisfy accreditation and regulatory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ing planning as unnecessary or unimpor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communicate the plan to employe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managers making many intuitive decisions th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flict with the formal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867111B-919F-49D1-95B9-D3729969A83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2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2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Text Box 2"/>
          <p:cNvSpPr/>
          <p:nvPr/>
        </p:nvSpPr>
        <p:spPr>
          <a:xfrm>
            <a:off x="493560" y="457200"/>
            <a:ext cx="9572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itfalls in Strategic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me pitfalls to watch out for and avoid in strategic planning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2" name="Text Box 3"/>
          <p:cNvSpPr/>
          <p:nvPr/>
        </p:nvSpPr>
        <p:spPr>
          <a:xfrm>
            <a:off x="488880" y="2276640"/>
            <a:ext cx="8921880" cy="255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managers not actively supporting the strategic planning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use plans as a standard for measuring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gating planning to a ‘planner’ rather than involving 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ng so formal in planning that flexibility and creativity are stif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create a collaborative climate supportive of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EE4663C-8F0D-496A-9538-851E183B2CD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2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2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Text Box 2"/>
          <p:cNvSpPr/>
          <p:nvPr/>
        </p:nvSpPr>
        <p:spPr>
          <a:xfrm>
            <a:off x="452520" y="457200"/>
            <a:ext cx="90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Guidelines for Effective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6" name="Text Box 3"/>
          <p:cNvSpPr/>
          <p:nvPr/>
        </p:nvSpPr>
        <p:spPr>
          <a:xfrm>
            <a:off x="495360" y="1700280"/>
            <a:ext cx="9137520" cy="20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the SM process as simple and non-routine  as possib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. must not become  rig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key role of strategists is to facilitate continuous  organizational learning and chang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 require trade –offs between long- range short –range orient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0E60558C-4545-4C4C-8658-CB3BF8BA5FD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2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2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Text Box 3"/>
          <p:cNvSpPr/>
          <p:nvPr/>
        </p:nvSpPr>
        <p:spPr>
          <a:xfrm>
            <a:off x="577800" y="457200"/>
            <a:ext cx="86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&amp;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0" name="Text Box 4"/>
          <p:cNvSpPr/>
          <p:nvPr/>
        </p:nvSpPr>
        <p:spPr>
          <a:xfrm>
            <a:off x="704880" y="2133720"/>
            <a:ext cx="8832960" cy="28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siness Ethic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ciples of conduct within organizations that guide decision making and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of Business Ethic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basis on which policies can be devised to guide daily behavior and decisions in the work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5DD1804-ACF3-4BDB-BFA1-8D9617080C5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Text Box 3"/>
          <p:cNvSpPr/>
          <p:nvPr/>
        </p:nvSpPr>
        <p:spPr>
          <a:xfrm>
            <a:off x="5778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&amp; Strategic Management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4" name="Text Box 4"/>
          <p:cNvSpPr/>
          <p:nvPr/>
        </p:nvSpPr>
        <p:spPr>
          <a:xfrm>
            <a:off x="631800" y="2637000"/>
            <a:ext cx="883296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d6b06"/>
                </a:solidFill>
                <a:latin typeface="Verdana"/>
              </a:rPr>
              <a:t>Good business ethics are prerequisite for good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378D186-5302-44F0-ADDD-BD370455902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M characteristic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415800" y="1557000"/>
            <a:ext cx="9088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not a reaction to short – term changes -------while it is a response to long –term perspectives (5-10 year or more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not a quantitative exercise-------- but it is a qualitative in nature and reflects a realistic imagination of how the future loo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not a normative statement of where the firm would like to be in the future --------while it is a road map which describes  the steps the firm should undertake to get the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ly it is  a set of practical ,well thought–out perspectives and actions  on how to deal with uncertainties  of the fut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Footer Placeholder 2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Slide Number Placeholder 3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2D160D75-3DAE-4BC1-BB6F-235545E28D6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of Savola Group in </a:t>
            </a:r>
            <a:r>
              <a:rPr b="1" lang="en-US" sz="2400" spc="-1" strike="noStrike" u="sng">
                <a:solidFill>
                  <a:srgbClr val="ed6b06"/>
                </a:solidFill>
                <a:uFillTx/>
                <a:latin typeface="Verdana"/>
              </a:rPr>
              <a:t>Saudi Arabia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tell the tru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fulfill our promises and oblig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honor our pledges to oth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commit to resolving conflicts with respect and objectiv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9" name="Footer Placeholder 4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0" name="Slide Number Placeholder 5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F60F07E-C247-498D-BEE9-5FF05BAE84B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/>
          </p:nvPr>
        </p:nvSpPr>
        <p:spPr>
          <a:xfrm>
            <a:off x="704520" y="2492280"/>
            <a:ext cx="817236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leading 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leading lab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m to the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ider t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mping flawed products on foreign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3B926F3-467E-4409-B04F-2F74F9B9FE2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3" name="Text Box 3"/>
          <p:cNvSpPr/>
          <p:nvPr/>
        </p:nvSpPr>
        <p:spPr>
          <a:xfrm>
            <a:off x="577800" y="4572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&amp;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ethical Business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4" name="Text Box 4"/>
          <p:cNvSpPr/>
          <p:nvPr/>
        </p:nvSpPr>
        <p:spPr>
          <a:xfrm>
            <a:off x="577800" y="1844640"/>
            <a:ext cx="8832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iness practices that are always considered unethical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/>
          </p:nvPr>
        </p:nvSpPr>
        <p:spPr>
          <a:xfrm>
            <a:off x="631440" y="2060640"/>
            <a:ext cx="817236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r product or service safe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equal opportunities for foreign wor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ring child la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AC2350AC-55A6-4742-942D-3C21E598885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Text Box 3"/>
          <p:cNvSpPr/>
          <p:nvPr/>
        </p:nvSpPr>
        <p:spPr>
          <a:xfrm>
            <a:off x="577800" y="4572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&amp;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ethical Business Practices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395280"/>
            <a:ext cx="9237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Natural Environment Perspect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ing ISO 14000 Certification to Gain Strategic Advantag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488880" y="2349360"/>
            <a:ext cx="83520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ISO 14000 &amp; 14001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for ISO 14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Management Systems (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4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Slide Number Placeholder 5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A3BF5AE7-9E7A-493C-87F4-21F18415CCB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1E7FFE9-CD66-4CBD-A18A-8F0449B6F86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14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SO 14000 Family is a series of guidance documents and standards to help organizations address environmental issues on air ,water, soil quality …….etc. </a:t>
            </a:r>
            <a:br>
              <a:rPr sz="2400"/>
            </a:b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394920" y="1916280"/>
            <a:ext cx="910908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1: Environmental Management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4: EMS general guide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10: Guidelines for Environmental Aud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11: Guidelines for Auditing of an 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12: Auditing - Qualific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20: Environmental Lab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30: Env. Performance Evaluation (EP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40: Life-Cycle Assessment (L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887CFC51-4EEB-4372-A5D6-6DEE3527E1F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Environmental Management System (EMS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 14001 is the specification standard that is a model for an environmental management system (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S is a systematic way of managing an organization’s environmental affai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focused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ontinual Improvemen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ddresses immediate and long-term impact of an organization’s products, services and processes on the 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tool to improve environmental performanc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4C4CF08E-9EB5-45C1-863C-BD138FB7C82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090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quirements </a:t>
            </a: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for ISO 14001; </a:t>
            </a:r>
            <a:br>
              <a:rPr sz="2400"/>
            </a:br>
            <a:r>
              <a:rPr b="1" lang="en-GB" sz="2400" spc="-1" strike="noStrike" u="sng">
                <a:solidFill>
                  <a:srgbClr val="ed6b06"/>
                </a:solidFill>
                <a:uFillTx/>
                <a:latin typeface="Verdana"/>
              </a:rPr>
              <a:t>To achieve certification in terms of ISO 14001, a company needs to undertake a series practices by which organization can perform the EMS :-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394920" y="1989000"/>
            <a:ext cx="9109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ss the environmental impacts of its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 an environmental policy that includes commitments to prevention of pollution – continuous improvement – compliance with all applicable requirem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environment objectives and target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ablish and maintain an environmental managemen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lement procedures for training employees, establishing work instructions , and practice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4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0ADD136C-7914-4C8B-9F02-1FA829E5C62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itor, measure and communicate its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take environmental audits and management revie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ke correction actions to overcome the occurrence of any deviations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8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B4280DFE-FA60-420E-A09C-BFEEF4DABCE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y implementing ISO 14000, any company can become truly competitive through the following :- </a:t>
            </a:r>
            <a:br>
              <a:rPr sz="2400"/>
            </a:b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91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ing costs through increased efficien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ng and maintaining new market opportunities in areas such as Europe, which may make registration to the standards a necessary condition of doing business within their specification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ng environmental leadersh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 both its own corporate image and community goodwi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amlining/simplifying its 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8D20E6A9-9D21-4752-BB9A-A119DABEFC2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9109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b73a18"/>
                </a:solidFill>
                <a:latin typeface="Verdana"/>
              </a:rPr>
              <a:t>to succeed in business today it means to succeed in the international competition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95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6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BF6BE6BC-C0D3-4EAF-B827-C7A1FD2D690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659880" y="1752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8EF237E-55FF-42C4-8DB6-34269F3F6B6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0" name="Text Box 2"/>
          <p:cNvSpPr/>
          <p:nvPr/>
        </p:nvSpPr>
        <p:spPr>
          <a:xfrm>
            <a:off x="560520" y="1143000"/>
            <a:ext cx="833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management achieves a firm’s success through integration:</a:t>
            </a:r>
            <a:r>
              <a:rPr b="0" lang="en-US" sz="20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Rectangle 4"/>
          <p:cNvSpPr/>
          <p:nvPr/>
        </p:nvSpPr>
        <p:spPr>
          <a:xfrm>
            <a:off x="1403280" y="3048120"/>
            <a:ext cx="338472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Rectangle 5"/>
          <p:cNvSpPr/>
          <p:nvPr/>
        </p:nvSpPr>
        <p:spPr>
          <a:xfrm>
            <a:off x="4788000" y="4191120"/>
            <a:ext cx="3384360" cy="60948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Rectangle 6"/>
          <p:cNvSpPr/>
          <p:nvPr/>
        </p:nvSpPr>
        <p:spPr>
          <a:xfrm>
            <a:off x="4788000" y="3581280"/>
            <a:ext cx="338436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duction/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Rectangle 7"/>
          <p:cNvSpPr/>
          <p:nvPr/>
        </p:nvSpPr>
        <p:spPr>
          <a:xfrm>
            <a:off x="1403280" y="3581280"/>
            <a:ext cx="3384720" cy="60984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nce/Ac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4788000" y="3048120"/>
            <a:ext cx="3384360" cy="53316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Rectangle 9"/>
          <p:cNvSpPr/>
          <p:nvPr/>
        </p:nvSpPr>
        <p:spPr>
          <a:xfrm>
            <a:off x="1403280" y="4191120"/>
            <a:ext cx="338472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earch &amp;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Oval 10"/>
          <p:cNvSpPr/>
          <p:nvPr/>
        </p:nvSpPr>
        <p:spPr>
          <a:xfrm>
            <a:off x="247680" y="2209680"/>
            <a:ext cx="9327960" cy="3505320"/>
          </a:xfrm>
          <a:prstGeom prst="ellipse">
            <a:avLst/>
          </a:prstGeom>
          <a:noFill/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522D66D-FBBE-40D2-B94E-6882BA1D135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0" name="Text Box 4"/>
          <p:cNvSpPr/>
          <p:nvPr/>
        </p:nvSpPr>
        <p:spPr>
          <a:xfrm>
            <a:off x="577800" y="457200"/>
            <a:ext cx="86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/>
          </p:nvPr>
        </p:nvSpPr>
        <p:spPr>
          <a:xfrm>
            <a:off x="560160" y="2808360"/>
            <a:ext cx="842004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 company  ….refers to a firm investing in international oper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st  country…….refers to the country where that business is conduc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8" name="Picture 6" descr="zkadz4f0[1]"/>
          <p:cNvPicPr/>
          <p:nvPr/>
        </p:nvPicPr>
        <p:blipFill>
          <a:blip r:embed="rId1"/>
          <a:stretch/>
        </p:blipFill>
        <p:spPr>
          <a:xfrm>
            <a:off x="6824520" y="4724280"/>
            <a:ext cx="2907000" cy="1641600"/>
          </a:xfrm>
          <a:prstGeom prst="rect">
            <a:avLst/>
          </a:prstGeom>
          <a:ln w="0">
            <a:noFill/>
          </a:ln>
        </p:spPr>
      </p:pic>
      <p:sp>
        <p:nvSpPr>
          <p:cNvPr id="2299" name="Text Box 3"/>
          <p:cNvSpPr/>
          <p:nvPr/>
        </p:nvSpPr>
        <p:spPr>
          <a:xfrm>
            <a:off x="433440" y="457200"/>
            <a:ext cx="87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Global Compet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Text Box 4"/>
          <p:cNvSpPr/>
          <p:nvPr/>
        </p:nvSpPr>
        <p:spPr>
          <a:xfrm>
            <a:off x="488880" y="1197000"/>
            <a:ext cx="88329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national/multinational organizations ------ refers to organizations that conduct business operations across national bord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0E4DEF1-894C-4B4C-BF66-0AD299ED842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0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Global completion and strategic management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ategic management  process is </a:t>
            </a:r>
            <a:r>
              <a:rPr b="1" lang="en-US" sz="2000" spc="-1" strike="noStrike" u="sng">
                <a:solidFill>
                  <a:srgbClr val="ed6b06"/>
                </a:solidFill>
                <a:uFillTx/>
                <a:latin typeface="Verdana"/>
              </a:rPr>
              <a:t>conceptu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same for international/multinational  as for domestic firms however  </a:t>
            </a:r>
            <a:r>
              <a:rPr b="1" lang="en-US" sz="2000" spc="-1" strike="noStrike" u="sng">
                <a:solidFill>
                  <a:srgbClr val="ed6b06"/>
                </a:solidFill>
                <a:uFillTx/>
                <a:latin typeface="Verdana"/>
              </a:rPr>
              <a:t>practic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t is more complex for the following reasons 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ence of more variables and 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 social , cultural,  demographics ,political, governmental, legal , technological and competitive  opportunities and threats  are address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time and efforts  are required to identify and evaluate external trends and ev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munication between domestic headquarter and overseas operation is more diffic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5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6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4763BB54-B3C0-4A1C-AEEF-EC6E510C57A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Slide Number Placeholder 3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0E7E2436-5DFF-4FDD-BC51-14606012C71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Text Box 2"/>
          <p:cNvSpPr/>
          <p:nvPr/>
        </p:nvSpPr>
        <p:spPr>
          <a:xfrm>
            <a:off x="577800" y="45720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dvantages of International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9" name="Text Box 3"/>
          <p:cNvSpPr/>
          <p:nvPr/>
        </p:nvSpPr>
        <p:spPr>
          <a:xfrm>
            <a:off x="584280" y="1844640"/>
            <a:ext cx="8832600" cy="35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orb excess capacity/reduce un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 the product life 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cost production 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s intense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ead risk over wider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0" name="Picture 4" descr="cncpxufm[1]"/>
          <p:cNvPicPr/>
          <p:nvPr/>
        </p:nvPicPr>
        <p:blipFill>
          <a:blip r:embed="rId1"/>
          <a:stretch/>
        </p:blipFill>
        <p:spPr>
          <a:xfrm>
            <a:off x="7118280" y="3860640"/>
            <a:ext cx="2127240" cy="2000520"/>
          </a:xfrm>
          <a:prstGeom prst="rect">
            <a:avLst/>
          </a:prstGeom>
          <a:ln w="0">
            <a:noFill/>
          </a:ln>
        </p:spPr>
      </p:pic>
      <p:sp>
        <p:nvSpPr>
          <p:cNvPr id="231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99842F9-B5C8-4EAF-BCA6-99189D0C569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2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2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Slide Number Placeholder 3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B22DD6C-BB98-4E89-BEA4-BAB0E73D528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4" name="Text Box 2"/>
          <p:cNvSpPr/>
          <p:nvPr/>
        </p:nvSpPr>
        <p:spPr>
          <a:xfrm>
            <a:off x="577800" y="457200"/>
            <a:ext cx="89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dvantages of International Operations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Text Box 3"/>
          <p:cNvSpPr/>
          <p:nvPr/>
        </p:nvSpPr>
        <p:spPr>
          <a:xfrm>
            <a:off x="584280" y="1851120"/>
            <a:ext cx="8832600" cy="28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lower tax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int ventures to build networks and 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eign government incen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omies 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6" name="Picture 4" descr="cncpxufm[1]"/>
          <p:cNvPicPr/>
          <p:nvPr/>
        </p:nvPicPr>
        <p:blipFill>
          <a:blip r:embed="rId1"/>
          <a:stretch/>
        </p:blipFill>
        <p:spPr>
          <a:xfrm>
            <a:off x="7113600" y="3860640"/>
            <a:ext cx="2127240" cy="2000520"/>
          </a:xfrm>
          <a:prstGeom prst="rect">
            <a:avLst/>
          </a:prstGeom>
          <a:ln w="0">
            <a:noFill/>
          </a:ln>
        </p:spPr>
      </p:pic>
      <p:sp>
        <p:nvSpPr>
          <p:cNvPr id="231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92F9D96-57CD-437C-901C-376CEFF2302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Slide Number Placeholder 5"/>
          <p:cNvSpPr/>
          <p:nvPr/>
        </p:nvSpPr>
        <p:spPr>
          <a:xfrm>
            <a:off x="1639800" y="6740640"/>
            <a:ext cx="2808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Slide Number Placeholder 5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8E96526-4EFF-4032-833D-FA8E6216C77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1" name="Text Box 2"/>
          <p:cNvSpPr/>
          <p:nvPr/>
        </p:nvSpPr>
        <p:spPr>
          <a:xfrm>
            <a:off x="577800" y="45720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Disadvantages of International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Text Box 3"/>
          <p:cNvSpPr/>
          <p:nvPr/>
        </p:nvSpPr>
        <p:spPr>
          <a:xfrm>
            <a:off x="631800" y="1557360"/>
            <a:ext cx="8832960" cy="36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commun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estimate foreign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al barriers to effectiv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 understanding of regional trade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ications arising from currency dif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market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08243D7-781E-4DC9-9752-D81C9884E31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The End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75556063-F492-4A02-941A-D9C7489E693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ages of strategic management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2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SM process consists of three main stag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y formul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y implement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y evolu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3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4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4BF3A2B2-8397-45F4-850B-488CF633F3C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 txBox="1"/>
          <p:nvPr/>
        </p:nvSpPr>
        <p:spPr>
          <a:xfrm>
            <a:off x="659880" y="1752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75EBA6C-E453-4DF0-BC1F-24CC961C155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7" name="Rectangle 4"/>
          <p:cNvSpPr/>
          <p:nvPr/>
        </p:nvSpPr>
        <p:spPr>
          <a:xfrm>
            <a:off x="4540320" y="2448000"/>
            <a:ext cx="4209840" cy="3808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ision &amp; 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8" name="Oval 10"/>
          <p:cNvSpPr/>
          <p:nvPr/>
        </p:nvSpPr>
        <p:spPr>
          <a:xfrm>
            <a:off x="907920" y="1228680"/>
            <a:ext cx="4044960" cy="10666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tegy For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Rectangle 11"/>
          <p:cNvSpPr/>
          <p:nvPr/>
        </p:nvSpPr>
        <p:spPr>
          <a:xfrm>
            <a:off x="4521240" y="4292640"/>
            <a:ext cx="4209840" cy="3808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ternal Opportunities &amp; Threa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0" name="Rectangle 12"/>
          <p:cNvSpPr/>
          <p:nvPr/>
        </p:nvSpPr>
        <p:spPr>
          <a:xfrm>
            <a:off x="4540320" y="3666960"/>
            <a:ext cx="4209840" cy="3812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rnal Strengths &amp;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1" name="Rectangle 13"/>
          <p:cNvSpPr/>
          <p:nvPr/>
        </p:nvSpPr>
        <p:spPr>
          <a:xfrm>
            <a:off x="4521240" y="2997360"/>
            <a:ext cx="4209840" cy="3808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ng-Term Objectiv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Rectangle 14"/>
          <p:cNvSpPr/>
          <p:nvPr/>
        </p:nvSpPr>
        <p:spPr>
          <a:xfrm>
            <a:off x="4540320" y="4886280"/>
            <a:ext cx="4209840" cy="3808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lternative Strateg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Rectangle 15"/>
          <p:cNvSpPr/>
          <p:nvPr/>
        </p:nvSpPr>
        <p:spPr>
          <a:xfrm>
            <a:off x="4540320" y="5495760"/>
            <a:ext cx="4209840" cy="3812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rategy Sel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Line 17"/>
          <p:cNvSpPr/>
          <p:nvPr/>
        </p:nvSpPr>
        <p:spPr>
          <a:xfrm>
            <a:off x="2806560" y="2295360"/>
            <a:ext cx="0" cy="342900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5" name="Line 18"/>
          <p:cNvSpPr/>
          <p:nvPr/>
        </p:nvSpPr>
        <p:spPr>
          <a:xfrm>
            <a:off x="2806560" y="572436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6" name="Line 19"/>
          <p:cNvSpPr/>
          <p:nvPr/>
        </p:nvSpPr>
        <p:spPr>
          <a:xfrm>
            <a:off x="2806560" y="267660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Line 20"/>
          <p:cNvSpPr/>
          <p:nvPr/>
        </p:nvSpPr>
        <p:spPr>
          <a:xfrm>
            <a:off x="2806560" y="389556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Line 21"/>
          <p:cNvSpPr/>
          <p:nvPr/>
        </p:nvSpPr>
        <p:spPr>
          <a:xfrm>
            <a:off x="2806560" y="450540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Line 22"/>
          <p:cNvSpPr/>
          <p:nvPr/>
        </p:nvSpPr>
        <p:spPr>
          <a:xfrm>
            <a:off x="2806560" y="503856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Line 23"/>
          <p:cNvSpPr/>
          <p:nvPr/>
        </p:nvSpPr>
        <p:spPr>
          <a:xfrm>
            <a:off x="2806560" y="328608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A43B583-1AB5-4FFC-9B31-E7FC8FA6699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3" name="Text Box 4"/>
          <p:cNvSpPr/>
          <p:nvPr/>
        </p:nvSpPr>
        <p:spPr>
          <a:xfrm>
            <a:off x="577800" y="457200"/>
            <a:ext cx="86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process  step:1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 txBox="1"/>
          <p:nvPr/>
        </p:nvSpPr>
        <p:spPr>
          <a:xfrm>
            <a:off x="659880" y="149544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5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FC34C920-1E70-4EF4-ABD6-F169CDDC3BE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6" name="Oval 4"/>
          <p:cNvSpPr/>
          <p:nvPr/>
        </p:nvSpPr>
        <p:spPr>
          <a:xfrm>
            <a:off x="631800" y="1341360"/>
            <a:ext cx="4292640" cy="106704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tegy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Imple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7" name="Rectangle 5"/>
          <p:cNvSpPr/>
          <p:nvPr/>
        </p:nvSpPr>
        <p:spPr>
          <a:xfrm>
            <a:off x="4429080" y="2941560"/>
            <a:ext cx="421020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nual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8" name="Line 10"/>
          <p:cNvSpPr/>
          <p:nvPr/>
        </p:nvSpPr>
        <p:spPr>
          <a:xfrm>
            <a:off x="2695680" y="2408400"/>
            <a:ext cx="0" cy="312408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9" name="Line 11"/>
          <p:cNvSpPr/>
          <p:nvPr/>
        </p:nvSpPr>
        <p:spPr>
          <a:xfrm>
            <a:off x="2695680" y="553248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0" name="Line 13"/>
          <p:cNvSpPr/>
          <p:nvPr/>
        </p:nvSpPr>
        <p:spPr>
          <a:xfrm>
            <a:off x="2695680" y="400860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1" name="Line 16"/>
          <p:cNvSpPr/>
          <p:nvPr/>
        </p:nvSpPr>
        <p:spPr>
          <a:xfrm>
            <a:off x="2695680" y="324648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2" name="Rectangle 17"/>
          <p:cNvSpPr/>
          <p:nvPr/>
        </p:nvSpPr>
        <p:spPr>
          <a:xfrm>
            <a:off x="4429080" y="3703680"/>
            <a:ext cx="421020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licies &amp;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Rectangle 18"/>
          <p:cNvSpPr/>
          <p:nvPr/>
        </p:nvSpPr>
        <p:spPr>
          <a:xfrm>
            <a:off x="4429080" y="4465800"/>
            <a:ext cx="421020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mployee Mo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Rectangle 19"/>
          <p:cNvSpPr/>
          <p:nvPr/>
        </p:nvSpPr>
        <p:spPr>
          <a:xfrm>
            <a:off x="4429080" y="5227560"/>
            <a:ext cx="421020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ource Al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5" name="Line 20"/>
          <p:cNvSpPr/>
          <p:nvPr/>
        </p:nvSpPr>
        <p:spPr>
          <a:xfrm>
            <a:off x="2695680" y="477036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4878CEC-2E20-4401-8754-1565D9E9648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Text Box 3"/>
          <p:cNvSpPr/>
          <p:nvPr/>
        </p:nvSpPr>
        <p:spPr>
          <a:xfrm>
            <a:off x="495360" y="457200"/>
            <a:ext cx="61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process step :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23Z</dcterms:created>
  <dc:creator>rosimerr</dc:creator>
  <dc:description>Built by: www.mediasterling.com</dc:description>
  <dc:language>en-US</dc:language>
  <cp:lastModifiedBy>Default</cp:lastModifiedBy>
  <dcterms:modified xsi:type="dcterms:W3CDTF">2012-09-14T13:41:47Z</dcterms:modified>
  <cp:revision>16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4</vt:lpwstr>
  </property>
</Properties>
</file>