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wmf" ContentType="image/x-wmf"/>
  <Override PartName="/ppt/media/image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172B-5EA0-4B74-A4E3-0ADEDFE0C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8984-6C16-4F8A-8799-4367E5F0F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692D-4305-4403-A761-D9601A717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1C97-C7E9-41AF-8802-84591C054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F993-1218-4018-AACC-90666D627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4468-E36E-4EE5-B5C0-0E3AAD3A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3868-1B13-47D5-BB9B-54182FCC2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C4AF-75D7-4E07-A5AA-48009736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2269-7A47-490C-B73F-338DB526C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FDC-968E-488F-A04C-633970278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4D8F-AC06-4FAF-B538-107D526A3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E22EF-6C9F-4867-8CB8-FDE4CB5F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7EB2-A17A-49F4-A202-AF6B84BFF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FECF-0A6A-4EA1-8ADD-7AC0B9388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E846-6812-484D-B23F-DDD8BC05D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323A-F282-474A-AA7C-3A4F34C99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60EA9-70BF-4519-8E6E-27AC0CD8A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10001-FC5F-4E25-A1D2-6749135F5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5531-D604-497E-8692-B0AC9A68F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13A5-C5FF-43CF-85FD-C26AD6CAF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947E-FD65-4CB4-A9C8-EDAC08A3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E7E55-6531-476D-8BBA-425DC02916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BD42-ECB5-4AC0-A7F1-B053B89785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BFEF9-CC9B-462E-B2A5-C9D64D2DE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43D7E-1706-499F-BCD9-E58031C41E0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8BFA47-8716-4881-BB25-9403586FBE8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B2A0F7-39C3-4426-AFCC-35F8CC98C92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A7ADF-E876-4C79-BBCB-114B76BD5046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BE58C-1BA9-4C3A-AD0A-35454913C5D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CE281-4189-4763-98AF-B5FF9D0F670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D7767B-E0C3-4B5A-BF7D-CE68755DF3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C07EA5-6A7C-416C-83F6-984B1274B47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81F88-D28B-4CCB-93D9-DA029A2FBC1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EFD54-F9F1-41AA-AE36-476091495BC1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F316EC-EBCB-48F6-9A6F-BDBFBE52E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B0CE8-51DB-449A-A9D3-02AA44A976D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94662A-00B0-4782-882B-CC2CFA36BEC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F2C369-0F1A-4FEF-AE12-D6C32CD45A4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D3F721-C8BD-4EDF-875F-E2D658CE9F0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B3CC68-9E8C-461C-9E53-C5B79B47DF4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4222BE-F1CA-4D0E-8E5B-22690FA8228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5AFDB5-ADC5-43DC-ADCB-519DC407088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CBD01C-8246-496D-AEAE-BF8504DA65C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9C72F2-99C0-476A-8BF9-F15D68A37F9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4DD43-9680-4260-A90A-D49AB32F9F0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0D49E4-2F4B-40DC-A47D-159C2667BF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62A1-909E-4F62-87C2-F14F2F046E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F0416-ACD8-4FF7-B219-689D9A8C30F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C8027-76FE-42DC-AF37-5048C10525C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CF8B4C-C0CA-44EA-8BC1-C8F2703FB6D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987-351B-4390-9ACE-1544F45AA3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12D0-E3DD-4379-8505-33CD57D8204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D0C684-D4E9-44AD-9592-8C517258003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3F5054-13B0-4ABA-B0A9-686AE087E75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094587-42EF-4F5E-81A2-824EC0CC0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722C-F191-4293-8C32-16FEF7F147B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C9307B-E877-453D-9505-E1C39E6B2F0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732F74-A715-49E4-8F94-60E9FB0B8FE2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EC9AB0-07AA-4D70-A9C8-2BC8C2BF879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3E9C08-2410-4A39-BD1C-44E5E96A6F0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0CAE7-CE30-4C01-83F2-0A92081AFDA1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DF1F0-67FA-4327-BB89-123E354B78F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F7483-3600-49C2-9494-34A87DA7A7E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2384E8-225D-46B4-88B8-4C00C615F38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E46398-2CF5-4A47-B6C9-C7041D0323F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F45C43-2CB2-4EE1-A2DF-C41C2485EA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9A21-6FBF-4533-8E39-9FC4CEF2B46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06C25B-8D3A-44AD-8329-78DEB92DB73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6E619B-D609-440B-BD13-6DCBFC8FCC36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F2D785-2A75-4C9D-961C-D19C3D7B52D2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86295A-3D4D-4DBB-A12F-41336825ECA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49BCF2-C420-4FF9-9998-26BF4FD7539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78310D-E4DC-4445-86A5-D1860E6CBA3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33E0E1-7979-471E-B8F9-1C2146E0335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06D21-616B-4E0C-BBC3-86CEFC6BC6F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F50A8A-CEEF-401B-8BC1-793FC09A447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4B38B7-F957-420D-8597-96D57DB9F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249F-F757-4641-B57E-A952F111DAD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9A10B7-190F-4FDC-A2AD-76875D27F96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85895-56B0-46E2-A68B-8218711E246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578F3-BDDC-4775-A622-DD3ACD9AE06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E0092-F800-4F49-AD07-467F0F908F6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A865E-3EF8-4919-AECB-07D00B15BD1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D8A33-F7CC-4AAC-AA16-DCA2FD0CF30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F8B7-729F-48EA-AC3A-F58BB257B77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264A1-1D67-4FEE-A718-C6A1D7F9557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46545-3CD7-499A-99A0-6393A40FF83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F18B02-6600-4467-A9EB-ED85DC07F2E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7F98-338F-473A-89F8-6745BA264EDB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E797-4F8D-4D10-95CE-83FEAD8F0885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47907-9BB5-4B5D-B057-F03FD4C05BF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6213D-4FD7-4915-9D94-A172A21C3E6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5382F6-750A-40BF-A968-9F763C9A4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75036F-AAA6-4D6D-BC36-28981B7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0C32FD-F9A4-4417-A417-16D4ED49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2137B-B321-4C30-87D1-0D62FEA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47FFD-BB86-4683-880C-AC62528D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5A5F46-2E5F-4793-A024-EC9F89C3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24BE0B-F14B-4B2E-8ABD-F486F532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800F9-B697-43FD-8B5E-E3F6E12C1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6C5-07B5-4CCB-BA14-75C1CA5A214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26BBD-58ED-4238-867C-119BE7CA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A9650-07AF-4890-9FEB-A1EA5BB8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D03B3F-DC06-4995-BAD9-4D23FEE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9834F3-D575-4159-AF3D-86276360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8DB88D-6565-475D-AC01-79B98E26A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1DA-7A59-4FCD-8ED6-808FA4C75350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63A47F-F0F2-4088-8BB6-EE9ECDA7567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CB712-E1D5-4B9B-8D18-86FAA985529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DE12C8-200B-4F4D-B33F-9076A29E6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02FB-D17E-44F2-ADFA-242890CC0EC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4DE52-D7AA-4C3E-ACFF-2B540884A32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23B576-1012-46F4-AFF7-C010F51CCE2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F6BA23-9141-4368-A34B-66744264B5C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DC6860-B119-4C2F-835D-D799FB0F9B0E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2C3F8-72D2-40DB-B605-23F168AFB75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35D3E4-8F54-43D9-8D44-E6DFE06635B8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E7281-32DB-4D73-A8D5-1DD073531C3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171633-A399-4188-AC66-EC7BBBB75AA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773F4-8E4C-45D0-B790-114D06FE5C0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18587B-46A5-4D41-97F8-139F7A0DBF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24EF-FE77-4674-AC80-105731B7224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FEF41-EEA3-49A2-8A85-C4C016AA1A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B28A7B-529D-416C-A398-BB162CB96FED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5F0DA1-ED9B-4911-B571-A83B4A4586D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349B78-931E-4364-98FC-ECA6AA6B8A8F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E95AA-F719-42EF-B02A-CF51F4929791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5C11E2-9F7D-4BC6-B0BC-F79A5F7D561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96859-86BE-4F39-A4AD-DCDB5542449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6757A-6B42-49F9-83D5-2C81E6BBBF9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EFC6FE-8A67-41BF-8EF3-6F41DB8BD636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B9B62B-7004-4E8F-843F-D8C405C08A1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3BA-3C51-4744-A5F4-5F09D4E22F6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E81AF-541B-41C1-9E6B-8F0ABCD44B6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DB96727-549F-4442-AD8F-C3AFFC26068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9D72C7-E8A1-4E68-8A7E-2F8AF7990E5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1093F5-B1B7-48F4-B002-EC6ADFDACC6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5D9659-6312-452D-A0FE-D7BB6A43BC8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C9AB45-DEF5-466B-B88A-9E53E8FE121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BA8A59-8AC4-4614-9B8F-16C52F4A7EFF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774311-AE21-4AF8-8FB7-8C438577E55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1DADE1-2EB6-4625-9B2E-87351036AA0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D131CB-1019-4684-B15C-89E16624FEA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A268-04DE-451C-8DCC-EAC02A9C261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03DA5C-0EE4-4EA5-AB3C-C22A8C9E9A0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F0DF2EA-DDE3-4E86-ACBE-D6B80F209E8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67B1B1-0E08-45D3-909E-611418F83F1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20ED0-6E45-4E3D-8B6D-260D5F607924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EC204-6776-4C45-A572-81664CA0EEAD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3C944-51D3-400B-B44E-FA793A3C8CA3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9668D-C41D-4B8C-89B5-43D1D5DB8F29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FAB8E-0095-4926-BA8C-F31F56B75E0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59540-6E36-4F54-A898-7F1B62F4DA5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F3393-283E-4FA5-B858-6093773D55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1CD9-1A9B-4EC2-AF11-F6309035F55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0DF86-888D-4F59-AAC9-6A5C792A493E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1BFF0-22F3-4300-8D22-66116199C9B0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AC4C0-A08D-4E27-BE59-35F170CFD083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53C3B-884E-4645-8C25-C0BBE9B80B9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019E6-606C-4863-92B9-C760E11BEFB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8EBCDE-B879-4610-B10F-50445AB4634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CB96D9-1DF1-48C4-80F5-9C696E48DF5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E9AA0F1-D127-42BD-B9AB-D00CEF9718BF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BAF404B-8C69-4287-B0E8-CFACA7E0B94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349F78-2070-4F8A-84F2-9398F1428E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6066B-41D4-4308-B1BE-D420F08C484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57BBEC7-6DA7-436F-AFD7-09C288302FA6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743CEC-EA67-44A0-A579-A8424EFA405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A5E6E6-99A7-43E8-8B6B-AF1D2E1C51FF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67D249-E79D-4B98-9428-CC028907D8F2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78A7B5-72F2-4FC0-85CE-D06DF49B247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D0A1EA-AD9D-4320-BF5F-C37FD887619B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E1A7B7-48EF-4ED6-8C67-71655827A344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EAB75E-2485-4335-A486-0DE7AE347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5AEBF6F-6B42-451F-AF03-A504CFDE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3D6BE4-6851-44FA-8B2D-64018885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3C546-1E39-4D70-B700-E7A389035DDF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E0A8F5-C4D4-4C8C-9C65-4C6D7E586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F6C0E5-ED83-4D61-8C13-A1DB56C5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1D5A45-C543-43F9-BBD9-91DA0C69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25679A1-DEFD-46D9-8E20-9720D066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D79AE3-A6D5-4BAA-94F8-8F89FC6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AA7B61-E8C6-44C1-A506-5263EF58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37B0B5A-01B9-43C4-9385-BAAC2560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660736-6344-4A7E-8E5D-6270F2A4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FEAE444-5CB9-4A91-B4C7-B856C5DD5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24EC-C8BF-4DBC-BCCC-DF9C21E82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19339-62EE-4343-AEC9-5FCD39A9A8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7BB2-148D-40A2-B4F5-16F910F79E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F8FC-DE21-47F8-B326-D4D6A825C3F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B8CF-F9BA-465F-AA84-84EFAAAE2CB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256CE-4D11-4981-ABBE-541FDDA13C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596B-93DE-4472-B1DA-B6DA6D47C2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033F-49BD-4D92-923D-649FACB403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DE29-7FAC-43BF-977B-8BCB775DD6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8D22-FA33-48AC-9CC9-6E0AD3B3FFA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20452-10DF-4794-AD00-C167A48610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18FBB-FE37-4638-8B44-1469C0B91D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77754-E500-45E6-91D1-F86DA2A4AC4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808A7-DE8A-47D6-A023-A0B8399247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A02EFB-A123-4FE1-BFCD-23EB6B66181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E476E2-A1BC-4076-9627-9E0F3D23CC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C37442-CC7D-4F40-8FD1-9876082579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873CA-C755-4A78-8B49-7227F30A0C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C7A34-B408-476D-8D5A-CFE846F70C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41875-9902-42B3-9C0A-E1E25AA8F55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04AB11-2F8D-4CCA-97EB-CB14F1BC3FD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18A287-BD7B-428A-927C-275E359D2E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BFEF6-EAA9-47BF-8210-60263373E9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9A2979-99C8-4228-A885-A6C8C55391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AAFD6-3CF5-45D2-85F4-3FFB53DE736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B4570E-8FF7-4159-9F95-252AF61C1B2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112F60-D44F-40CD-822E-A1D199F4EC8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74C94-DACF-40A4-9F13-88F7591CA33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EB7F8E-0561-4A6A-AE2B-620DA614560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E8A1CF-9E03-4FC0-9EDC-72BEC640DDF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EF2CCD-3589-46C1-AEA4-505AF28CEDF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2E6DA5-62B2-45AF-A378-11795D79B1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2A7CE3-D494-4277-A9DC-929316F03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0D554-03BD-4E8D-962F-A913DBD4B88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DE09B9-1D73-4484-831D-D81848612BA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5E7B71-B0F1-42FF-AE6A-091BC8920A3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116960-199C-4251-AF7E-6C1EB707F72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49CBA-619A-4186-B3E4-03B71F39C83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4DE708-2E7D-456E-A382-A70969C01C5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3B88F-2752-447C-B7C9-E4A3DCAD28D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E8CBDE-A8C6-40F4-9660-4B9BA8F2568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F00E13-9D70-454C-B980-FD4BC6A60F8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2EA640-AE1B-4EE0-A69E-06D141536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963BC-F658-4A26-8376-424E29F44C9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365040" y="395280"/>
            <a:ext cx="84074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1C3643-45A8-4010-B350-8FDF6448481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EB030-35C3-4587-A4CB-A3E0D9EA965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2C8DB-355E-4E55-8E40-FC2F4C04F82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C1D6D3-6E26-4E8D-8A4F-9DCA875C93A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65040" y="3910320"/>
            <a:ext cx="8407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B827F-84BC-4118-8F6D-07E059D3B6B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154620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6504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3160" y="3910320"/>
            <a:ext cx="41025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551372-0FB0-49E9-8391-A848A504074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0760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50160" y="154620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36504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0760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50160" y="3910320"/>
            <a:ext cx="270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40ECAF-10D3-4811-BBF7-9D9AEE3B5FC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3A07AE06-18E6-4176-BD10-90ABFDAA4E8D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ftr" idx="13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sldNum" idx="14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678C-8100-471F-AC82-434EF53EC121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ftr" idx="1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1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DFFC-44F0-4F0D-95FC-899A92C50273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42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509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Num" idx="17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33E45E24-7AED-41A5-A7AF-1189D87B60F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18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sldNum" idx="19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F26E00D6-25A5-443F-81B3-CC52087A5A1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2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Num" idx="2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5 -</a:t>
            </a:r>
            <a:fld id="{23BC1B59-261D-403F-900A-86BB6FBF0B2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2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2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2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D116-4D33-4158-A807-B4B4A940BC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7" descr="Pearson_Bound_White"/>
          <p:cNvPicPr/>
          <p:nvPr/>
        </p:nvPicPr>
        <p:blipFill>
          <a:blip r:embed="rId2"/>
          <a:stretch/>
        </p:blipFill>
        <p:spPr>
          <a:xfrm>
            <a:off x="7783560" y="6496200"/>
            <a:ext cx="1190520" cy="223560"/>
          </a:xfrm>
          <a:prstGeom prst="rect">
            <a:avLst/>
          </a:prstGeom>
          <a:ln w="0">
            <a:noFill/>
          </a:ln>
        </p:spPr>
      </p:pic>
      <p:sp>
        <p:nvSpPr>
          <p:cNvPr id="725" name="Line 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10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729" name="Picture 14" descr="Pearson_Bound_White"/>
          <p:cNvPicPr/>
          <p:nvPr/>
        </p:nvPicPr>
        <p:blipFill>
          <a:blip r:embed="rId5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sldNum" idx="26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2268883F-0588-4D69-9032-A3F0E0679410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27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38B1E2A7-CC8E-4A37-A83B-5FE1328DC5F8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Num" idx="28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0F017A6F-E321-4694-854F-6044A8348B6C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85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ftr" idx="30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sldNum" idx="3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68750F3F-FAB1-4F3A-9D6D-3606B473AB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ftr" idx="3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33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65E45D6-1A43-4E75-86B9-ED6A5ABE4F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ftr" idx="34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35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A4170B30-7BFE-4735-B172-C6B5A66D54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dt" idx="3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ftr" idx="3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F8C8-2FDD-417E-A94E-CB3F6A9C908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96B2D8B7-9165-43CB-94CD-FD53ABF153F3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9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131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321600" y="-29226240"/>
            <a:ext cx="265896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1000"/>
          </a:bodyPr>
          <a:p>
            <a:pPr marL="33840" indent="-338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4520" indent="-363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3400" indent="-3456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0640" indent="-385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32000" indent="-4788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Line 7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7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8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C917B-933F-46D5-8899-A649C5462BC8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2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9"/>
          </p:nvPr>
        </p:nvSpPr>
        <p:spPr>
          <a:xfrm>
            <a:off x="506520" y="6546960"/>
            <a:ext cx="49845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0"/>
          </p:nvPr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ED87-39D4-4293-A197-C751DE9438BF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17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sp>
        <p:nvSpPr>
          <p:cNvPr id="218" name="Line 18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558180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64680" y="3562200"/>
            <a:ext cx="558180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42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78560" indent="65232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24880" indent="-183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00200" indent="-1738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0" y="6397560"/>
            <a:ext cx="91393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5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7" descr="Pearson_Bound_White"/>
          <p:cNvPicPr/>
          <p:nvPr/>
        </p:nvPicPr>
        <p:blipFill>
          <a:blip r:embed="rId3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sldNum" idx="11"/>
          </p:nvPr>
        </p:nvSpPr>
        <p:spPr>
          <a:xfrm>
            <a:off x="64771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B673E760-0B25-40E1-8A63-FF9E8A41546B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2"/>
          </p:nvPr>
        </p:nvSpPr>
        <p:spPr>
          <a:xfrm>
            <a:off x="380880" y="6171840"/>
            <a:ext cx="5562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0" y="6397560"/>
            <a:ext cx="914544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65040" y="39492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365040" y="1762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2" name="Picture 16" descr="Pearson_Bound_White"/>
          <p:cNvPicPr/>
          <p:nvPr/>
        </p:nvPicPr>
        <p:blipFill>
          <a:blip r:embed="rId2"/>
          <a:stretch/>
        </p:blipFill>
        <p:spPr>
          <a:xfrm>
            <a:off x="7612200" y="6356520"/>
            <a:ext cx="1528560" cy="4935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7622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262160" y="2330280"/>
            <a:ext cx="6610320" cy="1727280"/>
          </a:xfrm>
          <a:prstGeom prst="rect">
            <a:avLst/>
          </a:prstGeom>
          <a:ln w="0">
            <a:noFill/>
          </a:ln>
        </p:spPr>
      </p:pic>
      <p:sp>
        <p:nvSpPr>
          <p:cNvPr id="103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Slide Number Placeholder 5"/>
          <p:cNvSpPr/>
          <p:nvPr/>
        </p:nvSpPr>
        <p:spPr>
          <a:xfrm>
            <a:off x="304920" y="655308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A7B51AC4-E23E-4F55-B735-3F9CD0D25CD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objectiv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ment in bra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rger market sh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icker  on time delivery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er design- to market time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er costs than rival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product qual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der geographic covera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hieving ISO 14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chnological leadershi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13B1CD80-3431-4802-BAC1-2BAE30B7CFC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s there any conflict between the financial objectives  and strategic objectives .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me times it could be some conflict between them organizations sometimes to achieve the financial objectives  can harm the long run strategic objectiv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Higher dividends –technology leadership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de- off between them is importan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orities decisions have to be mad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6AE8146F-73BE-437C-91EA-38F00AECDD9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B9ACFA0C-9F8A-4CE6-AC66-DFEB01A3FB9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Text Box 2"/>
          <p:cNvSpPr/>
          <p:nvPr/>
        </p:nvSpPr>
        <p:spPr>
          <a:xfrm>
            <a:off x="533520" y="457200"/>
            <a:ext cx="74674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Not Managing by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6b06"/>
                </a:solidFill>
                <a:latin typeface="Verdana"/>
              </a:rPr>
              <a:t>Strategists should avoid the ways to not managing by 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Text Box 4"/>
          <p:cNvSpPr/>
          <p:nvPr/>
        </p:nvSpPr>
        <p:spPr>
          <a:xfrm>
            <a:off x="533520" y="1752480"/>
            <a:ext cx="7391160" cy="39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Extrapolation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f it isn't broke, don’t fix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Crisis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true measure of a good strategist is the ability to fix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Subjectiv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Do your own thing, the best way you know h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Verdana"/>
              </a:rPr>
              <a:t>Managing by Hop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– The future is full of uncertainty and if first you don’t succeed, then you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m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n the second or third tr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2A29AD32-D9AA-4C83-B7F6-937DFAEF195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 Box 2"/>
          <p:cNvSpPr/>
          <p:nvPr/>
        </p:nvSpPr>
        <p:spPr>
          <a:xfrm>
            <a:off x="533520" y="4572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Balanced Score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3"/>
          <p:cNvSpPr/>
          <p:nvPr/>
        </p:nvSpPr>
        <p:spPr>
          <a:xfrm>
            <a:off x="533520" y="83808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obert Kaplan &amp; David Nor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4"/>
          <p:cNvSpPr/>
          <p:nvPr/>
        </p:nvSpPr>
        <p:spPr>
          <a:xfrm>
            <a:off x="533520" y="2057400"/>
            <a:ext cx="8001000" cy="239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strategy evaluation &amp; contro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e financial measures with nonfinancial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lance shareholder objectives with customer &amp; operational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ral Arab agencies have adopted the balance scorecard approach in recent years  (Abu Dhabi – saudia Arabia- dubai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9" name="Picture 6" descr="mknfapmw[1]"/>
          <p:cNvPicPr/>
          <p:nvPr/>
        </p:nvPicPr>
        <p:blipFill>
          <a:blip r:embed="rId1"/>
          <a:stretch/>
        </p:blipFill>
        <p:spPr>
          <a:xfrm>
            <a:off x="6477120" y="4435560"/>
            <a:ext cx="2117520" cy="1442880"/>
          </a:xfrm>
          <a:prstGeom prst="rect">
            <a:avLst/>
          </a:prstGeom>
          <a:ln w="0">
            <a:noFill/>
          </a:ln>
        </p:spPr>
      </p:pic>
      <p:sp>
        <p:nvSpPr>
          <p:cNvPr id="109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474F373-7900-422A-8EC9-8BF2D228D92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Balanced Scorecard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3" name=""/>
          <p:cNvSpPr txBox="1"/>
          <p:nvPr/>
        </p:nvSpPr>
        <p:spPr>
          <a:xfrm>
            <a:off x="364680" y="1546200"/>
            <a:ext cx="8550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core concept of the balanced scorecar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balanced scorecar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firm is a simply listing of all key objectives (financial and non financial ) such customer service – employees morals – product quality – pollution abatement , business ethics , social responsibility ……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Slide Number Placeholder 4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A9461FA4-40F0-466A-9CB3-CBF0009367F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Picture 5" descr=""/>
          <p:cNvPicPr/>
          <p:nvPr/>
        </p:nvPicPr>
        <p:blipFill>
          <a:blip r:embed="rId1"/>
          <a:srcRect l="0" t="0" r="0" b="6063"/>
          <a:stretch/>
        </p:blipFill>
        <p:spPr>
          <a:xfrm>
            <a:off x="398520" y="380880"/>
            <a:ext cx="8440560" cy="5369040"/>
          </a:xfrm>
          <a:prstGeom prst="rect">
            <a:avLst/>
          </a:prstGeom>
          <a:ln w="0">
            <a:noFill/>
          </a:ln>
        </p:spPr>
      </p:pic>
      <p:sp>
        <p:nvSpPr>
          <p:cNvPr id="109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4B776003-0700-4AEB-8F2D-96574B411BE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"/>
          <p:cNvSpPr/>
          <p:nvPr/>
        </p:nvSpPr>
        <p:spPr>
          <a:xfrm>
            <a:off x="852120" y="5867280"/>
            <a:ext cx="72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Adapted from Fred R. David, “How Companies Define Their Mission,”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3 (June 1988) 4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ypes of Strategi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0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ree  important strategies  have been display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Growth  strategy</a:t>
            </a:r>
            <a:r>
              <a:rPr b="0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offensiv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volve increasing investment , this implies that the company is aggressively trying to change its industry and competiton condition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Retrenchment strategy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(Defensiv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s a defensive strategy where the company seek to protect its position and hopefully minimize exposure to risk .this means that the company applies a course of action that limits the size or the kind of its market involvemen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Slide Number Placeholder 1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96AB7DAC-0827-47E9-BEAD-E40D2A4A393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3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ed6b06"/>
                </a:solidFill>
                <a:uFillTx/>
                <a:latin typeface="Verdana"/>
              </a:rPr>
              <a:t>The stability strategy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(maintain the status quo  ) it means that company avoid undertaking any changes  and keep satisfy with the current market position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 today’s global market this strategy is not fit . It is mostly found in small enterpri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or this reason we will focus in detail on the other types of strategie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onl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4514CE37-C258-4502-94B7-DA031E22E02B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Definitions of the alternative types of strategies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04920" y="152388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Vertical integration (forward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)         gaining ownership or increased control over distributions or retail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Vertical integration (backward)        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seeking ownership or increased control of a firm’s ownership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Horizontal integration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seeking ownership or increased control over competito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7B116B1F-D388-44FD-9228-45490CE06FE1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8" name="Straight Arrow Connector 7"/>
          <p:cNvCxnSpPr/>
          <p:nvPr/>
        </p:nvCxnSpPr>
        <p:spPr>
          <a:xfrm>
            <a:off x="4724280" y="1904760"/>
            <a:ext cx="915120" cy="76680"/>
          </a:xfrm>
          <a:prstGeom prst="straightConnector1">
            <a:avLst/>
          </a:prstGeom>
          <a:ln w="0">
            <a:noFill/>
          </a:ln>
        </p:spPr>
      </p:cxnSp>
      <p:sp>
        <p:nvSpPr>
          <p:cNvPr id="1109" name="Oval 8"/>
          <p:cNvSpPr/>
          <p:nvPr/>
        </p:nvSpPr>
        <p:spPr>
          <a:xfrm>
            <a:off x="4876920" y="1828800"/>
            <a:ext cx="1066680" cy="7621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0" name="Straight Arrow Connector 12"/>
          <p:cNvCxnSpPr/>
          <p:nvPr/>
        </p:nvCxnSpPr>
        <p:spPr>
          <a:xfrm>
            <a:off x="5029200" y="1676160"/>
            <a:ext cx="53424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1111" name="Straight Arrow Connector 16"/>
          <p:cNvCxnSpPr/>
          <p:nvPr/>
        </p:nvCxnSpPr>
        <p:spPr>
          <a:xfrm>
            <a:off x="3962160" y="4723920"/>
            <a:ext cx="53388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  <p:cxnSp>
        <p:nvCxnSpPr>
          <p:cNvPr id="1112" name="Straight Arrow Connector 17"/>
          <p:cNvCxnSpPr/>
          <p:nvPr/>
        </p:nvCxnSpPr>
        <p:spPr>
          <a:xfrm>
            <a:off x="5410080" y="3123720"/>
            <a:ext cx="534240" cy="1080"/>
          </a:xfrm>
          <a:prstGeom prst="straightConnector1">
            <a:avLst/>
          </a:prstGeom>
          <a:ln w="38160">
            <a:solidFill>
              <a:srgbClr val="f1893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4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Market penetration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 </a:t>
            </a: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seeking increased market share for existing products or services in existing markets through greater market eff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Market developmenet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</a:t>
            </a:r>
            <a:r>
              <a:rPr b="0" lang="en-GB" sz="20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introducing existing product into new geographic are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Product development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seeking increased sales by improving &amp; modifying the existing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Innovation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 introducing completely new product or servic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70c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70c0"/>
                </a:solidFill>
                <a:uFillTx/>
                <a:latin typeface="Verdana"/>
              </a:rPr>
              <a:t>Related diversification</a:t>
            </a:r>
            <a:r>
              <a:rPr b="1" lang="en-GB" sz="2000" spc="-1" strike="noStrike">
                <a:solidFill>
                  <a:srgbClr val="0070c0"/>
                </a:solidFill>
                <a:latin typeface="Verdana"/>
              </a:rPr>
              <a:t>             </a:t>
            </a:r>
            <a:r>
              <a:rPr b="1" lang="en-GB" sz="2000" spc="-1" strike="noStrike">
                <a:solidFill>
                  <a:srgbClr val="00b050"/>
                </a:solidFill>
                <a:latin typeface="Verdana"/>
              </a:rPr>
              <a:t>adding new but related products or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b05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5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6C0762C1-8294-4A2C-9F37-9EBEB29E317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6" name="Straight Arrow Connector 5"/>
          <p:cNvCxnSpPr/>
          <p:nvPr/>
        </p:nvCxnSpPr>
        <p:spPr>
          <a:xfrm>
            <a:off x="3657600" y="17521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7" name="Straight Arrow Connector 8"/>
          <p:cNvCxnSpPr/>
          <p:nvPr/>
        </p:nvCxnSpPr>
        <p:spPr>
          <a:xfrm>
            <a:off x="3962520" y="28951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8" name="Straight Arrow Connector 9"/>
          <p:cNvCxnSpPr/>
          <p:nvPr/>
        </p:nvCxnSpPr>
        <p:spPr>
          <a:xfrm>
            <a:off x="3809880" y="35809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19" name="Straight Arrow Connector 10"/>
          <p:cNvCxnSpPr/>
          <p:nvPr/>
        </p:nvCxnSpPr>
        <p:spPr>
          <a:xfrm>
            <a:off x="2438280" y="426672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20" name="Straight Arrow Connector 11"/>
          <p:cNvCxnSpPr/>
          <p:nvPr/>
        </p:nvCxnSpPr>
        <p:spPr>
          <a:xfrm>
            <a:off x="4038480" y="502884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64680" y="395280"/>
            <a:ext cx="84740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365040" y="1546200"/>
            <a:ext cx="4340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6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ies in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9" name="Picture 4" descr="CVR_STMA_SB_ARW_5674_CVR"/>
          <p:cNvPicPr/>
          <p:nvPr/>
        </p:nvPicPr>
        <p:blipFill>
          <a:blip r:embed="rId1"/>
          <a:stretch/>
        </p:blipFill>
        <p:spPr>
          <a:xfrm>
            <a:off x="5410080" y="1523880"/>
            <a:ext cx="2874960" cy="4138560"/>
          </a:xfrm>
          <a:prstGeom prst="rect">
            <a:avLst/>
          </a:prstGeom>
          <a:ln w="0">
            <a:noFill/>
          </a:ln>
        </p:spPr>
      </p:pic>
      <p:sp>
        <p:nvSpPr>
          <p:cNvPr id="10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Slide Number Placeholder 5"/>
          <p:cNvSpPr/>
          <p:nvPr/>
        </p:nvSpPr>
        <p:spPr>
          <a:xfrm>
            <a:off x="228600" y="647712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8DA56B5E-9FAB-45D2-8A0F-CC0EC140847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Unrelated diversification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 adding new unrelated products or servic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Retrenchmen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regrouping through cost and asset reduction to reverse declining sales and profit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Divestitur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  selling a division or part of an organiz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ed6b06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>
                <a:solidFill>
                  <a:srgbClr val="ed6b06"/>
                </a:solidFill>
                <a:latin typeface="Verdana"/>
              </a:rPr>
              <a:t>Liquidation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              selling all of a company ‘s assets , in parts , for their tangible wort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3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5097F2C6-4941-474A-9880-1BF33FFAF7EE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4" name="Straight Arrow Connector 5"/>
          <p:cNvCxnSpPr/>
          <p:nvPr/>
        </p:nvCxnSpPr>
        <p:spPr>
          <a:xfrm>
            <a:off x="4495320" y="182844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5" name="Straight Arrow Connector 6"/>
          <p:cNvCxnSpPr/>
          <p:nvPr/>
        </p:nvCxnSpPr>
        <p:spPr>
          <a:xfrm>
            <a:off x="2971800" y="2895120"/>
            <a:ext cx="915120" cy="1080"/>
          </a:xfrm>
          <a:prstGeom prst="straightConnector1">
            <a:avLst/>
          </a:prstGeom>
          <a:ln w="25560">
            <a:solidFill>
              <a:srgbClr val="ed6b06"/>
            </a:solidFill>
            <a:miter/>
            <a:tailEnd len="med" type="triangle" w="med"/>
          </a:ln>
        </p:spPr>
      </p:cxnSp>
      <p:cxnSp>
        <p:nvCxnSpPr>
          <p:cNvPr id="1126" name="Straight Arrow Connector 7"/>
          <p:cNvCxnSpPr/>
          <p:nvPr/>
        </p:nvCxnSpPr>
        <p:spPr>
          <a:xfrm>
            <a:off x="2590920" y="502884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  <p:cxnSp>
        <p:nvCxnSpPr>
          <p:cNvPr id="1127" name="Straight Arrow Connector 8"/>
          <p:cNvCxnSpPr/>
          <p:nvPr/>
        </p:nvCxnSpPr>
        <p:spPr>
          <a:xfrm>
            <a:off x="2590920" y="3962160"/>
            <a:ext cx="915120" cy="1080"/>
          </a:xfrm>
          <a:prstGeom prst="straightConnector1">
            <a:avLst/>
          </a:prstGeom>
          <a:ln w="25560">
            <a:solidFill>
              <a:srgbClr val="f1893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9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No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st organizations  simultaneously pursue a combination of these strategie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rganizations have limited resources and incomplete information , thus priorities must be undertaken  (choose among alternativ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0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EA34D3F4-CFE7-49E6-97FB-D4B5274473F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39D4B03-DC11-4477-AC9C-9E6FC03E4476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2"/>
          <p:cNvSpPr/>
          <p:nvPr/>
        </p:nvSpPr>
        <p:spPr>
          <a:xfrm>
            <a:off x="304920" y="380880"/>
            <a:ext cx="7391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evels  of Strategies and the person who  is respon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Group 3"/>
          <p:cNvGrpSpPr/>
          <p:nvPr/>
        </p:nvGrpSpPr>
        <p:grpSpPr>
          <a:xfrm>
            <a:off x="457200" y="1066680"/>
            <a:ext cx="8229240" cy="4786200"/>
            <a:chOff x="457200" y="1066680"/>
            <a:chExt cx="8229240" cy="4786200"/>
          </a:xfrm>
        </p:grpSpPr>
        <p:sp>
          <p:nvSpPr>
            <p:cNvPr id="1134" name="Pyr1"/>
            <p:cNvSpPr/>
            <p:nvPr/>
          </p:nvSpPr>
          <p:spPr>
            <a:xfrm>
              <a:off x="3659400" y="1066680"/>
              <a:ext cx="1844640" cy="1060920"/>
            </a:xfrm>
            <a:custGeom>
              <a:avLst/>
              <a:gdLst>
                <a:gd name="textAreaLeft" fmla="*/ 461160 w 1844640"/>
                <a:gd name="textAreaRight" fmla="*/ 1383480 w 1844640"/>
                <a:gd name="textAreaTop" fmla="*/ 579600 h 1060920"/>
                <a:gd name="textAreaBottom" fmla="*/ 1011960 h 1060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21600" y="21600"/>
                  </a:lnTo>
                  <a:lnTo>
                    <a:pt x="0" y="21600"/>
                  </a:lnTo>
                  <a:lnTo>
                    <a:pt x="10800" y="0"/>
                  </a:lnTo>
                  <a:close/>
                </a:path>
              </a:pathLst>
            </a:cu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Pyr2"/>
            <p:cNvSpPr/>
            <p:nvPr/>
          </p:nvSpPr>
          <p:spPr>
            <a:xfrm>
              <a:off x="2591280" y="2127600"/>
              <a:ext cx="3972600" cy="1244520"/>
            </a:xfrm>
            <a:custGeom>
              <a:avLst/>
              <a:gdLst>
                <a:gd name="textAreaLeft" fmla="*/ 1064160 w 3972600"/>
                <a:gd name="textAreaRight" fmla="*/ 2908440 w 3972600"/>
                <a:gd name="textAreaTop" fmla="*/ 29160 h 1244520"/>
                <a:gd name="textAreaBottom" fmla="*/ 1215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787" y="0"/>
                  </a:moveTo>
                  <a:lnTo>
                    <a:pt x="15812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5787" y="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Pyr3"/>
            <p:cNvSpPr/>
            <p:nvPr/>
          </p:nvSpPr>
          <p:spPr>
            <a:xfrm>
              <a:off x="1535040" y="3372120"/>
              <a:ext cx="6083280" cy="1243080"/>
            </a:xfrm>
            <a:custGeom>
              <a:avLst/>
              <a:gdLst>
                <a:gd name="textAreaLeft" fmla="*/ 1489680 w 6083280"/>
                <a:gd name="textAreaRight" fmla="*/ 4593600 w 6083280"/>
                <a:gd name="textAreaTop" fmla="*/ 29160 h 1243080"/>
                <a:gd name="textAreaBottom" fmla="*/ 1213920 h 124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68" y="0"/>
                  </a:moveTo>
                  <a:lnTo>
                    <a:pt x="17831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3768" y="0"/>
                  </a:lnTo>
                  <a:close/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Pyr4"/>
            <p:cNvSpPr/>
            <p:nvPr/>
          </p:nvSpPr>
          <p:spPr>
            <a:xfrm>
              <a:off x="457200" y="4608720"/>
              <a:ext cx="8229240" cy="1244160"/>
            </a:xfrm>
            <a:custGeom>
              <a:avLst/>
              <a:gdLst>
                <a:gd name="textAreaLeft" fmla="*/ 1251000 w 8229240"/>
                <a:gd name="textAreaRight" fmla="*/ 6595560 w 8229240"/>
                <a:gd name="textAreaTop" fmla="*/ 29160 h 1244160"/>
                <a:gd name="textAreaBottom" fmla="*/ 1215000 h 12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793" y="0"/>
                  </a:moveTo>
                  <a:lnTo>
                    <a:pt x="18806" y="0"/>
                  </a:lnTo>
                  <a:lnTo>
                    <a:pt x="21600" y="21600"/>
                  </a:lnTo>
                  <a:lnTo>
                    <a:pt x="0" y="21600"/>
                  </a:lnTo>
                  <a:lnTo>
                    <a:pt x="2793" y="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8"/>
          <p:cNvSpPr/>
          <p:nvPr/>
        </p:nvSpPr>
        <p:spPr>
          <a:xfrm>
            <a:off x="1828800" y="4952880"/>
            <a:ext cx="563868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pera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lant manger – sales manger – production mana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9"/>
          <p:cNvSpPr/>
          <p:nvPr/>
        </p:nvSpPr>
        <p:spPr>
          <a:xfrm>
            <a:off x="2590920" y="3809880"/>
            <a:ext cx="411480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unction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unction man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0"/>
          <p:cNvSpPr/>
          <p:nvPr/>
        </p:nvSpPr>
        <p:spPr>
          <a:xfrm>
            <a:off x="3352680" y="2514600"/>
            <a:ext cx="2590920" cy="9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ivision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ision president&amp; vice president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1"/>
          <p:cNvSpPr/>
          <p:nvPr/>
        </p:nvSpPr>
        <p:spPr>
          <a:xfrm>
            <a:off x="3886200" y="1371600"/>
            <a:ext cx="152388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Chief executive office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2"/>
          <p:cNvSpPr/>
          <p:nvPr/>
        </p:nvSpPr>
        <p:spPr>
          <a:xfrm>
            <a:off x="380880" y="198108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Large &amp; small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312EF8F3-593C-45B2-8CC1-35481699150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5 -</a:t>
            </a:r>
            <a:fld id="{D17096EF-FF46-47D9-A772-59E0EABB3C39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Isosceles Triangle 9"/>
          <p:cNvSpPr/>
          <p:nvPr/>
        </p:nvSpPr>
        <p:spPr>
          <a:xfrm>
            <a:off x="3886200" y="1752480"/>
            <a:ext cx="685800" cy="2133720"/>
          </a:xfrm>
          <a:prstGeom prst="triangle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3"/>
          <p:cNvGrpSpPr/>
          <p:nvPr/>
        </p:nvGrpSpPr>
        <p:grpSpPr>
          <a:xfrm>
            <a:off x="1600200" y="838080"/>
            <a:ext cx="6082920" cy="3700440"/>
            <a:chOff x="1600200" y="838080"/>
            <a:chExt cx="6082920" cy="3700440"/>
          </a:xfrm>
        </p:grpSpPr>
        <p:sp>
          <p:nvSpPr>
            <p:cNvPr id="1148" name="Pyr1"/>
            <p:cNvSpPr/>
            <p:nvPr/>
          </p:nvSpPr>
          <p:spPr>
            <a:xfrm>
              <a:off x="3734280" y="838080"/>
              <a:ext cx="1844640" cy="121212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Owner /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esiden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Pyr2"/>
            <p:cNvSpPr/>
            <p:nvPr/>
          </p:nvSpPr>
          <p:spPr>
            <a:xfrm>
              <a:off x="2656440" y="2050200"/>
              <a:ext cx="3972600" cy="124272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al mang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Pyr3"/>
            <p:cNvSpPr/>
            <p:nvPr/>
          </p:nvSpPr>
          <p:spPr>
            <a:xfrm>
              <a:off x="1600200" y="3295800"/>
              <a:ext cx="6082920" cy="124272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Operation leve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D815651-3BBF-4F18-9FD8-3974B1CD0010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AutoShape 3"/>
          <p:cNvSpPr/>
          <p:nvPr/>
        </p:nvSpPr>
        <p:spPr>
          <a:xfrm>
            <a:off x="762120" y="274320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Integration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4"/>
          <p:cNvSpPr/>
          <p:nvPr/>
        </p:nvSpPr>
        <p:spPr>
          <a:xfrm>
            <a:off x="5029200" y="17524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rward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AutoShape 5"/>
          <p:cNvSpPr/>
          <p:nvPr/>
        </p:nvSpPr>
        <p:spPr>
          <a:xfrm>
            <a:off x="5029200" y="32004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ackwar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6"/>
          <p:cNvSpPr/>
          <p:nvPr/>
        </p:nvSpPr>
        <p:spPr>
          <a:xfrm>
            <a:off x="5029200" y="46483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orizonta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7"/>
          <p:cNvSpPr/>
          <p:nvPr/>
        </p:nvSpPr>
        <p:spPr>
          <a:xfrm flipV="1">
            <a:off x="2743200" y="2133360"/>
            <a:ext cx="22096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Line 8"/>
          <p:cNvSpPr/>
          <p:nvPr/>
        </p:nvSpPr>
        <p:spPr>
          <a:xfrm>
            <a:off x="2743200" y="3657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Line 9"/>
          <p:cNvSpPr/>
          <p:nvPr/>
        </p:nvSpPr>
        <p:spPr>
          <a:xfrm>
            <a:off x="2743200" y="3657600"/>
            <a:ext cx="2209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897A3297-BD5E-4CB8-BA0B-1F3988D5F37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C32F5BC-2B47-4BD7-884E-EF519EBF5684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AutoShape 3"/>
          <p:cNvSpPr/>
          <p:nvPr/>
        </p:nvSpPr>
        <p:spPr>
          <a:xfrm>
            <a:off x="685800" y="266688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Intensive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AutoShape 4"/>
          <p:cNvSpPr/>
          <p:nvPr/>
        </p:nvSpPr>
        <p:spPr>
          <a:xfrm>
            <a:off x="4952880" y="16765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ne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AutoShape 5"/>
          <p:cNvSpPr/>
          <p:nvPr/>
        </p:nvSpPr>
        <p:spPr>
          <a:xfrm>
            <a:off x="4952880" y="27432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arke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AutoShape 6"/>
          <p:cNvSpPr/>
          <p:nvPr/>
        </p:nvSpPr>
        <p:spPr>
          <a:xfrm>
            <a:off x="4952880" y="38098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du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Line 7"/>
          <p:cNvSpPr/>
          <p:nvPr/>
        </p:nvSpPr>
        <p:spPr>
          <a:xfrm flipV="1">
            <a:off x="2666880" y="2057040"/>
            <a:ext cx="22100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Line 8"/>
          <p:cNvSpPr/>
          <p:nvPr/>
        </p:nvSpPr>
        <p:spPr>
          <a:xfrm>
            <a:off x="2666880" y="3581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9"/>
          <p:cNvSpPr/>
          <p:nvPr/>
        </p:nvSpPr>
        <p:spPr>
          <a:xfrm>
            <a:off x="2666880" y="3581280"/>
            <a:ext cx="2210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Line 7"/>
          <p:cNvSpPr/>
          <p:nvPr/>
        </p:nvSpPr>
        <p:spPr>
          <a:xfrm>
            <a:off x="2666880" y="3581280"/>
            <a:ext cx="221004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6"/>
          <p:cNvSpPr/>
          <p:nvPr/>
        </p:nvSpPr>
        <p:spPr>
          <a:xfrm>
            <a:off x="4952880" y="48769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6F72967A-5489-4841-A95C-DD40B114916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33ABE2BB-A4BD-4BBF-B9CE-367019981509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utoShape 3"/>
          <p:cNvSpPr/>
          <p:nvPr/>
        </p:nvSpPr>
        <p:spPr>
          <a:xfrm>
            <a:off x="762120" y="2590920"/>
            <a:ext cx="1981080" cy="190476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r>
              <a:rPr b="1" lang="en-US" sz="1900" spc="-1" strike="noStrike">
                <a:solidFill>
                  <a:srgbClr val="fbf5ea"/>
                </a:solidFill>
                <a:latin typeface="Verdana"/>
              </a:rPr>
              <a:t>Diversification</a:t>
            </a:r>
            <a:br>
              <a:rPr sz="1900"/>
            </a:br>
            <a:r>
              <a:rPr b="1" lang="en-US" sz="19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4"/>
          <p:cNvSpPr/>
          <p:nvPr/>
        </p:nvSpPr>
        <p:spPr>
          <a:xfrm>
            <a:off x="5029200" y="16002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6"/>
          <p:cNvSpPr/>
          <p:nvPr/>
        </p:nvSpPr>
        <p:spPr>
          <a:xfrm>
            <a:off x="5029200" y="44956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re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7"/>
          <p:cNvSpPr/>
          <p:nvPr/>
        </p:nvSpPr>
        <p:spPr>
          <a:xfrm flipV="1">
            <a:off x="2743200" y="1981080"/>
            <a:ext cx="220968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9"/>
          <p:cNvSpPr/>
          <p:nvPr/>
        </p:nvSpPr>
        <p:spPr>
          <a:xfrm>
            <a:off x="2743200" y="3505320"/>
            <a:ext cx="220968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5AD6340A-8046-4848-870D-BE585940FB0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06C81121-9DDB-4184-82B9-9FC205E7A08F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2"/>
          <p:cNvSpPr/>
          <p:nvPr/>
        </p:nvSpPr>
        <p:spPr>
          <a:xfrm>
            <a:off x="533520" y="4572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ypes of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AutoShape 3"/>
          <p:cNvSpPr/>
          <p:nvPr/>
        </p:nvSpPr>
        <p:spPr>
          <a:xfrm>
            <a:off x="685800" y="2666880"/>
            <a:ext cx="1981080" cy="1905120"/>
          </a:xfrm>
          <a:prstGeom prst="octagon">
            <a:avLst>
              <a:gd name="adj" fmla="val 29287"/>
            </a:avLst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Defensive</a:t>
            </a:r>
            <a:br>
              <a:rPr sz="2000"/>
            </a:b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ie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AutoShape 4"/>
          <p:cNvSpPr/>
          <p:nvPr/>
        </p:nvSpPr>
        <p:spPr>
          <a:xfrm>
            <a:off x="4952880" y="167652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AutoShape 5"/>
          <p:cNvSpPr/>
          <p:nvPr/>
        </p:nvSpPr>
        <p:spPr>
          <a:xfrm>
            <a:off x="4952880" y="3124080"/>
            <a:ext cx="2362320" cy="83844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vesti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6"/>
          <p:cNvSpPr/>
          <p:nvPr/>
        </p:nvSpPr>
        <p:spPr>
          <a:xfrm>
            <a:off x="4952880" y="4572000"/>
            <a:ext cx="2362320" cy="838080"/>
          </a:xfrm>
          <a:prstGeom prst="bevel">
            <a:avLst>
              <a:gd name="adj" fmla="val 12500"/>
            </a:avLst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7"/>
          <p:cNvSpPr/>
          <p:nvPr/>
        </p:nvSpPr>
        <p:spPr>
          <a:xfrm flipV="1">
            <a:off x="2666880" y="2057040"/>
            <a:ext cx="22100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8"/>
          <p:cNvSpPr/>
          <p:nvPr/>
        </p:nvSpPr>
        <p:spPr>
          <a:xfrm>
            <a:off x="2666880" y="35812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9"/>
          <p:cNvSpPr/>
          <p:nvPr/>
        </p:nvSpPr>
        <p:spPr>
          <a:xfrm>
            <a:off x="2666880" y="3581280"/>
            <a:ext cx="22100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4880048E-6591-4B2A-8987-0BF44495321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2"/>
          <p:cNvSpPr/>
          <p:nvPr/>
        </p:nvSpPr>
        <p:spPr>
          <a:xfrm>
            <a:off x="457200" y="380880"/>
            <a:ext cx="81532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ichael Porter’s Generic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3"/>
          <p:cNvSpPr/>
          <p:nvPr/>
        </p:nvSpPr>
        <p:spPr>
          <a:xfrm flipH="1">
            <a:off x="437760" y="7569360"/>
            <a:ext cx="150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457200" y="1143000"/>
            <a:ext cx="6705720" cy="152388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st Leadership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Low-Cost &amp; Best-Val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Producing standardized products at a 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low per unit cost for consumers who are price- sensitiv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380880" y="2971800"/>
            <a:ext cx="6858000" cy="114300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ifferenti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Means producing products &amp; services consid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unique across the indus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6"/>
          <p:cNvSpPr/>
          <p:nvPr/>
        </p:nvSpPr>
        <p:spPr>
          <a:xfrm>
            <a:off x="380880" y="4267080"/>
            <a:ext cx="6858000" cy="1295640"/>
          </a:xfrm>
          <a:prstGeom prst="rect">
            <a:avLst/>
          </a:prstGeom>
          <a:solidFill>
            <a:srgbClr val="f68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cus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means producing products &amp;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bf5ea"/>
                </a:solidFill>
                <a:latin typeface="Verdana"/>
              </a:rPr>
              <a:t>That fulfill the needs of small groups of consumers  </a:t>
            </a:r>
            <a:br>
              <a:rPr sz="2000"/>
            </a:br>
            <a:r>
              <a:rPr b="1" i="1" lang="en-US" sz="2000" spc="-1" strike="noStrike">
                <a:solidFill>
                  <a:srgbClr val="fbf5ea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bf5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"/>
          <p:cNvSpPr/>
          <p:nvPr/>
        </p:nvSpPr>
        <p:spPr>
          <a:xfrm>
            <a:off x="335268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8"/>
          <p:cNvSpPr/>
          <p:nvPr/>
        </p:nvSpPr>
        <p:spPr>
          <a:xfrm>
            <a:off x="3352680" y="4114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80247B1C-F198-46D1-A14F-99F092F7E45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2"/>
          <p:cNvSpPr/>
          <p:nvPr/>
        </p:nvSpPr>
        <p:spPr>
          <a:xfrm>
            <a:off x="304920" y="304920"/>
            <a:ext cx="84582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ans for Achiev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228600" y="2057400"/>
            <a:ext cx="74674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/Partn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ergers and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ivate Equity Acqui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rst-Mover 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utsour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354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54649E87-2FE6-4E28-AE1B-840F27048D4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5458998A-332A-4517-991B-2CD5D3A146D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"/>
          <p:cNvSpPr/>
          <p:nvPr/>
        </p:nvSpPr>
        <p:spPr>
          <a:xfrm>
            <a:off x="533520" y="1828800"/>
            <a:ext cx="7380000" cy="52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-Term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lanced Score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ypes of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ns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versification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ensive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rter’s Five Generic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2"/>
          <p:cNvSpPr/>
          <p:nvPr/>
        </p:nvSpPr>
        <p:spPr>
          <a:xfrm>
            <a:off x="609480" y="304920"/>
            <a:ext cx="77695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Joint Venture/Partn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3"/>
          <p:cNvSpPr/>
          <p:nvPr/>
        </p:nvSpPr>
        <p:spPr>
          <a:xfrm>
            <a:off x="152280" y="2209680"/>
            <a:ext cx="8077320" cy="281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 is a popular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wo or more companies form a temporary partnership for the purpose of capitalizing on some opportun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Unlike the many U.S. counterparts, Arab corporations have sought cooperative and joint venture agreements with global corpo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D959D615-7ABD-4351-9B3D-7BAA9FE7088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2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rgers and Acqui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3"/>
          <p:cNvSpPr/>
          <p:nvPr/>
        </p:nvSpPr>
        <p:spPr>
          <a:xfrm>
            <a:off x="304920" y="1981080"/>
            <a:ext cx="807696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 merger occurs when two organizations of about equal size unite to form one enter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n acquisition occurs when a large organization purchases a smaller firm or vice ve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A7C67CEE-0416-459C-9FA5-9874B950A71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2"/>
          <p:cNvSpPr/>
          <p:nvPr/>
        </p:nvSpPr>
        <p:spPr>
          <a:xfrm>
            <a:off x="533520" y="304920"/>
            <a:ext cx="86104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Mergers and Acquisitions (cont’d)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Rectangle 3"/>
          <p:cNvSpPr/>
          <p:nvPr/>
        </p:nvSpPr>
        <p:spPr>
          <a:xfrm>
            <a:off x="380880" y="1600200"/>
            <a:ext cx="8458200" cy="373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627120" indent="-44784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Key reasons why mergers and acquisitions fail: (important</a:t>
            </a:r>
            <a:r>
              <a:rPr b="1" lang="en-US" sz="2000" spc="-1" strike="noStrike">
                <a:solidFill>
                  <a:srgbClr val="ed6b06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adequate evaluation of tar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Large deb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Inability to achieve synergy (Synergy means 1+1= more than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Too much diver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Difficult to integrate different organizational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Reduced employee morale due to layoffs and re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447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8C29ACC-467B-4E7B-8F87-1CF5DBDAD3C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685800" y="304920"/>
            <a:ext cx="7769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utsour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Rectangle 3"/>
          <p:cNvSpPr/>
          <p:nvPr/>
        </p:nvSpPr>
        <p:spPr>
          <a:xfrm>
            <a:off x="304920" y="2514600"/>
            <a:ext cx="83818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usiness-Process Outsourcing (B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anies taking over the functional operations of other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ECF71353-EFE8-4EAD-A72B-276C05F0A9C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in Nonprofit and Governmental Organization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5" name="Text Box 5"/>
          <p:cNvSpPr/>
          <p:nvPr/>
        </p:nvSpPr>
        <p:spPr>
          <a:xfrm>
            <a:off x="380880" y="1523880"/>
            <a:ext cx="7543800" cy="414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Arab world the non- profit and governmental organizations are successfully applying  strategic manage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Educational institution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more frequently using strategic management techniques and concepts (as ex. universities across the region have adopted strategic planning to manage their resources and develop realistic plans for the future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edical Organizati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- many strategies being pursued by many hospitals as such creating home health services , acquiring ambulance service and diagnostic service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146FE09D-0BC8-4807-99D6-D26ADBE982D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in Small Firm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9" name="Text Box 5"/>
          <p:cNvSpPr/>
          <p:nvPr/>
        </p:nvSpPr>
        <p:spPr>
          <a:xfrm>
            <a:off x="380880" y="1676520"/>
            <a:ext cx="7696440" cy="377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95% of all businesses in the Arab world region are family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Arab entrepreneurs start off as owners of small and medium-sized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s vital for small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strategic management knowledge is a serious obstacle for many small business ow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2FDED629-A813-4E61-87D0-86682F93870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55344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C1392D1B-C0A2-4F3E-B8F3-DE3AB0C5620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533520" y="2057400"/>
            <a:ext cx="8373960" cy="27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For Achieving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n Nonprofit and Government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in Small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d6b06"/>
                </a:solidFill>
                <a:latin typeface="Verdana"/>
              </a:rPr>
              <a:t>Long Term Objectives </a:t>
            </a:r>
            <a:endParaRPr b="1" lang="en-US" sz="32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2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present the results expected  from pursuing certain  strateg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n strategies represent the actions to be taken to accomplish long – term objectiv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ime frame for objectives and strategies should be consistent  (usually from two to five years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53FA5F7E-F623-47AA-9FDD-E1631BF76802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FB546CBC-1BB0-4B91-9AA5-99D2ACAD658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 Box 2"/>
          <p:cNvSpPr/>
          <p:nvPr/>
        </p:nvSpPr>
        <p:spPr>
          <a:xfrm>
            <a:off x="533520" y="4572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long-term objectiv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4"/>
          <p:cNvSpPr/>
          <p:nvPr/>
        </p:nvSpPr>
        <p:spPr>
          <a:xfrm>
            <a:off x="609480" y="2133720"/>
            <a:ext cx="3353040" cy="223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f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stan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llen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4"/>
          <p:cNvSpPr/>
          <p:nvPr/>
        </p:nvSpPr>
        <p:spPr>
          <a:xfrm>
            <a:off x="5029200" y="2133720"/>
            <a:ext cx="3276720" cy="243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erarch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gruent among organizational uni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C315EB3E-89BC-4043-BFCE-4D49BDFE8B5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bjectives are communally stated in terms such as the following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2" name=""/>
          <p:cNvSpPr txBox="1"/>
          <p:nvPr/>
        </p:nvSpPr>
        <p:spPr>
          <a:xfrm>
            <a:off x="365040" y="1546200"/>
            <a:ext cx="8407440" cy="37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in sa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it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ket sha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gree and nature of diversific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gree and nature of vertical integr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cial responsibility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Slide Number Placeholder 5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BE982ED9-D373-45A7-A7F4-C22C12819FC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65040" y="395280"/>
            <a:ext cx="840744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tated and communicated  objectives are vital to success?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65040" y="1546200"/>
            <a:ext cx="8407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help stakeholders understand their role in an organization’s fu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a basis for consistent decision making by managers whose values and attitudes diff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reaching a consensus on objectives during strategy – formulation activates- the organization can minimize potential conflicts later during implem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 serve as standards by which individuals ,groups, departments, divisions and entire organizations can be evalua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 also provide directions and allow for organizations synerg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Slide Number Placeholder 3"/>
          <p:cNvSpPr/>
          <p:nvPr/>
        </p:nvSpPr>
        <p:spPr>
          <a:xfrm>
            <a:off x="268200" y="6546960"/>
            <a:ext cx="331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2E119A68-8855-4A7D-9F79-EEFFA6616023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Slide Number Placeholder 5"/>
          <p:cNvSpPr/>
          <p:nvPr/>
        </p:nvSpPr>
        <p:spPr>
          <a:xfrm>
            <a:off x="64771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5 -</a:t>
            </a:r>
            <a:fld id="{A2B6AE37-8888-475A-9207-36C2D8F06D37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2"/>
          <p:cNvSpPr/>
          <p:nvPr/>
        </p:nvSpPr>
        <p:spPr>
          <a:xfrm>
            <a:off x="457200" y="4572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nancial vs. Strategic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3"/>
          <p:cNvSpPr/>
          <p:nvPr/>
        </p:nvSpPr>
        <p:spPr>
          <a:xfrm>
            <a:off x="457200" y="833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457200" y="1905120"/>
            <a:ext cx="67816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th in reven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owth in e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divid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profit mar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ater return on inve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gher earnings per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ing stock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cash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4495680" y="2057400"/>
            <a:ext cx="239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6 -</a:t>
            </a:r>
            <a:fld id="{990D4383-B458-46E8-A730-CFEA42720B6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2T20:17:41Z</dcterms:created>
  <dc:creator>Preferred Customer</dc:creator>
  <dc:description/>
  <dc:language>en-US</dc:language>
  <cp:lastModifiedBy>USER</cp:lastModifiedBy>
  <dcterms:modified xsi:type="dcterms:W3CDTF">2012-12-02T15:57:40Z</dcterms:modified>
  <cp:revision>120</cp:revision>
  <dc:subject/>
  <dc:title>Chapter 5 Strategies in Action</dc:title>
</cp:coreProperties>
</file>