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065F-FCC3-4DEC-8AB3-16210BC3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293D-E6F3-481D-AC43-C020DA73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C480-7815-4044-B6E0-28FD249D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657-A534-45FD-A7E8-1A2DCBC9F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B7D6-D733-49E3-B215-51ABB8E2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6EB2-038D-45D9-B638-69A3CBBA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5CA-3DC1-493F-BFC3-CFDEBF98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986B-89D7-44AF-840E-BDAC4E22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5025-184B-40D0-82A0-5BC6BE7D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F427-9976-4056-B9C7-7F8B7CA58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DC71-B69A-4546-83B5-409A32D0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6E06-10BC-4556-B2F1-778F5261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9207-7894-4098-AB1C-A591FEAE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CC2-B48D-4C09-A027-29AEDF514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D74-9543-42FC-839F-62BFADC6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711D-7F76-43AE-82CB-B581B968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61F-58A1-4A3D-9D99-9C4C3AE5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A89B-C22B-4DB8-BD46-F631058E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DE1-492A-493A-87AB-8E61241B7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9EB4-0DC2-48CD-A80C-60CA184E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C07B-1C35-4C47-B955-F265E97C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E0EE-E793-4ADE-83A4-AA8155718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307E-C8A8-44DC-B0D0-50F7EC87DA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129D0-FEE0-4AF6-ADB7-1619AAD91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9878-512A-447D-A90B-1B8BCC11C23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35D8C-60C9-4C50-A5B6-1DA4A12561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10A1A-B451-4EA9-B141-F0822A5C69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55566-2A56-4F89-BFE8-7F3086D007B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F7D29-9426-4A83-A5E3-8065E58E87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33BE3-AEAB-4EF0-BAF7-02F83CB5EA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9D3E4-6950-46FC-8B7A-83295B4B24A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317A9-FC16-43AB-BB9F-6851E062C5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B605D-351F-4BAA-8A25-C11FC40B524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2214A-8A2A-40E0-B6B4-B0FFDF0FC1F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A1E9E-8310-40A1-ABC7-48B9DAB80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608-1333-496E-9BF0-83D155E838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85CF8-150E-4484-B56E-D64E557AA6A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92D29-B442-4F32-B7A5-C9E82823E6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C6F63-B8F9-4F28-967D-6B689176A09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B7FE9C-22CB-40FF-A73D-315D7B1A0B8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BEB98-9975-43AA-BCD9-DEEAF6DA2A9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957DB-B504-409F-BD9F-8DF894FF19A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8DA8F-7D8D-4F37-9DF6-836F8045A8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0E0ACF-0429-4DDC-99ED-24931623B08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513A3-D389-4C31-B834-4AEBB4C175E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4B852-F2ED-4DB7-9162-72CAD5CF4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D63-6062-4BAD-8F8D-5544DAD458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83696-08A7-4114-A204-83D7E16417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16CA6E-9283-47BF-99B2-1CC0E3FF4C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B1E821-FBE8-4198-AED0-1E61A96036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FDE-13F1-4479-A037-36FC0F9741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BFC-4658-424B-B042-2854231B701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0A69E-6627-442E-B649-26252476CC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ABC88-D34C-4221-9ACD-51458111D2A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CB449-D986-4F22-AAB4-BBEA8CBE61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8B9-1511-4145-804F-9A21A48915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CD951-0F1D-4542-A034-C32F888D00F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E16B6-EB39-4AAC-B358-02CDCD9EB05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95F9E-CAB9-4D0E-83CC-38D193BFB41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FE598-BB87-4B3D-9C41-525614782D3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7D4D5-9C0E-49A6-888A-AFE7D9F79B7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B8C0E-0188-4B2E-8AD2-77DBAC13D0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0D6FE-A86A-4BEB-8DB3-C444A299F3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645FE-CEA9-4941-A026-16C81E7FE1F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4CC65-59CE-475C-BB18-AFE0EA76F67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3363EB-15D7-487D-9EC6-3EDAF87177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7D9-9694-4159-8B8C-71EEFFD31D0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D205F-BAE3-455A-861F-026892E8F2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035477-1656-4D0D-ACA7-4C8164F6475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62F5F-12AC-43E5-95CB-4495410AFBA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DA2C4-7764-4AAD-94E0-C3CD0B3685A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154FE-7414-4BF3-82CD-B95F8EC262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DA3F0-3D7B-4D91-B30E-41B3ECC81B3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BC0C80-769A-4173-9354-D5155CB5A3E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24126-5CE7-465F-95CE-DC93D5A3FEE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34B1B-EC63-4BA4-A635-9C4D5EBD391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7F955-782B-4534-A0BE-80DE879274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9AD-5A56-4E1A-B61A-5B955B6D5C9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040E31-C3E5-47B8-AD12-8B65515C750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FBC65-01E4-4234-8340-D1B045F1E13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3424-D766-4DA1-8B3D-165F698CCF5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9454-F780-4A08-946D-4AFA04A956C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087E-11D4-4386-971A-DEF2A0403E1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041C9-8526-4532-8D07-C20F710AA17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90065-F85A-410D-A163-FF81CCF8861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7137-DFD9-4653-9AD2-C31F99A9F6D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BED1-8497-49D5-B61F-64DFAD6029F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645C-3A4B-426D-8C56-AB113E200D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678-907C-4C7E-B9A7-79ED06D07C6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D3EF-B89C-43AD-9117-F92C633959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466C-4264-4049-9BD3-35A37052527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7C2F-FB1E-44EB-87D2-F09547BB572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17EF6-D7D8-4D1B-A89D-8D04308C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EFBBD-FB3F-4F56-8591-49CB609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36570-9B08-412A-94C6-7113943A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5C55E-71F0-4588-A7DD-9661FE2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F400A-D17F-43C7-A43D-C68C83A5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DD80D-2546-412D-B8F0-0814C20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73DA1-854C-4D07-B430-911FF89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09C0-B6BE-4AC3-9644-A6C950159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043-F08E-43A7-BB5E-FAF735A5F5F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5BCFB-0579-4C9A-9FEF-ECED047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821DC-9D0D-4A8A-8638-63FC3A9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0E047-CBD7-4AC4-B15F-9DD41E1F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88124-F44C-4DE7-8B98-4CB42E92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F9F77-FF86-41A7-94CC-F840E4E0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930-5861-403B-9956-FBC82C43B04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02F198-0032-4D7A-B082-F89FEB34DEB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F3ECC-62C5-4337-997C-263FEFA8557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FEF5A-175D-4E6D-8872-84796255CF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A68-E0BE-4743-B994-F1BEE5306C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C5F65-C48B-4C4A-92DF-08B17825846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6899D-599D-46DE-94EF-DF5B042C922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D1057-D52A-4E84-8677-455D984DCFF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6B746-59A9-4E82-91E1-5951AEC2DFD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B7125-E63D-42E0-B98F-F11322A06CA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427C8-C61F-4564-A169-609F5FBB59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69164-7D60-4BEA-AE85-D55695AB728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6F16D-A534-4C7D-8D64-F293D7B95EB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0E483-26BD-44EB-93E6-E7A0F2DDD50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9E6E7-B993-4111-A327-D1ED0D107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9D0-4DD3-41FF-912C-A646FDB43CF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45EBC-0529-4FDC-A236-FB6B27ED3F4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3676A-6316-42C0-9FA2-5F5D6CEFA55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3C014-C843-49F4-AAA6-396207A68C9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C37FC-0015-4D75-A9DC-B6B7E3A935F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E7276-6503-4C29-8994-F9E729F0630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21D5C-F29D-4BE1-8B53-6B978E4E2A5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30406-179A-4DEB-B411-D131E011795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8EFE9-7731-4BBD-A808-82F586E1B0C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53FCB-67FC-4528-A1FC-3468DE2D3B3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ACA15-EEF4-472D-85AD-EECAD9402E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5D0-E493-45B2-8215-2B303A2FDA1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8E86B-1112-4818-9234-0A9125EF395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35E39B-4D93-4143-9332-70DE04A4F81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413F77-575E-416D-B319-6498602B572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FF0E58-E813-4CF5-ACC0-31DA38BCE76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9516B6-912E-40D2-9FBC-4B2EAC2596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33D23F-BD73-44FE-B6F0-53ED7330653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11C5D-2EFB-4EE1-9E0F-14EFB20889B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7E8B04-E8C4-454D-87E3-285897315F1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AA4E2A-88C8-4ACD-A1DD-A70E2BD4CDD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31A2D2-6443-4AAA-8B0F-66F23F3F70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67A-7F94-45E7-BDBA-6E2E445E494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6F4B7-B3BF-4915-BE35-A61CD51362C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56B65D-37E9-447F-B01D-4E56725D3ED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363E1C-362C-4E4E-8430-B17413467F3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EEBBA-4070-4047-9E1D-CA7CF081F15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CF1B9-1647-4FA0-8546-473D67B8116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E39D-DEA9-4D77-ACD5-F8107686578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5AA4F-7625-483B-8CCD-8D7BF76E2F9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DE5DD-A13C-4F19-8F4C-11551409E4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32F98-F918-449E-8D9A-4C0BC6EC4B5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9AA4A-D989-4FC0-9CF5-6F828274FE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6F70-1D28-42E6-94B0-722D8714CA4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B3814-BDE9-4896-AD6F-2DA4EF6AC13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2E1E-651C-482E-975F-D620BC8D6C4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08D1C-B8D4-4376-A9AC-425F2D58219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49D2-D818-4BDE-B431-FEA3E2C9A03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30D0-1982-4448-9187-945B70D098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65B6CA-AF01-4D12-A260-87D1B80B01D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CE6A8C-435B-4575-93CC-984667CC131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61D643-CC83-409C-8312-1C2DEBEA003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195CCD-62A9-4EED-8849-34704EEB5C4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659870-7245-42D1-B334-F784D949C1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B52D-3F41-4CB4-9E96-3C478614541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E1C127-D8BA-4812-9664-CE799688176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5D5AAE-73F9-4AAB-8BAB-39B768E30CF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92C94-E75D-4E63-8C08-0955FB1ED24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707913-A9B9-4F9E-BF21-44C87EC5D5E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DAD118-253B-4392-A733-BACEA3471C1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F65437-413B-4B53-8B36-ED9333E176F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4B4D4B-23D4-4E48-82F8-4F85BBC2D40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07A02-F035-4ABD-911A-FF1874A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4F567A-8DE5-4D67-A72F-FFAD3609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27E4A7-BFD6-4F1B-A7C5-94559D0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7E96-59FA-4A73-863E-E9ED1313F3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4605A-192A-4C7F-BDE9-0F5E097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320456-5781-41C5-83DE-31CD8797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0B316-9B36-4AAC-973C-C60398F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1D673E-C791-4244-892B-0FC4547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89FFD7-02D9-4B8F-8249-7E3173D2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7BDA0-A54D-44BA-A247-7372BA0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3BE564-05F4-41E6-8B74-2AEDA620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3EA3A4-5462-4458-8524-5408E115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D928FB-7E65-4B71-8407-989CE8C2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E6DC-9F84-4170-92A4-E15DD2F1A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3CA2-5B66-41E1-B929-4C74BDEDD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09B0-5A99-4037-B9FF-BA6251D614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BAE6-D803-4E75-90CF-368FAD8700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8A02-0889-4EDD-81DE-DACB506C5D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AAF9-D3AD-4E48-AC69-4C97E96D93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FB37-B491-4046-9332-034F813E04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A6E-B3B5-48D9-A003-83B9DCDF67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0738-9337-405F-8F68-E769D1452E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6B93-46DB-4F6D-A6B5-28331246FC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A9401-2E80-4FED-85CC-97B3DE6CE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771F-D615-44AC-BE1C-024B8753EB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AF7BD-6FB1-42DB-BA7E-118A472E54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5AA2D-6D61-4F53-B52A-67F809EE8E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246C7-903F-4834-8D66-1BAEB0C80B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0C2AB-E6AE-47C7-80BC-391DF3CCC2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E7479-BF87-48E3-9E96-F5078EA5A7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8F4CD-899E-43B9-8459-2402B54824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F43F3-5FE7-427C-A9DD-2B5BDC8DE4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B6E51-9123-4033-8B7F-122D54EB0A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68829-6D55-46C9-814A-E84A8E3FDF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86D06-2347-4C22-B4C1-0B1BA02FB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6311-8CFB-4E2B-BF05-C56AB4BB48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D4236-D764-4A4C-9775-9D1B4F48F8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DA0AE7-C3CB-46F1-8A3C-09C03FCE1C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C4A03-F96D-4948-8B85-8868EFD0FF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48829-97B5-412C-A06A-03B62CF12F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71024-4CF6-4A0A-B820-6F599218F7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80BA3-34CE-40AE-BC07-2B67A84586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12FF4-988A-42C6-8845-059A5A671C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C8E74-6E82-4F34-BBD0-866580F3A0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833F4-B7AC-4606-8DCD-1901370EF6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75D19-AF56-4066-AF2E-FF432B089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6A97-7B02-4173-AE1C-6B596390AF4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36A34-CDE5-453C-A5E9-F5FDFF99FA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0AD47-C45A-4900-909E-1937E92D2A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53B67-46DA-4006-AF3D-FDF996B695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020D-B9DE-49E2-88B3-B40A6BF174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2D039-972D-47D1-8578-8BF4EA1D97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698BE-4D08-4DB6-A5F8-B2F62B6FDF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12D0C-9146-43EB-AFE6-63B65EC907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CD65B-D3DB-4CEF-B09C-400CBD2023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B028B-077A-44CD-AED5-F2F6C048B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259E-D4A3-4CA2-8B4B-D6EDB165B1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5A49F-52FB-4AAC-AD8C-9F80297F9C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E4DF6-589D-4070-9BE2-D8D8F2DD4A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0B3E1-674B-4AC0-8059-D726319318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A1549-46DC-4279-B170-A9A24B6882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F012A-AFEC-471D-AF77-3E8937DE0D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75DD16-2414-4E2E-B7F6-503CEF843C8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FD54B-9064-45E8-AC9A-01E0C46665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AF750F07-3569-4F22-8B62-CB48F13920B2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1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840F-DF1D-445F-8F67-05BC3E97E42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82A-12DC-413F-80E1-A2ACD21F0283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2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09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B1313F71-4C9F-47D4-9ACF-511F88D7FA3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19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F0FF9F7D-6F9E-4C86-B3DF-8D065BE4B4E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2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2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3A4ACB10-7DD6-439A-AD30-49F4C886E9F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2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0A7-987E-4D81-AA89-F6CDAA88C4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725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73F1F806-830E-4310-8F85-1AE8D84329D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34785826-5CE1-4F4A-88D5-C3CA297DB59E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Num" idx="2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DD770456-3441-489B-AF3C-1D4FB19ACAF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3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4D620EE1-907F-4CB2-B0F8-90B927037C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895CC7B4-E7A2-4958-83B8-37BE09465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3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5CF40AB7-A3F0-4960-A3F0-C80D71BC49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1BB9-B109-4BAB-83F9-EBE4DF170C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1BF97C2E-AAAE-488B-952D-64A845EB664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31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AD97-BA0A-41E1-9387-FEF347659E94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1CB9-9278-468E-8615-137F90A1F87B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4D68AC2A-BF06-4316-B5BE-840C80C86A4B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2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03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734B15C7-869A-4A93-9789-508C055FBF2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objectiv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in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r market sh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er  on time delivery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er design- to market time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costs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product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der geographic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ing ISO 14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leadershi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47A87239-76B8-4453-ABBB-9CFF4399BB2D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s there any conflict between the financial objectives  and strategic objectives .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times it could be some conflict between them organizations sometimes to achieve the financial objectives  can harm the long run strategic obj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igher dividends –technology leaders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e- off between them is impor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ities decisions have to be ma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7FAFDE78-4C9E-48CA-B2C2-4CD66BC9491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1DBE95B9-90D3-4C50-88F0-EBA4B4C7DCE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"/>
          <p:cNvSpPr/>
          <p:nvPr/>
        </p:nvSpPr>
        <p:spPr>
          <a:xfrm>
            <a:off x="533520" y="457200"/>
            <a:ext cx="74674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Not Managing b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6b06"/>
                </a:solidFill>
                <a:latin typeface="Verdana"/>
              </a:rPr>
              <a:t>Strategists should avoid the ways to not managing by 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4"/>
          <p:cNvSpPr/>
          <p:nvPr/>
        </p:nvSpPr>
        <p:spPr>
          <a:xfrm>
            <a:off x="533520" y="1752480"/>
            <a:ext cx="7391160" cy="39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Extrapola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 it isn't broke, don’t fix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Cris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true measure of a good strategist is the ability to fix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Subjecti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 your own thing, the best way you know h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H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future is full of uncertainty and if first you don’t succeed, then yo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 the second or third 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A4EA4BF3-9539-441F-A635-35D7ABA6500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 Box 2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533520" y="838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bert Kaplan &amp; David N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533520" y="2057400"/>
            <a:ext cx="8001000" cy="23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strategy evaluation &amp; contro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e financial measures with nonfinancia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e shareholder objectives with customer &amp; operational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Arab agencies have adopted the balance scorecard approach in recent years  (Abu Dhabi – saudia Arabia- dubai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6" descr="mknfapmw[1]"/>
          <p:cNvPicPr/>
          <p:nvPr/>
        </p:nvPicPr>
        <p:blipFill>
          <a:blip r:embed="rId1"/>
          <a:stretch/>
        </p:blipFill>
        <p:spPr>
          <a:xfrm>
            <a:off x="6477120" y="4435560"/>
            <a:ext cx="2117520" cy="144288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546FECBB-B2A4-45E0-951B-B41E6421E06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Balanced Scorecard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4680" y="1546200"/>
            <a:ext cx="855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ore concept of the balanced scorecar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d scorecar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firm is a simply listing of all key objectives (financial and non financial ) such customer service – employees morals – product quality – pollution abatement , business ethics , social responsibility ……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2D682576-86CF-4C4A-AE8B-BD72A49F81B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5" descr=""/>
          <p:cNvPicPr/>
          <p:nvPr/>
        </p:nvPicPr>
        <p:blipFill>
          <a:blip r:embed="rId1"/>
          <a:srcRect l="0" t="0" r="0" b="6063"/>
          <a:stretch/>
        </p:blipFill>
        <p:spPr>
          <a:xfrm>
            <a:off x="398520" y="380880"/>
            <a:ext cx="8440560" cy="5369040"/>
          </a:xfrm>
          <a:prstGeom prst="rect">
            <a:avLst/>
          </a:prstGeom>
          <a:ln w="0">
            <a:noFill/>
          </a:ln>
        </p:spPr>
      </p:pic>
      <p:sp>
        <p:nvSpPr>
          <p:cNvPr id="10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27B7E417-B673-4DAC-A9FB-37C9CDC1C64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"/>
          <p:cNvSpPr/>
          <p:nvPr/>
        </p:nvSpPr>
        <p:spPr>
          <a:xfrm>
            <a:off x="852120" y="5867280"/>
            <a:ext cx="72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ypes of Strategi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 important strategies  have been display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Growth  strategy</a:t>
            </a:r>
            <a:r>
              <a:rPr b="0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ffensiv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volve increasing investment , this implies that the company is aggressively trying to change its industry and competiton condition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Retrenchment strategy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efensiv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a defensive strategy where the company seek to protect its position and hopefully minimize exposure to risk .this means that the company applies a course of action that limits the size or the kind of its market involvemen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Slide Number Placeholder 1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27DF8F70-6003-4160-93D9-B73CFBA6B42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The stability strategy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maintain the status quo  ) it means that company avoid undertaking any changes  and keep satisfy with the current market position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today’s global market this strategy is not fit . It is mostly found in small enterpri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this reason we will focus in detail on the other types of strategie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on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9D526AE5-A618-4A45-9045-2DEF9996799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Definitions of the alternative types of strategi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04920" y="152388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Vertical integration (forward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)         gaining ownership or increased control over distributions or retail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Vertical integration (backward)        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seeking ownership or increased control of a firm’s ownershi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Horizontal integration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seeking ownership or increased control over competito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11789D5A-C5BB-49B4-81BF-25DCF1A5ED9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8" name="Straight Arrow Connector 7"/>
          <p:cNvCxnSpPr/>
          <p:nvPr/>
        </p:nvCxnSpPr>
        <p:spPr>
          <a:xfrm>
            <a:off x="4724280" y="1904760"/>
            <a:ext cx="915120" cy="76680"/>
          </a:xfrm>
          <a:prstGeom prst="straightConnector1">
            <a:avLst/>
          </a:prstGeom>
          <a:ln w="0">
            <a:noFill/>
          </a:ln>
        </p:spPr>
      </p:cxnSp>
      <p:sp>
        <p:nvSpPr>
          <p:cNvPr id="1109" name="Oval 8"/>
          <p:cNvSpPr/>
          <p:nvPr/>
        </p:nvSpPr>
        <p:spPr>
          <a:xfrm>
            <a:off x="4876920" y="1828800"/>
            <a:ext cx="10666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0" name="Straight Arrow Connector 12"/>
          <p:cNvCxnSpPr/>
          <p:nvPr/>
        </p:nvCxnSpPr>
        <p:spPr>
          <a:xfrm>
            <a:off x="5029200" y="1676160"/>
            <a:ext cx="53424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962160" y="4723920"/>
            <a:ext cx="53388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5410080" y="3123720"/>
            <a:ext cx="53424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Market penetration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 </a:t>
            </a: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seeking increased market share for existing products or services in existing markets through greater market 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Market developmenet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introducing existing product into new geographic are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Product development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seeking increased sales by improving &amp; modifying the existing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Innovation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 introducing completely new product or servi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Related diversification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adding new but related products or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b05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CD03F69E-6835-4B68-AE8A-8175C3832CE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Straight Arrow Connector 5"/>
          <p:cNvCxnSpPr/>
          <p:nvPr/>
        </p:nvCxnSpPr>
        <p:spPr>
          <a:xfrm>
            <a:off x="3657600" y="17521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7" name="Straight Arrow Connector 8"/>
          <p:cNvCxnSpPr/>
          <p:nvPr/>
        </p:nvCxnSpPr>
        <p:spPr>
          <a:xfrm>
            <a:off x="3962520" y="28951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8" name="Straight Arrow Connector 9"/>
          <p:cNvCxnSpPr/>
          <p:nvPr/>
        </p:nvCxnSpPr>
        <p:spPr>
          <a:xfrm>
            <a:off x="3809880" y="35809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9" name="Straight Arrow Connector 10"/>
          <p:cNvCxnSpPr/>
          <p:nvPr/>
        </p:nvCxnSpPr>
        <p:spPr>
          <a:xfrm>
            <a:off x="2438280" y="42667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20" name="Straight Arrow Connector 11"/>
          <p:cNvCxnSpPr/>
          <p:nvPr/>
        </p:nvCxnSpPr>
        <p:spPr>
          <a:xfrm>
            <a:off x="4038480" y="502884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6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ies in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9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0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5"/>
          <p:cNvSpPr/>
          <p:nvPr/>
        </p:nvSpPr>
        <p:spPr>
          <a:xfrm>
            <a:off x="228600" y="647712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AEC5842E-E93D-45E2-9CC6-B946A152830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Unrelated diversific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adding new unrelated products or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Retrenchmen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regrouping through cost and asset reduction to reverse declining sales and profi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Divestitur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selling a division or part of an organiz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Liquidati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selling all of a company ‘s assets , in parts , for their tangible wort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A0A0B54D-3B78-4DB7-922B-9563757447E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4" name="Straight Arrow Connector 5"/>
          <p:cNvCxnSpPr/>
          <p:nvPr/>
        </p:nvCxnSpPr>
        <p:spPr>
          <a:xfrm>
            <a:off x="4495320" y="182844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5" name="Straight Arrow Connector 6"/>
          <p:cNvCxnSpPr/>
          <p:nvPr/>
        </p:nvCxnSpPr>
        <p:spPr>
          <a:xfrm>
            <a:off x="2971800" y="2895120"/>
            <a:ext cx="915120" cy="1080"/>
          </a:xfrm>
          <a:prstGeom prst="straightConnector1">
            <a:avLst/>
          </a:prstGeom>
          <a:ln w="25560">
            <a:solidFill>
              <a:srgbClr val="ed6b06"/>
            </a:solidFill>
            <a:miter/>
            <a:tailEnd len="med" type="triangle" w="med"/>
          </a:ln>
        </p:spPr>
      </p:cxnSp>
      <p:cxnSp>
        <p:nvCxnSpPr>
          <p:cNvPr id="1126" name="Straight Arrow Connector 7"/>
          <p:cNvCxnSpPr/>
          <p:nvPr/>
        </p:nvCxnSpPr>
        <p:spPr>
          <a:xfrm>
            <a:off x="2590920" y="502884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27" name="Straight Arrow Connector 8"/>
          <p:cNvCxnSpPr/>
          <p:nvPr/>
        </p:nvCxnSpPr>
        <p:spPr>
          <a:xfrm>
            <a:off x="2590920" y="396216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organizations  simultaneously pursue a combination of these strategie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ganizations have limited resources and incomplete information , thus priorities must be undertaken  (choose among altern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53A46EBB-4743-43D4-B0BF-5ABAB7AC931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8835BEB9-8B87-4E6E-A1A9-08F3136E22B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"/>
          <p:cNvSpPr/>
          <p:nvPr/>
        </p:nvSpPr>
        <p:spPr>
          <a:xfrm>
            <a:off x="304920" y="38088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evels  of Strategies and the person who  is respo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3"/>
          <p:cNvGrpSpPr/>
          <p:nvPr/>
        </p:nvGrpSpPr>
        <p:grpSpPr>
          <a:xfrm>
            <a:off x="457200" y="1066680"/>
            <a:ext cx="8229240" cy="4786200"/>
            <a:chOff x="457200" y="1066680"/>
            <a:chExt cx="8229240" cy="4786200"/>
          </a:xfrm>
        </p:grpSpPr>
        <p:sp>
          <p:nvSpPr>
            <p:cNvPr id="1134" name="Pyr1"/>
            <p:cNvSpPr/>
            <p:nvPr/>
          </p:nvSpPr>
          <p:spPr>
            <a:xfrm>
              <a:off x="3659400" y="1066680"/>
              <a:ext cx="1844640" cy="1060920"/>
            </a:xfrm>
            <a:custGeom>
              <a:avLst/>
              <a:gdLst>
                <a:gd name="textAreaLeft" fmla="*/ 461160 w 1844640"/>
                <a:gd name="textAreaRight" fmla="*/ 1383480 w 1844640"/>
                <a:gd name="textAreaTop" fmla="*/ 579600 h 1060920"/>
                <a:gd name="textAreaBottom" fmla="*/ 1011960 h 106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Pyr2"/>
            <p:cNvSpPr/>
            <p:nvPr/>
          </p:nvSpPr>
          <p:spPr>
            <a:xfrm>
              <a:off x="2591280" y="2127600"/>
              <a:ext cx="3972600" cy="1244520"/>
            </a:xfrm>
            <a:custGeom>
              <a:avLst/>
              <a:gdLst>
                <a:gd name="textAreaLeft" fmla="*/ 1064160 w 3972600"/>
                <a:gd name="textAreaRight" fmla="*/ 2908440 w 3972600"/>
                <a:gd name="textAreaTop" fmla="*/ 29160 h 1244520"/>
                <a:gd name="textAreaBottom" fmla="*/ 1215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Pyr3"/>
            <p:cNvSpPr/>
            <p:nvPr/>
          </p:nvSpPr>
          <p:spPr>
            <a:xfrm>
              <a:off x="1535040" y="3372120"/>
              <a:ext cx="6083280" cy="1243080"/>
            </a:xfrm>
            <a:custGeom>
              <a:avLst/>
              <a:gdLst>
                <a:gd name="textAreaLeft" fmla="*/ 1489680 w 6083280"/>
                <a:gd name="textAreaRight" fmla="*/ 4593600 w 6083280"/>
                <a:gd name="textAreaTop" fmla="*/ 29160 h 1243080"/>
                <a:gd name="textAreaBottom" fmla="*/ 1213920 h 12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Pyr4"/>
            <p:cNvSpPr/>
            <p:nvPr/>
          </p:nvSpPr>
          <p:spPr>
            <a:xfrm>
              <a:off x="457200" y="4608720"/>
              <a:ext cx="8229240" cy="1244160"/>
            </a:xfrm>
            <a:custGeom>
              <a:avLst/>
              <a:gdLst>
                <a:gd name="textAreaLeft" fmla="*/ 1251000 w 8229240"/>
                <a:gd name="textAreaRight" fmla="*/ 6595560 w 8229240"/>
                <a:gd name="textAreaTop" fmla="*/ 29160 h 1244160"/>
                <a:gd name="textAreaBottom" fmla="*/ 1215000 h 12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8"/>
          <p:cNvSpPr/>
          <p:nvPr/>
        </p:nvSpPr>
        <p:spPr>
          <a:xfrm>
            <a:off x="1828800" y="4952880"/>
            <a:ext cx="56386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r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t manger – sales manger – production man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9"/>
          <p:cNvSpPr/>
          <p:nvPr/>
        </p:nvSpPr>
        <p:spPr>
          <a:xfrm>
            <a:off x="2590920" y="3809880"/>
            <a:ext cx="4114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man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0"/>
          <p:cNvSpPr/>
          <p:nvPr/>
        </p:nvSpPr>
        <p:spPr>
          <a:xfrm>
            <a:off x="3352680" y="2514600"/>
            <a:ext cx="25909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vis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ision president&amp; vice presid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1"/>
          <p:cNvSpPr/>
          <p:nvPr/>
        </p:nvSpPr>
        <p:spPr>
          <a:xfrm>
            <a:off x="3886200" y="1371600"/>
            <a:ext cx="1523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hief executive offic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2"/>
          <p:cNvSpPr/>
          <p:nvPr/>
        </p:nvSpPr>
        <p:spPr>
          <a:xfrm>
            <a:off x="380880" y="198108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Large &amp; small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A88793C-6EC2-45FB-BF21-2AD17440609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5 -</a:t>
            </a:r>
            <a:fld id="{48050B2D-EB7F-49AB-A72D-4A5ED559731E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Isosceles Triangle 9"/>
          <p:cNvSpPr/>
          <p:nvPr/>
        </p:nvSpPr>
        <p:spPr>
          <a:xfrm>
            <a:off x="3886200" y="1752480"/>
            <a:ext cx="685800" cy="21337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1600200" y="838080"/>
            <a:ext cx="6082920" cy="3700440"/>
            <a:chOff x="1600200" y="838080"/>
            <a:chExt cx="6082920" cy="3700440"/>
          </a:xfrm>
        </p:grpSpPr>
        <p:sp>
          <p:nvSpPr>
            <p:cNvPr id="1148" name="Pyr1"/>
            <p:cNvSpPr/>
            <p:nvPr/>
          </p:nvSpPr>
          <p:spPr>
            <a:xfrm>
              <a:off x="3734280" y="838080"/>
              <a:ext cx="1844640" cy="12121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wner /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eside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Pyr2"/>
            <p:cNvSpPr/>
            <p:nvPr/>
          </p:nvSpPr>
          <p:spPr>
            <a:xfrm>
              <a:off x="2656440" y="2050200"/>
              <a:ext cx="3972600" cy="12427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al mang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Pyr3"/>
            <p:cNvSpPr/>
            <p:nvPr/>
          </p:nvSpPr>
          <p:spPr>
            <a:xfrm>
              <a:off x="1600200" y="3295800"/>
              <a:ext cx="6082920" cy="1242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peration lev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2DD22F47-1340-45B1-AFC6-475C8B45675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3"/>
          <p:cNvSpPr/>
          <p:nvPr/>
        </p:nvSpPr>
        <p:spPr>
          <a:xfrm>
            <a:off x="762120" y="27432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Integration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4"/>
          <p:cNvSpPr/>
          <p:nvPr/>
        </p:nvSpPr>
        <p:spPr>
          <a:xfrm>
            <a:off x="5029200" y="17524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war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5"/>
          <p:cNvSpPr/>
          <p:nvPr/>
        </p:nvSpPr>
        <p:spPr>
          <a:xfrm>
            <a:off x="5029200" y="32004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ckw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6"/>
          <p:cNvSpPr/>
          <p:nvPr/>
        </p:nvSpPr>
        <p:spPr>
          <a:xfrm>
            <a:off x="5029200" y="46483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rizont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7"/>
          <p:cNvSpPr/>
          <p:nvPr/>
        </p:nvSpPr>
        <p:spPr>
          <a:xfrm flipV="1">
            <a:off x="2743200" y="21333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8"/>
          <p:cNvSpPr/>
          <p:nvPr/>
        </p:nvSpPr>
        <p:spPr>
          <a:xfrm>
            <a:off x="274320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9"/>
          <p:cNvSpPr/>
          <p:nvPr/>
        </p:nvSpPr>
        <p:spPr>
          <a:xfrm>
            <a:off x="2743200" y="36576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0A208876-31BE-4531-BCC7-4D5A24210D8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92D4D3C0-276D-4AB0-BBAE-AA592DC7867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3"/>
          <p:cNvSpPr/>
          <p:nvPr/>
        </p:nvSpPr>
        <p:spPr>
          <a:xfrm>
            <a:off x="685800" y="266688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Intensive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4"/>
          <p:cNvSpPr/>
          <p:nvPr/>
        </p:nvSpPr>
        <p:spPr>
          <a:xfrm>
            <a:off x="4952880" y="16765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5"/>
          <p:cNvSpPr/>
          <p:nvPr/>
        </p:nvSpPr>
        <p:spPr>
          <a:xfrm>
            <a:off x="4952880" y="27432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6"/>
          <p:cNvSpPr/>
          <p:nvPr/>
        </p:nvSpPr>
        <p:spPr>
          <a:xfrm>
            <a:off x="4952880" y="3809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"/>
          <p:cNvSpPr/>
          <p:nvPr/>
        </p:nvSpPr>
        <p:spPr>
          <a:xfrm flipV="1">
            <a:off x="2666880" y="2057040"/>
            <a:ext cx="22100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2666880" y="3581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9"/>
          <p:cNvSpPr/>
          <p:nvPr/>
        </p:nvSpPr>
        <p:spPr>
          <a:xfrm>
            <a:off x="2666880" y="3581280"/>
            <a:ext cx="2210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7"/>
          <p:cNvSpPr/>
          <p:nvPr/>
        </p:nvSpPr>
        <p:spPr>
          <a:xfrm>
            <a:off x="2666880" y="3581280"/>
            <a:ext cx="221004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6"/>
          <p:cNvSpPr/>
          <p:nvPr/>
        </p:nvSpPr>
        <p:spPr>
          <a:xfrm>
            <a:off x="4952880" y="48769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61B27319-35F2-44EF-9A75-16F8C8341A2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6FD8F985-34FD-4459-86DD-8DFE05B284A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3"/>
          <p:cNvSpPr/>
          <p:nvPr/>
        </p:nvSpPr>
        <p:spPr>
          <a:xfrm>
            <a:off x="762120" y="2590920"/>
            <a:ext cx="1981080" cy="190476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en-US" sz="1900" spc="-1" strike="noStrike">
                <a:solidFill>
                  <a:srgbClr val="fbf5ea"/>
                </a:solidFill>
                <a:latin typeface="Verdana"/>
              </a:rPr>
              <a:t>Diversification</a:t>
            </a:r>
            <a:br>
              <a:rPr sz="1900"/>
            </a:br>
            <a:r>
              <a:rPr b="1" lang="en-US" sz="19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4"/>
          <p:cNvSpPr/>
          <p:nvPr/>
        </p:nvSpPr>
        <p:spPr>
          <a:xfrm>
            <a:off x="5029200" y="16002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6"/>
          <p:cNvSpPr/>
          <p:nvPr/>
        </p:nvSpPr>
        <p:spPr>
          <a:xfrm>
            <a:off x="5029200" y="44956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re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7"/>
          <p:cNvSpPr/>
          <p:nvPr/>
        </p:nvSpPr>
        <p:spPr>
          <a:xfrm flipV="1">
            <a:off x="2743200" y="1981080"/>
            <a:ext cx="22096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9"/>
          <p:cNvSpPr/>
          <p:nvPr/>
        </p:nvSpPr>
        <p:spPr>
          <a:xfrm>
            <a:off x="2743200" y="3505320"/>
            <a:ext cx="22096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672A8E4B-5621-4F8B-A819-2309A8C8C76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7E24A23-F35F-481D-9098-94695A4BBB9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3"/>
          <p:cNvSpPr/>
          <p:nvPr/>
        </p:nvSpPr>
        <p:spPr>
          <a:xfrm>
            <a:off x="685800" y="266688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Defensive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4"/>
          <p:cNvSpPr/>
          <p:nvPr/>
        </p:nvSpPr>
        <p:spPr>
          <a:xfrm>
            <a:off x="4952880" y="16765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5"/>
          <p:cNvSpPr/>
          <p:nvPr/>
        </p:nvSpPr>
        <p:spPr>
          <a:xfrm>
            <a:off x="4952880" y="31240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6"/>
          <p:cNvSpPr/>
          <p:nvPr/>
        </p:nvSpPr>
        <p:spPr>
          <a:xfrm>
            <a:off x="4952880" y="45720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7"/>
          <p:cNvSpPr/>
          <p:nvPr/>
        </p:nvSpPr>
        <p:spPr>
          <a:xfrm flipV="1">
            <a:off x="2666880" y="2057040"/>
            <a:ext cx="22100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8"/>
          <p:cNvSpPr/>
          <p:nvPr/>
        </p:nvSpPr>
        <p:spPr>
          <a:xfrm>
            <a:off x="2666880" y="3581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9"/>
          <p:cNvSpPr/>
          <p:nvPr/>
        </p:nvSpPr>
        <p:spPr>
          <a:xfrm>
            <a:off x="2666880" y="3581280"/>
            <a:ext cx="2210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4E64E5FC-1184-4359-8A9A-6E65E9C64D2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457200" y="380880"/>
            <a:ext cx="8153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chael Porter’s Generic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3"/>
          <p:cNvSpPr/>
          <p:nvPr/>
        </p:nvSpPr>
        <p:spPr>
          <a:xfrm flipH="1">
            <a:off x="437760" y="75693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57200" y="1143000"/>
            <a:ext cx="6705720" cy="15238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Leadership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ow-Cost &amp; Best-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Producing standardized products at a 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low per unit cost for consumers who are price- sensitiv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380880" y="2971800"/>
            <a:ext cx="6858000" cy="11430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erenti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Means producing products &amp; services consid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unique across the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380880" y="4267080"/>
            <a:ext cx="6858000" cy="129564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cus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means producing products &amp;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That fulfill the needs of small groups of consumers  </a:t>
            </a:r>
            <a:br>
              <a:rPr sz="2000"/>
            </a:br>
            <a:r>
              <a:rPr b="1" i="1" lang="en-US" sz="2000" spc="-1" strike="noStrike">
                <a:solidFill>
                  <a:srgbClr val="fbf5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8"/>
          <p:cNvSpPr/>
          <p:nvPr/>
        </p:nvSpPr>
        <p:spPr>
          <a:xfrm>
            <a:off x="3352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AF487E1A-101B-44F7-8F8A-7E6E8DD7B3B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"/>
          <p:cNvSpPr/>
          <p:nvPr/>
        </p:nvSpPr>
        <p:spPr>
          <a:xfrm>
            <a:off x="304920" y="304920"/>
            <a:ext cx="8458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ans for Achie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228600" y="2057400"/>
            <a:ext cx="7467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/Partn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rgers and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ivate Equity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rst-Mover 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4E87723D-8FF7-41A8-892F-D958A2BE635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53FE18A-7BE2-4CF4-87CF-03557B18EB6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"/>
          <p:cNvSpPr/>
          <p:nvPr/>
        </p:nvSpPr>
        <p:spPr>
          <a:xfrm>
            <a:off x="533520" y="1828800"/>
            <a:ext cx="73800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s of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s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sific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ns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er’s Five Generic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609480" y="304920"/>
            <a:ext cx="7769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Joint Venture/Part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152280" y="2209680"/>
            <a:ext cx="80773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 is a popular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wo or more companies form a temporary partnership for the purpose of capitalizing on some opport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Unlike the many U.S. counterparts, Arab corporations have sought cooperative and joint venture agreements with global corp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913B1DF6-D6B4-451D-9303-BE93DE6CFD7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2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rgers and 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304920" y="1981080"/>
            <a:ext cx="807696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 merger occurs when two organizations of about equal size unite to form on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 acquisition occurs when a large organization purchases a smaller firm or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00DB845D-A69E-4883-87E7-29D2B433A2F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2"/>
          <p:cNvSpPr/>
          <p:nvPr/>
        </p:nvSpPr>
        <p:spPr>
          <a:xfrm>
            <a:off x="533520" y="304920"/>
            <a:ext cx="86104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rgers and Acquisitions (cont’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380880" y="16002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27120" indent="-447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Key reasons why mergers and acquisitions fail: (important</a:t>
            </a:r>
            <a:r>
              <a:rPr b="1" lang="en-US" sz="2000" spc="-1" strike="noStrike">
                <a:solidFill>
                  <a:srgbClr val="ed6b0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adequate evaluation of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arge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ability to achieve synergy (Synergy means 1+1= more than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Too much diver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ficult to integrate different organizational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duced employee morale due to layoffs and re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7B939F08-4C5C-4351-8751-17622160282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"/>
          <p:cNvSpPr/>
          <p:nvPr/>
        </p:nvSpPr>
        <p:spPr>
          <a:xfrm>
            <a:off x="304920" y="2514600"/>
            <a:ext cx="83818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usiness-Process Outsourcing (B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anies taking over the functional operations of other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8E0911B5-57CE-4F0A-A969-76D425DAFC2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in Nonprofit and Governmental Organization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5" name="Text Box 5"/>
          <p:cNvSpPr/>
          <p:nvPr/>
        </p:nvSpPr>
        <p:spPr>
          <a:xfrm>
            <a:off x="380880" y="1523880"/>
            <a:ext cx="7543800" cy="41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rab world the non- profit and governmental organizations are successfully applying  strategic manage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ducational institution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more frequently using strategic management techniques and concepts (as ex. universities across the region have adopted strategic planning to manage their resources and develop realistic plans for the future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dical Organiz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- many strategies being pursued by many hospitals as such creating home health services , acquiring ambulance service and diagnostic servic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8045C01-24EF-4EB9-A2F8-9C81290D1B3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in Small Fi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80880" y="1676520"/>
            <a:ext cx="7696440" cy="37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5% of all businesses in the Arab world region are family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rab entrepreneurs start off as owners of small and medium-sized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s vital for small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strategic management knowledge is a serious obstacle for many small business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F15070F5-FECD-48D9-90CA-D6A6758C10D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B400B95E-05BC-4562-9D40-39AF28A2477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533520" y="2057400"/>
            <a:ext cx="8373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For Achiev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n Nonprofit and Government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n Small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Long Term Objectives 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 the results expected  from pursuing certain  strateg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strategies represent the actions to be taken to accomplish long – term objectiv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ime frame for objectives and strategies should be consistent  (usually from two to five years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24BD774F-6EEC-45F5-B1BA-1C9231A5E20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33D1D514-ADC5-44D4-B953-DA6BD4055E8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2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long-term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4"/>
          <p:cNvSpPr/>
          <p:nvPr/>
        </p:nvSpPr>
        <p:spPr>
          <a:xfrm>
            <a:off x="609480" y="2133720"/>
            <a:ext cx="3353040" cy="223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4"/>
          <p:cNvSpPr/>
          <p:nvPr/>
        </p:nvSpPr>
        <p:spPr>
          <a:xfrm>
            <a:off x="5029200" y="2133720"/>
            <a:ext cx="3276720" cy="24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gruent among organizational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5C2175E5-A9E8-4CFE-853B-72CDCC6815A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bjectives are communally stated in terms such as the following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65040" y="1546200"/>
            <a:ext cx="840744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in sa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et sh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gree and nature of divers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gree and nature of vertical integr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responsibilit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F1AD84DD-922A-48A2-B13E-6D85D618728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tated and communicated  objectives are vital to success?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help stakeholders understand their role in an organization’s fu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basis for consistent decision making by managers whose values and attitudes diff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reaching a consensus on objectives during strategy – formulation activates- the organization can minimize potential conflicts later during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 serve as standards by which individuals ,groups, departments, divisions and entire organizations can be evalu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also provide directions and allow for organizations synerg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8A76B24-7662-4845-905C-9F0530ADCA9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F0AD41CC-60CF-40AE-B903-194904BFCF5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"/>
          <p:cNvSpPr/>
          <p:nvPr/>
        </p:nvSpPr>
        <p:spPr>
          <a:xfrm>
            <a:off x="457200" y="457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ial vs. Strategic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457200" y="833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457200" y="1905120"/>
            <a:ext cx="67816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th in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th in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ivid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return on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earnings per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ing stock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C12B2598-EF8B-42F3-97BF-5CBEC8F9BD2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20:17:41Z</dcterms:created>
  <dc:creator>Preferred Customer</dc:creator>
  <dc:description/>
  <dc:language>en-US</dc:language>
  <cp:lastModifiedBy>USER</cp:lastModifiedBy>
  <dcterms:modified xsi:type="dcterms:W3CDTF">2012-12-02T15:57:40Z</dcterms:modified>
  <cp:revision>120</cp:revision>
  <dc:subject/>
  <dc:title>Chapter 5 Strategies in Action</dc:title>
</cp:coreProperties>
</file>