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</p:sldMasterIdLst>
  <p:notesMasterIdLst>
    <p:notesMasterId r:id="rId29"/>
  </p:notes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  <p:sldId id="271" r:id="rId45"/>
    <p:sldId id="272" r:id="rId46"/>
    <p:sldId id="273" r:id="rId47"/>
    <p:sldId id="274" r:id="rId48"/>
    <p:sldId id="275" r:id="rId49"/>
    <p:sldId id="276" r:id="rId50"/>
    <p:sldId id="277" r:id="rId51"/>
    <p:sldId id="278" r:id="rId52"/>
    <p:sldId id="279" r:id="rId53"/>
    <p:sldId id="280" r:id="rId54"/>
    <p:sldId id="281" r:id="rId55"/>
    <p:sldId id="282" r:id="rId56"/>
    <p:sldId id="283" r:id="rId57"/>
    <p:sldId id="284" r:id="rId58"/>
    <p:sldId id="285" r:id="rId59"/>
    <p:sldId id="286" r:id="rId60"/>
    <p:sldId id="287" r:id="rId61"/>
    <p:sldId id="288" r:id="rId62"/>
    <p:sldId id="289" r:id="rId63"/>
    <p:sldId id="290" r:id="rId64"/>
    <p:sldId id="291" r:id="rId65"/>
    <p:sldId id="292" r:id="rId66"/>
    <p:sldId id="293" r:id="rId67"/>
    <p:sldId id="294" r:id="rId68"/>
    <p:sldId id="295" r:id="rId69"/>
    <p:sldId id="296" r:id="rId70"/>
    <p:sldId id="297" r:id="rId71"/>
    <p:sldId id="298" r:id="rId72"/>
    <p:sldId id="299" r:id="rId73"/>
    <p:sldId id="300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notesMaster" Target="notesMasters/notesMaster1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slide" Target="slides/slide16.xml"/><Relationship Id="rId46" Type="http://schemas.openxmlformats.org/officeDocument/2006/relationships/slide" Target="slides/slide17.xml"/><Relationship Id="rId47" Type="http://schemas.openxmlformats.org/officeDocument/2006/relationships/slide" Target="slides/slide18.xml"/><Relationship Id="rId48" Type="http://schemas.openxmlformats.org/officeDocument/2006/relationships/slide" Target="slides/slide19.xml"/><Relationship Id="rId49" Type="http://schemas.openxmlformats.org/officeDocument/2006/relationships/slide" Target="slides/slide20.xml"/><Relationship Id="rId50" Type="http://schemas.openxmlformats.org/officeDocument/2006/relationships/slide" Target="slides/slide21.xml"/><Relationship Id="rId51" Type="http://schemas.openxmlformats.org/officeDocument/2006/relationships/slide" Target="slides/slide22.xml"/><Relationship Id="rId52" Type="http://schemas.openxmlformats.org/officeDocument/2006/relationships/slide" Target="slides/slide23.xml"/><Relationship Id="rId53" Type="http://schemas.openxmlformats.org/officeDocument/2006/relationships/slide" Target="slides/slide24.xml"/><Relationship Id="rId54" Type="http://schemas.openxmlformats.org/officeDocument/2006/relationships/slide" Target="slides/slide25.xml"/><Relationship Id="rId55" Type="http://schemas.openxmlformats.org/officeDocument/2006/relationships/slide" Target="slides/slide26.xml"/><Relationship Id="rId56" Type="http://schemas.openxmlformats.org/officeDocument/2006/relationships/slide" Target="slides/slide27.xml"/><Relationship Id="rId57" Type="http://schemas.openxmlformats.org/officeDocument/2006/relationships/slide" Target="slides/slide28.xml"/><Relationship Id="rId58" Type="http://schemas.openxmlformats.org/officeDocument/2006/relationships/slide" Target="slides/slide29.xml"/><Relationship Id="rId59" Type="http://schemas.openxmlformats.org/officeDocument/2006/relationships/slide" Target="slides/slide30.xml"/><Relationship Id="rId60" Type="http://schemas.openxmlformats.org/officeDocument/2006/relationships/slide" Target="slides/slide31.xml"/><Relationship Id="rId61" Type="http://schemas.openxmlformats.org/officeDocument/2006/relationships/slide" Target="slides/slide32.xml"/><Relationship Id="rId62" Type="http://schemas.openxmlformats.org/officeDocument/2006/relationships/slide" Target="slides/slide33.xml"/><Relationship Id="rId63" Type="http://schemas.openxmlformats.org/officeDocument/2006/relationships/slide" Target="slides/slide34.xml"/><Relationship Id="rId64" Type="http://schemas.openxmlformats.org/officeDocument/2006/relationships/slide" Target="slides/slide35.xml"/><Relationship Id="rId65" Type="http://schemas.openxmlformats.org/officeDocument/2006/relationships/slide" Target="slides/slide36.xml"/><Relationship Id="rId66" Type="http://schemas.openxmlformats.org/officeDocument/2006/relationships/slide" Target="slides/slide37.xml"/><Relationship Id="rId67" Type="http://schemas.openxmlformats.org/officeDocument/2006/relationships/slide" Target="slides/slide38.xml"/><Relationship Id="rId68" Type="http://schemas.openxmlformats.org/officeDocument/2006/relationships/slide" Target="slides/slide39.xml"/><Relationship Id="rId69" Type="http://schemas.openxmlformats.org/officeDocument/2006/relationships/slide" Target="slides/slide40.xml"/><Relationship Id="rId70" Type="http://schemas.openxmlformats.org/officeDocument/2006/relationships/slide" Target="slides/slide41.xml"/><Relationship Id="rId71" Type="http://schemas.openxmlformats.org/officeDocument/2006/relationships/slide" Target="slides/slide42.xml"/><Relationship Id="rId72" Type="http://schemas.openxmlformats.org/officeDocument/2006/relationships/slide" Target="slides/slide43.xml"/><Relationship Id="rId73" Type="http://schemas.openxmlformats.org/officeDocument/2006/relationships/slide" Target="slides/slide44.xml"/><Relationship Id="rId74" Type="http://schemas.openxmlformats.org/officeDocument/2006/relationships/slide" Target="slides/slide45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CD02-1038-42CB-9B1B-01AF3D51D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F54B-3F5A-4229-B973-F18652D7A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6CD1-07D2-4E8C-BB36-07ABAE7EB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6A40-FC62-4E02-A11B-5C82CAB5E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1F3F-750B-4B89-8819-8B630843B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97BB-F0E4-473A-A657-8F63465B3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F9C2-1D3E-480B-85A9-B6093E2F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012F-FDDF-403C-B69F-5966ACEAE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F30E-3DC7-4ABD-9A6E-893E31053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A4E4-D35E-49F1-B5A4-106D13FDB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AD5C-E2DF-4960-AFAB-16344085C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F03F-67BF-412B-9766-43A69E6A9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604D-6AF4-4A19-A9C5-4C149BB56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E32A-9510-424A-8F7A-495D47F092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7607-BD02-407D-8864-7748A35FE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01D4-A371-44E5-8F2D-3A9F7EA46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21B3-1F18-4718-9AF2-1B98E92277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5CCA-72F8-4476-AF0B-313F336A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EA5A-10C6-4E0D-8502-E33D53C25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9B69-B4D6-4EB4-89BF-A69F19214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2FBE-BC61-4B37-B79D-1AFD642A1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3090-DBAF-4E7A-B769-D190C9BF3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6968-D939-4DCC-9DA8-17863B918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8CE5-C477-46CD-94F0-3AF31C104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3838-0958-4A74-B5D2-305919DDB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FC47-ECE4-4361-8E26-4C07510EE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C0E-B9D4-4E88-9A80-563BEBB27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E399-124C-48A8-B410-3E6BACDFD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2C41-568D-4EFD-B8FC-4B3274D2C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0603-AB9D-40F0-A6F7-E6AF1C503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08DD-21CD-46E2-B368-52EA1B5C9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D43A-5988-4AEA-A673-3B6ED21A3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A4DF-64B7-4FBA-9F14-4C5410E75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9D32-3EC8-4E34-A834-3687E7413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BD68-9A56-468D-8D5B-A1713AB45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EF0E-8413-4F49-9386-E171AD00F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6B56-719F-47C0-B2CF-B64366CBD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1908-7FB2-47EA-B66A-D2885F639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567E-13D1-4244-A7AF-7CE30BCCC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8C0F-06BC-49C1-BBAE-A88A8A70E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4AD-ECED-413B-8EAD-CE0B2DCFA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45EB-092E-4052-81B1-4A4BEC999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9531-9A75-4BB9-A3E6-AF88CE5D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AED5-CE31-4719-8BFB-A1BFA01250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1EA39-13D9-4DB0-9ADE-7649EE2ADBC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1548-F9E4-49F5-8C40-9FD056D7543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E7092-08E3-4012-8D16-10A3FAE1BF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64F43-E4F6-4548-AF96-D1A3C9C8F46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B05D8-A87D-4EB4-BB6D-D07D0CA51D6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EC06-403C-44A5-BA22-5939ACC17FB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37DE5-68C3-4DCF-87D7-BF4851EC7B8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182CB-2B3F-4FE3-B15D-8EBEC0EC7CB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E5BDD-66BB-426A-9D79-455413A428C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8C9F8-876E-4524-A638-6BEC058C064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F772C-7F8A-49E8-9555-B24881A8520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7584-FB73-4834-A6F8-A745D8EA83C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339D8-939F-435F-AD49-BDF602B67FC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CD61D-EED4-4B69-8294-91A6AA9905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4FD05-DA15-4764-B66D-2A52DCE7E5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94F75-53EA-499D-AC26-16219BC49B6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F2085-E90C-45DC-ACB4-6C174CD65A47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498F5-A65A-45D2-88BB-A8AB8D07BCF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054F9-9094-4FFC-ACCB-054AC92EBC0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B4B94-0C56-4F26-8B57-5EA3A4D2103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8BC21-CE65-4882-9866-12FD647BB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6304-AB73-4227-B5DA-C9F4F8F3430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9E59D-BD18-4CDB-8B2D-56BF74249C65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52EDF-8865-4E6A-8561-2BD3210BE90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DB474-3C2D-47D4-907F-636394DF00D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927370-99C6-4F9E-9C64-1ABF3ACEAED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955DAB-CAE3-4BBE-B39A-9F9D7C9352C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758E40-8FE7-4F55-9569-398296C0475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5A99F-5195-4DD4-9DA4-48156F0C769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21F0C9-7117-459F-8B0C-DF3CAA1EB2D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9920A9-6E21-48AD-B210-20EC1D2F4D9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9398F5-F798-426C-96D4-BB1F266E2C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780D-6323-4C11-9ED9-E44FE3E5EB5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E13526-44E7-4532-A38B-493A91117D3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456CD8-0CBE-4815-B03F-20938C5A51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4C9108-A1A2-43B8-BD2C-A7D5F1EB69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75D88F-43B2-41BC-BC25-5A48C722117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02ECC-8196-4ACB-80BC-1969AD912170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4602-A335-486C-B2C6-E7A9FE7D34C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5298D-4361-4CD2-B007-9C0461EC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B3599-E760-4E4A-B336-D32105639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AF2A25-0EA4-43C0-8E15-72ABB4CE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737-DA63-4C93-AD3D-67CD6917649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909FEF-F1FD-4883-83A0-9754202D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1ACAA7-0BD4-467D-BE89-A00966C7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8F6266-20CC-4D8A-A0A3-18D3CA12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C5962D-345A-4B87-85FD-610F628E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9FF278-CF89-4466-BC6A-F3BD6708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222FF-15D0-4012-85E3-A3208323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84D5C7-2595-4EA8-A9C5-3D2D5106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5F266D-94E6-40C0-88A8-674B730E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2B9A8-E25E-481E-83F2-81A6A52B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5DA-A62B-4867-BF91-A1A2920D69A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2A7-7159-438C-80B8-13957C3E6C1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4A544-C04A-412C-9F0F-5FEEA5578399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25089-4831-4EA7-AB69-8FB998A11DD9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67311-4A99-4F5A-87E6-7C5560F25AB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8B0B8-76D2-40E5-BF3F-386C001F8CB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AF114-2820-4772-AE24-B6B40C441C0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CC29A4-9455-4A8B-A2E9-91A1AEAAAFE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56C3B-E182-4594-A900-AB174719641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B7657-AEA6-431E-AF85-BAE2B1C63A5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D164F-1DF2-492B-BE44-7CC623C91B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043-0801-44C7-B36C-D3F41CDA4FD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E0710-CE1A-4220-B805-D7B2351C7FA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B08FB-3ECD-4E47-BF4F-360D6838336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2944E-33EE-472C-8478-5EDAFA17BFA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5B1EAA-FBA8-467E-A79E-C14F332E7DF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13A014-FC20-42ED-BBD2-F8B00E5BF57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E2487D-CABC-4EFD-9AE4-6ADE2A6B1DE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979CE5-2B74-4ADC-8855-64AB84F0F53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EE0C81-2833-490E-8998-EC0C87BCF9A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E7DA05-DDF5-49A6-A1F6-DC6E7F13AAE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0CC12E-5516-4AB7-B0DA-B612BC9163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75CC-D7F8-4143-AC92-07AA03AB06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DFB-C5F6-4EE3-BBEE-6A4A5782F6D7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4A985D-E150-4B59-93BE-5C7EB643616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F310C1-BFC3-4024-9BDE-09D8F9432F9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67DA26-BD69-4644-9BC6-EA55F07F64E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DE9352-B77F-408A-A809-973F0EDA161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925F23-B8EA-4902-9609-987442B9FED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C10024-4B59-442C-B0BA-296AA5AD8AC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5979A5-67CB-4E12-8EB7-6A28EAE414E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69B29F-ADE4-48BE-A759-F2C2D4041654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095031-F8B7-4D91-86B4-8F5BA785B405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F9BB2-97D1-4BF8-8CD1-14769D5310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CFAA-3348-4022-913A-F645C3A0839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7BC1CF-59C7-4A08-A6C8-38AECCC2270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5E5E6D-52AE-47A5-97BE-EFB93F2CCBAB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11C510-F749-48A8-AE9D-90A896AE78D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5EBDDF-70EF-42CA-8166-FE0AC2622DE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BD5358-6B6C-4A95-A1A5-5F819ECF947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135A98-EE8C-4A12-A7D6-71CE7B9946D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BC11B7-07C4-41E6-9BEC-34C98475369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DEF2AB-4D7E-4BEA-86D7-824FEA63670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3CB8A-FC74-483D-A8A5-D8B075103DC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CD564-C351-42E8-A99B-A3B99E91BE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B909-E6DF-40A2-AE68-9CEBAA614D37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1DCBF-CACF-4071-9D85-FDF469DDBAEF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6A0F5-4236-467E-A9DC-B309B519667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3252B1-0015-4408-B637-28CA8F240D3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4EDE91-F9DE-4239-9F89-B0C16CDEFBF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8B6BA-002B-441C-8DC8-4AD204E78F0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82777-678D-479D-8F37-6B70EDF0C5CB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B2904-0C73-4257-AE33-96E4A825B88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B8BC1-3C07-4B7B-8FA9-1F5A3DE8438E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A50F3-1C37-4782-92B0-649DDFDEF73A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D4E0AB-0D8A-44D5-9613-27969C6A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A7D8-E8C0-4D1E-96D6-FB08BF721C7D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007EF5-9F68-4F45-8F84-16AE9F00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EA4AB8E-AD07-49B7-A7AF-9356AE98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1A8259-C325-465E-8F02-012EFCEB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439094-A419-4007-99FF-D0E75E91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66ACF1-5D0F-4CAC-AC30-E8FE729D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9D3C74-08E7-40E6-B77E-E5524E39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C0153D-C199-4F6E-8B8C-0E53D0E8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C6D321-82BE-4C16-9C99-8FDAD7BA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2DCAE9-E25C-4F48-B5E5-3B3CADA4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5374CA-E9DB-4133-B331-6BFDF697B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94E-CBB9-48D5-98C6-471E0949581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C1D337-8F90-4D71-A896-AA61929A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F1519-11B3-4EFD-9822-32322D67F4E5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4632F5-9E5D-4D7A-938A-BBA6B31A445F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58C48E-CAF9-422E-BE92-264C27C9407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09151F-37E1-42B2-8DF9-83CC8DBA8195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80ACE25-E2AD-4430-927E-F9C66C67DC2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D0B3408-9E7B-49F7-A0F4-CE293CAC26E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C8F719-3C4F-4201-9E96-8A4811D7C8A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266011-7944-443F-9318-2E8572F5DD2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CAE07-20BF-453B-BFE8-D93FEBFC8B3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57F0A8-AA19-464F-8D17-0169F2F8F91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646CF99-EF40-4238-9946-E85CD3DC515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8BAFF3-BD29-4689-9EE9-8DAFB204F47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52B7EAB-D7E7-4C97-8DDC-72BE4B32A3F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8DD3DE-75DF-4A38-985D-B66A2EE91E6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4A335C-1571-41BA-9854-982D9A14745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27EE57-5B6C-4B69-8FA7-CF977E9F19B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AC7C74-24B0-429D-854A-1DDE935B107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D9748-6BE0-451E-9617-F2136C68451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EA87E3-5DD0-4BEB-8CA9-3F931F7262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4E396-4034-471F-8AF0-D4243446033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66F95-CDE6-4F81-AE0C-E5ED4F9E30B0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3A04C2-89F6-4B68-8B04-FFDB144181F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DD106-87AF-4D34-9D32-8F239A8E0D6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75D800-45CB-4593-83F7-4741988BDE7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952D82-BB06-4A5C-AFB1-17F159AB85D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778DE4-3E1D-47F7-9F17-44332B5A81B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B06150-42A2-4425-ADDF-2C136EFC53F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B41CE52-C667-4C96-A719-95E8475FDD44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2426679-AA4C-4A18-9333-5AE47DAA776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AB2D0C6-6EF9-46A6-AFE2-6CA019011DA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B27EBE-EE68-4AF4-8B94-017D2FDCA5A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8AE95C1-482E-4481-914D-B582661261D4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FB92AF5-99CA-477D-8AA3-6F64F45FE00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36D07F-AD0E-4AD6-B456-B0FCA328AA05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716068-B73F-4B15-B823-7CB5F937F192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71953A9-8E04-4E6C-9C28-520FCEC5CE51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A769B74-F7B4-4CBF-AB12-DBDA97AC304D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21D2A7D-740A-43C7-BFF1-665D87971DD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110DF9-DCBA-4BB2-9BB1-98762B88365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152B8C-C63C-464D-AFBB-D436BE72B1A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48422-3D1C-4C4E-A4A9-C7B42EFF2F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21A8B-702A-42A4-B49A-EBEC037FAD72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F0EC8-9261-4270-9225-7D742F38864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A347C2-6332-4489-9F1D-B409FAE659E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C5AA6-30C8-41F7-A0EC-2A689F287BD9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06A936-F01D-4F58-B3F8-FB05676AF6D7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6D235-D290-40B9-921B-C1FC17B623B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BA5B3-64B9-4E0F-A210-6AEEE1E895B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6C247F-0FF8-42F5-B229-B2C2E4B4EC68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EBC58-9FBF-46E1-9C52-629FC1C70790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62F755-50AE-4A44-BAE0-139F879DD0B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C6229A-D684-4EE0-A652-205830EFC3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9274A-DE54-4293-857F-68CDD76EB5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636E9-AD11-4D9E-9BD9-9F8FDBF0728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D58B5F-5DF7-445C-84D6-6F90DB2224C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1238117-BA80-47A3-93F8-959B969DF4B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6AF0D99-128A-4BB8-BE3D-006242761AF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4D82CB-8152-4A45-8ACB-735843068534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3D6E8AB-DFD3-4906-AE84-489847AECCB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F088E9-DB0D-4B34-86C7-F03CA6A3D534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5AF732-8CEC-41FC-B792-2A952305A3E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B3F1C0-3B1C-4A0A-83FA-4159044E08F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EB5915-0612-48E7-A2D8-28BE4F54D9E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797E199-6587-4DB2-BAC1-DE9BC0CA802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1641D4-BA8F-4FEB-8795-1276203536B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7858F3-3C15-4A9C-A071-A33F0B3F97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31971EF-48EA-4A4E-A716-50993363FFD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039337-22AB-477A-B1CF-0D3CB0392FC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BEE685-4049-4622-994E-B0781EB7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3BBC8CF-F432-4127-9B26-4373D70F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859EB0F-B616-4729-BDFD-630548CD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064F4D-09C5-42C4-AFF6-029164D8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6395B9-53FA-493F-BE16-61C18CCCF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2993A2-863B-41A1-87E5-00320257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616C4D2-C3A4-4CD3-B3FC-790277A9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C9DF6-7008-4DDB-9DD7-79D719FBC0FF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1438CF-6F80-4DC9-831F-A9F85A3E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EBB717-B250-4FAE-A0D7-525F34A3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ED2663-6D26-463E-B987-E38DA4365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B00C74-ACB0-4ED2-89AE-F9C43488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2E1945-55B8-4AD8-88AC-AD94AC32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E1CAE-BE98-4833-A8D2-E3E823A5B90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3C61D-3B6F-4027-94B8-74235E33C47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0D57E-5E74-40F9-8F00-96A3E05B5A0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E73A24-7E90-4602-95E0-C7EDF3CC2FC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AC4F93-D5B8-4DBE-9A8D-35F1A7727FF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929544-1DAD-4A6B-999F-BD0C46203DF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26FF34-7B26-473D-A192-38B8B443E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16BE-AF63-4F78-AB08-DEEAD9AA5B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075F74-8382-43D9-9ECE-788A2AE3C9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F03259-2936-4985-872B-A2BE62DCF09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0237C-77A1-43AF-BD28-93C201E180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F3ED43-7F6A-40BD-9D67-62CB8F3A95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1291E-377D-4AC6-8AD2-48DE80119F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F6517-C02F-44C0-B92B-0F6867A413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270F4-9044-4A57-81D8-B877A27146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2C0A20-5841-47E0-92DB-8F8C1B6451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F8E6BF-0893-4EB3-AD92-5357A13520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E6799-8295-4D9D-97E4-F59D3A6AE8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37CD-B19B-4382-97A1-ACF3BB9E70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A93ED-455C-4660-BCE0-A3012B37189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29A75-8139-4BCF-A616-893E6C9FAD7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CAA12-D1FA-4FFE-A58E-5D4386DB5A0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82852-FA36-41A3-8AF2-6D239C2658C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A530-4BDD-4A86-B19E-B30EC2F51BC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2AAE-EFED-4BA1-A9BF-D7C963522F2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F84DE-E66A-4AD7-8095-A70447CBAB4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46F06-2783-4519-97D9-6955E0FDC98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9FC57-6455-4313-B0FD-44BDB6206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8F7BB-BE8D-4D00-8651-F05EC1D1EAB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DE1C0-972E-4367-9E4F-93914D5DF69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0205-A00B-4E57-BEA8-AA809928EFB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5D3D6-7EB8-4089-9A8B-DB1A41E8FAF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96DD5B-469E-4559-A918-FEFC57B304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06BFC-55D8-4FFE-9831-7181997E92E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E1448E-1FA8-4BA2-8FFF-97A6FC75B0E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5305A-5B64-4056-A01C-2235BC7B5E4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2170D2-EBF2-4960-B6FD-08CE89F6DA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E6489-2028-488B-B904-1F5AEA83E44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5542B-02F7-4054-A790-3DA4AEA0A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6A5A-9848-4687-BFDE-500C9CF6ABF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CD85F8-83AA-44B9-A6E4-80C37402F3C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560FE4-1E60-47A2-AEB2-4C9AF815198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EB1C24-4314-4517-8ECC-37E82904266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C3266-6B60-4618-8320-95FFC0AC1BA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61DF2-52B9-4D4B-B7FD-9382DE9EAEB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30C6-0831-4D82-A5B9-58EC98FDD84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48139-CE63-48DC-BAF5-5950DA9CD4D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889A-FF58-4E62-BEB3-343474A7B05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4C1F8-72D8-4F2C-9831-FEC8749DBB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6 -</a:t>
            </a:r>
            <a:fld id="{EC470B33-48C2-4C8C-B7EB-668405FC4C8A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2"/>
          <p:cNvSpPr/>
          <p:nvPr/>
        </p:nvSpPr>
        <p:spPr>
          <a:xfrm>
            <a:off x="457200" y="6248520"/>
            <a:ext cx="5562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84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4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5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B070-5AE1-4938-BABA-F4B66A8762E4}" type="slidenum">
              <a:rPr b="0" lang="en-GB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6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7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CDD8-E288-41B2-BEEB-8F1B84C68A15}" type="slidenum">
              <a:rPr b="0" lang="en-GB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1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46A3-26E6-45F2-845A-834653206D7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94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9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935BCA76-8DB6-4932-B85D-751D7DA3A4A1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2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9D6266B5-6C75-4C78-AD05-953E8D96EFA6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2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BE33F1D-244A-4208-AC18-A70B71AAA0A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Num" idx="27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391D234-13F8-491C-AC52-18236DE9EA9C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28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6E32510-9591-4D1E-8DC9-C84292FD4A7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2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3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3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5CF3-551F-4143-9F00-7CAD397E4CA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853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857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3 -</a:t>
            </a:r>
            <a:fld id="{E71CBD3B-E29E-49D0-8171-F7C4EB249FA6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3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sldNum" idx="3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3 -</a:t>
            </a:r>
            <a:fld id="{448E5495-E875-418E-8F4A-8B53B0D55ECC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3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7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1 -</a:t>
            </a:r>
            <a:fld id="{5B86D3BF-A6D2-4DD1-B0AC-A383C46557C2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8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39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1 -</a:t>
            </a:r>
            <a:fld id="{131BFFC2-6E8D-46D5-BB10-654D6DD0061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9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 type="ftr" idx="40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 type="sldNum" idx="4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 1 -</a:t>
            </a:r>
            <a:fld id="{7D493968-859A-4C90-BE6C-3D503C3DA54D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 type="dt" idx="4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 type="ftr" idx="4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E56-F40C-468A-8729-898C0EC9F5E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36426B13-4DAE-4E8F-94B9-95405F9CB5F3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6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7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3 -</a:t>
            </a:r>
            <a:fld id="{3A2AB7EB-3D3F-4CFC-9C62-EB69DF1D609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7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8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9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660E-AD2E-429C-B27A-1A773D0CE879}" type="slidenum">
              <a:rPr b="0" lang="en-GB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0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1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E80D-55FD-409D-80E0-4578D85DA034}" type="slidenum">
              <a:rPr b="0" lang="en-GB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6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AF73F673-C1DC-44D3-B79C-D782344E96BB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Arial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1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16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Slide Number Placeholder 5"/>
          <p:cNvSpPr/>
          <p:nvPr/>
        </p:nvSpPr>
        <p:spPr>
          <a:xfrm>
            <a:off x="22860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44827EDE-E60A-4890-9463-2B75E43FB90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0530D768-9D73-4132-87CD-73358DE6750C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Text Box 2"/>
          <p:cNvSpPr/>
          <p:nvPr/>
        </p:nvSpPr>
        <p:spPr>
          <a:xfrm>
            <a:off x="53352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Rectangle 7"/>
          <p:cNvSpPr/>
          <p:nvPr/>
        </p:nvSpPr>
        <p:spPr>
          <a:xfrm>
            <a:off x="4952880" y="1447920"/>
            <a:ext cx="3200400" cy="106668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rnal Factor Evalu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trix (IF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Rectangle 12"/>
          <p:cNvSpPr/>
          <p:nvPr/>
        </p:nvSpPr>
        <p:spPr>
          <a:xfrm>
            <a:off x="4952880" y="3048120"/>
            <a:ext cx="3200400" cy="106668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ternal Factor Evalua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atrix (EF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Rectangle 13"/>
          <p:cNvSpPr/>
          <p:nvPr/>
        </p:nvSpPr>
        <p:spPr>
          <a:xfrm>
            <a:off x="4952880" y="4724280"/>
            <a:ext cx="3200400" cy="106704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etitive Profile Matrix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CP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Oval 14"/>
          <p:cNvSpPr/>
          <p:nvPr/>
        </p:nvSpPr>
        <p:spPr>
          <a:xfrm>
            <a:off x="762120" y="2895480"/>
            <a:ext cx="3352680" cy="129564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bf5ea"/>
                </a:solidFill>
                <a:latin typeface="Verdana"/>
              </a:rPr>
              <a:t>Stage 1:</a:t>
            </a:r>
            <a:br>
              <a:rPr sz="1800"/>
            </a:br>
            <a:r>
              <a:rPr b="1" lang="en-US" sz="1800" spc="-1" strike="noStrike">
                <a:solidFill>
                  <a:srgbClr val="fbf5ea"/>
                </a:solidFill>
                <a:latin typeface="Verdana"/>
              </a:rPr>
              <a:t>The Input Sta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Line 15"/>
          <p:cNvSpPr/>
          <p:nvPr/>
        </p:nvSpPr>
        <p:spPr>
          <a:xfrm flipV="1">
            <a:off x="4114800" y="1904760"/>
            <a:ext cx="8380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Line 17"/>
          <p:cNvSpPr/>
          <p:nvPr/>
        </p:nvSpPr>
        <p:spPr>
          <a:xfrm>
            <a:off x="4114800" y="3505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Line 18"/>
          <p:cNvSpPr/>
          <p:nvPr/>
        </p:nvSpPr>
        <p:spPr>
          <a:xfrm>
            <a:off x="4114800" y="3505320"/>
            <a:ext cx="8380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63830AD0-031E-4185-8E7C-0F54AD8651B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279CCE2-0B20-48C4-BC28-8A168B2961C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Text Box 2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age 1: The Input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Text Box 4"/>
          <p:cNvSpPr/>
          <p:nvPr/>
        </p:nvSpPr>
        <p:spPr>
          <a:xfrm>
            <a:off x="457200" y="1295280"/>
            <a:ext cx="8458200" cy="241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ic input information for the matching &amp; decision stage matr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intuitive judgment always need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7120" indent="-357120"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782FC76E-43EC-4330-A27B-1481055C128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8D433B50-B946-4130-A23F-58461956025F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Text Box 2"/>
          <p:cNvSpPr/>
          <p:nvPr/>
        </p:nvSpPr>
        <p:spPr>
          <a:xfrm>
            <a:off x="53352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Rectangle 3"/>
          <p:cNvSpPr/>
          <p:nvPr/>
        </p:nvSpPr>
        <p:spPr>
          <a:xfrm>
            <a:off x="5334120" y="114300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Line 7"/>
          <p:cNvSpPr/>
          <p:nvPr/>
        </p:nvSpPr>
        <p:spPr>
          <a:xfrm flipV="1">
            <a:off x="4495680" y="14475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Line 8"/>
          <p:cNvSpPr/>
          <p:nvPr/>
        </p:nvSpPr>
        <p:spPr>
          <a:xfrm>
            <a:off x="44956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2" name="Line 9"/>
          <p:cNvSpPr/>
          <p:nvPr/>
        </p:nvSpPr>
        <p:spPr>
          <a:xfrm>
            <a:off x="4495680" y="34290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Rectangle 10"/>
          <p:cNvSpPr/>
          <p:nvPr/>
        </p:nvSpPr>
        <p:spPr>
          <a:xfrm>
            <a:off x="5334120" y="21337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Rectangle 11"/>
          <p:cNvSpPr/>
          <p:nvPr/>
        </p:nvSpPr>
        <p:spPr>
          <a:xfrm>
            <a:off x="5334120" y="30481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Rectangle 12"/>
          <p:cNvSpPr/>
          <p:nvPr/>
        </p:nvSpPr>
        <p:spPr>
          <a:xfrm>
            <a:off x="5334120" y="403848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Rectangle 13"/>
          <p:cNvSpPr/>
          <p:nvPr/>
        </p:nvSpPr>
        <p:spPr>
          <a:xfrm>
            <a:off x="5334120" y="50292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Line 14"/>
          <p:cNvSpPr/>
          <p:nvPr/>
        </p:nvSpPr>
        <p:spPr>
          <a:xfrm flipV="1">
            <a:off x="4495680" y="25146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8" name="Line 15"/>
          <p:cNvSpPr/>
          <p:nvPr/>
        </p:nvSpPr>
        <p:spPr>
          <a:xfrm>
            <a:off x="4495680" y="3429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Oval 16"/>
          <p:cNvSpPr/>
          <p:nvPr/>
        </p:nvSpPr>
        <p:spPr>
          <a:xfrm>
            <a:off x="1143000" y="281952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754A5F7D-DA85-479B-BC0B-6F08885999E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C81C49FD-88CD-457A-A1DC-1D87F12DB70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age 2: The Matching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Text Box 3"/>
          <p:cNvSpPr/>
          <p:nvPr/>
        </p:nvSpPr>
        <p:spPr>
          <a:xfrm>
            <a:off x="533520" y="1981080"/>
            <a:ext cx="6781680" cy="19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ing the match between organization’s internal resources &amp; skills and the opportunities &amp; risks created by its external fa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55705EA5-B699-4A8F-9D13-DE734958904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95A31DAA-D9DF-4CB2-99D8-6CEB4C17043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9" name="Text Box 2"/>
          <p:cNvSpPr/>
          <p:nvPr/>
        </p:nvSpPr>
        <p:spPr>
          <a:xfrm>
            <a:off x="533520" y="45720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age 2: The Matching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0" name="Text Box 3"/>
          <p:cNvSpPr/>
          <p:nvPr/>
        </p:nvSpPr>
        <p:spPr>
          <a:xfrm>
            <a:off x="533520" y="2362320"/>
            <a:ext cx="67816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 SWOT matrix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it is an important matching tool that help managers develop four types of strategies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403A031A-C126-4696-AA40-B74BDB62638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4" name=""/>
          <p:cNvGraphicFramePr/>
          <p:nvPr/>
        </p:nvGraphicFramePr>
        <p:xfrm>
          <a:off x="1523880" y="3809880"/>
          <a:ext cx="6096240" cy="121932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SO</a:t>
                      </a: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f1893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WO</a:t>
                      </a:r>
                      <a:r>
                        <a:rPr b="1" lang="en-US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f18938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ada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adace"/>
                    </a:solidFill>
                  </a:tcPr>
                </a:tc>
              </a:tr>
            </a:tbl>
          </a:graphicData>
        </a:graphic>
      </p:graphicFrame>
      <p:sp>
        <p:nvSpPr>
          <p:cNvPr id="1255" name="Rectangle 14"/>
          <p:cNvSpPr/>
          <p:nvPr/>
        </p:nvSpPr>
        <p:spPr>
          <a:xfrm>
            <a:off x="4397400" y="32446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WOT Matrix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graphicFrame>
        <p:nvGraphicFramePr>
          <p:cNvPr id="1257" name=""/>
          <p:cNvGraphicFramePr/>
          <p:nvPr/>
        </p:nvGraphicFramePr>
        <p:xfrm>
          <a:off x="0" y="990720"/>
          <a:ext cx="9144000" cy="5867280"/>
        </p:xfrm>
        <a:graphic>
          <a:graphicData uri="http://schemas.openxmlformats.org/drawingml/2006/table">
            <a:tbl>
              <a:tblPr/>
              <a:tblGrid>
                <a:gridCol w="3319560"/>
                <a:gridCol w="2670120"/>
                <a:gridCol w="3154320"/>
              </a:tblGrid>
              <a:tr h="187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6b0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engths –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 Streng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eaknesses –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W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 Weakn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</a:tr>
              <a:tr h="202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portunities – </a:t>
                      </a:r>
                      <a:r>
                        <a:rPr b="1" i="1" lang="en-US" sz="2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 Opportun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O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strengths to take advantage of 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O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coming weaknesses by taking advantage of opportunit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</a:tr>
              <a:tr h="1963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reats – 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 Threa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ST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s</a:t>
                      </a:r>
                      <a:br>
                        <a:rPr sz="2400"/>
                      </a:b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strengths to avoid thr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WT</a:t>
                      </a: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trategies</a:t>
                      </a:r>
                      <a:br>
                        <a:rPr sz="24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efensive strategy aim a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imize weaknesses and avoid thre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39b1c"/>
                    </a:solidFill>
                  </a:tcPr>
                </a:tc>
              </a:tr>
            </a:tbl>
          </a:graphicData>
        </a:graphic>
      </p:graphicFrame>
      <p:sp>
        <p:nvSpPr>
          <p:cNvPr id="1258" name="Slide Number Placeholder 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449AA11B-1B56-42EE-81CD-005F6F4552D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Straight Connector 9"/>
          <p:cNvSpPr/>
          <p:nvPr/>
        </p:nvSpPr>
        <p:spPr>
          <a:xfrm>
            <a:off x="609480" y="990720"/>
            <a:ext cx="289584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62" name="Straight Arrow Connector 11"/>
          <p:cNvCxnSpPr/>
          <p:nvPr/>
        </p:nvCxnSpPr>
        <p:spPr>
          <a:xfrm>
            <a:off x="1981080" y="1523880"/>
            <a:ext cx="1067760" cy="76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3" name="Straight Arrow Connector 13"/>
          <p:cNvCxnSpPr/>
          <p:nvPr/>
        </p:nvCxnSpPr>
        <p:spPr>
          <a:xfrm>
            <a:off x="990360" y="1752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WOT 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Example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457200" y="1371600"/>
          <a:ext cx="8229600" cy="4419720"/>
        </p:xfrm>
        <a:graphic>
          <a:graphicData uri="http://schemas.openxmlformats.org/drawingml/2006/table">
            <a:tbl>
              <a:tblPr/>
              <a:tblGrid>
                <a:gridCol w="2841480"/>
                <a:gridCol w="2644920"/>
                <a:gridCol w="2743200"/>
              </a:tblGrid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Key internal fac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ed6b0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Key external fact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ed6b0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bf5ea"/>
                          </a:solidFill>
                          <a:latin typeface="Verdana"/>
                        </a:rPr>
                        <a:t>Resultant strateg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18720">
                      <a:solidFill>
                        <a:srgbClr val="fbf5ea"/>
                      </a:solidFill>
                    </a:lnB>
                    <a:solidFill>
                      <a:srgbClr val="ed6b06"/>
                    </a:solidFill>
                  </a:tcPr>
                </a:tc>
              </a:tr>
              <a:tr h="82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cess working capacity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trength )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% annual growth in the cell phone industry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opportunity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quire Cell phone ,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S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1872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ufficient capacity (weakness)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it of two major foreign competitors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opportunity 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rsue horizontal integration by buying competitors ‘s facilities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W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ong R&amp;D expertise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strength )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reasing number of younger adults (threat  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new products for older 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S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8d4cc"/>
                    </a:solidFill>
                  </a:tcPr>
                </a:tc>
              </a:tr>
              <a:tr h="106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or employees moral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weakness)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ong union activity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threa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velop a new employees benefits pack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(W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bf5ea"/>
                      </a:solidFill>
                    </a:lnL>
                    <a:lnR w="5760">
                      <a:solidFill>
                        <a:srgbClr val="fbf5ea"/>
                      </a:solidFill>
                    </a:lnR>
                    <a:lnT w="5760">
                      <a:solidFill>
                        <a:srgbClr val="fbf5ea"/>
                      </a:solidFill>
                    </a:lnT>
                    <a:lnB w="5760">
                      <a:solidFill>
                        <a:srgbClr val="fbf5ea"/>
                      </a:solidFill>
                    </a:lnB>
                    <a:solidFill>
                      <a:srgbClr val="fcebe7"/>
                    </a:solidFill>
                  </a:tcPr>
                </a:tc>
              </a:tr>
            </a:tbl>
          </a:graphicData>
        </a:graphic>
      </p:graphicFrame>
      <p:sp>
        <p:nvSpPr>
          <p:cNvPr id="1266" name="Slide Number Placeholder 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1882DFD0-E953-4565-BE72-E5F5E1087CDF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67" name="Straight Arrow Connector 9"/>
          <p:cNvCxnSpPr/>
          <p:nvPr/>
        </p:nvCxnSpPr>
        <p:spPr>
          <a:xfrm>
            <a:off x="5409720" y="2666520"/>
            <a:ext cx="8391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8" name="Straight Arrow Connector 11"/>
          <p:cNvCxnSpPr/>
          <p:nvPr/>
        </p:nvCxnSpPr>
        <p:spPr>
          <a:xfrm>
            <a:off x="5257800" y="3733560"/>
            <a:ext cx="9151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69" name="Straight Arrow Connector 13"/>
          <p:cNvCxnSpPr/>
          <p:nvPr/>
        </p:nvCxnSpPr>
        <p:spPr>
          <a:xfrm>
            <a:off x="5257800" y="4647960"/>
            <a:ext cx="838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70" name="Straight Arrow Connector 15"/>
          <p:cNvCxnSpPr/>
          <p:nvPr/>
        </p:nvCxnSpPr>
        <p:spPr>
          <a:xfrm>
            <a:off x="5257800" y="5638320"/>
            <a:ext cx="8388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FFB58EAF-FC3C-4A3A-846C-94B76CE650D5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533520" y="45720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5334120" y="11430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Line 4"/>
          <p:cNvSpPr/>
          <p:nvPr/>
        </p:nvSpPr>
        <p:spPr>
          <a:xfrm flipV="1">
            <a:off x="4495680" y="144756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Line 5"/>
          <p:cNvSpPr/>
          <p:nvPr/>
        </p:nvSpPr>
        <p:spPr>
          <a:xfrm>
            <a:off x="4495680" y="34290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Line 6"/>
          <p:cNvSpPr/>
          <p:nvPr/>
        </p:nvSpPr>
        <p:spPr>
          <a:xfrm>
            <a:off x="4495680" y="342900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Rectangle 7"/>
          <p:cNvSpPr/>
          <p:nvPr/>
        </p:nvSpPr>
        <p:spPr>
          <a:xfrm>
            <a:off x="5334120" y="213372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Rectangle 8"/>
          <p:cNvSpPr/>
          <p:nvPr/>
        </p:nvSpPr>
        <p:spPr>
          <a:xfrm>
            <a:off x="5334120" y="30481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Rectangle 9"/>
          <p:cNvSpPr/>
          <p:nvPr/>
        </p:nvSpPr>
        <p:spPr>
          <a:xfrm>
            <a:off x="5334120" y="403848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Rectangle 10"/>
          <p:cNvSpPr/>
          <p:nvPr/>
        </p:nvSpPr>
        <p:spPr>
          <a:xfrm>
            <a:off x="5334120" y="50292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1" name="Line 11"/>
          <p:cNvSpPr/>
          <p:nvPr/>
        </p:nvSpPr>
        <p:spPr>
          <a:xfrm flipV="1">
            <a:off x="4495680" y="25146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Line 12"/>
          <p:cNvSpPr/>
          <p:nvPr/>
        </p:nvSpPr>
        <p:spPr>
          <a:xfrm>
            <a:off x="4495680" y="342900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3" name="Oval 13"/>
          <p:cNvSpPr/>
          <p:nvPr/>
        </p:nvSpPr>
        <p:spPr>
          <a:xfrm>
            <a:off x="1143000" y="281952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647172BC-D5BC-4F60-B1B5-F464AB1B991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BCEF0D1D-9BCB-4329-847A-83EA5D5C640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Text Box 2"/>
          <p:cNvSpPr/>
          <p:nvPr/>
        </p:nvSpPr>
        <p:spPr>
          <a:xfrm>
            <a:off x="533520" y="4572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PACE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ic Position &amp; Action Evaluation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8" name="Text Box 4"/>
          <p:cNvSpPr/>
          <p:nvPr/>
        </p:nvSpPr>
        <p:spPr>
          <a:xfrm>
            <a:off x="609480" y="2362320"/>
            <a:ext cx="6782040" cy="22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-quadrants indicate whether the most appropriate strategy i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gres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erv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n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636C6DA4-BF54-42D9-BA93-3C5273A42FF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73F6FF86-5784-42D9-85A7-96586E77EC2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Text Box 2"/>
          <p:cNvSpPr/>
          <p:nvPr/>
        </p:nvSpPr>
        <p:spPr>
          <a:xfrm>
            <a:off x="533520" y="457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6b06"/>
                </a:solidFill>
                <a:latin typeface="Verdana"/>
              </a:rPr>
              <a:t>SPACE Matri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Text Box 3"/>
          <p:cNvSpPr/>
          <p:nvPr/>
        </p:nvSpPr>
        <p:spPr>
          <a:xfrm>
            <a:off x="609480" y="220968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wo Internal Dimens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5" name="Text Box 4"/>
          <p:cNvSpPr/>
          <p:nvPr/>
        </p:nvSpPr>
        <p:spPr>
          <a:xfrm>
            <a:off x="609480" y="2590920"/>
            <a:ext cx="67820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Strength (F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ive Advantage (C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F92AD170-99A6-4C59-A390-ABD180E6245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340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7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Strategy Analysis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7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16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Slide Number Placeholder 5"/>
          <p:cNvSpPr/>
          <p:nvPr/>
        </p:nvSpPr>
        <p:spPr>
          <a:xfrm>
            <a:off x="22860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E2C87DD2-80AE-443D-A4C5-EB3743C23B1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A3AD62F4-C8BC-4EBA-B1E4-9DAE842F388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PACE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Text Box 3"/>
          <p:cNvSpPr/>
          <p:nvPr/>
        </p:nvSpPr>
        <p:spPr>
          <a:xfrm>
            <a:off x="533520" y="220968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wo External Dimens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Text Box 4"/>
          <p:cNvSpPr/>
          <p:nvPr/>
        </p:nvSpPr>
        <p:spPr>
          <a:xfrm>
            <a:off x="533520" y="2590920"/>
            <a:ext cx="678168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Stability (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dustry Strength (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E84E0402-A49F-4142-97D2-59CAAC018CD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PACE Factor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5" name="Slide Number Placeholder 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D71E0108-5CCE-4013-A6C6-A176143ACD5D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6" name="Group 3"/>
          <p:cNvGrpSpPr/>
          <p:nvPr/>
        </p:nvGrpSpPr>
        <p:grpSpPr>
          <a:xfrm>
            <a:off x="533520" y="1143000"/>
            <a:ext cx="8153280" cy="4467240"/>
            <a:chOff x="533520" y="1143000"/>
            <a:chExt cx="8153280" cy="4467240"/>
          </a:xfrm>
        </p:grpSpPr>
        <p:sp>
          <p:nvSpPr>
            <p:cNvPr id="1307" name="Rectangle 4"/>
            <p:cNvSpPr/>
            <p:nvPr/>
          </p:nvSpPr>
          <p:spPr>
            <a:xfrm>
              <a:off x="4406040" y="1774440"/>
              <a:ext cx="4280400" cy="3835440"/>
            </a:xfrm>
            <a:prstGeom prst="rect">
              <a:avLst/>
            </a:prstGeom>
            <a:solidFill>
              <a:srgbClr val="f39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nvironmental Stability (E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Technological change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ate of inflation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emand variabilit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ice range of competing product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iers to entr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mpetitive pressu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ase of exit from market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isk involved in busines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8" name="Rectangle 5"/>
            <p:cNvSpPr/>
            <p:nvPr/>
          </p:nvSpPr>
          <p:spPr>
            <a:xfrm>
              <a:off x="533520" y="1774440"/>
              <a:ext cx="3872520" cy="3835440"/>
            </a:xfrm>
            <a:prstGeom prst="rect">
              <a:avLst/>
            </a:prstGeom>
            <a:solidFill>
              <a:srgbClr val="f39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Financial Strength (F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eturn on investment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everag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Liquidity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Working capital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ash flow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ventory turnover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arnings per shar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ice earnings rati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9" name="Rectangle 6"/>
            <p:cNvSpPr/>
            <p:nvPr/>
          </p:nvSpPr>
          <p:spPr>
            <a:xfrm>
              <a:off x="4406040" y="1143000"/>
              <a:ext cx="4280400" cy="631440"/>
            </a:xfrm>
            <a:prstGeom prst="rect">
              <a:avLst/>
            </a:prstGeom>
            <a:solidFill>
              <a:srgbClr val="ed6b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ternal Strategic Po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0" name="Rectangle 7"/>
            <p:cNvSpPr/>
            <p:nvPr/>
          </p:nvSpPr>
          <p:spPr>
            <a:xfrm>
              <a:off x="533520" y="1143000"/>
              <a:ext cx="3872520" cy="631440"/>
            </a:xfrm>
            <a:prstGeom prst="rect">
              <a:avLst/>
            </a:prstGeom>
            <a:solidFill>
              <a:srgbClr val="ed6b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ternal Strategic Po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1" name="Line 8"/>
            <p:cNvSpPr/>
            <p:nvPr/>
          </p:nvSpPr>
          <p:spPr>
            <a:xfrm>
              <a:off x="534600" y="1143000"/>
              <a:ext cx="815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2" name="Line 9"/>
            <p:cNvSpPr/>
            <p:nvPr/>
          </p:nvSpPr>
          <p:spPr>
            <a:xfrm>
              <a:off x="534600" y="1774440"/>
              <a:ext cx="8151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3" name="Line 10"/>
            <p:cNvSpPr/>
            <p:nvPr/>
          </p:nvSpPr>
          <p:spPr>
            <a:xfrm>
              <a:off x="534600" y="5610240"/>
              <a:ext cx="8151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4" name="Line 11"/>
            <p:cNvSpPr/>
            <p:nvPr/>
          </p:nvSpPr>
          <p:spPr>
            <a:xfrm>
              <a:off x="533520" y="1144080"/>
              <a:ext cx="0" cy="446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5" name="Line 12"/>
            <p:cNvSpPr/>
            <p:nvPr/>
          </p:nvSpPr>
          <p:spPr>
            <a:xfrm>
              <a:off x="4406040" y="1144080"/>
              <a:ext cx="0" cy="446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6" name="Line 13"/>
            <p:cNvSpPr/>
            <p:nvPr/>
          </p:nvSpPr>
          <p:spPr>
            <a:xfrm>
              <a:off x="8686800" y="1144080"/>
              <a:ext cx="0" cy="446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1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6DE181BE-DDFA-4E47-B133-92F5D94890C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69520" cy="75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PACE Factor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20" name="Slide Number Placeholder 3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A2C809D5-0688-43FE-BF3D-EA1D443E6BC8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21" name="Group 3"/>
          <p:cNvGrpSpPr/>
          <p:nvPr/>
        </p:nvGrpSpPr>
        <p:grpSpPr>
          <a:xfrm>
            <a:off x="304920" y="1143000"/>
            <a:ext cx="8534160" cy="4648320"/>
            <a:chOff x="304920" y="1143000"/>
            <a:chExt cx="8534160" cy="4648320"/>
          </a:xfrm>
        </p:grpSpPr>
        <p:sp>
          <p:nvSpPr>
            <p:cNvPr id="1322" name="Rectangle 4"/>
            <p:cNvSpPr/>
            <p:nvPr/>
          </p:nvSpPr>
          <p:spPr>
            <a:xfrm>
              <a:off x="4785120" y="1753200"/>
              <a:ext cx="4053600" cy="4037760"/>
            </a:xfrm>
            <a:prstGeom prst="rect">
              <a:avLst/>
            </a:prstGeom>
            <a:solidFill>
              <a:srgbClr val="f39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dustry Strength (IS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rowth potenti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fit potential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Financial stabi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echnological know-ho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Resource utiliz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ase of entry into market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ductivity, capacity utiliz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3" name="Rectangle 5"/>
            <p:cNvSpPr/>
            <p:nvPr/>
          </p:nvSpPr>
          <p:spPr>
            <a:xfrm>
              <a:off x="304920" y="1753200"/>
              <a:ext cx="4480200" cy="4037760"/>
            </a:xfrm>
            <a:prstGeom prst="rect">
              <a:avLst/>
            </a:prstGeom>
            <a:solidFill>
              <a:srgbClr val="f39b1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ompetitive Advantage (CA)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Market shar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duct quali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roduct life cycl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ustomer loyalt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petition’s capacity utiliza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Technological know-ho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ntrol over suppliers &amp; distributor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4" name="Rectangle 6"/>
            <p:cNvSpPr/>
            <p:nvPr/>
          </p:nvSpPr>
          <p:spPr>
            <a:xfrm>
              <a:off x="4785120" y="1143000"/>
              <a:ext cx="4053600" cy="610200"/>
            </a:xfrm>
            <a:prstGeom prst="rect">
              <a:avLst/>
            </a:prstGeom>
            <a:solidFill>
              <a:srgbClr val="ed6b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ternal Strategic Po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5" name="Rectangle 7"/>
            <p:cNvSpPr/>
            <p:nvPr/>
          </p:nvSpPr>
          <p:spPr>
            <a:xfrm>
              <a:off x="304920" y="1143000"/>
              <a:ext cx="4480200" cy="610200"/>
            </a:xfrm>
            <a:prstGeom prst="rect">
              <a:avLst/>
            </a:prstGeom>
            <a:solidFill>
              <a:srgbClr val="ed6b0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ternal Strategic Posi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6" name="Line 8"/>
            <p:cNvSpPr/>
            <p:nvPr/>
          </p:nvSpPr>
          <p:spPr>
            <a:xfrm>
              <a:off x="306000" y="1143000"/>
              <a:ext cx="85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7" name="Line 9"/>
            <p:cNvSpPr/>
            <p:nvPr/>
          </p:nvSpPr>
          <p:spPr>
            <a:xfrm>
              <a:off x="306000" y="1753200"/>
              <a:ext cx="853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8" name="Line 10"/>
            <p:cNvSpPr/>
            <p:nvPr/>
          </p:nvSpPr>
          <p:spPr>
            <a:xfrm>
              <a:off x="306000" y="5791320"/>
              <a:ext cx="853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9" name="Line 11"/>
            <p:cNvSpPr/>
            <p:nvPr/>
          </p:nvSpPr>
          <p:spPr>
            <a:xfrm>
              <a:off x="304920" y="1144080"/>
              <a:ext cx="0" cy="464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0" name="Line 12"/>
            <p:cNvSpPr/>
            <p:nvPr/>
          </p:nvSpPr>
          <p:spPr>
            <a:xfrm>
              <a:off x="4785120" y="1144080"/>
              <a:ext cx="0" cy="464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1" name="Line 13"/>
            <p:cNvSpPr/>
            <p:nvPr/>
          </p:nvSpPr>
          <p:spPr>
            <a:xfrm>
              <a:off x="8839080" y="1144080"/>
              <a:ext cx="0" cy="464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3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6F5EC814-F6B4-4221-A87B-9ADA4B6657E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45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eps to Developing a SPACE Matrix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5" name=""/>
          <p:cNvSpPr txBox="1"/>
          <p:nvPr/>
        </p:nvSpPr>
        <p:spPr>
          <a:xfrm>
            <a:off x="4568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ect a set of variables to define FS, CA, ES, and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 a numerical valu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+1 to +6 to each FS &amp; IS dim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 -1 to -6 to each ES &amp; CA dim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 an average score for each FS, CA, ES, and 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ot the average score on the appropriate ax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d the two scores o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xis and plot the point. Add the two scores on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xis and plot the point. Plot the intersection of the new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x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raw a directional vector from the origin through the new intersection poi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2A9EF19E-E268-42D4-BA42-95032EC2BE4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8" name="Picture 8" descr=""/>
          <p:cNvPicPr/>
          <p:nvPr/>
        </p:nvPicPr>
        <p:blipFill>
          <a:blip r:embed="rId1"/>
          <a:srcRect l="0" t="0" r="0" b="9242"/>
          <a:stretch/>
        </p:blipFill>
        <p:spPr>
          <a:xfrm>
            <a:off x="1295280" y="380880"/>
            <a:ext cx="6245280" cy="5700960"/>
          </a:xfrm>
          <a:prstGeom prst="rect">
            <a:avLst/>
          </a:prstGeom>
          <a:ln w="0">
            <a:noFill/>
          </a:ln>
        </p:spPr>
      </p:pic>
      <p:sp>
        <p:nvSpPr>
          <p:cNvPr id="133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E333B0AA-29D0-4B01-B59A-C5BC70B6D82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57EA5245-1946-4C03-A184-6F5AD7E4F33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Text Box 2"/>
          <p:cNvSpPr/>
          <p:nvPr/>
        </p:nvSpPr>
        <p:spPr>
          <a:xfrm>
            <a:off x="53352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Rectangle 3"/>
          <p:cNvSpPr/>
          <p:nvPr/>
        </p:nvSpPr>
        <p:spPr>
          <a:xfrm>
            <a:off x="4800600" y="13716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4" name="Line 4"/>
          <p:cNvSpPr/>
          <p:nvPr/>
        </p:nvSpPr>
        <p:spPr>
          <a:xfrm flipV="1">
            <a:off x="3962520" y="167616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Line 5"/>
          <p:cNvSpPr/>
          <p:nvPr/>
        </p:nvSpPr>
        <p:spPr>
          <a:xfrm>
            <a:off x="3962520" y="36576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Line 6"/>
          <p:cNvSpPr/>
          <p:nvPr/>
        </p:nvSpPr>
        <p:spPr>
          <a:xfrm>
            <a:off x="3962520" y="365760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800600" y="23623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8" name="Rectangle 8"/>
          <p:cNvSpPr/>
          <p:nvPr/>
        </p:nvSpPr>
        <p:spPr>
          <a:xfrm>
            <a:off x="4800600" y="327672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Rectangle 9"/>
          <p:cNvSpPr/>
          <p:nvPr/>
        </p:nvSpPr>
        <p:spPr>
          <a:xfrm>
            <a:off x="4800600" y="426708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Rectangle 10"/>
          <p:cNvSpPr/>
          <p:nvPr/>
        </p:nvSpPr>
        <p:spPr>
          <a:xfrm>
            <a:off x="4800600" y="52578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Line 11"/>
          <p:cNvSpPr/>
          <p:nvPr/>
        </p:nvSpPr>
        <p:spPr>
          <a:xfrm flipV="1">
            <a:off x="3962520" y="27432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2" name="Line 12"/>
          <p:cNvSpPr/>
          <p:nvPr/>
        </p:nvSpPr>
        <p:spPr>
          <a:xfrm>
            <a:off x="3962520" y="3657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Oval 13"/>
          <p:cNvSpPr/>
          <p:nvPr/>
        </p:nvSpPr>
        <p:spPr>
          <a:xfrm>
            <a:off x="609480" y="3048120"/>
            <a:ext cx="335304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AF7F37A8-4250-49E0-BEC9-480E519DBD6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DB30DD2-A285-44FE-B1A2-6B5F6E4CB02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Text Box 2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ston Consulting Group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Text Box 4"/>
          <p:cNvSpPr/>
          <p:nvPr/>
        </p:nvSpPr>
        <p:spPr>
          <a:xfrm>
            <a:off x="533520" y="2133720"/>
            <a:ext cx="6781680" cy="19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s multidivisional firm in formulating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s may compete in different indus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cus on market-share position &amp; industry growth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B31D3E37-3020-404A-91B0-C39DE5916E1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672EC40F-86DC-4201-BE0F-5BA16143373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Text Box 4"/>
          <p:cNvSpPr/>
          <p:nvPr/>
        </p:nvSpPr>
        <p:spPr>
          <a:xfrm>
            <a:off x="533520" y="2209680"/>
            <a:ext cx="807696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ive Market Share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io of a division’s own market share in an industry to the market share held by the largest rival firm in that 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4" name="Picture 6" descr="3n_uy1ma[1]"/>
          <p:cNvPicPr/>
          <p:nvPr/>
        </p:nvPicPr>
        <p:blipFill>
          <a:blip r:embed="rId1"/>
          <a:stretch/>
        </p:blipFill>
        <p:spPr>
          <a:xfrm>
            <a:off x="6248520" y="3809880"/>
            <a:ext cx="1765080" cy="1771920"/>
          </a:xfrm>
          <a:prstGeom prst="rect">
            <a:avLst/>
          </a:prstGeom>
          <a:ln w="0">
            <a:noFill/>
          </a:ln>
        </p:spPr>
      </p:pic>
      <p:sp>
        <p:nvSpPr>
          <p:cNvPr id="136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A1D4581-9F8C-4BE3-8952-378155A3561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Picture 8" descr=""/>
          <p:cNvPicPr/>
          <p:nvPr/>
        </p:nvPicPr>
        <p:blipFill>
          <a:blip r:embed="rId1"/>
          <a:srcRect l="0" t="0" r="0" b="9034"/>
          <a:stretch/>
        </p:blipFill>
        <p:spPr>
          <a:xfrm>
            <a:off x="457200" y="533520"/>
            <a:ext cx="7848720" cy="5128920"/>
          </a:xfrm>
          <a:prstGeom prst="rect">
            <a:avLst/>
          </a:prstGeom>
          <a:ln w="0">
            <a:noFill/>
          </a:ln>
        </p:spPr>
      </p:pic>
      <p:sp>
        <p:nvSpPr>
          <p:cNvPr id="136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8B5E82C1-87D3-40F7-9A69-75087ADC851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9270EA0E-C672-4BB1-8C44-30C94336A209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1" name="Text Box 2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estion Mar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Text Box 4"/>
          <p:cNvSpPr/>
          <p:nvPr/>
        </p:nvSpPr>
        <p:spPr>
          <a:xfrm>
            <a:off x="533520" y="2286000"/>
            <a:ext cx="8229600" cy="229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relative market share, competes in high-growth 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ash needs are hig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ash  generation is lo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ision to strengthen (intensive strategies) or div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50E1E7D-B17A-4D17-AB99-BB6A8548B2A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920369B5-5760-4DC6-8E9B-FE55E00A6BA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Rectangle 1"/>
          <p:cNvSpPr/>
          <p:nvPr/>
        </p:nvSpPr>
        <p:spPr>
          <a:xfrm>
            <a:off x="533520" y="1371600"/>
            <a:ext cx="7511760" cy="49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ture of Strategy &amp; Cho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Comprehensive Strategy-Formulation Frame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put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cision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al Aspects of Strategy Cho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olitics of Strategy Cho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vernance Iss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22850ED4-5651-4AE7-9371-1F50EFE8EC3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6" name="Text Box 2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Text Box 4"/>
          <p:cNvSpPr/>
          <p:nvPr/>
        </p:nvSpPr>
        <p:spPr>
          <a:xfrm>
            <a:off x="533520" y="1981080"/>
            <a:ext cx="7619760" cy="336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relative market share and high growth r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est long-run opportunities for growth &amp; profi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stantial investment to maintain or strengthen dominant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gration strategies, intensive strategies, joint ven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F3E684D4-5070-4A67-BC8C-262E4874DCD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9A1EAD1E-EA94-44B0-A97C-8990652A7BA2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Text Box 2"/>
          <p:cNvSpPr/>
          <p:nvPr/>
        </p:nvSpPr>
        <p:spPr>
          <a:xfrm>
            <a:off x="533520" y="457200"/>
            <a:ext cx="6095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ash Co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Text Box 4"/>
          <p:cNvSpPr/>
          <p:nvPr/>
        </p:nvSpPr>
        <p:spPr>
          <a:xfrm>
            <a:off x="533520" y="1752480"/>
            <a:ext cx="7543800" cy="35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 relative market share, competes in low-growth indus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enerate cash in excess of their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ilked for other purpo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intain strong position as long as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duct development, concentric diver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f weaken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 retrenchment or divesti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0EC8A8F1-99F2-4600-BE37-9BEE1E86F5C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0E52A263-04FC-4D9B-80AE-D617145A18B6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Text Box 2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CG Matri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Text Box 4"/>
          <p:cNvSpPr/>
          <p:nvPr/>
        </p:nvSpPr>
        <p:spPr>
          <a:xfrm>
            <a:off x="609480" y="2286000"/>
            <a:ext cx="7467840" cy="21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relative market share, competes in slow or no market grow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Weak internal &amp; external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quidation, divestiture, retrench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2FD75AB8-04B4-4D58-9E2E-C7FE1929D5A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D0AA1315-D971-4FBE-ABAD-C21BA22DDCEF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Text Box 2"/>
          <p:cNvSpPr/>
          <p:nvPr/>
        </p:nvSpPr>
        <p:spPr>
          <a:xfrm>
            <a:off x="53352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4952880" y="11430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Line 4"/>
          <p:cNvSpPr/>
          <p:nvPr/>
        </p:nvSpPr>
        <p:spPr>
          <a:xfrm flipV="1">
            <a:off x="4114800" y="144756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Line 5"/>
          <p:cNvSpPr/>
          <p:nvPr/>
        </p:nvSpPr>
        <p:spPr>
          <a:xfrm>
            <a:off x="4114800" y="3429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Line 6"/>
          <p:cNvSpPr/>
          <p:nvPr/>
        </p:nvSpPr>
        <p:spPr>
          <a:xfrm>
            <a:off x="4114800" y="3429000"/>
            <a:ext cx="83808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Rectangle 7"/>
          <p:cNvSpPr/>
          <p:nvPr/>
        </p:nvSpPr>
        <p:spPr>
          <a:xfrm>
            <a:off x="4952880" y="21337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Rectangle 8"/>
          <p:cNvSpPr/>
          <p:nvPr/>
        </p:nvSpPr>
        <p:spPr>
          <a:xfrm>
            <a:off x="4952880" y="30481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Rectangle 9"/>
          <p:cNvSpPr/>
          <p:nvPr/>
        </p:nvSpPr>
        <p:spPr>
          <a:xfrm>
            <a:off x="4952880" y="403848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Rectangle 10"/>
          <p:cNvSpPr/>
          <p:nvPr/>
        </p:nvSpPr>
        <p:spPr>
          <a:xfrm>
            <a:off x="4952880" y="50292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Line 11"/>
          <p:cNvSpPr/>
          <p:nvPr/>
        </p:nvSpPr>
        <p:spPr>
          <a:xfrm flipV="1">
            <a:off x="4114800" y="25146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Line 12"/>
          <p:cNvSpPr/>
          <p:nvPr/>
        </p:nvSpPr>
        <p:spPr>
          <a:xfrm>
            <a:off x="4114800" y="342900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Oval 13"/>
          <p:cNvSpPr/>
          <p:nvPr/>
        </p:nvSpPr>
        <p:spPr>
          <a:xfrm>
            <a:off x="762120" y="281952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A93D4B9-C6E6-4881-88A6-366F5DB1C08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Internal-External Matrix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06" name=""/>
          <p:cNvSpPr txBox="1"/>
          <p:nvPr/>
        </p:nvSpPr>
        <p:spPr>
          <a:xfrm>
            <a:off x="4316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sitions an organization’s various divisions in a nine-cell displ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to BCG Matrix except the IE Matrix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s more information about the div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implications of each matrix are differ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F9B19F34-1887-46D1-8E24-5073F927588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9" name="Picture 8" descr=""/>
          <p:cNvPicPr/>
          <p:nvPr/>
        </p:nvPicPr>
        <p:blipFill>
          <a:blip r:embed="rId1"/>
          <a:srcRect l="0" t="0" r="0" b="12095"/>
          <a:stretch/>
        </p:blipFill>
        <p:spPr>
          <a:xfrm>
            <a:off x="380880" y="685800"/>
            <a:ext cx="8229600" cy="4737240"/>
          </a:xfrm>
          <a:prstGeom prst="rect">
            <a:avLst/>
          </a:prstGeom>
          <a:ln w="0">
            <a:noFill/>
          </a:ln>
        </p:spPr>
      </p:pic>
      <p:sp>
        <p:nvSpPr>
          <p:cNvPr id="141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2629D109-3D4F-48B3-913C-8EAAB3EE52E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E Matrix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3" name=""/>
          <p:cNvSpPr txBox="1"/>
          <p:nvPr/>
        </p:nvSpPr>
        <p:spPr>
          <a:xfrm>
            <a:off x="533520" y="1600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sed on two key dimen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FE total weighted scores on the x-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FE total weighted scores on the y-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ded into three major reg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w and build – Cells I, II, or I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ld and maintain – Cells III, V, or VI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vest or divest – Cells VI, VIII, or 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85800" indent="-3427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DEAAF9E9-F4CA-4A7A-905F-41AF901441F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6" name="Picture 8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5519880"/>
          </a:xfrm>
          <a:prstGeom prst="rect">
            <a:avLst/>
          </a:prstGeom>
          <a:ln w="0">
            <a:noFill/>
          </a:ln>
        </p:spPr>
      </p:pic>
      <p:sp>
        <p:nvSpPr>
          <p:cNvPr id="141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0A0F67B8-1B3C-4511-8523-E90482638CD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EBC2E3F6-8656-40D7-9D57-1F3A0BDE939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Text Box 2"/>
          <p:cNvSpPr/>
          <p:nvPr/>
        </p:nvSpPr>
        <p:spPr>
          <a:xfrm>
            <a:off x="533520" y="457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1" name="Line 4"/>
          <p:cNvSpPr/>
          <p:nvPr/>
        </p:nvSpPr>
        <p:spPr>
          <a:xfrm flipV="1">
            <a:off x="4038480" y="1599840"/>
            <a:ext cx="83844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Line 5"/>
          <p:cNvSpPr/>
          <p:nvPr/>
        </p:nvSpPr>
        <p:spPr>
          <a:xfrm>
            <a:off x="40384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Line 6"/>
          <p:cNvSpPr/>
          <p:nvPr/>
        </p:nvSpPr>
        <p:spPr>
          <a:xfrm>
            <a:off x="4038480" y="3581280"/>
            <a:ext cx="83844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Rectangle 7"/>
          <p:cNvSpPr/>
          <p:nvPr/>
        </p:nvSpPr>
        <p:spPr>
          <a:xfrm>
            <a:off x="4876920" y="22860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PAC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Rectangle 8"/>
          <p:cNvSpPr/>
          <p:nvPr/>
        </p:nvSpPr>
        <p:spPr>
          <a:xfrm>
            <a:off x="4876920" y="320040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CG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6" name="Rectangle 9"/>
          <p:cNvSpPr/>
          <p:nvPr/>
        </p:nvSpPr>
        <p:spPr>
          <a:xfrm>
            <a:off x="4876920" y="419112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7" name="Line 11"/>
          <p:cNvSpPr/>
          <p:nvPr/>
        </p:nvSpPr>
        <p:spPr>
          <a:xfrm flipV="1">
            <a:off x="4038480" y="26668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Line 12"/>
          <p:cNvSpPr/>
          <p:nvPr/>
        </p:nvSpPr>
        <p:spPr>
          <a:xfrm>
            <a:off x="4038480" y="3581280"/>
            <a:ext cx="8384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Oval 13"/>
          <p:cNvSpPr/>
          <p:nvPr/>
        </p:nvSpPr>
        <p:spPr>
          <a:xfrm>
            <a:off x="685800" y="297180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Rectangle 14"/>
          <p:cNvSpPr/>
          <p:nvPr/>
        </p:nvSpPr>
        <p:spPr>
          <a:xfrm>
            <a:off x="4876920" y="1295280"/>
            <a:ext cx="3200400" cy="68580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WOT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Rectangle 15"/>
          <p:cNvSpPr/>
          <p:nvPr/>
        </p:nvSpPr>
        <p:spPr>
          <a:xfrm>
            <a:off x="4876920" y="5181480"/>
            <a:ext cx="3200400" cy="6858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rand Strategy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09CB2271-A28C-427C-9C6E-B32F0E53416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9B0E5A19-5F08-4033-8EA8-7AA0509DDF02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Text Box 2"/>
          <p:cNvSpPr/>
          <p:nvPr/>
        </p:nvSpPr>
        <p:spPr>
          <a:xfrm>
            <a:off x="609480" y="4572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Formulation Analytical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Line 8"/>
          <p:cNvSpPr/>
          <p:nvPr/>
        </p:nvSpPr>
        <p:spPr>
          <a:xfrm>
            <a:off x="411480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Oval 10"/>
          <p:cNvSpPr/>
          <p:nvPr/>
        </p:nvSpPr>
        <p:spPr>
          <a:xfrm>
            <a:off x="762120" y="2590920"/>
            <a:ext cx="3352680" cy="12952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tage 3: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he Decision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Rectangle 11"/>
          <p:cNvSpPr/>
          <p:nvPr/>
        </p:nvSpPr>
        <p:spPr>
          <a:xfrm>
            <a:off x="5334120" y="2514600"/>
            <a:ext cx="3047760" cy="144792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uantitative Strategic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lanning Matri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QSPM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2350092-4415-4E3F-9757-82498C59477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Text Box 5"/>
          <p:cNvSpPr/>
          <p:nvPr/>
        </p:nvSpPr>
        <p:spPr>
          <a:xfrm>
            <a:off x="609480" y="91440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ature of Strategy Analysis &amp;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Text Box 9"/>
          <p:cNvSpPr/>
          <p:nvPr/>
        </p:nvSpPr>
        <p:spPr>
          <a:xfrm>
            <a:off x="609480" y="5335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Analysis &amp;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939E01D5-7322-4DDF-8F38-0C27DC89D5B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Rectangle 1"/>
          <p:cNvSpPr/>
          <p:nvPr/>
        </p:nvSpPr>
        <p:spPr>
          <a:xfrm>
            <a:off x="609480" y="2666880"/>
            <a:ext cx="7391520" cy="18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s process seek to determine alternative courses of action that could best enable the firm to best achieve its mission and long run objecti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3E69BFDD-8869-4B35-83A0-F45620D64DC9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Text Box 2"/>
          <p:cNvSpPr/>
          <p:nvPr/>
        </p:nvSpPr>
        <p:spPr>
          <a:xfrm>
            <a:off x="7621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S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Text Box 3"/>
          <p:cNvSpPr/>
          <p:nvPr/>
        </p:nvSpPr>
        <p:spPr>
          <a:xfrm>
            <a:off x="762120" y="2514600"/>
            <a:ext cx="777240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ntitative Strategic Planning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ique designed to determine the relative attractiveness of feasible alternative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BE2E317C-ED61-47D4-B461-D83CE91F05E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Picture 8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23200" cy="4006800"/>
          </a:xfrm>
          <a:prstGeom prst="rect">
            <a:avLst/>
          </a:prstGeom>
          <a:ln w="0">
            <a:noFill/>
          </a:ln>
        </p:spPr>
      </p:pic>
      <p:sp>
        <p:nvSpPr>
          <p:cNvPr id="144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17DBCF9-25A2-4076-9E63-0B65FD99D86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eps to Develop a QSPM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533520" y="1447920"/>
            <a:ext cx="815328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 a list of the firm’s key external opportunities/threats and internal strengths/weaknesses in the left colum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 weights to each key external and internal fa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ine the Stage 2 (matching) matrices, and identify alternative strategies that the organization should consider implement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the Attractiveness Sc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the Total Attractiveness Sco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ute the Sum Total Attractiveness Sco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6A5CDBD0-21D4-4F9E-B49F-7E853971EF7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B62A7F95-4436-442D-82F3-B1DE00D650F7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Text Box 2"/>
          <p:cNvSpPr/>
          <p:nvPr/>
        </p:nvSpPr>
        <p:spPr>
          <a:xfrm>
            <a:off x="609480" y="53352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S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5" name="Text Box 3"/>
          <p:cNvSpPr/>
          <p:nvPr/>
        </p:nvSpPr>
        <p:spPr>
          <a:xfrm>
            <a:off x="609480" y="2666880"/>
            <a:ext cx="6782040" cy="147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s of strategies considered simultaneously or sequenti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 of pertinent external &amp; internal factors in the decision-making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32603A19-8DCA-47B8-B82A-92A6813B659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C96A9498-57EF-4655-8019-6962253B9477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9" name="Text Box 2"/>
          <p:cNvSpPr/>
          <p:nvPr/>
        </p:nvSpPr>
        <p:spPr>
          <a:xfrm>
            <a:off x="609480" y="53352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SP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mit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0" name="Text Box 3"/>
          <p:cNvSpPr/>
          <p:nvPr/>
        </p:nvSpPr>
        <p:spPr>
          <a:xfrm>
            <a:off x="533520" y="2666880"/>
            <a:ext cx="678168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s intuitive judgments &amp; educated assump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as good as the prerequisite inpu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1" name="Picture 5" descr="ikshpljc[1]"/>
          <p:cNvPicPr/>
          <p:nvPr/>
        </p:nvPicPr>
        <p:blipFill>
          <a:blip r:embed="rId1"/>
          <a:stretch/>
        </p:blipFill>
        <p:spPr>
          <a:xfrm>
            <a:off x="6753240" y="4208400"/>
            <a:ext cx="1628640" cy="1506600"/>
          </a:xfrm>
          <a:prstGeom prst="rect">
            <a:avLst/>
          </a:prstGeom>
          <a:ln w="0">
            <a:noFill/>
          </a:ln>
        </p:spPr>
      </p:pic>
      <p:sp>
        <p:nvSpPr>
          <p:cNvPr id="146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2DB2D910-6B2E-492C-AE00-8C2946A15DD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E2298CAD-77E5-4CF1-AA41-D8EAA85C80D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Text Box 2"/>
          <p:cNvSpPr/>
          <p:nvPr/>
        </p:nvSpPr>
        <p:spPr>
          <a:xfrm>
            <a:off x="53352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ultural Aspects of Strategy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Text Box 3"/>
          <p:cNvSpPr/>
          <p:nvPr/>
        </p:nvSpPr>
        <p:spPr>
          <a:xfrm>
            <a:off x="533520" y="2743200"/>
            <a:ext cx="8381880" cy="116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ganizational 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cessful strategies depend on the degree of consistency with the firm’s 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EF286447-BE5B-46DB-BC03-3261AF3B559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0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0" name="Picture 8" descr=""/>
          <p:cNvPicPr/>
          <p:nvPr/>
        </p:nvPicPr>
        <p:blipFill>
          <a:blip r:embed="rId1"/>
          <a:srcRect l="0" t="0" r="0" b="4977"/>
          <a:stretch/>
        </p:blipFill>
        <p:spPr>
          <a:xfrm>
            <a:off x="457200" y="344520"/>
            <a:ext cx="8472600" cy="5397480"/>
          </a:xfrm>
          <a:prstGeom prst="rect">
            <a:avLst/>
          </a:prstGeom>
          <a:ln w="0">
            <a:noFill/>
          </a:ln>
        </p:spPr>
      </p:pic>
      <p:sp>
        <p:nvSpPr>
          <p:cNvPr id="118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B391FC63-5C0E-4FB2-B160-B3C7FF4D0E6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Rectangle 1"/>
          <p:cNvSpPr/>
          <p:nvPr/>
        </p:nvSpPr>
        <p:spPr>
          <a:xfrm>
            <a:off x="783360" y="588816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/>
          </p:nvPr>
        </p:nvSpPr>
        <p:spPr>
          <a:xfrm>
            <a:off x="533160" y="2133360"/>
            <a:ext cx="7924680" cy="28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rnal au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aud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 successful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Text Box 3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Analysis &amp;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Text Box 15"/>
          <p:cNvSpPr/>
          <p:nvPr/>
        </p:nvSpPr>
        <p:spPr>
          <a:xfrm>
            <a:off x="533520" y="175248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lternative Strategies Derive Fro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7" name="Picture 17" descr="gyiutdvp[1]"/>
          <p:cNvPicPr/>
          <p:nvPr/>
        </p:nvPicPr>
        <p:blipFill>
          <a:blip r:embed="rId1"/>
          <a:stretch/>
        </p:blipFill>
        <p:spPr>
          <a:xfrm>
            <a:off x="6711840" y="3938760"/>
            <a:ext cx="1746360" cy="1928520"/>
          </a:xfrm>
          <a:prstGeom prst="rect">
            <a:avLst/>
          </a:prstGeom>
          <a:ln w="0">
            <a:noFill/>
          </a:ln>
        </p:spPr>
      </p:pic>
      <p:sp>
        <p:nvSpPr>
          <p:cNvPr id="118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04E135AD-0280-4264-B026-7DDF29F3245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06741521-FB94-4F8D-9A90-3D6BCC536AED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Text Box 3"/>
          <p:cNvSpPr/>
          <p:nvPr/>
        </p:nvSpPr>
        <p:spPr>
          <a:xfrm>
            <a:off x="533520" y="4572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Analysis &amp; Cho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Text Box 22"/>
          <p:cNvSpPr/>
          <p:nvPr/>
        </p:nvSpPr>
        <p:spPr>
          <a:xfrm>
            <a:off x="533520" y="8380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Generating Alternat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Text Box 24"/>
          <p:cNvSpPr/>
          <p:nvPr/>
        </p:nvSpPr>
        <p:spPr>
          <a:xfrm>
            <a:off x="533520" y="2438280"/>
            <a:ext cx="7848360" cy="19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ticipation in generating alternative strategies should be as broad as possi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ernative strategies proposed by participants should be considered, discussed, and ranked in order of attractivenes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Text Box 2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1AF96A12-1E05-49F4-8AF7-0AFACBEF980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6 -</a:t>
            </a:r>
            <a:fld id="{B35CC3F4-B096-4C04-AE88-412A4DB62E7C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8" name="Text Box 2"/>
          <p:cNvSpPr/>
          <p:nvPr/>
        </p:nvSpPr>
        <p:spPr>
          <a:xfrm>
            <a:off x="533520" y="4572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omprehensive Strategy-Formulation Framewor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Text Box 5"/>
          <p:cNvSpPr/>
          <p:nvPr/>
        </p:nvSpPr>
        <p:spPr>
          <a:xfrm>
            <a:off x="464832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Oval 6"/>
          <p:cNvSpPr/>
          <p:nvPr/>
        </p:nvSpPr>
        <p:spPr>
          <a:xfrm>
            <a:off x="2743200" y="1295280"/>
            <a:ext cx="3352680" cy="129564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1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Input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Oval 7"/>
          <p:cNvSpPr/>
          <p:nvPr/>
        </p:nvSpPr>
        <p:spPr>
          <a:xfrm>
            <a:off x="2743200" y="3124080"/>
            <a:ext cx="3352680" cy="1295640"/>
          </a:xfrm>
          <a:prstGeom prst="ellipse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ge 2: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Matching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Oval 8"/>
          <p:cNvSpPr/>
          <p:nvPr/>
        </p:nvSpPr>
        <p:spPr>
          <a:xfrm>
            <a:off x="2895480" y="4800600"/>
            <a:ext cx="3353040" cy="1295280"/>
          </a:xfrm>
          <a:prstGeom prst="ellipse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Stage 3: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Verdana"/>
              </a:rPr>
              <a:t>The Decision 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69CC67AF-17AB-4956-8BE0-E0DD325714A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205" name="Straight Arrow Connector 10"/>
          <p:cNvCxnSpPr>
            <a:stCxn id="1200" idx="4"/>
          </p:cNvCxnSpPr>
          <p:nvPr/>
        </p:nvCxnSpPr>
        <p:spPr>
          <a:xfrm>
            <a:off x="4419360" y="2590920"/>
            <a:ext cx="1080" cy="457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06" name="Straight Arrow Connector 15"/>
          <p:cNvCxnSpPr>
            <a:stCxn id="1201" idx="4"/>
          </p:cNvCxnSpPr>
          <p:nvPr/>
        </p:nvCxnSpPr>
        <p:spPr>
          <a:xfrm>
            <a:off x="4419360" y="4419720"/>
            <a:ext cx="1080" cy="38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cover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7" name="Picture 8" descr=""/>
          <p:cNvPicPr/>
          <p:nvPr/>
        </p:nvPicPr>
        <p:blipFill>
          <a:blip r:embed="rId1"/>
          <a:stretch/>
        </p:blipFill>
        <p:spPr>
          <a:xfrm>
            <a:off x="290520" y="1457280"/>
            <a:ext cx="8524800" cy="3648240"/>
          </a:xfrm>
          <a:prstGeom prst="rect">
            <a:avLst/>
          </a:prstGeom>
          <a:ln w="0">
            <a:noFill/>
          </a:ln>
        </p:spPr>
      </p:pic>
      <p:sp>
        <p:nvSpPr>
          <p:cNvPr id="120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7 -</a:t>
            </a:r>
            <a:fld id="{5B1706E2-5345-4E9B-88EA-50D73319CC7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04-22T22:19:00Z</dcterms:modified>
  <cp:revision>382</cp:revision>
  <dc:subject/>
  <dc:title>Chapter 1  The Nature of Strategic Management</dc:title>
</cp:coreProperties>
</file>