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  <p:sldId id="282" r:id="rId56"/>
    <p:sldId id="283" r:id="rId57"/>
    <p:sldId id="284" r:id="rId58"/>
    <p:sldId id="285" r:id="rId59"/>
    <p:sldId id="286" r:id="rId60"/>
    <p:sldId id="287" r:id="rId61"/>
    <p:sldId id="288" r:id="rId62"/>
    <p:sldId id="289" r:id="rId63"/>
    <p:sldId id="290" r:id="rId64"/>
    <p:sldId id="291" r:id="rId65"/>
    <p:sldId id="292" r:id="rId66"/>
    <p:sldId id="293" r:id="rId67"/>
    <p:sldId id="294" r:id="rId68"/>
    <p:sldId id="295" r:id="rId69"/>
    <p:sldId id="296" r:id="rId70"/>
    <p:sldId id="297" r:id="rId71"/>
    <p:sldId id="298" r:id="rId72"/>
    <p:sldId id="299" r:id="rId73"/>
    <p:sldId id="300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slide" Target="slides/slide27.xml"/><Relationship Id="rId57" Type="http://schemas.openxmlformats.org/officeDocument/2006/relationships/slide" Target="slides/slide28.xml"/><Relationship Id="rId58" Type="http://schemas.openxmlformats.org/officeDocument/2006/relationships/slide" Target="slides/slide29.xml"/><Relationship Id="rId59" Type="http://schemas.openxmlformats.org/officeDocument/2006/relationships/slide" Target="slides/slide30.xml"/><Relationship Id="rId60" Type="http://schemas.openxmlformats.org/officeDocument/2006/relationships/slide" Target="slides/slide31.xml"/><Relationship Id="rId61" Type="http://schemas.openxmlformats.org/officeDocument/2006/relationships/slide" Target="slides/slide32.xml"/><Relationship Id="rId62" Type="http://schemas.openxmlformats.org/officeDocument/2006/relationships/slide" Target="slides/slide33.xml"/><Relationship Id="rId63" Type="http://schemas.openxmlformats.org/officeDocument/2006/relationships/slide" Target="slides/slide34.xml"/><Relationship Id="rId64" Type="http://schemas.openxmlformats.org/officeDocument/2006/relationships/slide" Target="slides/slide35.xml"/><Relationship Id="rId65" Type="http://schemas.openxmlformats.org/officeDocument/2006/relationships/slide" Target="slides/slide36.xml"/><Relationship Id="rId66" Type="http://schemas.openxmlformats.org/officeDocument/2006/relationships/slide" Target="slides/slide37.xml"/><Relationship Id="rId67" Type="http://schemas.openxmlformats.org/officeDocument/2006/relationships/slide" Target="slides/slide38.xml"/><Relationship Id="rId68" Type="http://schemas.openxmlformats.org/officeDocument/2006/relationships/slide" Target="slides/slide39.xml"/><Relationship Id="rId69" Type="http://schemas.openxmlformats.org/officeDocument/2006/relationships/slide" Target="slides/slide40.xml"/><Relationship Id="rId70" Type="http://schemas.openxmlformats.org/officeDocument/2006/relationships/slide" Target="slides/slide41.xml"/><Relationship Id="rId71" Type="http://schemas.openxmlformats.org/officeDocument/2006/relationships/slide" Target="slides/slide42.xml"/><Relationship Id="rId72" Type="http://schemas.openxmlformats.org/officeDocument/2006/relationships/slide" Target="slides/slide43.xml"/><Relationship Id="rId73" Type="http://schemas.openxmlformats.org/officeDocument/2006/relationships/slide" Target="slides/slide44.xml"/><Relationship Id="rId74" Type="http://schemas.openxmlformats.org/officeDocument/2006/relationships/slide" Target="slides/slide45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B2AC-9041-4AC2-8B22-FC5E662A7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A811-8769-46A4-A3BA-44A83259C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BED2-85CE-4456-B79B-1D7AE824A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31B9-F864-48B7-91F0-DC2F730FA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B6FF-885B-43A4-8672-0E9089500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F071-7588-488F-98BD-8C65E5BDE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ABB3-3169-4CB7-8FA5-3F5A17EED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A58C-232F-4CB1-A6DD-6A6059412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303F-2C06-488C-B111-BB26E99BA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BA66-1445-4467-956E-1172F24B7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C01B-EA5F-4924-A186-47CEBC069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5129-F83E-47D4-B4E4-48EAE0042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FD48-4758-43B3-B652-A7837E696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EC37-412B-4B0E-ACC6-C5D3079B3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2235-8EAA-4DFA-89EB-71D0FC4BE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21CA-FFE6-486F-B997-F423FC0EE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9DC6-F38E-4EFA-AB05-A93D53422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6608-2969-4E6B-8FBD-08BB7EC35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B1DB-7FF8-4970-A38C-5AA1C3A0F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CA65-F96B-4E95-BF0F-6E87A32C2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90A4-ED28-4686-9824-FDC93AC21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8CC0-EA4D-4D8E-BED7-76EE63BF3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0319-39A4-4E9C-87C7-B676359A2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078F-A1EF-4691-9555-4A58474E5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6184-1B9E-4E0F-B951-D8779783E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4FCD-163B-42F3-B194-1413C7142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3665-FA2D-4544-9CFC-0501FF6DA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B86D-70E8-4B0A-BD2F-C9C9B350F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5245-B0AC-4E42-9779-A1E318E6E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E420-0451-49FD-9CFE-4FBC737F2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DE0F-3E87-42B5-B63D-3B6BEF762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91C0-B67B-457A-9C2C-A1C9F6C36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05B9-2319-40F4-89B9-1FFF50CB1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42EB-78AB-462A-B0BA-3BED9A5CB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37DC-FA7F-468C-9210-3E557937A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A4F6-B40A-4B09-A922-D26AE7605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14C7-4019-4D27-84CF-FF39934D2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A1BA-4B7C-4BE4-BB9B-FB00CD2DB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E914-93E0-4A5D-A2BF-76EB2A48F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C1B0-5609-42A2-962F-9233BD39A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673A-26BB-40F7-BFE9-FD819EED6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0B08-4B23-4CE7-A925-F2C44148B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2F6F-AE51-46B4-B1D1-D6E526297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0E54-6848-4D43-BF8A-5C9E507A9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A8E3-3BA9-45B0-AEF6-FE0BEDC54BB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194B6-A22D-4F36-8798-BC04A19B5B3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72A16-3721-4B4A-B47D-0DFDE1FBE28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45BB7-3282-41FE-8ACD-9C154B82959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0D798-DBC9-4688-AA59-D24C184D8E0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AC177-9382-47C9-B271-838C5B28166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2576D-01EA-406F-989E-812BDEA0F21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7C9D8-9B31-45DC-A0CB-07A8407DC12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28B4B-DD16-4B3C-8C7A-7271D2184AE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5ED60-7DA9-44DE-814C-CA02CB54938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FEDA5-F639-4A93-ADCA-2EDA60488A3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341CD-6A8A-49F0-BB5E-0255B82072D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30B1A-518E-4AF0-918F-1115FCCCFEA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4FC8C-14AC-4027-A92E-717198073B2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2E4A5-1017-4EC2-BC01-EC75BCA6BCE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DFADD-8FED-42B7-81A2-33EDB9D720B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7A276-7E22-4215-ABCD-9657C7C6FE7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6FCC4-CA83-434B-ACF7-B3F79E3266C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751CE-FD1B-4147-9071-A12B1FE1190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FADB0-27E2-433F-AA91-56AF77B6AE6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F6A64-E288-48FF-AA6B-D0E67A19B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845F-21C9-4CE6-A949-9AB8622E158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CA2AC-2CE9-4545-B1BA-30802C77055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77941-B4E3-4B22-A88D-BAC54DAD69C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D4A54-9A28-4BFF-8F8E-9948D5D5EF4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764BC6-98FA-4E1F-B3CB-910F7AEEC77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3412F1-CF04-4847-BAC2-B1C93FB0100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2B3728-5BE5-4B27-9C15-7F1DCF60D39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4A84B9-ADDF-4F1E-8CB1-42262AE4A8C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5538D9-9442-49F1-B457-2624912EA03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02BE40-E18B-49EC-9085-B4222041B1C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186E3E-10AF-4E8F-AB34-6A6FF755A7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19A5-A688-4D99-A1E5-479F3DFCF12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D1932E-140C-4F2A-8EE4-45F56CD64AF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31A3C0-B6D7-435A-AB19-5BE6B3456FB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ADA4EC-C0B9-4FEB-B18A-3D4D242C3BA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47040A-111C-4103-8A47-8594D0220F1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9AEDCF-4268-49E9-A65A-E245C909212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476F-3D71-44A9-8773-6BE7EABE3D5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D1CDC4-6399-407F-B01D-5853D1B4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85B31C-3A94-4153-A8E5-BA56B897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209CAE-C1F8-47CA-B207-01406197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271-C21F-4908-BF52-F42A2D5154F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7C5B70-247E-45E9-B735-33A326B3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D584FA-26AA-4E2D-A228-595D6D74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185A16-A59E-42A1-8B22-838EFDC7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DABD8F-BCA7-489D-B226-7FCFAFF8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28492C-36F9-48ED-AB74-32490084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A14918-710A-48A7-B6F3-C5329918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B91490-3BF6-4ED0-8E40-98A80FA6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024B62-EB23-4041-A8E3-3BC86515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6F3CB6-4EB6-4712-963A-9A8CDD6E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6823-E566-4F13-9E96-45072B761C1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8DCD-C335-4D6A-990C-E8B7BF55FD2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E4B80-44A6-444A-AC71-25897AAA2C3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B6EBD-65FA-41BD-B0C6-9E30D675262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63602-BB4D-45C4-9F9E-A1EB4D606DD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8AF90-3A7A-4E2F-A6B2-F45B5ADF8F2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0ECCA-F45E-4465-8A3A-B6F10EDD948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A60FC-D7A6-42E2-99BD-BFA0EF81354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4018F-EB6E-463E-B74F-B4F800436DB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3498D-5F8C-4D21-8BD5-4987EB46C5B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3AD9E-774C-4468-AC4B-428960530C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BF17-049A-4F06-94CF-E8B55B541FE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A7BA7-8A02-4B38-A062-E6CBA5462D9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BADC7-76BD-4A32-9210-1E8D393312D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06A52-2CA4-424D-9588-DCA28276310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06B86B-A6EA-42EF-B70D-2B260DFD6C9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AE70EF-8801-446F-8668-DDAC907CFB5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9D146C-CE50-47D8-B1D3-58F7A040961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801FEC-8C89-4C4B-842B-882711CCD8B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CFE97A-3BCC-4165-856E-7962F7486EC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988414-B47B-4D4A-B847-6E0B320B11F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280BAF-CB31-4AB0-A1B0-919861E80C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522F2-FA68-4277-9D72-319DFDB5E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D7FA-4AF6-4306-945E-774FC50EF07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E74E70-0E85-4F85-8C08-BBF17D4BB38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B84AED-3EF4-43E3-ABB3-AC91BCF4B56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965168-CD48-4468-9F2E-9A97D5FE4EA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397D11-E701-4B7B-80FC-EA9721CC2FD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64F460-2CD5-4E3A-BEE6-0B46EC1FDEE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DF792A-CA10-40FE-B65D-3813AD9D8AC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B8D86-0622-455E-8E90-1C782F5A346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7F3DFF-6E2F-4521-80C9-DBAB0328B02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CCBB19-951F-406F-8580-5AF09FB4393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3B2E0-2E90-46B4-989D-480FA9C807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E856-6A07-4EAA-AA72-773856685A6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540651-4A5E-44D1-8C59-AAEB9012D2C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DC4A5-5C7A-4BE0-A1CA-AB410B69977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ED22AB-7074-41AB-9B7A-03A74A829C5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33F321-FBF2-4A83-94D1-9B9F57E4654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FD85E4-5DB1-4DA5-87AF-698307027D9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ADEF2B-3E92-467C-A899-F95CCBC03FB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6164CF-FB58-48B1-8C0B-70D9ED6EE31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B0A82-94B8-40EC-B313-57796FB1B9A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5250B-8DAC-44CD-A59C-FDA8544FF2D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D4D19-53A2-4A4D-8EAB-9EB077236A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91EA-D8A5-458F-989D-1BE7370A86A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BB4B0-E865-4606-B28D-03DE7C8E8CF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E271C-959F-4DCF-AFC2-EA7ABC8AED8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404F3-0902-4B8C-B086-5B6B1D557C4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93057-A583-4A87-A634-0EDBA893A68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62C65-3F61-4DBE-87F4-6FB8EDC3E54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015FF-B996-407E-B9E2-F2D0AA0F058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68F9D-1841-4515-839C-6D2CBFC3ED0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11AD6-2213-4450-A5AF-E64DA020203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41120-6687-470C-975A-682D774939F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F19D79-E7BD-4C78-BC0D-C6C3A6E1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63CB-E19D-49D2-8E51-9CDDBDDEC84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9CB87A-E3BC-46A1-892E-56E6D2B4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DAB9CD-1892-4B5D-9BE8-69278DFD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6199F2-102D-4C8B-AE01-F56AC6FA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DF7739-7C92-4633-89A3-BC3BEBB0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DA9006-CD0F-400E-AB87-867BA490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D9BF46-FDBB-4FC0-8AF0-2E2951FE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3C3F8F-E532-4878-B2AE-81F5B4E7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D869CC-BFAC-4B32-A966-5C5E43F3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B92264-107A-408F-B4C0-8ACE4B98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E5338B-5861-459A-8730-657D0F3D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CABF-98B8-4D06-8160-BD9673E527A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2FFF5A-6F34-4FA7-9CCC-A3AF0AF6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E9154-A2AD-4496-8BD7-7059EAB554C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16A3BE-CA43-43FA-B3F2-19671902BC6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D01CD2-4C1C-44D3-834E-18A786589DB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2C0815-52B5-4EF8-BA76-03F89E6C099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4D0278-3F7C-4D45-BDEB-3891F870A86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1DF7B6-6F4B-44B3-B6AF-E40D08B7633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9344B8-093E-412A-BADB-D2339479E6F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EDA497-0002-4D07-8D4A-2F472A24EA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5527E-7883-44AF-8E2C-A62696AC151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8A81BC-09D2-40A9-8CFF-252B54027D0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0ED9BE-D544-4BA6-BB88-6AA3C6A8353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D513FC-7E42-41D5-839D-94BF83B4382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F47A87-0B6C-481B-810B-15870727B61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3044DF-9B73-4E23-BBBC-3562DF729F6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148D98-14BD-4A27-B5EC-419E75F3446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2D99B7-45B6-47E8-942E-660D1C2342D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BD2C62-F1DF-4B15-9AE2-C96BB0306F3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5281FA-EF9D-45D8-9A14-DA34155359F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FCF989-7962-4D60-ACF1-6126EE940B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DA5DD-31F3-490A-9DA1-55FC72192C2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D598C0-E2A0-44F4-80B6-7734456BD83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46D6DB-F5D3-40AD-B2AA-3CC83B447FA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136C63-B18F-410D-8AE2-D34D1828323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BA084B-3078-4F0C-9431-A8ABCF4ED47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1E5950-41EA-4AF1-B911-7F3B1274CCD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C1F92F-4746-4086-B075-DCA7550A9B4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4CC90D-2AD8-433D-AC34-6735F7978DD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DD1926-5ACB-4C09-8F5F-1821C854551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8B8A739-8517-42DA-85F8-318D00AC5E8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566224C-1328-4F80-9648-4BCA690E53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43A5B-0799-4BA3-A6DC-970010A4DA0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0A5E0E0-BD9D-46A6-A549-08B1A4DD46F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B45625-54D7-4489-B658-2CB51424733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5742EF2-7A33-48A1-AB3A-1746E574EEB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7E60F7C-85C9-4B89-858B-93C52EB7175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B453485-02AE-40A7-9B92-E48B1B86DB3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8EB751C-8AD3-4D62-8598-6218818C6D7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EE041F-432B-449F-9D7E-43F892B8AE3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6005847-BF8C-4095-8D02-7529C9BBDCF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7186FAC-E751-4FF0-A46E-4CB47961DD0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88ADC-D84C-4A02-8BE8-7B117F8719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1B0BA-6821-45A4-BC92-528A1F6D0EF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32825-A7CA-41D3-8947-96265DE37FF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98508-0692-4CF1-9698-C7764E1D42D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242148-6141-4813-85D5-7491BAF05BE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659DDF-733F-4FA5-8140-33DB15E98C3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9F66A1-BE58-4A96-9194-E4F269D56A7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B7C4E-6473-4017-A8A6-B6421996485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CB90F8-507A-44C5-9E25-D88B9B64C13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348AA-9279-4293-AB22-20BCD20D31B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44C93-4F3B-4F83-B302-4640D43D26E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48A589-803B-4342-B72B-94AE1EF682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8771-22FA-46DE-A380-351BCCD2F2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F1C52-2FA3-46F4-A74D-7447D344D14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70839D-E066-4170-B86E-0C2566E0C4A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98D0E49-9FE8-4E6F-8D5E-C8DB5686264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1A2D6DE-F083-47D3-9CD0-B2DDA68F919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697F71-458C-482D-9314-F9E55147B12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5B75A7-12ED-4F6B-B1BC-5485DEED2F3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216742-070B-414B-A048-FB11D9D903E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563E44-B762-4A40-98CC-25DACB2ABE5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B67F81-28B2-4EBB-9EDE-F3E09E4A283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4E2F508-453F-4845-9B79-40E7B3ADC9B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B3E66C-F453-411A-8027-42FABE8E2E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80FC0-098C-4682-BB3D-45B6755C167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924B4A-6DED-47B8-BFA6-2EEE491779D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4B7064F-5516-41DF-82D0-795DFB38C7F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0CFCD94-78A5-4231-BFC6-F5344D4B9C65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8EACB7A-8159-4D2C-B679-DF9232A7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F621D4-1AA9-49E0-B4B6-53512211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F0AED4-6CCF-4C01-9339-69BC0C8C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DC03F0C-BBB6-4D9B-B01E-48FBB41A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12566FF-0790-4603-9376-8C6BEA39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764050E-F5F8-47BA-A7A2-091E7DA9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112FB2-E263-4E62-9082-BF2B9A23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13699-1C10-45D9-83CD-0394073BCCBE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6B9C5F-ED16-403F-9F43-A72D2873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3B2850-D9A9-419B-AF0D-602115D3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D0679F0-D2C7-418C-A0B0-BB1BD4B7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30AA387-8178-4D92-8546-2D17576E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3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5E5EE1-016E-4A81-9138-06ECF987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6D895-0FF6-4D13-B26F-E3A5BBEB28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F77BC-8943-4A50-A8CF-A52D9BEE3C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13CAD-84FD-4FD8-98B3-67D90730EA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D1C72-8932-4BC3-8DD7-EA8ABBCEC51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36C9D0-D591-4A08-B06F-B6E728002D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DBF10B-BABF-46BE-9169-DCEFE41D458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4B6B70-AFCD-41D9-BE94-4347DC27C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6EC7-DEB8-471E-9328-BE7EEF08E4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7E9067-35AA-4FCF-B839-418464EE83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6CB727-C640-45BF-A4EF-E37198E60A2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7115E1-1E5F-40F8-A3F6-782628E8904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E68E09-7DC3-4C0A-BCF8-4F2D904FE8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3E7599-4C53-46C3-BF7B-B162ECAF97C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3790DE-D138-4475-94A8-FBF65EF78F0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380B83-5017-4378-9CF5-6828694B37F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188968-34EA-436A-B13D-7D0E0A7E032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D6B0C5-FFB8-4DF4-8226-6CF454D4771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A761E-A88D-4C14-963E-05FBE5FCC9F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E9D3-E450-48E3-B49A-B1BAE6EBD6C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04828-5CF1-4A12-B5DF-B9C21C42F5B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2982D-7CE1-473E-92F2-3F17349C465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3B7C2-C84C-48EC-8BAA-9083616480F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4145E-F29F-443C-B45B-865C3578CBC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CD350-2E23-439D-9CF1-9F47424BCF6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08D43-4B48-431B-831E-E93E8099869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89B8E-3579-4DC1-9F5F-B03D6D4D91A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5C43C-11B9-4051-BACD-AA42D0DAE8E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6C35C-8D9D-43BE-9DA0-DCB035155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F1ED9-B937-48CB-90C5-56CA9082D70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BDEFB-8CB3-4233-A536-AF189B1D055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1E4F1-898F-4CC4-97BE-F7387CDDF27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99CFD-4DFA-43ED-900D-41134A27488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73AAE9-45A6-4FCE-91F9-DF651A68286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352565-5BC8-4C67-A0D9-4D4BFB5E508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6CA72B-45BC-4688-8FB1-ADE5E2903A2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2FC1F7-3B0A-4F47-89E2-13A995B61D6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29C9AA-4B8C-4A59-B89B-C0E6048D026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A5F55E-E1AA-4B28-B672-2E363ACBDBB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B2F7FA-EA77-406D-B63C-A9C59CC89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F6ED5-565A-4849-9E7D-741161E0138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81CE10-ABC7-491C-ACE4-1591A349E8B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D4D304-DBFD-4FF4-8BA2-49C91CC693D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A4B566-EE0C-4AF0-BD76-A66DDF9CA29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B407F5-0C0E-40DE-9626-70CD9E1139E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5D1C16-344C-444C-96F6-BBEA75B1424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EB2DC-BA0D-4DBD-93BF-26E887FF6A1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A1855-BFB9-4534-9EB5-F1E291D011F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74A2C-FA66-4BA0-9F60-EABB3081146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7D94E-DD94-446F-8121-FD63957B0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6 -</a:t>
            </a:r>
            <a:fld id="{441E301B-1D7E-4473-8CD4-D6F2AF25601A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457200" y="6248520"/>
            <a:ext cx="556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Arial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Arial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84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321600" y="-29226240"/>
            <a:ext cx="265896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1000"/>
          </a:bodyPr>
          <a:p>
            <a:pPr marL="33840" indent="-338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4520" indent="-363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3400" indent="-3456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0640" indent="-385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Line 7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4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Arial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15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C4EB-0FB8-489B-89C4-42766891F6D2}" type="slidenum">
              <a:rPr b="0" lang="en-GB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22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9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6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Arial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7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677E-947C-40A9-BAE1-35CAC9DA638E}" type="slidenum">
              <a:rPr b="0" lang="en-GB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17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471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0" name="Line 14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Rectangle 15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2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7" descr="Pearson_Bound_White"/>
          <p:cNvPicPr/>
          <p:nvPr/>
        </p:nvPicPr>
        <p:blipFill>
          <a:blip r:embed="rId3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1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E1F6-2B47-4DCE-BEF9-D110F47D938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7" descr="Pearson_Bound_White"/>
          <p:cNvPicPr/>
          <p:nvPr/>
        </p:nvPicPr>
        <p:blipFill>
          <a:blip r:embed="rId2"/>
          <a:stretch/>
        </p:blipFill>
        <p:spPr>
          <a:xfrm>
            <a:off x="7783560" y="6496200"/>
            <a:ext cx="1190520" cy="223560"/>
          </a:xfrm>
          <a:prstGeom prst="rect">
            <a:avLst/>
          </a:prstGeom>
          <a:ln w="0">
            <a:noFill/>
          </a:ln>
        </p:spPr>
      </p:pic>
      <p:sp>
        <p:nvSpPr>
          <p:cNvPr id="594" name="Line 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5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10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7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4" descr="Pearson_Bound_White"/>
          <p:cNvPicPr/>
          <p:nvPr/>
        </p:nvPicPr>
        <p:blipFill>
          <a:blip r:embed="rId5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9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sldNum" idx="21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24C4CEB8-67E7-4547-868B-B22453599370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22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2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Num" idx="23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1C686B2B-ABFD-44FA-8BB6-806AC6C47799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24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5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Num" idx="25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1ED69A33-D36F-4584-97C4-02155EFB4288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26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8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sldNum" idx="27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23B55D75-9629-4537-A300-19A4906D5FCB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28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3EEC8B17-3E02-4B64-9BCB-F33344A5A47B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3E9D-411D-464C-A90F-B1409649084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Pearson_Bound_White"/>
          <p:cNvPicPr/>
          <p:nvPr/>
        </p:nvPicPr>
        <p:blipFill>
          <a:blip r:embed="rId2"/>
          <a:stretch/>
        </p:blipFill>
        <p:spPr>
          <a:xfrm>
            <a:off x="7783560" y="6496200"/>
            <a:ext cx="1190520" cy="223560"/>
          </a:xfrm>
          <a:prstGeom prst="rect">
            <a:avLst/>
          </a:prstGeom>
          <a:ln w="0">
            <a:noFill/>
          </a:ln>
        </p:spPr>
      </p:pic>
      <p:sp>
        <p:nvSpPr>
          <p:cNvPr id="853" name="Line 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10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6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14" descr="Pearson_Bound_White"/>
          <p:cNvPicPr/>
          <p:nvPr/>
        </p:nvPicPr>
        <p:blipFill>
          <a:blip r:embed="rId5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8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32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3 -</a:t>
            </a:r>
            <a:fld id="{42A64F5B-45BC-4896-996F-840E3E6559B3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33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sldNum" idx="34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3 -</a:t>
            </a:r>
            <a:fld id="{222C506D-FBD7-40A2-88C6-608F35C9EB9C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35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ftr" idx="36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sldNum" idx="37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 1 -</a:t>
            </a:r>
            <a:fld id="{4A383B39-68AD-4FC5-97C2-F9ADBE8D870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8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9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 1 -</a:t>
            </a:r>
            <a:fld id="{CB943517-9C1B-4ACF-A7D1-952CA10CA95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9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 type="ftr" idx="40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 type="sldNum" idx="41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 1 -</a:t>
            </a:r>
            <a:fld id="{042B2C7F-703E-4A32-9BAA-FC204D402E7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 type="dt" idx="4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 type="ftr" idx="4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54AF-6C6C-4B1F-8583-E8724328377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4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3 -</a:t>
            </a:r>
            <a:fld id="{A9E34EBC-D52C-47CF-899A-5559FDA56840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Arial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Arial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6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7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3 -</a:t>
            </a:r>
            <a:fld id="{6C83AE03-5793-4214-AF16-686ED62C6AFE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173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321600" y="-29226240"/>
            <a:ext cx="265896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1000"/>
          </a:bodyPr>
          <a:p>
            <a:pPr marL="33840" indent="-338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4520" indent="-363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3400" indent="-3456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0640" indent="-385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Line 7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8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Arial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9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9E45-2EC4-4467-9372-0E37B4299A97}" type="slidenum">
              <a:rPr b="0" lang="en-GB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2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9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10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Arial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1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15EC-637A-4BA1-A0D9-200B8B9C7A83}" type="slidenum">
              <a:rPr b="0" lang="en-GB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7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260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9" name="Line 14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7" descr="Pearson_Bound_White"/>
          <p:cNvPicPr/>
          <p:nvPr/>
        </p:nvPicPr>
        <p:blipFill>
          <a:blip r:embed="rId3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12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2 -</a:t>
            </a:r>
            <a:fld id="{97608C55-B63F-424E-9CA1-C49DF0752D57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3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Arial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Arial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8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8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1" name="Picture 2" descr="Always_Learning_Text_Orange_RGB"/>
          <p:cNvPicPr/>
          <p:nvPr/>
        </p:nvPicPr>
        <p:blipFill>
          <a:blip r:embed="rId1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116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Slide Number Placeholder 5"/>
          <p:cNvSpPr/>
          <p:nvPr/>
        </p:nvSpPr>
        <p:spPr>
          <a:xfrm>
            <a:off x="22860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4937B128-392B-47FB-B21C-053E70540C6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2B6C8322-919C-4C9E-8670-EA002397A14B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Text Box 2"/>
          <p:cNvSpPr/>
          <p:nvPr/>
        </p:nvSpPr>
        <p:spPr>
          <a:xfrm>
            <a:off x="533520" y="4572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-Formulation Analytical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2" name="Rectangle 7"/>
          <p:cNvSpPr/>
          <p:nvPr/>
        </p:nvSpPr>
        <p:spPr>
          <a:xfrm>
            <a:off x="4952880" y="1447920"/>
            <a:ext cx="3200400" cy="106668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rnal Factor Evalu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atrix (IF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Rectangle 12"/>
          <p:cNvSpPr/>
          <p:nvPr/>
        </p:nvSpPr>
        <p:spPr>
          <a:xfrm>
            <a:off x="4952880" y="3048120"/>
            <a:ext cx="3200400" cy="106668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xternal Factor Evalu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atrix (EF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Rectangle 13"/>
          <p:cNvSpPr/>
          <p:nvPr/>
        </p:nvSpPr>
        <p:spPr>
          <a:xfrm>
            <a:off x="4952880" y="4724280"/>
            <a:ext cx="3200400" cy="106704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etitive Profile Matri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CP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Oval 14"/>
          <p:cNvSpPr/>
          <p:nvPr/>
        </p:nvSpPr>
        <p:spPr>
          <a:xfrm>
            <a:off x="762120" y="2895480"/>
            <a:ext cx="3352680" cy="129564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f5ea"/>
                </a:solidFill>
                <a:latin typeface="Verdana"/>
              </a:rPr>
              <a:t>Stage 1:</a:t>
            </a:r>
            <a:br>
              <a:rPr sz="1800"/>
            </a:br>
            <a:r>
              <a:rPr b="1" lang="en-US" sz="1800" spc="-1" strike="noStrike">
                <a:solidFill>
                  <a:srgbClr val="fbf5ea"/>
                </a:solidFill>
                <a:latin typeface="Verdana"/>
              </a:rPr>
              <a:t>The Input St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Line 15"/>
          <p:cNvSpPr/>
          <p:nvPr/>
        </p:nvSpPr>
        <p:spPr>
          <a:xfrm flipV="1">
            <a:off x="4114800" y="1904760"/>
            <a:ext cx="8380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Line 17"/>
          <p:cNvSpPr/>
          <p:nvPr/>
        </p:nvSpPr>
        <p:spPr>
          <a:xfrm>
            <a:off x="411480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Line 18"/>
          <p:cNvSpPr/>
          <p:nvPr/>
        </p:nvSpPr>
        <p:spPr>
          <a:xfrm>
            <a:off x="4114800" y="350532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BA855D49-D592-45C8-9735-18D630F917E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E4411344-57A4-4F65-BEAA-0C3789327F91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Text Box 2"/>
          <p:cNvSpPr/>
          <p:nvPr/>
        </p:nvSpPr>
        <p:spPr>
          <a:xfrm>
            <a:off x="53352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age 1: The Input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Text Box 4"/>
          <p:cNvSpPr/>
          <p:nvPr/>
        </p:nvSpPr>
        <p:spPr>
          <a:xfrm>
            <a:off x="457200" y="1295280"/>
            <a:ext cx="8458200" cy="241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sic input information for the matching &amp; decision stage matr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od intuitive judgment always nee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>
              <a:spcBef>
                <a:spcPts val="125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Text Box 5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8BD84555-32C1-482B-A225-6D0E29109AB6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66A2648E-F39E-40E1-8D67-4F8AB4AC2700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Text Box 2"/>
          <p:cNvSpPr/>
          <p:nvPr/>
        </p:nvSpPr>
        <p:spPr>
          <a:xfrm>
            <a:off x="533520" y="457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-Formulation Analytical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Rectangle 3"/>
          <p:cNvSpPr/>
          <p:nvPr/>
        </p:nvSpPr>
        <p:spPr>
          <a:xfrm>
            <a:off x="5334120" y="1143000"/>
            <a:ext cx="3200400" cy="68580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WOT Matr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Line 7"/>
          <p:cNvSpPr/>
          <p:nvPr/>
        </p:nvSpPr>
        <p:spPr>
          <a:xfrm flipV="1">
            <a:off x="4495680" y="1447560"/>
            <a:ext cx="838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Line 8"/>
          <p:cNvSpPr/>
          <p:nvPr/>
        </p:nvSpPr>
        <p:spPr>
          <a:xfrm>
            <a:off x="4495680" y="3429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2" name="Line 9"/>
          <p:cNvSpPr/>
          <p:nvPr/>
        </p:nvSpPr>
        <p:spPr>
          <a:xfrm>
            <a:off x="4495680" y="3429000"/>
            <a:ext cx="838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3" name="Rectangle 10"/>
          <p:cNvSpPr/>
          <p:nvPr/>
        </p:nvSpPr>
        <p:spPr>
          <a:xfrm>
            <a:off x="5334120" y="213372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ACE Matr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4" name="Rectangle 11"/>
          <p:cNvSpPr/>
          <p:nvPr/>
        </p:nvSpPr>
        <p:spPr>
          <a:xfrm>
            <a:off x="5334120" y="304812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CG Matr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5" name="Rectangle 12"/>
          <p:cNvSpPr/>
          <p:nvPr/>
        </p:nvSpPr>
        <p:spPr>
          <a:xfrm>
            <a:off x="5334120" y="403848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E Matr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6" name="Rectangle 13"/>
          <p:cNvSpPr/>
          <p:nvPr/>
        </p:nvSpPr>
        <p:spPr>
          <a:xfrm>
            <a:off x="5334120" y="502920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nd Strategy Matr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7" name="Line 14"/>
          <p:cNvSpPr/>
          <p:nvPr/>
        </p:nvSpPr>
        <p:spPr>
          <a:xfrm flipV="1">
            <a:off x="4495680" y="251460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Line 15"/>
          <p:cNvSpPr/>
          <p:nvPr/>
        </p:nvSpPr>
        <p:spPr>
          <a:xfrm>
            <a:off x="4495680" y="342900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9" name="Oval 16"/>
          <p:cNvSpPr/>
          <p:nvPr/>
        </p:nvSpPr>
        <p:spPr>
          <a:xfrm>
            <a:off x="1143000" y="2819520"/>
            <a:ext cx="3352680" cy="129528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age 2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Matching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CF96691D-0559-4C70-ACC7-9D55486F30A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EEBEA9A8-CD70-43F2-8BD4-D56AC7E0C1A8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Text Box 2"/>
          <p:cNvSpPr/>
          <p:nvPr/>
        </p:nvSpPr>
        <p:spPr>
          <a:xfrm>
            <a:off x="533520" y="457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age 2: The Matching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Text Box 3"/>
          <p:cNvSpPr/>
          <p:nvPr/>
        </p:nvSpPr>
        <p:spPr>
          <a:xfrm>
            <a:off x="533520" y="1981080"/>
            <a:ext cx="6781680" cy="19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ding the match between organization’s internal resources &amp; skills and the opportunities &amp; risks created by its external fa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5" name="Text Box 4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F40335C8-8514-45C3-A458-2BA1E8638FB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15A74F15-AC82-4560-AE6D-D7346F6ECAB6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9" name="Text Box 2"/>
          <p:cNvSpPr/>
          <p:nvPr/>
        </p:nvSpPr>
        <p:spPr>
          <a:xfrm>
            <a:off x="533520" y="45720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age 2: The Matching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WOT Matr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0" name="Text Box 3"/>
          <p:cNvSpPr/>
          <p:nvPr/>
        </p:nvSpPr>
        <p:spPr>
          <a:xfrm>
            <a:off x="533520" y="2362320"/>
            <a:ext cx="67816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 SWOT matrix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it is an important matching tool that help managers develop four types of strategies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Text Box 4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9AD973E3-70EF-4F39-8DAA-B76B7198C85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4" name=""/>
          <p:cNvGraphicFramePr/>
          <p:nvPr/>
        </p:nvGraphicFramePr>
        <p:xfrm>
          <a:off x="1523880" y="3809880"/>
          <a:ext cx="6096240" cy="12193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bf5ea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bf5ea"/>
                          </a:solidFill>
                          <a:latin typeface="Verdana"/>
                        </a:rPr>
                        <a:t>SO</a:t>
                      </a:r>
                      <a:r>
                        <a:rPr b="1" lang="en-US" sz="1800" spc="-1" strike="noStrike">
                          <a:solidFill>
                            <a:srgbClr val="fbf5ea"/>
                          </a:solidFill>
                          <a:latin typeface="Verdana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18720">
                      <a:solidFill>
                        <a:srgbClr val="fbf5ea"/>
                      </a:solidFill>
                    </a:lnB>
                    <a:solidFill>
                      <a:srgbClr val="f1893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bf5ea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bf5ea"/>
                          </a:solidFill>
                          <a:latin typeface="Verdana"/>
                        </a:rPr>
                        <a:t>WO</a:t>
                      </a:r>
                      <a:r>
                        <a:rPr b="1" lang="en-US" sz="1800" spc="-1" strike="noStrike">
                          <a:solidFill>
                            <a:srgbClr val="fbf5ea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18720">
                      <a:solidFill>
                        <a:srgbClr val="fbf5ea"/>
                      </a:solidFill>
                    </a:lnB>
                    <a:solidFill>
                      <a:srgbClr val="f18938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1872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ada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1872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adace"/>
                    </a:solidFill>
                  </a:tcPr>
                </a:tc>
              </a:tr>
            </a:tbl>
          </a:graphicData>
        </a:graphic>
      </p:graphicFrame>
      <p:sp>
        <p:nvSpPr>
          <p:cNvPr id="1255" name="Rectangle 14"/>
          <p:cNvSpPr/>
          <p:nvPr/>
        </p:nvSpPr>
        <p:spPr>
          <a:xfrm>
            <a:off x="4397400" y="324468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WOT Matrix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graphicFrame>
        <p:nvGraphicFramePr>
          <p:cNvPr id="1257" name=""/>
          <p:cNvGraphicFramePr/>
          <p:nvPr/>
        </p:nvGraphicFramePr>
        <p:xfrm>
          <a:off x="0" y="990720"/>
          <a:ext cx="9144000" cy="5867280"/>
        </p:xfrm>
        <a:graphic>
          <a:graphicData uri="http://schemas.openxmlformats.org/drawingml/2006/table">
            <a:tbl>
              <a:tblPr/>
              <a:tblGrid>
                <a:gridCol w="3319560"/>
                <a:gridCol w="2670120"/>
                <a:gridCol w="3154320"/>
              </a:tblGrid>
              <a:tr h="1874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n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b0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rengths – 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st Streng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9b1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eaknesses – </a:t>
                      </a: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st Weakn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9b1c"/>
                    </a:solidFill>
                  </a:tcPr>
                </a:tc>
              </a:tr>
              <a:tr h="202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pportunities – </a:t>
                      </a: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st Opportun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9b1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O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rategies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 strengths to take advantage of opportun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9b1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WO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rategies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coming weaknesses by taking advantage of opportun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9b1c"/>
                    </a:solidFill>
                  </a:tcPr>
                </a:tc>
              </a:tr>
              <a:tr h="196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reats – 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st Thre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9b1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T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rategies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 strengths to avoid thre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9b1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WT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rategies</a:t>
                      </a:r>
                      <a:br>
                        <a:rPr sz="24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fensive strategy aim a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imize weaknesses and avoid thre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9b1c"/>
                    </a:solidFill>
                  </a:tcPr>
                </a:tc>
              </a:tr>
            </a:tbl>
          </a:graphicData>
        </a:graphic>
      </p:graphicFrame>
      <p:sp>
        <p:nvSpPr>
          <p:cNvPr id="1258" name="Slide Number Placeholder 3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AEC091D1-FEA2-45F4-B643-AAF9C60F391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Straight Connector 9"/>
          <p:cNvSpPr/>
          <p:nvPr/>
        </p:nvSpPr>
        <p:spPr>
          <a:xfrm>
            <a:off x="609480" y="990720"/>
            <a:ext cx="289584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62" name="Straight Arrow Connector 11"/>
          <p:cNvCxnSpPr/>
          <p:nvPr/>
        </p:nvCxnSpPr>
        <p:spPr>
          <a:xfrm>
            <a:off x="1981080" y="1523880"/>
            <a:ext cx="106776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3" name="Straight Arrow Connector 13"/>
          <p:cNvCxnSpPr/>
          <p:nvPr/>
        </p:nvCxnSpPr>
        <p:spPr>
          <a:xfrm>
            <a:off x="990360" y="1752120"/>
            <a:ext cx="10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WOT </a:t>
            </a:r>
            <a:br>
              <a:rPr sz="2400"/>
            </a:b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Example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457200" y="1371600"/>
          <a:ext cx="8229600" cy="4419720"/>
        </p:xfrm>
        <a:graphic>
          <a:graphicData uri="http://schemas.openxmlformats.org/drawingml/2006/table">
            <a:tbl>
              <a:tblPr/>
              <a:tblGrid>
                <a:gridCol w="2841480"/>
                <a:gridCol w="2644920"/>
                <a:gridCol w="2743200"/>
              </a:tblGrid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bf5ea"/>
                          </a:solidFill>
                          <a:latin typeface="Verdana"/>
                        </a:rPr>
                        <a:t>Key internal fact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18720">
                      <a:solidFill>
                        <a:srgbClr val="fbf5ea"/>
                      </a:solidFill>
                    </a:lnB>
                    <a:solidFill>
                      <a:srgbClr val="ed6b0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bf5ea"/>
                          </a:solidFill>
                          <a:latin typeface="Verdana"/>
                        </a:rPr>
                        <a:t>Key external fact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18720">
                      <a:solidFill>
                        <a:srgbClr val="fbf5ea"/>
                      </a:solidFill>
                    </a:lnB>
                    <a:solidFill>
                      <a:srgbClr val="ed6b0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bf5ea"/>
                          </a:solidFill>
                          <a:latin typeface="Verdana"/>
                        </a:rPr>
                        <a:t>Resultant strateg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18720">
                      <a:solidFill>
                        <a:srgbClr val="fbf5ea"/>
                      </a:solidFill>
                    </a:lnB>
                    <a:solidFill>
                      <a:srgbClr val="ed6b06"/>
                    </a:solidFill>
                  </a:tcPr>
                </a:tc>
              </a:tr>
              <a:tr h="82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cess working capacity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strength )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1872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8d4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% annual growth in the cell phone industry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opportunity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1872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8d4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re Cell phone ,In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(S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1872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8d4cc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ufficient capacity (weakness)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c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it of two major foreign competitors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opportunity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c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rsue horizontal integration by buying competitors ‘s facilities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(W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ceb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ong R&amp;D expertise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strength )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8d4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reasing number of younger adults (threat  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8d4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velop new products for older ad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(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8d4cc"/>
                    </a:solidFill>
                  </a:tcPr>
                </a:tc>
              </a:tr>
              <a:tr h="106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or employees moral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weakness)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c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ong union activity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threa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c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velop a new employees benefits pack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(W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cebe7"/>
                    </a:solidFill>
                  </a:tcPr>
                </a:tc>
              </a:tr>
            </a:tbl>
          </a:graphicData>
        </a:graphic>
      </p:graphicFrame>
      <p:sp>
        <p:nvSpPr>
          <p:cNvPr id="1266" name="Slide Number Placeholder 3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36DB1A1D-5133-4418-8BBB-56BF41228B05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67" name="Straight Arrow Connector 9"/>
          <p:cNvCxnSpPr/>
          <p:nvPr/>
        </p:nvCxnSpPr>
        <p:spPr>
          <a:xfrm>
            <a:off x="5409720" y="2666520"/>
            <a:ext cx="839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8" name="Straight Arrow Connector 11"/>
          <p:cNvCxnSpPr/>
          <p:nvPr/>
        </p:nvCxnSpPr>
        <p:spPr>
          <a:xfrm>
            <a:off x="5257800" y="3733560"/>
            <a:ext cx="915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9" name="Straight Arrow Connector 13"/>
          <p:cNvCxnSpPr/>
          <p:nvPr/>
        </p:nvCxnSpPr>
        <p:spPr>
          <a:xfrm>
            <a:off x="5257800" y="4647960"/>
            <a:ext cx="838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70" name="Straight Arrow Connector 15"/>
          <p:cNvCxnSpPr/>
          <p:nvPr/>
        </p:nvCxnSpPr>
        <p:spPr>
          <a:xfrm>
            <a:off x="5257800" y="5638320"/>
            <a:ext cx="838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64CEB6BD-2C22-4544-861B-434C916DCD1B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Text Box 2"/>
          <p:cNvSpPr/>
          <p:nvPr/>
        </p:nvSpPr>
        <p:spPr>
          <a:xfrm>
            <a:off x="533520" y="457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-Formulation Analytical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5334120" y="114300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WOT Matr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Line 4"/>
          <p:cNvSpPr/>
          <p:nvPr/>
        </p:nvSpPr>
        <p:spPr>
          <a:xfrm flipV="1">
            <a:off x="4495680" y="1447560"/>
            <a:ext cx="838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Line 5"/>
          <p:cNvSpPr/>
          <p:nvPr/>
        </p:nvSpPr>
        <p:spPr>
          <a:xfrm>
            <a:off x="4495680" y="3429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6" name="Line 6"/>
          <p:cNvSpPr/>
          <p:nvPr/>
        </p:nvSpPr>
        <p:spPr>
          <a:xfrm>
            <a:off x="4495680" y="3429000"/>
            <a:ext cx="838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7" name="Rectangle 7"/>
          <p:cNvSpPr/>
          <p:nvPr/>
        </p:nvSpPr>
        <p:spPr>
          <a:xfrm>
            <a:off x="5334120" y="2133720"/>
            <a:ext cx="3200400" cy="68580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ACE Matr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8" name="Rectangle 8"/>
          <p:cNvSpPr/>
          <p:nvPr/>
        </p:nvSpPr>
        <p:spPr>
          <a:xfrm>
            <a:off x="5334120" y="304812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CG Matr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9" name="Rectangle 9"/>
          <p:cNvSpPr/>
          <p:nvPr/>
        </p:nvSpPr>
        <p:spPr>
          <a:xfrm>
            <a:off x="5334120" y="403848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E Matr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Rectangle 10"/>
          <p:cNvSpPr/>
          <p:nvPr/>
        </p:nvSpPr>
        <p:spPr>
          <a:xfrm>
            <a:off x="5334120" y="502920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nd Strategy Matr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1" name="Line 11"/>
          <p:cNvSpPr/>
          <p:nvPr/>
        </p:nvSpPr>
        <p:spPr>
          <a:xfrm flipV="1">
            <a:off x="4495680" y="251460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2" name="Line 12"/>
          <p:cNvSpPr/>
          <p:nvPr/>
        </p:nvSpPr>
        <p:spPr>
          <a:xfrm>
            <a:off x="4495680" y="342900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3" name="Oval 13"/>
          <p:cNvSpPr/>
          <p:nvPr/>
        </p:nvSpPr>
        <p:spPr>
          <a:xfrm>
            <a:off x="1143000" y="2819520"/>
            <a:ext cx="3352680" cy="129528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age 2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Matching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1774FF6F-8359-4A96-A318-F82C6697442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8A0C7F24-0533-42E1-8DBF-A6EA21D64A54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7" name="Text Box 2"/>
          <p:cNvSpPr/>
          <p:nvPr/>
        </p:nvSpPr>
        <p:spPr>
          <a:xfrm>
            <a:off x="533520" y="4572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PACE Matr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ic Position &amp; Action Evaluation Matr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609480" y="2362320"/>
            <a:ext cx="6782040" cy="22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-quadrants indicate whether the most appropriate strategy i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gress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erva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ens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ti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9" name="Text Box 5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19108337-0F32-42E2-994C-D08AC1B92AC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50947A88-20ED-4796-A423-8B3B6432C804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Text Box 2"/>
          <p:cNvSpPr/>
          <p:nvPr/>
        </p:nvSpPr>
        <p:spPr>
          <a:xfrm>
            <a:off x="533520" y="457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SPACE Matri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Text Box 3"/>
          <p:cNvSpPr/>
          <p:nvPr/>
        </p:nvSpPr>
        <p:spPr>
          <a:xfrm>
            <a:off x="609480" y="22096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wo Internal Dimens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5" name="Text Box 4"/>
          <p:cNvSpPr/>
          <p:nvPr/>
        </p:nvSpPr>
        <p:spPr>
          <a:xfrm>
            <a:off x="609480" y="2590920"/>
            <a:ext cx="678204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ancial Strength (F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titive Advantage (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A785122D-8158-47CF-8605-AB10FF561AB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84740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d6b06"/>
                </a:solidFill>
                <a:latin typeface="Verdana"/>
              </a:rPr>
              <a:t>Strategic Management: Concepts and Cases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340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ed R. Dav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bas J. 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dulrahman Y. Al-A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Chapter 7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Strategy Analysis 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Ch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7" name="Picture 4" descr="CVR_STMA_SB_ARW_5674_CVR"/>
          <p:cNvPicPr/>
          <p:nvPr/>
        </p:nvPicPr>
        <p:blipFill>
          <a:blip r:embed="rId1"/>
          <a:stretch/>
        </p:blipFill>
        <p:spPr>
          <a:xfrm>
            <a:off x="5410080" y="1523880"/>
            <a:ext cx="2874960" cy="4138560"/>
          </a:xfrm>
          <a:prstGeom prst="rect">
            <a:avLst/>
          </a:prstGeom>
          <a:ln w="0">
            <a:noFill/>
          </a:ln>
        </p:spPr>
      </p:pic>
      <p:sp>
        <p:nvSpPr>
          <p:cNvPr id="116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22860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4C67FFDF-49B2-4E5B-8A51-EAF3EE0031C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5DE39541-517C-4DF7-A684-A6FE4E118009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9" name="Text Box 2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PACE Matr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Text Box 3"/>
          <p:cNvSpPr/>
          <p:nvPr/>
        </p:nvSpPr>
        <p:spPr>
          <a:xfrm>
            <a:off x="533520" y="2209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wo External Dimens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Text Box 4"/>
          <p:cNvSpPr/>
          <p:nvPr/>
        </p:nvSpPr>
        <p:spPr>
          <a:xfrm>
            <a:off x="533520" y="2590920"/>
            <a:ext cx="678168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SzPct val="10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al Stability (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SzPct val="10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ustry Strength (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93FB9B72-6DFE-408D-AB23-E094D1E5008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PACE Factor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05" name="Slide Number Placeholder 3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AC621C2B-3DDE-41BD-B982-2286D812B808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6" name="Group 3"/>
          <p:cNvGrpSpPr/>
          <p:nvPr/>
        </p:nvGrpSpPr>
        <p:grpSpPr>
          <a:xfrm>
            <a:off x="533520" y="1143000"/>
            <a:ext cx="8153280" cy="4467240"/>
            <a:chOff x="533520" y="1143000"/>
            <a:chExt cx="8153280" cy="4467240"/>
          </a:xfrm>
        </p:grpSpPr>
        <p:sp>
          <p:nvSpPr>
            <p:cNvPr id="1307" name="Rectangle 4"/>
            <p:cNvSpPr/>
            <p:nvPr/>
          </p:nvSpPr>
          <p:spPr>
            <a:xfrm>
              <a:off x="4406040" y="1774440"/>
              <a:ext cx="4280400" cy="3835440"/>
            </a:xfrm>
            <a:prstGeom prst="rect">
              <a:avLst/>
            </a:prstGeom>
            <a:solidFill>
              <a:srgbClr val="f39b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nvironmental Stability (ES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echnological change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ate of inflatio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emand variabilit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ice range of competing product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rriers to entr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mpetitive pressur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ase of exit from market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isk involved in busines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8" name="Rectangle 5"/>
            <p:cNvSpPr/>
            <p:nvPr/>
          </p:nvSpPr>
          <p:spPr>
            <a:xfrm>
              <a:off x="533520" y="1774440"/>
              <a:ext cx="3872520" cy="3835440"/>
            </a:xfrm>
            <a:prstGeom prst="rect">
              <a:avLst/>
            </a:prstGeom>
            <a:solidFill>
              <a:srgbClr val="f39b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Financial Strength (FS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turn on investment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Leverag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Liquidit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Working capita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ash flow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nventory turnove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arnings per shar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ice earnings rati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9" name="Rectangle 6"/>
            <p:cNvSpPr/>
            <p:nvPr/>
          </p:nvSpPr>
          <p:spPr>
            <a:xfrm>
              <a:off x="4406040" y="1143000"/>
              <a:ext cx="4280400" cy="631440"/>
            </a:xfrm>
            <a:prstGeom prst="rect">
              <a:avLst/>
            </a:prstGeom>
            <a:solidFill>
              <a:srgbClr val="ed6b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ternal Strategic Posit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0" name="Rectangle 7"/>
            <p:cNvSpPr/>
            <p:nvPr/>
          </p:nvSpPr>
          <p:spPr>
            <a:xfrm>
              <a:off x="533520" y="1143000"/>
              <a:ext cx="3872520" cy="631440"/>
            </a:xfrm>
            <a:prstGeom prst="rect">
              <a:avLst/>
            </a:prstGeom>
            <a:solidFill>
              <a:srgbClr val="ed6b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ternal Strategic Posit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1" name="Line 8"/>
            <p:cNvSpPr/>
            <p:nvPr/>
          </p:nvSpPr>
          <p:spPr>
            <a:xfrm>
              <a:off x="534600" y="1143000"/>
              <a:ext cx="8151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2" name="Line 9"/>
            <p:cNvSpPr/>
            <p:nvPr/>
          </p:nvSpPr>
          <p:spPr>
            <a:xfrm>
              <a:off x="534600" y="1774440"/>
              <a:ext cx="815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3" name="Line 10"/>
            <p:cNvSpPr/>
            <p:nvPr/>
          </p:nvSpPr>
          <p:spPr>
            <a:xfrm>
              <a:off x="534600" y="5610240"/>
              <a:ext cx="8151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4" name="Line 11"/>
            <p:cNvSpPr/>
            <p:nvPr/>
          </p:nvSpPr>
          <p:spPr>
            <a:xfrm>
              <a:off x="533520" y="1144080"/>
              <a:ext cx="0" cy="446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5" name="Line 12"/>
            <p:cNvSpPr/>
            <p:nvPr/>
          </p:nvSpPr>
          <p:spPr>
            <a:xfrm>
              <a:off x="4406040" y="1144080"/>
              <a:ext cx="0" cy="446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6" name="Line 13"/>
            <p:cNvSpPr/>
            <p:nvPr/>
          </p:nvSpPr>
          <p:spPr>
            <a:xfrm>
              <a:off x="8686800" y="1144080"/>
              <a:ext cx="0" cy="446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1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A5F27382-1957-4024-8CFE-7A99D0F81A4B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69520" cy="75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PACE Factor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20" name="Slide Number Placeholder 3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2424D55D-374D-43CB-AA5F-0B4574B5EC68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1" name="Group 3"/>
          <p:cNvGrpSpPr/>
          <p:nvPr/>
        </p:nvGrpSpPr>
        <p:grpSpPr>
          <a:xfrm>
            <a:off x="304920" y="1143000"/>
            <a:ext cx="8534160" cy="4648320"/>
            <a:chOff x="304920" y="1143000"/>
            <a:chExt cx="8534160" cy="4648320"/>
          </a:xfrm>
        </p:grpSpPr>
        <p:sp>
          <p:nvSpPr>
            <p:cNvPr id="1322" name="Rectangle 4"/>
            <p:cNvSpPr/>
            <p:nvPr/>
          </p:nvSpPr>
          <p:spPr>
            <a:xfrm>
              <a:off x="4785120" y="1753200"/>
              <a:ext cx="4053600" cy="4037760"/>
            </a:xfrm>
            <a:prstGeom prst="rect">
              <a:avLst/>
            </a:prstGeom>
            <a:solidFill>
              <a:srgbClr val="f39b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dustry Strength (IS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Growth potential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fit potential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inancial stabilit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echnological know-ho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Resource utilizat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ase of entry into marke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ductivity, capacity utilizat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3" name="Rectangle 5"/>
            <p:cNvSpPr/>
            <p:nvPr/>
          </p:nvSpPr>
          <p:spPr>
            <a:xfrm>
              <a:off x="304920" y="1753200"/>
              <a:ext cx="4480200" cy="4037760"/>
            </a:xfrm>
            <a:prstGeom prst="rect">
              <a:avLst/>
            </a:prstGeom>
            <a:solidFill>
              <a:srgbClr val="f39b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ompetitive Advantage (CA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arket shar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duct qualit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duct life cycl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ustomer loyalt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petition’s capacity utilizat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echnological know-ho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ntrol over suppliers &amp; distributor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4" name="Rectangle 6"/>
            <p:cNvSpPr/>
            <p:nvPr/>
          </p:nvSpPr>
          <p:spPr>
            <a:xfrm>
              <a:off x="4785120" y="1143000"/>
              <a:ext cx="4053600" cy="610200"/>
            </a:xfrm>
            <a:prstGeom prst="rect">
              <a:avLst/>
            </a:prstGeom>
            <a:solidFill>
              <a:srgbClr val="ed6b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ternal Strategic Posit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5" name="Rectangle 7"/>
            <p:cNvSpPr/>
            <p:nvPr/>
          </p:nvSpPr>
          <p:spPr>
            <a:xfrm>
              <a:off x="304920" y="1143000"/>
              <a:ext cx="4480200" cy="610200"/>
            </a:xfrm>
            <a:prstGeom prst="rect">
              <a:avLst/>
            </a:prstGeom>
            <a:solidFill>
              <a:srgbClr val="ed6b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ternal Strategic Posit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6" name="Line 8"/>
            <p:cNvSpPr/>
            <p:nvPr/>
          </p:nvSpPr>
          <p:spPr>
            <a:xfrm>
              <a:off x="306000" y="1143000"/>
              <a:ext cx="853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7" name="Line 9"/>
            <p:cNvSpPr/>
            <p:nvPr/>
          </p:nvSpPr>
          <p:spPr>
            <a:xfrm>
              <a:off x="306000" y="1753200"/>
              <a:ext cx="853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8" name="Line 10"/>
            <p:cNvSpPr/>
            <p:nvPr/>
          </p:nvSpPr>
          <p:spPr>
            <a:xfrm>
              <a:off x="306000" y="5791320"/>
              <a:ext cx="853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9" name="Line 11"/>
            <p:cNvSpPr/>
            <p:nvPr/>
          </p:nvSpPr>
          <p:spPr>
            <a:xfrm>
              <a:off x="304920" y="1144080"/>
              <a:ext cx="0" cy="464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0" name="Line 12"/>
            <p:cNvSpPr/>
            <p:nvPr/>
          </p:nvSpPr>
          <p:spPr>
            <a:xfrm>
              <a:off x="4785120" y="1144080"/>
              <a:ext cx="0" cy="464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1" name="Line 13"/>
            <p:cNvSpPr/>
            <p:nvPr/>
          </p:nvSpPr>
          <p:spPr>
            <a:xfrm>
              <a:off x="8839080" y="1144080"/>
              <a:ext cx="0" cy="464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3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8EDACE62-41C6-464F-B8C1-04622DF2371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45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eps to Developing a SPACE Matrix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4568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 a set of variables to define FS, CA, ES, and 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 a numerical valu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 +1 to +6 to each FS &amp; IS dime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 -1 to -6 to each ES &amp; CA dime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ute an average score for each FS, CA, ES, and 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ot the average score on the appropriate ax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the two scores on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xis and plot the point. Add the two scores on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xis and plot the point. Plot the intersection of the new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oi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w a directional vector from the origin through the new intersection poi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B1D6BF41-C728-44D5-81CE-21D45E13319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8" name="Picture 8" descr=""/>
          <p:cNvPicPr/>
          <p:nvPr/>
        </p:nvPicPr>
        <p:blipFill>
          <a:blip r:embed="rId1"/>
          <a:srcRect l="0" t="0" r="0" b="9242"/>
          <a:stretch/>
        </p:blipFill>
        <p:spPr>
          <a:xfrm>
            <a:off x="1295280" y="380880"/>
            <a:ext cx="6245280" cy="5700960"/>
          </a:xfrm>
          <a:prstGeom prst="rect">
            <a:avLst/>
          </a:prstGeom>
          <a:ln w="0">
            <a:noFill/>
          </a:ln>
        </p:spPr>
      </p:pic>
      <p:sp>
        <p:nvSpPr>
          <p:cNvPr id="133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C92CA7C0-11BF-43A4-8CF9-57ADAE70000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93AFBB8A-5DD1-47B2-ADD6-C0BC20285668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2" name="Text Box 2"/>
          <p:cNvSpPr/>
          <p:nvPr/>
        </p:nvSpPr>
        <p:spPr>
          <a:xfrm>
            <a:off x="533520" y="4572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-Formulation Analytical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Rectangle 3"/>
          <p:cNvSpPr/>
          <p:nvPr/>
        </p:nvSpPr>
        <p:spPr>
          <a:xfrm>
            <a:off x="4800600" y="137160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WOT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Line 4"/>
          <p:cNvSpPr/>
          <p:nvPr/>
        </p:nvSpPr>
        <p:spPr>
          <a:xfrm flipV="1">
            <a:off x="3962520" y="1676160"/>
            <a:ext cx="83808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5" name="Line 5"/>
          <p:cNvSpPr/>
          <p:nvPr/>
        </p:nvSpPr>
        <p:spPr>
          <a:xfrm>
            <a:off x="3962520" y="3657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Line 6"/>
          <p:cNvSpPr/>
          <p:nvPr/>
        </p:nvSpPr>
        <p:spPr>
          <a:xfrm>
            <a:off x="3962520" y="3657600"/>
            <a:ext cx="83808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Rectangle 7"/>
          <p:cNvSpPr/>
          <p:nvPr/>
        </p:nvSpPr>
        <p:spPr>
          <a:xfrm>
            <a:off x="4800600" y="236232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PACE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Rectangle 8"/>
          <p:cNvSpPr/>
          <p:nvPr/>
        </p:nvSpPr>
        <p:spPr>
          <a:xfrm>
            <a:off x="4800600" y="3276720"/>
            <a:ext cx="3200400" cy="68580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CG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9" name="Rectangle 9"/>
          <p:cNvSpPr/>
          <p:nvPr/>
        </p:nvSpPr>
        <p:spPr>
          <a:xfrm>
            <a:off x="4800600" y="426708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E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0" name="Rectangle 10"/>
          <p:cNvSpPr/>
          <p:nvPr/>
        </p:nvSpPr>
        <p:spPr>
          <a:xfrm>
            <a:off x="4800600" y="525780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rand Strategy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Line 11"/>
          <p:cNvSpPr/>
          <p:nvPr/>
        </p:nvSpPr>
        <p:spPr>
          <a:xfrm flipV="1">
            <a:off x="3962520" y="27432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Line 12"/>
          <p:cNvSpPr/>
          <p:nvPr/>
        </p:nvSpPr>
        <p:spPr>
          <a:xfrm>
            <a:off x="3962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Oval 13"/>
          <p:cNvSpPr/>
          <p:nvPr/>
        </p:nvSpPr>
        <p:spPr>
          <a:xfrm>
            <a:off x="609480" y="3048120"/>
            <a:ext cx="3353040" cy="129528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age 2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Matching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4E2380E4-EA19-470F-97E1-787E3BBDADB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6403274D-1D08-4990-BA00-277668230F9F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7" name="Text Box 2"/>
          <p:cNvSpPr/>
          <p:nvPr/>
        </p:nvSpPr>
        <p:spPr>
          <a:xfrm>
            <a:off x="533520" y="45720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CG Matr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oston Consulting Group Matr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Text Box 4"/>
          <p:cNvSpPr/>
          <p:nvPr/>
        </p:nvSpPr>
        <p:spPr>
          <a:xfrm>
            <a:off x="533520" y="2133720"/>
            <a:ext cx="6781680" cy="193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hances multidivisional firm in formulating strateg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sions may compete in different indus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cus on market-share position &amp; industry growth r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80F6CB61-EFB7-4A1B-95EC-A8E3440295F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1A4C4EE7-9C1A-406D-940F-F138F4667344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2" name="Text Box 2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CG Matr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Text Box 4"/>
          <p:cNvSpPr/>
          <p:nvPr/>
        </p:nvSpPr>
        <p:spPr>
          <a:xfrm>
            <a:off x="533520" y="2209680"/>
            <a:ext cx="8076960" cy="11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lative Market Share 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tio of a division’s own market share in an industry to the market share held by the largest rival firm in that indus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4" name="Picture 6" descr="3n_uy1ma[1]"/>
          <p:cNvPicPr/>
          <p:nvPr/>
        </p:nvPicPr>
        <p:blipFill>
          <a:blip r:embed="rId1"/>
          <a:stretch/>
        </p:blipFill>
        <p:spPr>
          <a:xfrm>
            <a:off x="6248520" y="3809880"/>
            <a:ext cx="1765080" cy="1771920"/>
          </a:xfrm>
          <a:prstGeom prst="rect">
            <a:avLst/>
          </a:prstGeom>
          <a:ln w="0">
            <a:noFill/>
          </a:ln>
        </p:spPr>
      </p:pic>
      <p:sp>
        <p:nvSpPr>
          <p:cNvPr id="136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67D8898C-C55E-4BD3-899E-95B021F967D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7" name="Picture 8" descr=""/>
          <p:cNvPicPr/>
          <p:nvPr/>
        </p:nvPicPr>
        <p:blipFill>
          <a:blip r:embed="rId1"/>
          <a:srcRect l="0" t="0" r="0" b="9034"/>
          <a:stretch/>
        </p:blipFill>
        <p:spPr>
          <a:xfrm>
            <a:off x="457200" y="533520"/>
            <a:ext cx="7848720" cy="5128920"/>
          </a:xfrm>
          <a:prstGeom prst="rect">
            <a:avLst/>
          </a:prstGeom>
          <a:ln w="0">
            <a:noFill/>
          </a:ln>
        </p:spPr>
      </p:pic>
      <p:sp>
        <p:nvSpPr>
          <p:cNvPr id="136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F779B9FF-A8E9-4A7A-A97B-2ECC3A30906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423569E1-DD8E-4285-860A-21DA1ACE270C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Text Box 2"/>
          <p:cNvSpPr/>
          <p:nvPr/>
        </p:nvSpPr>
        <p:spPr>
          <a:xfrm>
            <a:off x="533520" y="45720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CG Matr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estion Mar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Text Box 4"/>
          <p:cNvSpPr/>
          <p:nvPr/>
        </p:nvSpPr>
        <p:spPr>
          <a:xfrm>
            <a:off x="533520" y="2286000"/>
            <a:ext cx="8229600" cy="22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 relative market share, competes in high-growth indus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ash needs are hig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ash  generation is l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ision to strengthen (intensive strategies) or div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9BFC4A2E-E352-4B31-B543-055D78C04BB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hapter Outlin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7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C5DBC473-24D6-4865-AD13-7D0CC26E3C2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Rectangle 1"/>
          <p:cNvSpPr/>
          <p:nvPr/>
        </p:nvSpPr>
        <p:spPr>
          <a:xfrm>
            <a:off x="533520" y="1371600"/>
            <a:ext cx="7511760" cy="49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Nature of Strategy &amp; Cho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omprehensive Strategy-Formulation Frame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put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atching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ecision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ltural Aspects of Strategy Cho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olitics of Strategy Cho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vernance Iss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BCDAA6B8-0449-4BB9-B7EE-BFD6D2470596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6" name="Text Box 2"/>
          <p:cNvSpPr/>
          <p:nvPr/>
        </p:nvSpPr>
        <p:spPr>
          <a:xfrm>
            <a:off x="533520" y="45720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CG Matr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7" name="Text Box 4"/>
          <p:cNvSpPr/>
          <p:nvPr/>
        </p:nvSpPr>
        <p:spPr>
          <a:xfrm>
            <a:off x="533520" y="1981080"/>
            <a:ext cx="7619760" cy="336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 relative market share and high growth r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Best long-run opportunities for growth &amp; profit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stantial investment to maintain or strengthen dominant 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tegration strategies, intensive strategies, joint ven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34C9260E-0745-42E9-9A50-50B0C3CF21C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47723420-48F8-436F-920C-850165502E23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1" name="Text Box 2"/>
          <p:cNvSpPr/>
          <p:nvPr/>
        </p:nvSpPr>
        <p:spPr>
          <a:xfrm>
            <a:off x="533520" y="457200"/>
            <a:ext cx="60958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CG Matr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ash Co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Text Box 4"/>
          <p:cNvSpPr/>
          <p:nvPr/>
        </p:nvSpPr>
        <p:spPr>
          <a:xfrm>
            <a:off x="533520" y="1752480"/>
            <a:ext cx="7543800" cy="352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 relative market share, competes in low-growth indus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Generate cash in excess of their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ilked for other purpo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ain strong position as long as possi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oduct development, concentric divers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f weaken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retrenchment or divesti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D5A1D3F9-011B-4258-8A7C-E04365D8EAA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86C47016-B795-4211-B557-99304BFA67E0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6" name="Text Box 2"/>
          <p:cNvSpPr/>
          <p:nvPr/>
        </p:nvSpPr>
        <p:spPr>
          <a:xfrm>
            <a:off x="533520" y="45720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CG Matr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o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7" name="Text Box 4"/>
          <p:cNvSpPr/>
          <p:nvPr/>
        </p:nvSpPr>
        <p:spPr>
          <a:xfrm>
            <a:off x="609480" y="2286000"/>
            <a:ext cx="7467840" cy="21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 relative market share, competes in slow or no market grow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Weak internal &amp; external 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quidation, divestiture, retrench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067CED6E-5DF7-415D-AE54-77F3011556B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67D706EE-5ACE-46F4-9E63-91139461F29A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1" name="Text Box 2"/>
          <p:cNvSpPr/>
          <p:nvPr/>
        </p:nvSpPr>
        <p:spPr>
          <a:xfrm>
            <a:off x="533520" y="4572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-Formulation Analytical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2" name="Rectangle 3"/>
          <p:cNvSpPr/>
          <p:nvPr/>
        </p:nvSpPr>
        <p:spPr>
          <a:xfrm>
            <a:off x="4952880" y="114300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WOT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Line 4"/>
          <p:cNvSpPr/>
          <p:nvPr/>
        </p:nvSpPr>
        <p:spPr>
          <a:xfrm flipV="1">
            <a:off x="4114800" y="1447560"/>
            <a:ext cx="83808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Line 5"/>
          <p:cNvSpPr/>
          <p:nvPr/>
        </p:nvSpPr>
        <p:spPr>
          <a:xfrm>
            <a:off x="411480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Line 6"/>
          <p:cNvSpPr/>
          <p:nvPr/>
        </p:nvSpPr>
        <p:spPr>
          <a:xfrm>
            <a:off x="4114800" y="3429000"/>
            <a:ext cx="83808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Rectangle 7"/>
          <p:cNvSpPr/>
          <p:nvPr/>
        </p:nvSpPr>
        <p:spPr>
          <a:xfrm>
            <a:off x="4952880" y="213372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PACE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Rectangle 8"/>
          <p:cNvSpPr/>
          <p:nvPr/>
        </p:nvSpPr>
        <p:spPr>
          <a:xfrm>
            <a:off x="4952880" y="304812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CG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Rectangle 9"/>
          <p:cNvSpPr/>
          <p:nvPr/>
        </p:nvSpPr>
        <p:spPr>
          <a:xfrm>
            <a:off x="4952880" y="4038480"/>
            <a:ext cx="3200400" cy="68580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E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Rectangle 10"/>
          <p:cNvSpPr/>
          <p:nvPr/>
        </p:nvSpPr>
        <p:spPr>
          <a:xfrm>
            <a:off x="4952880" y="502920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rand Strategy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0" name="Line 11"/>
          <p:cNvSpPr/>
          <p:nvPr/>
        </p:nvSpPr>
        <p:spPr>
          <a:xfrm flipV="1">
            <a:off x="4114800" y="2514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Line 12"/>
          <p:cNvSpPr/>
          <p:nvPr/>
        </p:nvSpPr>
        <p:spPr>
          <a:xfrm>
            <a:off x="4114800" y="34290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Oval 13"/>
          <p:cNvSpPr/>
          <p:nvPr/>
        </p:nvSpPr>
        <p:spPr>
          <a:xfrm>
            <a:off x="762120" y="2819520"/>
            <a:ext cx="3352680" cy="129528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age 2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Matching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30A4A113-9409-45DE-8ACA-6DAD47D4327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e Internal-External Matrix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4316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itions an organization’s various divisions in a nine-cell displ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ilar to BCG Matrix except the IE Matri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3427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s more information about the divi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3427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ic implications of each matrix are differ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453B9AD5-67AB-47FA-9169-777A3F87355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9" name="Picture 8" descr=""/>
          <p:cNvPicPr/>
          <p:nvPr/>
        </p:nvPicPr>
        <p:blipFill>
          <a:blip r:embed="rId1"/>
          <a:srcRect l="0" t="0" r="0" b="12095"/>
          <a:stretch/>
        </p:blipFill>
        <p:spPr>
          <a:xfrm>
            <a:off x="380880" y="685800"/>
            <a:ext cx="8229600" cy="4737240"/>
          </a:xfrm>
          <a:prstGeom prst="rect">
            <a:avLst/>
          </a:prstGeom>
          <a:ln w="0">
            <a:noFill/>
          </a:ln>
        </p:spPr>
      </p:pic>
      <p:sp>
        <p:nvSpPr>
          <p:cNvPr id="141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740CC814-1192-460B-8FBF-D0B974D2C85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IE Matrix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13" name=""/>
          <p:cNvSpPr txBox="1"/>
          <p:nvPr/>
        </p:nvSpPr>
        <p:spPr>
          <a:xfrm>
            <a:off x="533520" y="1600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sed on two key dimen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3427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FE total weighted scores on the x-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3427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FE total weighted scores on the y-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3427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ded into three major reg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3427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w and build – Cells I, II, or I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3427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ld and maintain – Cells III, V, or VI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3427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rvest or divest – Cells VI, VIII, or 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3427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DE6B7C47-91CA-409A-837F-A81EBFBDC06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Picture 8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5519880"/>
          </a:xfrm>
          <a:prstGeom prst="rect">
            <a:avLst/>
          </a:prstGeom>
          <a:ln w="0">
            <a:noFill/>
          </a:ln>
        </p:spPr>
      </p:pic>
      <p:sp>
        <p:nvSpPr>
          <p:cNvPr id="141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FDB3B17E-1EED-40DC-89E4-C3A46608DCD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A285EA52-6AB0-4FC2-9EDF-AFE4CA57396E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0" name="Text Box 2"/>
          <p:cNvSpPr/>
          <p:nvPr/>
        </p:nvSpPr>
        <p:spPr>
          <a:xfrm>
            <a:off x="533520" y="4572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-Formulation Analytical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Line 4"/>
          <p:cNvSpPr/>
          <p:nvPr/>
        </p:nvSpPr>
        <p:spPr>
          <a:xfrm flipV="1">
            <a:off x="4038480" y="1599840"/>
            <a:ext cx="838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Line 5"/>
          <p:cNvSpPr/>
          <p:nvPr/>
        </p:nvSpPr>
        <p:spPr>
          <a:xfrm>
            <a:off x="4038480" y="3581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Line 6"/>
          <p:cNvSpPr/>
          <p:nvPr/>
        </p:nvSpPr>
        <p:spPr>
          <a:xfrm>
            <a:off x="4038480" y="3581280"/>
            <a:ext cx="83844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Rectangle 7"/>
          <p:cNvSpPr/>
          <p:nvPr/>
        </p:nvSpPr>
        <p:spPr>
          <a:xfrm>
            <a:off x="4876920" y="228600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PACE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Rectangle 8"/>
          <p:cNvSpPr/>
          <p:nvPr/>
        </p:nvSpPr>
        <p:spPr>
          <a:xfrm>
            <a:off x="4876920" y="320040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CG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6" name="Rectangle 9"/>
          <p:cNvSpPr/>
          <p:nvPr/>
        </p:nvSpPr>
        <p:spPr>
          <a:xfrm>
            <a:off x="4876920" y="419112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E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7" name="Line 11"/>
          <p:cNvSpPr/>
          <p:nvPr/>
        </p:nvSpPr>
        <p:spPr>
          <a:xfrm flipV="1">
            <a:off x="4038480" y="266688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8" name="Line 12"/>
          <p:cNvSpPr/>
          <p:nvPr/>
        </p:nvSpPr>
        <p:spPr>
          <a:xfrm>
            <a:off x="4038480" y="358128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9" name="Oval 13"/>
          <p:cNvSpPr/>
          <p:nvPr/>
        </p:nvSpPr>
        <p:spPr>
          <a:xfrm>
            <a:off x="685800" y="2971800"/>
            <a:ext cx="3352680" cy="129528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age 2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Matching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Rectangle 14"/>
          <p:cNvSpPr/>
          <p:nvPr/>
        </p:nvSpPr>
        <p:spPr>
          <a:xfrm>
            <a:off x="4876920" y="129528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WOT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1" name="Rectangle 15"/>
          <p:cNvSpPr/>
          <p:nvPr/>
        </p:nvSpPr>
        <p:spPr>
          <a:xfrm>
            <a:off x="4876920" y="5181480"/>
            <a:ext cx="3200400" cy="68580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rand Strategy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D5F7B802-0316-4BEE-8F59-DFC6E8D50A3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44A5A080-2449-4007-9FA6-24C16F42B883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Text Box 2"/>
          <p:cNvSpPr/>
          <p:nvPr/>
        </p:nvSpPr>
        <p:spPr>
          <a:xfrm>
            <a:off x="609480" y="4572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-Formulation Analytical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6" name="Line 8"/>
          <p:cNvSpPr/>
          <p:nvPr/>
        </p:nvSpPr>
        <p:spPr>
          <a:xfrm>
            <a:off x="411480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7" name="Oval 10"/>
          <p:cNvSpPr/>
          <p:nvPr/>
        </p:nvSpPr>
        <p:spPr>
          <a:xfrm>
            <a:off x="762120" y="2590920"/>
            <a:ext cx="3352680" cy="129528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Stage 3: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The Decision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Rectangle 11"/>
          <p:cNvSpPr/>
          <p:nvPr/>
        </p:nvSpPr>
        <p:spPr>
          <a:xfrm>
            <a:off x="5334120" y="2514600"/>
            <a:ext cx="3047760" cy="144792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uantitative Strateg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lanning Matrix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QSP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D944D05F-3E73-4B60-B1D9-D78480CD2FD2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Text Box 5"/>
          <p:cNvSpPr/>
          <p:nvPr/>
        </p:nvSpPr>
        <p:spPr>
          <a:xfrm>
            <a:off x="609480" y="9144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ture of Strategy Analysis &amp; Ch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Text Box 9"/>
          <p:cNvSpPr/>
          <p:nvPr/>
        </p:nvSpPr>
        <p:spPr>
          <a:xfrm>
            <a:off x="609480" y="5335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 Analysis &amp; Ch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31A8E355-E05D-4040-9627-A6FC4D45680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Rectangle 1"/>
          <p:cNvSpPr/>
          <p:nvPr/>
        </p:nvSpPr>
        <p:spPr>
          <a:xfrm>
            <a:off x="609480" y="2666880"/>
            <a:ext cx="73915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s process seek to determine alternative courses of action that could best enable the firm to best achieve its mission and long run objectiv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4F41D857-D081-4F01-9557-0CBD39B1E66A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2" name="Text Box 2"/>
          <p:cNvSpPr/>
          <p:nvPr/>
        </p:nvSpPr>
        <p:spPr>
          <a:xfrm>
            <a:off x="7621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QSP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Text Box 3"/>
          <p:cNvSpPr/>
          <p:nvPr/>
        </p:nvSpPr>
        <p:spPr>
          <a:xfrm>
            <a:off x="762120" y="2514600"/>
            <a:ext cx="7772400" cy="11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antitative Strategic Planning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chnique designed to determine the relative attractiveness of feasible alternative 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7B4BFE46-7E20-4447-A881-4D61B71D5B4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Picture 8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23200" cy="4006800"/>
          </a:xfrm>
          <a:prstGeom prst="rect">
            <a:avLst/>
          </a:prstGeom>
          <a:ln w="0">
            <a:noFill/>
          </a:ln>
        </p:spPr>
      </p:pic>
      <p:sp>
        <p:nvSpPr>
          <p:cNvPr id="144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892F122C-55DF-49C9-9C0A-0D9DA4D8DC5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eps to Develop a QSPM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533520" y="1447920"/>
            <a:ext cx="81532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a list of the firm’s key external opportunities/threats and internal strengths/weaknesses in the left colum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 weights to each key external and internal fact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ine the Stage 2 (matching) matrices, and identify alternative strategies that the organization should consider implement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the Attractiveness Sc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e the Total Attractiveness Sc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ute the Sum Total Attractiveness Sco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FBFCB252-0792-4E97-81DC-3B5F17EADF2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9B130EE7-C372-4378-8142-8127E33BDD39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4" name="Text Box 2"/>
          <p:cNvSpPr/>
          <p:nvPr/>
        </p:nvSpPr>
        <p:spPr>
          <a:xfrm>
            <a:off x="609480" y="533520"/>
            <a:ext cx="609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QSP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Text Box 3"/>
          <p:cNvSpPr/>
          <p:nvPr/>
        </p:nvSpPr>
        <p:spPr>
          <a:xfrm>
            <a:off x="609480" y="2666880"/>
            <a:ext cx="6782040" cy="14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s of strategies considered simultaneously or sequenti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ion of pertinent external &amp; internal factors in the decision-making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22EB7828-05EA-4EF3-9BFF-AB32767F6BD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C7BDFE80-83AD-4195-8C36-8CD23AAA3094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Text Box 2"/>
          <p:cNvSpPr/>
          <p:nvPr/>
        </p:nvSpPr>
        <p:spPr>
          <a:xfrm>
            <a:off x="609480" y="533520"/>
            <a:ext cx="609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QSP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mi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Text Box 3"/>
          <p:cNvSpPr/>
          <p:nvPr/>
        </p:nvSpPr>
        <p:spPr>
          <a:xfrm>
            <a:off x="533520" y="2666880"/>
            <a:ext cx="6781680" cy="11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s intuitive judgments &amp; educated assump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as good as the prerequisite inpu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1" name="Picture 5" descr="ikshpljc[1]"/>
          <p:cNvPicPr/>
          <p:nvPr/>
        </p:nvPicPr>
        <p:blipFill>
          <a:blip r:embed="rId1"/>
          <a:stretch/>
        </p:blipFill>
        <p:spPr>
          <a:xfrm>
            <a:off x="6753240" y="4208400"/>
            <a:ext cx="1628640" cy="1506600"/>
          </a:xfrm>
          <a:prstGeom prst="rect">
            <a:avLst/>
          </a:prstGeom>
          <a:ln w="0">
            <a:noFill/>
          </a:ln>
        </p:spPr>
      </p:pic>
      <p:sp>
        <p:nvSpPr>
          <p:cNvPr id="146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0149809E-5256-4D65-BFC5-86ACFF05B6F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F5004C4B-F917-4C28-ADA3-B1310A97D6CB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Text Box 2"/>
          <p:cNvSpPr/>
          <p:nvPr/>
        </p:nvSpPr>
        <p:spPr>
          <a:xfrm>
            <a:off x="533520" y="457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ultural Aspects of Strategy Ch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Text Box 3"/>
          <p:cNvSpPr/>
          <p:nvPr/>
        </p:nvSpPr>
        <p:spPr>
          <a:xfrm>
            <a:off x="533520" y="2743200"/>
            <a:ext cx="8381880" cy="11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rganizational Cul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 strategies depend on the degree of consistency with the firm’s cul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Slide Number Placeholder 5"/>
          <p:cNvSpPr/>
          <p:nvPr/>
        </p:nvSpPr>
        <p:spPr>
          <a:xfrm>
            <a:off x="29052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56F03A7C-74DF-434A-9C13-B09612B26C4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0" name="Picture 8" descr=""/>
          <p:cNvPicPr/>
          <p:nvPr/>
        </p:nvPicPr>
        <p:blipFill>
          <a:blip r:embed="rId1"/>
          <a:srcRect l="0" t="0" r="0" b="4977"/>
          <a:stretch/>
        </p:blipFill>
        <p:spPr>
          <a:xfrm>
            <a:off x="457200" y="344520"/>
            <a:ext cx="8472600" cy="5397480"/>
          </a:xfrm>
          <a:prstGeom prst="rect">
            <a:avLst/>
          </a:prstGeom>
          <a:ln w="0">
            <a:noFill/>
          </a:ln>
        </p:spPr>
      </p:pic>
      <p:sp>
        <p:nvSpPr>
          <p:cNvPr id="118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085AF06F-BF2C-44E3-B167-59CC8651E93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3" name="Rectangle 1"/>
          <p:cNvSpPr/>
          <p:nvPr/>
        </p:nvSpPr>
        <p:spPr>
          <a:xfrm>
            <a:off x="783360" y="5888160"/>
            <a:ext cx="738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 Adapted from Fred R. David, “How Companies Define Their Mission,”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ng Range Planning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2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. 3 (June 1988) 4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533160" y="2133360"/>
            <a:ext cx="792468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rnal aud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al aud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st successful strateg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Text Box 3"/>
          <p:cNvSpPr/>
          <p:nvPr/>
        </p:nvSpPr>
        <p:spPr>
          <a:xfrm>
            <a:off x="533520" y="457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 Analysis &amp; Ch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6" name="Text Box 15"/>
          <p:cNvSpPr/>
          <p:nvPr/>
        </p:nvSpPr>
        <p:spPr>
          <a:xfrm>
            <a:off x="533520" y="17524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lternative Strategies Derive Fro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7" name="Picture 17" descr="gyiutdvp[1]"/>
          <p:cNvPicPr/>
          <p:nvPr/>
        </p:nvPicPr>
        <p:blipFill>
          <a:blip r:embed="rId1"/>
          <a:stretch/>
        </p:blipFill>
        <p:spPr>
          <a:xfrm>
            <a:off x="6711840" y="3938760"/>
            <a:ext cx="1746360" cy="1928520"/>
          </a:xfrm>
          <a:prstGeom prst="rect">
            <a:avLst/>
          </a:prstGeom>
          <a:ln w="0">
            <a:noFill/>
          </a:ln>
        </p:spPr>
      </p:pic>
      <p:sp>
        <p:nvSpPr>
          <p:cNvPr id="118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70747E8F-7667-4898-9BE8-9C7E26524006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429D7D75-8ED9-4B4D-997E-C01BE8A3E3A9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Text Box 3"/>
          <p:cNvSpPr/>
          <p:nvPr/>
        </p:nvSpPr>
        <p:spPr>
          <a:xfrm>
            <a:off x="533520" y="457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 Analysis &amp; Ch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2" name="Text Box 22"/>
          <p:cNvSpPr/>
          <p:nvPr/>
        </p:nvSpPr>
        <p:spPr>
          <a:xfrm>
            <a:off x="533520" y="8380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nerating Alterna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Text Box 24"/>
          <p:cNvSpPr/>
          <p:nvPr/>
        </p:nvSpPr>
        <p:spPr>
          <a:xfrm>
            <a:off x="533520" y="2438280"/>
            <a:ext cx="7848360" cy="193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ipation in generating alternative strategies should be as broad as possi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ernative strategies proposed by participants should be considered, discussed, and ranked in order of attractivenes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Text Box 25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DF9D5752-6D33-4E6F-8707-F2A8361D5F5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46BABF73-7184-4E12-A7F2-574041282976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Text Box 2"/>
          <p:cNvSpPr/>
          <p:nvPr/>
        </p:nvSpPr>
        <p:spPr>
          <a:xfrm>
            <a:off x="533520" y="457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omprehensive Strategy-Formulation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Text Box 5"/>
          <p:cNvSpPr/>
          <p:nvPr/>
        </p:nvSpPr>
        <p:spPr>
          <a:xfrm>
            <a:off x="464832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0" name="Oval 6"/>
          <p:cNvSpPr/>
          <p:nvPr/>
        </p:nvSpPr>
        <p:spPr>
          <a:xfrm>
            <a:off x="2743200" y="1295280"/>
            <a:ext cx="3352680" cy="129564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age 1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Input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Oval 7"/>
          <p:cNvSpPr/>
          <p:nvPr/>
        </p:nvSpPr>
        <p:spPr>
          <a:xfrm>
            <a:off x="2743200" y="3124080"/>
            <a:ext cx="3352680" cy="1295640"/>
          </a:xfrm>
          <a:prstGeom prst="ellipse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age 2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Matching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Oval 8"/>
          <p:cNvSpPr/>
          <p:nvPr/>
        </p:nvSpPr>
        <p:spPr>
          <a:xfrm>
            <a:off x="2895480" y="4800600"/>
            <a:ext cx="3353040" cy="1295280"/>
          </a:xfrm>
          <a:prstGeom prst="ellipse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Stage 3: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The Decision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1CBF8F14-E696-4BD6-8895-4D6B11D088C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05" name="Straight Arrow Connector 10"/>
          <p:cNvCxnSpPr>
            <a:stCxn id="1200" idx="4"/>
          </p:cNvCxnSpPr>
          <p:nvPr/>
        </p:nvCxnSpPr>
        <p:spPr>
          <a:xfrm>
            <a:off x="4419360" y="259092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6" name="Straight Arrow Connector 15"/>
          <p:cNvCxnSpPr>
            <a:stCxn id="1201" idx="4"/>
          </p:cNvCxnSpPr>
          <p:nvPr/>
        </p:nvCxnSpPr>
        <p:spPr>
          <a:xfrm>
            <a:off x="4419360" y="4419720"/>
            <a:ext cx="108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cover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8" descr=""/>
          <p:cNvPicPr/>
          <p:nvPr/>
        </p:nvPicPr>
        <p:blipFill>
          <a:blip r:embed="rId1"/>
          <a:stretch/>
        </p:blipFill>
        <p:spPr>
          <a:xfrm>
            <a:off x="290520" y="1457280"/>
            <a:ext cx="8524800" cy="3648240"/>
          </a:xfrm>
          <a:prstGeom prst="rect">
            <a:avLst/>
          </a:prstGeom>
          <a:ln w="0">
            <a:noFill/>
          </a:ln>
        </p:spPr>
      </p:pic>
      <p:sp>
        <p:nvSpPr>
          <p:cNvPr id="120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F0DF9955-44DE-4CB2-A855-8FB4E012263B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18:56:05Z</dcterms:created>
  <dc:creator>Preferred Customer</dc:creator>
  <dc:description/>
  <dc:language>en-US</dc:language>
  <cp:lastModifiedBy>Default</cp:lastModifiedBy>
  <dcterms:modified xsi:type="dcterms:W3CDTF">2012-04-22T22:19:00Z</dcterms:modified>
  <cp:revision>382</cp:revision>
  <dc:subject/>
  <dc:title>Chapter 1  The Nature of Strategic Management</dc:title>
</cp:coreProperties>
</file>