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2A32-EFE6-4ED8-BFC6-1772A63C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DA52-532A-41B0-B276-B2CD39018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6ECD-073F-4CDA-9950-645BB11D7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3D48-0DAB-4CD2-9F99-25EE9C1BA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AE3A-A389-4E34-97F3-E4ABC0C46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7375-928A-4508-B424-69379520D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D54A-01D2-4B7F-8892-2BD5205ED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152E-4E78-47CF-89BD-AEF5B11C3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2AC9-4280-4E80-A675-68B4CA6ECC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6799-A25F-4967-AD65-9CBBEE6C0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47EA-6867-4FF7-8F7F-D31520211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9E36-019D-4247-9D85-E1780C1E5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928F-7DB2-472B-BE04-041BF3CE4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DF89-7C7F-4350-AE00-AEE0D9A0A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47AC-F040-4F97-A124-C8669755D9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B57A-9684-4A06-8C84-27EA50F10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17F-A0F5-451B-A7BF-EE3F0EA58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0884-0A9B-4ED7-9705-430F0D671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E848-5619-4121-8847-B7BFCC2F3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8404-FF14-4CD2-BEE2-08AD16BB6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686-61CC-41FF-BA2B-23ADB2A40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7B5C-9970-4976-96BC-4A1DF31E5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57D8-295C-46FD-BE32-443610B84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0617-6C5B-4676-B9C9-928C3F65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FFAB-0879-47AF-A3A4-BA65C024C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3875-AF8D-40F5-B66A-30F23191F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F84A-1E82-4DC9-927B-25C84592B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AD9B-ED35-453A-AE39-46C541DDA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7EBE-7122-48C3-AFA4-9A7CB5C643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5AD4-BC2C-45B4-B388-3093FB3D2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3619-42EE-4D48-96E2-BD77DBAC0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5B7C-0F37-4C60-82A7-94C71390416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C7EECA-ED04-4A52-B1E5-B64F4F81D7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B6ED84-378B-4496-A357-1BFA05AB342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E41291-7270-49C7-9AA1-84625CA51D9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C657EA-0652-4D47-849F-2C80774B5CF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AE424-86CC-4AFA-A24D-01DD8ED76E1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A864B9-6975-4336-9F30-D3281F52515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4E784-0173-4450-ACB4-51FB8A3E734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41499-9B7A-4853-922E-06CA7FDA521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9884ABC-A07B-4A77-AC0F-5C1AEAEC269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38B0-70D7-4BDA-AE60-1AA70790A0E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30C3B-91C0-4538-9A43-EC009A56DBD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315B9B-DFED-43C9-9149-7D3A5FAA6F7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B37BE0-C4D6-479D-8685-21F163B36F6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4E1C26-D1EC-4358-A3CA-D74BD3C7405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8CE75-FFF3-497B-A84F-C8E4A9A141A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F10A65-E8D1-428E-A2DF-FCC15C758EA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17F65C-ED88-4436-9528-7B0C8A2DF64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5EDEAE-63B0-474E-8BCD-3DAA6E9FE97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0A5198-AF11-41FB-9E31-C68A8FBC9FC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99E29-7894-4E8B-95EA-0A47E63B3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A7867-6BB7-409D-9AA6-EAE146FDE9E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321439-3B7C-4A02-A009-641DA4E5FC0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7EDD44-4CD2-43A0-ADB7-013268D153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F2A084-4053-47BE-9BB2-1D3C3822CF6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F0C93-5F47-4102-A625-7652BC22F61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703F6-9A18-4FAC-99B1-9BD0FC34185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02933-F849-4348-ABF8-D83E5E1D899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CAE93-9B72-4D0D-B181-331198837D4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0B9E99-3BC1-49FF-9696-BDD897C852D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CCF6A-9D97-4BE5-A02F-942AF0815E6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9B3F4-9A82-4FC1-990B-906392B440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46570-3722-4E2D-AAEE-0BEEFC7FBDE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98A2A-D6A8-421B-9BDC-3753E4AE3C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09BA6-59EE-48FE-AC16-C01863A7670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F2F4EE-80E0-4EE9-9C0E-4784FD47115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B7774-7AAA-4494-BF5B-E65DB0048B0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98A62-7A51-40DD-A882-26F2207B929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852D87-D3B9-42CE-B36E-2903B2BA5F1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F8524-9D8D-4812-AD4C-915193DA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6F8FE-DC29-4053-BA63-AADEB92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35D95-ADDE-4C3E-9C1B-F3F5A2B0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9839C-F9E1-4AD0-86E6-BA2E0AABE84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50083-930D-4771-BC56-A9BEA1E8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9EF51-72D6-4564-BA61-F6EF0B99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5F18C-4B42-4327-B033-5E22F1CD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C41F8-AEAD-4578-A469-6DADBD6E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1A36F-F8E6-4C72-AF6A-0647FA50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3E977-79FA-42BE-87F8-F011464E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2FB4-9751-45A9-ABA6-AB758938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AAF3C-9E6D-4D64-945D-567C86FE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EF3EE-27D4-49DA-9A00-510C10EAD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2632E-0A81-4312-A524-6BEBB170B19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B404F-BBDE-4C29-99C6-32F8142D0DE6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79C005-05CB-46BC-BA82-F636585063B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114D3ED-1352-410A-B63B-3F78295FE63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547739-90E9-4A5C-8CDE-9BC091C0EBC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EA02BE-7D23-4A56-B7C1-FBB9411C82C2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71064D-F6A3-4567-B890-30889218182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9CE6F6-3936-4AE2-BDF7-DBAAFBA61B47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2DB89-4F1A-49F4-9BB0-5D19445B315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A191BD-1139-4A29-BBB1-A2DF28D144A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0C7117-DA02-4802-9343-382BC2F6FA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8A010-9FB1-4A83-B5ED-80E7B302F0D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4B963C-F705-4AD0-AC98-0D23A4F309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A5841A-180C-442C-B16A-BC8C33590B9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16474F-8154-4F24-B938-8BE612917C3E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0432-646F-4971-B6BC-E343CF828AD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F4238-76F1-470C-B067-860A1325CDDA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CF05-5BA8-463B-AD1C-2EB9A59E9F5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87FF3-756B-47B5-BB57-5BB71E445D7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C1B84-7B8C-48EF-B0C6-DB953AD79A7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5588-9745-418C-92EA-2B8C04E04A4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E95AA-E75C-4376-A760-045959BBE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8AF59-18E5-4438-8D20-4C813791A2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A1F67-6931-4CF2-ADAE-F7431A75A8A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1EEEBA-F576-4B28-A035-D55590FBEFE7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7CD07-D14A-4074-A40D-2B21F18494E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E3210-F32C-422B-AA3B-C612FE6CA0DE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A8929-665B-4FC9-80B2-5FE53703E7B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22E78-4F66-46E2-AAA0-2D1BDB9343D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E480C9-0907-4CCF-97A3-CF9AA322FB0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1CD75F-5997-4FC2-BB75-1F0B2008A69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4099323-1C22-4ECE-A7E8-76BC2224AFA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7F30C9-86B9-4D60-90C9-F73D37A89E6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41F6C1-24AD-4374-9170-2BE892E582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6AA29-4AF7-4698-8D00-1EC78C331FB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4C255F-5C92-4437-BF2B-12100D5EE8D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F0F870-FB71-457F-A59C-1146D86B5438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213133-E4C2-453F-90BF-C636C79B67AE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760197-A282-41E5-A930-31F424949433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23A99E-6BEA-4EE6-9885-71F9E9AAA7A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78236F-151C-4EEE-A597-66CB7A6C0BED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B5EF0-919A-4866-9A75-D5B6E298DF8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49B8C-0D6F-4FCE-AC35-99528D30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0EFA5-01BF-4BA3-9372-CF7A1F05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C6970-6707-4C90-946F-CABFCAF9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D5651E-5C3D-4310-A8C5-A7EC9C04753D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6C373-2F04-4FD1-BCDC-B2830134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2032B-C170-4E28-B036-8C5770D9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1ACF7-E654-4E29-AEE0-713F4C7F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5FE19-1D1D-491C-9F0B-8F70FF77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61A34-022E-4D80-BBF6-6FEAC1F1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8242A-A398-4EB3-AE18-1236C649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46FF3-C039-4D8F-955E-4E59502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3EE8BB-19EF-450A-A3EB-39175A06D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01C278-B587-4B97-9A4A-C26E99C4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5B03C2-9F97-4C05-A61F-0742C2D0BA9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9615CB-D445-466E-9D29-1025FD533A5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E9D27ED-7E33-4BAD-8C7F-4ACE98EBD5B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B57659C-ABDC-45D7-9152-5AF73CF00787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AAD991-D085-49E3-9604-2B24449DFA6C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C4188FD-12B5-48FA-A632-46FD6CFCEA1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D2B510-6F5A-434C-AD11-637308272AE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2836BC-8FFC-4B3D-83C1-83938294647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42CE145-804C-419B-BEAA-906A3B308A6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3F5A686-E3F6-4C4D-B531-E1EADEC47AEB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F51C4C-CEFA-4566-9CD4-442FD063EB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066F5-B07E-4074-A3FD-508EA261100E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98FBEF-45BC-4901-BBA2-93477CC723E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B637AA-D9CB-4343-9FB6-58FDE4298A4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BF8DA9-8A29-490E-B247-49C13A31F8D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F3F20-F82B-4CF0-BD30-ED9FB9935A29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D382E2-FAC1-4E9C-A9DF-7E15FF91C82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87BD4C-EC25-4FB0-8F43-37D179D7AD84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31D09-AA1B-4872-9DB4-907406467BB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36762-2C5F-4576-ACDD-A46D0881485B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D7D8E-6B42-4355-BE74-0C684E9F5C03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7EDEB-FE60-4611-AB30-419848BF79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B03EF-7642-4C60-BBB5-5C23D1BF71A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92D5EB-AFFB-4D38-A563-5520434B4DA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1CD1F-C1C0-470F-BEAA-142DB6F506D4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B65BA-B3B4-416C-A69F-8280A6CAF2C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5A8F8-00EF-40BC-97A4-EE8F85CFE7AE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60387-DBBA-42DD-A3B0-D2C00D6C01C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92744-D1A4-4494-8921-A36CC8C0C31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F971E-3BF6-44F3-A67D-AE3069AF7B6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49C02F-5195-4499-9CBA-A3C229FF2B6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3B348-7362-442A-9997-6763256A155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960A06-3163-43EE-A493-85A011267E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71CCF-B91F-43F9-970C-ECE80127CF9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C170A-93F5-49B5-953C-04296279A77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B965A-EA71-4F29-B62A-C33F33F5B65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FE1AF-889D-4A70-B185-DF407424FE14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26C1D-EE6F-4094-AB21-B403835EBF3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ABF6E-D057-42BB-8CF0-4B834B0A2957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9D14A-601E-4382-B055-794395F6571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EC06DA-8D62-426F-A012-3585C04F361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4F538C7-67BB-44F2-B3F2-836C7ED6E54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83F41E9-2228-4C36-A229-A1E62AA75662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67D785-0893-48DE-8EE3-5BC2C1DF0BC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880CF-2162-4026-AB05-6BD4EC3B5E3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16406D3-F5C8-40CE-844C-F0CEBBDD6F2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49DB43-2E79-46E5-94B0-CD5A9019374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329A4E-0DA6-4979-B181-FCCB3D9F36E9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9E4C4-F923-457B-8655-11010CD76B30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E89393-6B32-4D53-A438-4F80C8C54CF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E719201-98C4-4F19-9AF7-B22F2D73E3F1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ACE1CD-18EB-4EDC-AC2C-1C41A713D038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5C4F231-908C-4D82-BEAF-E87D0B52F61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2DF11E-8D8A-4DC5-9F97-FB3D9A8CBCF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36C29B0-D8FB-490E-AE19-3145DA420E5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09763-7E50-4EB8-89FF-34CD8DD090D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2090570-60A7-4C63-8BE7-7003393C894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C6D37BE-9090-4698-9549-C5FB5D159390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244147B-B95D-4D64-A6FD-1A47A1DB5EC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5DC755E-ECE0-4F8F-BA9B-F253307206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7AF3F1D-E3C0-4AE7-A4B6-CE78AC8A820F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C45E52C-B24A-483B-AED7-937F05152F7D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6B0CF9-186E-42CC-870D-74453398C27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FAEF6B-A86A-4449-9E23-5CB0A6A18B3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74804D7-0FD3-4991-9C34-DF16789827D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AC2B0D-4DA6-4DAB-B882-F5A7AF34C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B404-315C-416F-A9D1-B2E2B56906B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C9B536-CB81-4266-9ECC-D8F49CFCF94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669628-0BD7-491B-A9B9-4AC4F8434B0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71B63DC-1BC8-4453-B702-DD7847EB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15205FB-1C9A-48C2-8A4A-6F3C4EFB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6CF569-9634-4D54-8F16-CFE1D830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98971F-4DB2-4BA5-A1D5-3FCD3A74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CE4E405-1EFB-4C4A-8133-A253E3B4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C85AD2-1B89-4E2E-A08F-12954329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10B70B-B728-4CDD-83A9-62E39E8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EB93DB1-F567-48A9-ACC2-D46D92F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CE5BAD-89B1-40B2-89EA-AF3A0AC5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76336-F0B0-458C-B792-471BD4EE9880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C0D786B-17FD-4CD2-96A7-38A2C6E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3A6420E-E9B0-4005-92EE-F4F3ADD4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70C668-D1CC-453C-ACBB-86793E88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FE2FA-EDA3-4807-9A52-1AA49EE447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7A371-88A2-46F8-B44E-729DCCE500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3A2C2-A234-486B-8987-1212441B53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1105A-DFE4-4091-81E2-076EAB1E53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556843-77C7-477E-A87A-22A0E3092F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CBDB0-E6DC-4F82-9D79-BDA30297986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4DD4F-C392-43AF-A029-C858B0E387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6CD63E-554A-4589-893A-C28268DD0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6DB6-710A-4D28-9E71-6F127229225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A16D1C-D22A-416C-B378-EFA5B90E614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D02C6-F3FF-424D-9602-DD13B34288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373BF-D59F-46A3-AFFD-07A09B9EF9D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077BCA-9157-4F07-ACCD-20EE2552B1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ABBCF-0694-4216-8063-533557E83E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D25D4-2B37-4E1A-AE6F-712FF4BE668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B55459-4906-4950-8F74-AB831E70880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90309-31AF-4650-AF2D-A0BD93A5D3D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FDE74-085E-4118-998B-603FFB24EAB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7C57C-A1FE-4AFE-85B2-6E268C0CC58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45871-3D0E-42E4-9888-61728F9C05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24AC5-3968-46F8-95EB-D4310AC25E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25C780-D540-4349-B28D-0B457E8117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4AECF-9A9D-4AB3-A8E2-87638E3A855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62ACC9-0830-4CF3-BA40-8EBAF16D2B6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612E8-E851-4B77-9F8D-81087D27A6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87A309-1D39-4885-B643-A40A12F6570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ED6A6C-8F23-49B7-80B2-EFFB5EA58AC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DA0411-3959-4592-B288-53F0B06DD38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3F386F-876C-4E51-9FE4-233DEECEC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B759-AFF3-409F-AA2A-A74D0DB6253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7E3211-11FE-4652-98FF-09966261923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F1D4D3-D3E2-49B6-85A5-CDD24349264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BE70B0-1824-4A1C-A4C1-1049635C501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210A5-2F6B-4D68-9371-8114EDDF8F7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A2A98-1399-4A63-898E-8EF470BA3A0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3E9F0-4C15-48FE-8936-C6260BE6FB4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8C57-5506-4AFA-BA5B-ABB0C1F1980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0834-938F-4BAB-8C97-16434F86981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117ED-8FF6-4F09-B230-A4BD912DB3B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0051-2FF2-4D4A-A877-BB6F313C7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D6422-0942-4866-AE7F-FA91839F422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DF505-D237-4F90-83BA-9026389F38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C3A03-842C-4BD8-85FE-9766CC5F9C6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3CD57-8E79-4E37-96CD-CAF3BA5A175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5A4AF-1553-4CDA-81F0-41613DA1418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3325-66E2-449B-9867-C1074E733E3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3EDFA-8606-4199-B561-B6AFB3B97E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6D38C4-0EFA-40B6-B04A-4878961907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5DCB9C-83CC-46A8-9D03-BF6C4BEEB71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86AAD4-777F-4C0C-8988-610B87ADD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8-</a:t>
            </a:r>
            <a:fld id="{B5B2FC5E-47C1-45E9-94CC-53F722F650AA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07273-B500-4C84-B318-5A716679D154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F1FE-15E3-4C2B-AC18-B2EB2DE0A49A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2027B-5317-42D1-852F-2A109182D00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445D41EE-60F7-45B6-8BAE-8C1CEB18F596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F4ECEABE-CA35-4D74-BC49-69ABE4AAFCA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AB1686C3-47C9-471D-9A45-9693186191E5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82FA-9B76-49A5-991B-6ED7A28565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ABF29D2F-9E91-4247-9B8E-75D149C14032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1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D45BCD3-39A3-431A-A89A-AA45FFA525AE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F562F532-F297-4895-9599-58E8793A765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94970A8F-9C9E-4A38-B362-1F433C768E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F571B89F-042A-4161-BF92-5FBA1E2004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379E6021-AD52-43A9-A2EA-CCEA2861C8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ABEF-C2AB-40A1-8F6E-D66C2311458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77324B5D-F6C9-4AB7-B7A5-6CE3972CE12E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8BF4195-5FF8-40D4-B393-30C106A8B276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E317-A6A5-42C5-BE9B-A8A9BD8E92DD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51CC-2871-4404-B91F-B73EC19BC481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505B1CA2-FD3B-4EF1-9117-E398A4C16B09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C20EF17-AEB1-4244-B46D-46745435CC2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decisions requiring polic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exclusive dealerships – multiple channels of dis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heavy, light, or no TV 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reward sales 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be a price leader or price foll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advertise online or n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96F2D0A-2C38-43AC-B3BA-331BF4E99EB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533160" y="2514240"/>
            <a:ext cx="7924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ly important to implem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ADCE20A-19FA-4375-B509-142BB4C32D4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9246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dividing of a market into distinct subsets of customers according to needs and buying ha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5" descr="d1_ay0ip[1]"/>
          <p:cNvPicPr/>
          <p:nvPr/>
        </p:nvPicPr>
        <p:blipFill>
          <a:blip r:embed="rId1"/>
          <a:stretch/>
        </p:blipFill>
        <p:spPr>
          <a:xfrm>
            <a:off x="6934320" y="4379760"/>
            <a:ext cx="1576440" cy="1258920"/>
          </a:xfrm>
          <a:prstGeom prst="rect">
            <a:avLst/>
          </a:prstGeom>
          <a:ln w="0">
            <a:noFill/>
          </a:ln>
        </p:spPr>
      </p:pic>
      <p:sp>
        <p:nvSpPr>
          <p:cNvPr id="117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E73FFE6-D98E-49B3-B9E0-D871E94942D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533520" y="243828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gs that directly affect marketing mix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Text Box 3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F6B4B8F-5058-454D-9280-069D363845E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ych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7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8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9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1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99EBB58-D57D-43CA-8384-C7BB91D6950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2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2F7757E-1014-4573-9570-D2A7C34023D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"/>
          <p:cNvSpPr/>
          <p:nvPr/>
        </p:nvSpPr>
        <p:spPr>
          <a:xfrm>
            <a:off x="533520" y="2362320"/>
            <a:ext cx="789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chematic representations that reflect how products/services compare to competitors’ on dimensions most important to success in th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 Positioning Step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-Positi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4"/>
          <p:cNvSpPr/>
          <p:nvPr/>
        </p:nvSpPr>
        <p:spPr>
          <a:xfrm>
            <a:off x="3886200" y="3809880"/>
            <a:ext cx="1447920" cy="0"/>
          </a:xfrm>
          <a:prstGeom prst="line">
            <a:avLst/>
          </a:prstGeom>
          <a:ln w="120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>
            <a:off x="5638680" y="23623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2. Diagram 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6"/>
          <p:cNvSpPr/>
          <p:nvPr/>
        </p:nvSpPr>
        <p:spPr>
          <a:xfrm>
            <a:off x="5638680" y="13716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lect Key Crite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5638680" y="335268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3. Plot Competitors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8"/>
          <p:cNvSpPr/>
          <p:nvPr/>
        </p:nvSpPr>
        <p:spPr>
          <a:xfrm>
            <a:off x="5638680" y="43434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4. Look for Nich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9"/>
          <p:cNvSpPr/>
          <p:nvPr/>
        </p:nvSpPr>
        <p:spPr>
          <a:xfrm>
            <a:off x="5638680" y="53341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5. Develop Marketing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04D3C5C2-9E55-46D4-94FE-1C6EB0C707B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7" descr=""/>
          <p:cNvPicPr/>
          <p:nvPr/>
        </p:nvPicPr>
        <p:blipFill>
          <a:blip r:embed="rId1"/>
          <a:stretch/>
        </p:blipFill>
        <p:spPr>
          <a:xfrm>
            <a:off x="228600" y="1039680"/>
            <a:ext cx="8610480" cy="60984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0" descr=""/>
          <p:cNvPicPr/>
          <p:nvPr/>
        </p:nvPicPr>
        <p:blipFill>
          <a:blip r:embed="rId2"/>
          <a:stretch/>
        </p:blipFill>
        <p:spPr>
          <a:xfrm>
            <a:off x="144360" y="1673280"/>
            <a:ext cx="8778960" cy="3524040"/>
          </a:xfrm>
          <a:prstGeom prst="rect">
            <a:avLst/>
          </a:prstGeom>
          <a:ln w="0">
            <a:noFill/>
          </a:ln>
        </p:spPr>
      </p:pic>
      <p:sp>
        <p:nvSpPr>
          <p:cNvPr id="120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3026144-0232-4CAA-8046-B28BAD5E4F0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1532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vacant ni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 sub opti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serve 2 segments with same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position in the middle of the m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33520" y="457200"/>
            <a:ext cx="6095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 Positioning as Strategy Implem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656EF15-242A-4F5C-8722-7C5D38C8A20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ibzdacek[1]"/>
          <p:cNvPicPr/>
          <p:nvPr/>
        </p:nvPicPr>
        <p:blipFill>
          <a:blip r:embed="rId1"/>
          <a:stretch/>
        </p:blipFill>
        <p:spPr>
          <a:xfrm>
            <a:off x="6019920" y="3429000"/>
            <a:ext cx="2298600" cy="2286000"/>
          </a:xfrm>
          <a:prstGeom prst="rect">
            <a:avLst/>
          </a:prstGeom>
          <a:ln w="0">
            <a:noFill/>
          </a:ln>
        </p:spPr>
      </p:pic>
      <p:sp>
        <p:nvSpPr>
          <p:cNvPr id="121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2DA20F43-06B7-49BF-8B4F-35442316D9F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2"/>
          <p:cNvSpPr/>
          <p:nvPr/>
        </p:nvSpPr>
        <p:spPr>
          <a:xfrm>
            <a:off x="533520" y="2057400"/>
            <a:ext cx="59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 to strategy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66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mplementing Strateg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rketing, Finance /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ccounting, R&amp;D, and M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4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5E415E2-2898-41B4-AE89-0B204DBD47C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needed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paring financi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ng worth of a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4"/>
          <p:cNvSpPr/>
          <p:nvPr/>
        </p:nvSpPr>
        <p:spPr>
          <a:xfrm>
            <a:off x="533520" y="22096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sential f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5FA4BD1-9CEE-4E3E-8866-B93BAD115C5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15364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capital – short-term, long-term, preferred, or common sto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se or buy fixed as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appropriate dividend payout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% discount on accounts for te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mount of cash kept on h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Text Box 3"/>
          <p:cNvSpPr/>
          <p:nvPr/>
        </p:nvSpPr>
        <p:spPr>
          <a:xfrm>
            <a:off x="533520" y="457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isions Based on Finance/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8A383F4F-C37D-4A73-AB30-9097C08512C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153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533520" y="4572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ital Acquisition to Implement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BFCCC5E-C45C-426F-8703-C02980F58BA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an organization to examine the expected results of various actions and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Text Box 3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5" descr="w2oopsnl[1]"/>
          <p:cNvPicPr/>
          <p:nvPr/>
        </p:nvPicPr>
        <p:blipFill>
          <a:blip r:embed="rId1"/>
          <a:stretch/>
        </p:blipFill>
        <p:spPr>
          <a:xfrm>
            <a:off x="6934320" y="3887640"/>
            <a:ext cx="1617480" cy="1827360"/>
          </a:xfrm>
          <a:prstGeom prst="rect">
            <a:avLst/>
          </a:prstGeom>
          <a:ln w="0">
            <a:noFill/>
          </a:ln>
        </p:spPr>
      </p:pic>
      <p:sp>
        <p:nvSpPr>
          <p:cNvPr id="12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F669B43-582E-4EB7-B8F8-07316712975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s how funds will be obtained and spent for a specified period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6" descr="mnuictmi[1]"/>
          <p:cNvPicPr/>
          <p:nvPr/>
        </p:nvPicPr>
        <p:blipFill>
          <a:blip r:embed="rId1"/>
          <a:stretch/>
        </p:blipFill>
        <p:spPr>
          <a:xfrm>
            <a:off x="5562720" y="3754440"/>
            <a:ext cx="2871720" cy="1884240"/>
          </a:xfrm>
          <a:prstGeom prst="rect">
            <a:avLst/>
          </a:prstGeom>
          <a:ln w="0">
            <a:noFill/>
          </a:ln>
        </p:spPr>
      </p:pic>
      <p:sp>
        <p:nvSpPr>
          <p:cNvPr id="12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2DE89A1-0D87-42F4-A9D5-D33DEB173D9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64680" y="2285640"/>
            <a:ext cx="4133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h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ng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t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y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638240" y="2361960"/>
            <a:ext cx="413388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ns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3049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 of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3F8363E-5670-40ED-8594-FA8605B576B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33520" y="2819520"/>
            <a:ext cx="8153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ow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ea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will bring in the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533520" y="2343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Basic Approach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5DC5FC4-D36D-4144-8A09-47ECB95C1C9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"/>
          <p:cNvSpPr/>
          <p:nvPr/>
        </p:nvSpPr>
        <p:spPr>
          <a:xfrm>
            <a:off x="952560" y="91440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ing Worth of a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2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955B062-B9BA-4D2C-B13B-6821BFA9625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"/>
          <p:cNvSpPr/>
          <p:nvPr/>
        </p:nvSpPr>
        <p:spPr>
          <a:xfrm>
            <a:off x="609480" y="2286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products and improvement of existing products that allow for effective strategy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vel of support constrained by resource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ical improvements shorten product life cy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533520" y="45720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BD0A2AA-37E8-4559-B717-FEFC4EEE4DF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rm to market new technologica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novative imitator of successfu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cost producer of similar but less expensive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Text Box 3"/>
          <p:cNvSpPr/>
          <p:nvPr/>
        </p:nvSpPr>
        <p:spPr>
          <a:xfrm>
            <a:off x="533520" y="45720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e Major R&amp;D Approaches to 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D5FE7C9-DC14-4512-AB74-4724EBB8FC4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981643D-B962-41F2-A431-909561AD6BA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"/>
          <p:cNvSpPr/>
          <p:nvPr/>
        </p:nvSpPr>
        <p:spPr>
          <a:xfrm>
            <a:off x="457200" y="167652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e/Accoun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&amp; Development (R&amp;D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Information Systems (MIS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5335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nformation Systems (MIS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BD686EA-E6D1-4A5C-8CE3-43C6AA55A7E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"/>
          <p:cNvSpPr/>
          <p:nvPr/>
        </p:nvSpPr>
        <p:spPr>
          <a:xfrm>
            <a:off x="533520" y="213372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is the basis for understanding the firm. It’s one of the most important factors differentiating successful from unsuccessful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81532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collection, retrieval/ feedback , and sto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ing managers inf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on of activities among div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firm to reduc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IS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4"/>
          <p:cNvSpPr/>
          <p:nvPr/>
        </p:nvSpPr>
        <p:spPr>
          <a:xfrm>
            <a:off x="5335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 of 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91CE1E4-6031-44CB-AA58-E8B7CC5CA71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e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Footer Placeholder 4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8-</a:t>
            </a:r>
            <a:fld id="{ABD643FB-A60B-4D11-942D-4B995BC08B45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56840" y="1295280"/>
            <a:ext cx="838188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200"/>
            </a:b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The greatest strategy is doomed if it’s implemented badly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rnard Reiman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4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80880" y="3429000"/>
            <a:ext cx="830592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Without planning and integrated studies for our investment projects, we certainly lose our competitive edge.”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dul Rahman Bin Ali Al Jeraisy Chairman, Al Jerais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00F4D73-73AB-4525-8615-9FC9F9CD3AE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6" descr=""/>
          <p:cNvPicPr/>
          <p:nvPr/>
        </p:nvPicPr>
        <p:blipFill>
          <a:blip r:embed="rId1"/>
          <a:srcRect l="0" t="0" r="0" b="4512"/>
          <a:stretch/>
        </p:blipFill>
        <p:spPr>
          <a:xfrm>
            <a:off x="341280" y="380880"/>
            <a:ext cx="8421840" cy="5337360"/>
          </a:xfrm>
          <a:prstGeom prst="rect">
            <a:avLst/>
          </a:prstGeom>
          <a:ln w="0">
            <a:noFill/>
          </a:ln>
        </p:spPr>
      </p:pic>
      <p:sp>
        <p:nvSpPr>
          <p:cNvPr id="113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AEE8F70-AF9A-45FE-84C6-C2E852DCCE4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"/>
          <p:cNvSpPr/>
          <p:nvPr/>
        </p:nvSpPr>
        <p:spPr>
          <a:xfrm>
            <a:off x="783360" y="586728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9"/>
          <p:cNvSpPr/>
          <p:nvPr/>
        </p:nvSpPr>
        <p:spPr>
          <a:xfrm>
            <a:off x="68580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CC25AA11-4B95-4917-A7ED-73C38B5820B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"/>
          <p:cNvSpPr/>
          <p:nvPr/>
        </p:nvSpPr>
        <p:spPr>
          <a:xfrm>
            <a:off x="685800" y="2133720"/>
            <a:ext cx="807732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implementation mean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than 10% of strategies formulated are successfully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685440" y="2743200"/>
            <a:ext cx="79246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segment markets appropriat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ying too much for a new acqui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ling behind competition in R&amp;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recognizing benefit of computers in managing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Text Box 3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5"/>
          <p:cNvSpPr/>
          <p:nvPr/>
        </p:nvSpPr>
        <p:spPr>
          <a:xfrm>
            <a:off x="609480" y="1905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the low success rate of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50B4F3F0-3B9D-400A-833A-3037E22B2DE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goods &amp; services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needed working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 technologically sound go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nd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Text Box 3"/>
          <p:cNvSpPr/>
          <p:nvPr/>
        </p:nvSpPr>
        <p:spPr>
          <a:xfrm>
            <a:off x="68580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"/>
          <p:cNvSpPr/>
          <p:nvPr/>
        </p:nvSpPr>
        <p:spPr>
          <a:xfrm>
            <a:off x="685800" y="211464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ys to successful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477EB9B-BDD6-44D7-81F8-8712BBF258A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2C1F23E0-19EE-4EBF-BF29-5620DDC1F01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1"/>
          <p:cNvSpPr/>
          <p:nvPr/>
        </p:nvSpPr>
        <p:spPr>
          <a:xfrm>
            <a:off x="533520" y="18288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variables affect success/fail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12-14T20:44:42Z</dcterms:modified>
  <cp:revision>425</cp:revision>
  <dc:subject/>
  <dc:title>Chapter 1  The Nature of Strategic Management</dc:title>
</cp:coreProperties>
</file>