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3176-9E92-4A76-A4DF-83FC1A47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709D-D64E-4B40-833D-0B832E3A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A531-8B2C-44A9-A15F-33457A872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9D8-EC41-44B0-964E-B53FCF00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CF21-B879-4F7C-B4D5-3A4BD386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E58-C7A6-48CD-8DB9-8E0D0946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C6F8-8034-40FE-8E38-DB4DC9F9B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BA74-5650-4757-9A89-C42F5639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CDEF-1033-43C7-BE94-270C384FE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B12-CF10-480C-96EB-36CF18EF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0AC-FC29-4382-82D9-27D63198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6F9-A001-4B84-BA87-6494162D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BE9-50BF-4F22-B2E9-E9A123C1D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DA06-459D-4F1A-A1CA-02D0147B7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663-A45B-4E2B-A6F2-CAF30CED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0B8-E6CB-44C9-99F6-046439A1D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D72-0EA1-427A-BE67-D9B19FE77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B09-B2E4-42AA-8817-577AA41D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55F-638F-42BB-9A91-7CFE16C2F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342-11A6-4AEE-8057-129A1FCD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794F-E85A-4E63-8230-AFB6A709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DD32-307C-437F-8B82-0B18E2194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B6E0-1A9C-4F58-81B1-E8FFFD85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553-0835-48CF-B0D1-A9F4A8B0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48A-92BA-44F0-AE11-274DDB13F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418-13FB-42DD-BC4E-F5DE4CDF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213C-6015-468E-B0B3-73EC9F69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F440-B66C-4D30-9975-80BD7DC0F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EE51-33E0-46CE-962F-E6508CD54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AD5-F010-4F2E-A23F-F14EA07B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ADD7-2905-42EB-8DE0-D1CFFB143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545D-ADA4-4EDA-A5CC-800778E529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6B9077-C020-4651-97C9-8E304F809D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9F641-64F7-4475-AF30-51B29E76C79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1B3E5-678A-4F44-A33A-6A8F394E64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2E9C1-FEBD-4983-AB0E-17861F5D3C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1737E-5544-4C94-9266-468D8094CC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C3FB6-3F6A-45C9-B3E0-CAE2BB5A79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9A3EE-ABE7-4E6E-92D2-D8ABBE5FAC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84F08-A744-46D6-8447-909711ECB2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B1A55-527B-4172-8099-1F09CF30A6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B0A1-C3A2-475A-BF8E-EBAFCFBC94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688B-F5C8-44FB-88E7-A62103AD868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C4760-4A23-4389-83B9-6F48CAAC1F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17EAF3-D65A-4C50-BE04-858EECFD57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E229E-F84E-44F0-B146-228EF7D88D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A5835-E1F4-43D0-8775-4D5CC1CC4E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14639-E92E-4DF4-94C6-958777FAB1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5C7BF-CCA0-4B52-9FDC-6A5D6FAB09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DD405-F130-4AFD-8911-FD5717946E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CBDBAA-7099-43C3-9CA7-421A63F4F7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2C759-E287-456C-AD19-D29133516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B9843-F46A-4C5E-935C-6E5CE53D2C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AA7AD7-E630-4F43-B03F-83FD1146FA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ABB69-7835-49EF-A84C-326464C43B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A010A-6EFF-49C4-9572-6D215C5CCA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7D4D-560B-47B5-944D-D0F2B99003B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F7B0D-96C2-46A4-8D39-DA366DD1BF1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E832A-27C1-4538-886C-10F0EF3C6C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7B81-B530-481D-ABE8-0E95E9D58F9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D3CFF-5065-47A7-8E8C-6820C02B2C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5C9E-2E6E-4C2B-B062-06279477909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6B765-8F0C-40A7-9DA5-625CC5836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F29EE-A256-4B3D-B796-2EE40E48455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CAF0D-E640-4A51-A1BF-53442316E0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A869-94DB-4E73-BEAB-EE0BE229C3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A2FE-C418-426D-BC4B-F85AC5E2BEA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E8EC-FDF3-424E-8AD8-EE5CE253CB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145F-D862-45EC-AD06-A598945C2C2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FF4C-C528-4F4A-A6FA-49CC12123D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CFB6-1CBF-47BC-9120-946211F3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6CA4-03F8-4EBE-8238-7236668E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B7BD-4609-47E7-B78F-E077CCEB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4686D-DFD3-45B3-B4BB-D54891612EF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C118C-8ED5-4A01-B636-8BC040C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77AFC-8FAA-4FB0-9995-2C412BE0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1CC7-C257-491F-B5B7-B3326DB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2362-FBC9-4C95-A334-E525845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4411B-621F-4DB6-9D50-0D7371A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4668-FCDC-454D-99E6-5E8FBFB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FF32D-D8BE-40C5-861F-D56108F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BF381-EC15-4C3F-8DFE-65CDD038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E0E6-4506-45AA-B99B-BF8DAC72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81BEF-C349-4EB5-A90D-DE4DE9BE484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9A242-6FB5-4574-BDF2-6FA24EF2F26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57EF36-8C49-4C34-A38C-94EFA1F2FB7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DAFD33-CEA9-4C0E-8A24-5521D2EE92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A884AA-B16D-4AD6-88CA-358A93C33FC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F4FD0-2B20-4887-A011-5F0F618BBC5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C7235-9C63-4F3F-94B5-57430E13913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BEC1E-E726-42C1-B4AB-3FF011DDD5C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B39A16-96C8-4AC0-8828-1F8961005CC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00388B-BAC0-4FC5-98EA-F5DD9770333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84CA8F-59C5-4110-9B31-698DD4FAD7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CBD5-0693-47FA-9DE4-FB7908D9EF3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9F821-3092-48CF-A8A6-BABAE2DA771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542AD-D076-4F2F-85CF-27B000F6669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6174AC-2E77-4896-BF90-8DA85516C73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8CB55-2B81-456E-892A-09B5568C699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477B-6C1C-4C0A-B87C-1404842D30D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C107-B53B-40FF-BE25-29B381AD916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8F6E-738B-4898-B49E-50927FF14AA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5B07-4BF5-43A2-8798-D37C2F4100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05CA8-B8FA-41E6-9BE7-51F003BB458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4453-DB5E-4772-9218-BA7B9DC60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5502-1640-4397-A6A3-A6F40F548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8362E-A9B3-416A-A97E-9516B449C2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98BA4-06A9-4CA9-BF26-9F7B3E733A2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84BE-3BFE-4878-87D5-0D0C24D935B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E26D-351E-472E-B4F9-17224F73E89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49E1-B98C-4A83-B6E6-D274B40ACDF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B5DB-3FE3-4A21-A005-7DD92E38794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C2C96-40E6-43D3-8BC8-03CB924D362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C1364D-2DA1-4A30-B2E2-A585819A949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9F0DF-7825-492D-9DB5-3433A06B7D6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1F6A4-B921-4859-A306-6595C1C76BE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CDAC3D-AED8-4CB6-B43C-1E0715CD3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4B465-BCFE-493C-B6F7-0606F886145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A1402-42C4-438E-835A-DBCBF008988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B3826-8FBB-4D35-8781-3AB19201271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718E2-D1D0-44D4-AC2E-04402FD5E47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11716-8187-4DBC-B0E2-59AB257C62F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E90584-E90C-4810-8530-2A96214868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688E2-146A-466F-B2DA-E61504F1128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83ED3-2423-462F-92A3-116AFBD2DBB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AD6B6-7B3D-469C-8540-6EE6A466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4FA4E-999D-40B7-A773-E03AE6E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AAB51-2A94-40B4-BB21-AB75A38E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437FB-4748-44A0-8DA2-ED9E04DAD2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501E5-3B85-4152-BB07-78C83E3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0974E-47B8-4030-AC58-F80AE6AF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0C20B-DC40-49A0-997C-FF13976D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E4C64-5DB0-4A19-B8F1-2CAFFE8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308E-FBF1-458F-AF6F-90E2B79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DACC-78C0-4C48-9E88-7F57472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D1071-2119-4F1B-93ED-512BFD19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B1DB2-A3CE-470A-B2EC-DA493E6A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76423-5AEB-4B90-B51E-D4B1F2EB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622F0-D506-4D3B-BF4B-1C3253AB58E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61A3-8AE0-4B95-A355-F3FC2FBD7F5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DF8DEB-B0A9-4A1B-B4CE-93F81DDC866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F30E77-1221-439D-99CF-164F7323948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9A2E77-4A4C-4696-B688-07E1F0A00D0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F72D2C-91D9-457D-9394-CFFAA722FA7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3189C5-C4B2-47BB-BF54-CFCF450D107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222902-E027-4E39-A2A1-CC94B11B5CA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335EF4-DCDF-4E4F-ACDF-64935AD308C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C7180-9AC0-44A0-A78D-A05FD259AC3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ED3787-5FEB-4465-9856-40366B8E78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6E0E1-1A65-4A2C-AB3C-1D95A4A2A7F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42A003-F8FF-4C41-8ADB-C18159C2865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D0AB99-1D34-4402-AB05-AEFE8AC9545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3D2A28-4AAC-40B2-8584-3E22D5C03D7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42E3B-18DD-4744-BFF2-9F65FACF79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C91E0-76D1-4140-B5A4-43227098839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1CB84-2098-46F8-AA99-A4D4DA7842E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26C2-B6B8-40BB-82D4-659938AF608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73856-9D27-4703-952E-D013C928247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B0FB9-C31D-416E-8EB1-EC6D91275FF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B335C-1D56-4AFC-B1E6-64E64C2C8C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6A749-9F82-4508-BE28-C4B08766359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3A29-8033-4247-93F9-279D6555E90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5AB0-3ED2-45BF-8F21-255EBC67289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111DD-80A5-425D-A0E8-9D6065ED95E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10C29-3E2F-429C-A5F3-E0A843026AF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DA86-198D-4088-A6C4-92B39925EA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B377B-61F7-4366-B7CF-8EBD5C27643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6C916-D97A-4358-B2CA-4175144BD8A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2BA55-4706-4DE5-8DC8-781702A6221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A0165-6099-4B8B-954B-911A55029D6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3518-D705-4214-B2E2-02BB90CB1B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EACF-B03E-4482-BFE0-924BB573A6D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1ECFF-3F89-44A2-B1D9-0EDC37BA09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F8CA9-3186-44D9-8607-CA8AA47DACD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DDEBC-3C37-4686-87CD-411C188646A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5138D-3229-4993-80DE-3052E9F5F48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05ABB-BB0E-48CD-A42A-1DB98FAAAD4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575F9-85C7-4F67-94DC-C4E5E6168F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1A9AA-AE37-49A8-944A-DBF34DB82BD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D02ABE-7433-45EC-9BD1-A34BCC13A68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5417A-2914-4BD1-BF97-4109D788050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5CA770-DC80-492E-B846-6475F249D5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14751-ED6F-4181-B277-C7A4326208F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853ED-F13E-448A-86E9-C37316EACF4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16FF9B-BCED-4654-9F81-5D25B95AE5D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36065-1572-4341-823E-DF1DD1814EE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9259F8-A947-4740-8817-FC39B43CE6D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AE37F-F94D-46A4-9B19-AE2735F7F65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0AED56-ABB1-495A-A897-51BF2F07ED4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36492D-1706-4CFB-BDB5-0F0F02B3FA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445B65-9B9E-4E3C-8658-92F49097A7A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4D6100-C7F8-4CEB-91FC-83F1ACCC502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42F949-7B51-4D20-8C0D-4864DF0982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741FB-5419-4AE9-8700-F35A7120D25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BD8E4C-4018-4FE8-8E8D-0E37E06784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3C136F-0EE1-4E2E-92CF-B356528A99A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3B2638-733C-42E4-BB4F-F3C17EB1943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B2A595-78C3-49A0-8622-78AFD1F08A0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559FF1-401A-49C1-B29B-2F6624454A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647F7C-893E-42EC-A52A-B5E033EA63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C4641E-72B9-4BB2-AA9D-41D245457E2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6B5636-2A52-4912-87D2-95B103AEE06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AF034F-0E36-4EE0-9DD9-CD16FF114CE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01BC41-5291-4F13-9D1A-27274CC0F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D110-CB99-4D7B-9628-8B8B9A703F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3A45A-7275-4E66-9854-A3E10310825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CF6119-3F21-4EE1-8EB5-6B347B564A1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B2F0DE-8396-42AF-B0FF-77B9495B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E29CF4-854A-4D87-A9F2-B33D119E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07E948-73D7-46F7-AE22-0DC11E5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90CAB6-A579-4104-A8E7-84149F6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983DF8-F872-4DD5-B0C4-7CAD3B2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11D06E-6362-4F41-BD64-14BC7A8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396B76-7CEA-4B3D-B01E-9F6E94B9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4EC6BA-126D-4124-B8B5-FFC58ED4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8D8756-F7B3-4949-930F-868F30E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C01E7-3CE7-4CA7-A6DF-7ADA0348485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84A84F-DC21-4792-9ECC-64218C8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952057-0A58-4971-A913-AB0D0139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1DD96C-4C5E-49DD-8CE6-01FA7E7E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DD42E-3F68-4C36-8CB2-B054866758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93AE-F214-4D9F-99AC-3C9A2D645B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41FC-9A4F-43CD-8073-8824BE5938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E8792-CA04-458D-90BD-217D9034E4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FB778-0E26-414C-84FF-E3B0AB2A9E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0928C-6C98-42C1-859E-89CD9CD21E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71393-5C13-4CAA-B1C3-9D669ED725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39D47-CBC9-4B61-9C70-182417D74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046C-4E67-4D55-A431-01AD3C1939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30E2B-9AA5-4A7C-87D9-ABBD4F0F44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5EF33-F796-4836-A434-168720C2BA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EAAB7-49D2-437C-9646-E7774DEE83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54C9B-8455-430F-A3AC-900106FD15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BD175-6C0B-49B7-9B21-0FE1DB6727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77107-0AD2-42A0-BE82-989B7615E6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2CD70-B861-4391-BA3F-9748A3AF11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8784A-E524-4BA6-A36A-B8EBC1392D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20C66-B194-4CCA-BB72-12C95DB544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50BD-58DE-4B17-AC32-9CB7BA0716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7014-F789-42B6-AC54-BE27E487CB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215FC-BB33-436A-8A36-4BFF2394B0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A8497-5C5B-4109-AD1F-2618EE431CC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8C17A-1D44-41A9-834B-99084F03DE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1C330-3111-44E0-9301-E3EA477982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B174D-83EA-417D-9B58-B580FD1B3F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031E0-3336-4212-BD6B-BDC9F70866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C0CCD-DAE8-4894-9313-6759734FD6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3F193-8E24-4D6C-A52E-8BDFDE95AF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07859-2F41-4D2E-BFB4-B33991523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86A9-4EDB-462F-A9D5-0BFCB6EAF6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BCF2F-53DB-4884-8E10-2139A11693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BE368-C154-4550-9DCF-F1E8C70BA0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B4B28-CD48-4C6E-85FE-2E5D3B3FBD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7612-158F-4F69-B4CD-C6E99FB6DD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DAA7F-DABD-428A-A52F-200DAEC328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6880-B92C-457A-A066-1AFA842FB2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FC6F-31FD-43FC-9B0C-41B4601373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9C119-8473-4FB3-893F-C06E23DB0C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C584-617D-4CAE-831E-390FBA13AD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BC5B-B97D-4827-B26C-FCE14C5A1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39B0-0D03-4ADB-B7F4-477629C559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1288F-7ABA-4D3B-AA9A-EFAED0FA31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7792C-E1B5-406E-B599-284B1F5DDC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0BE7F-4D4A-4A5D-9C26-F891E4415A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B97F-9D5B-4E9F-9F6F-F61F2EB8638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663E-1D9D-4893-8118-610D41954F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CCBD-1F4D-4E07-AD28-16246BF1D0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112DF2-FA58-4952-8E9B-F0AD1E24E3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CA13E-B480-4C9E-9B97-FA428E7E51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E4EFA-128B-4E4A-B9FF-21C64A2C4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8-</a:t>
            </a:r>
            <a:fld id="{8142EBBD-7B25-466A-90D6-5E0542DA58BB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021F-977A-4284-A380-53A13073E16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AA5-BA1D-4AC8-8980-4D2F1A140358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08D-8CF8-43EF-8344-2E8F0D2D54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849D7C55-9F57-4372-A80F-72B59215986B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29333BB2-7225-4F2D-B352-09BEE18181C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9D76BD7A-5B20-4AA1-961E-67FCB95528E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805-8160-45B9-A8C0-0519DA75BA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6180D2D3-1231-4659-A56F-8E8AB198C97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ACE4808-293C-4890-8555-76CDAB0DC61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C62D96D5-196F-48EE-B787-6248D8D6BB6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29E41658-480B-4825-AB8F-6DB7FD38C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97BA195-93DB-45B7-B0CB-20501DED1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A3668CA5-D1E1-44C9-BC68-CB1BD02F2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C73-6AB7-4616-9319-64C5289C5B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651E0010-6238-4D8A-9109-2E68FEF03C44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9FDB1CD3-7F33-415F-AC84-96BE902141B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B344-A32E-418D-9276-F1ABEBE9FE19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640-FB8C-4950-BC07-E1830C21DF9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15ACFF8D-B415-4740-A070-E4F66E8780E8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FDC2F84-8C88-485A-B4E4-480E02B9340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cisions requiring poli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exclusive dealerships – multiple channels of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heavy, light, or no TV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reward sales 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be a price leader or price foll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advertise online or n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67C94834-54EE-4232-B8A0-5BCC19F5E30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7924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important to implem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47FCBA4-8886-41B9-B0E5-A267C8E78E0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dividing of a market into distinct subsets of customers according to needs and buying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5" descr="d1_ay0ip[1]"/>
          <p:cNvPicPr/>
          <p:nvPr/>
        </p:nvPicPr>
        <p:blipFill>
          <a:blip r:embed="rId1"/>
          <a:stretch/>
        </p:blipFill>
        <p:spPr>
          <a:xfrm>
            <a:off x="6934320" y="4379760"/>
            <a:ext cx="1576440" cy="1258920"/>
          </a:xfrm>
          <a:prstGeom prst="rect">
            <a:avLst/>
          </a:prstGeom>
          <a:ln w="0">
            <a:noFill/>
          </a:ln>
        </p:spPr>
      </p:pic>
      <p:sp>
        <p:nvSpPr>
          <p:cNvPr id="117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62C3975-3D3E-4D49-AF47-C3AA9E93A77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that directly affect marketing mix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58EACE1C-323F-4A21-9273-C7174B92A27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9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B66CD96-0AC1-4639-BDFB-1D284D8EECA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8B4D314-B4E3-46F4-AB0F-7AE7256D7EB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"/>
          <p:cNvSpPr/>
          <p:nvPr/>
        </p:nvSpPr>
        <p:spPr>
          <a:xfrm>
            <a:off x="533520" y="2362320"/>
            <a:ext cx="789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chematic representations that reflect how products/services compare to competitors’ on dimensions most important to success in th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 Positioning Step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-Posit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"/>
          <p:cNvSpPr/>
          <p:nvPr/>
        </p:nvSpPr>
        <p:spPr>
          <a:xfrm>
            <a:off x="3886200" y="3809880"/>
            <a:ext cx="14479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5638680" y="23623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. Diagram 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6"/>
          <p:cNvSpPr/>
          <p:nvPr/>
        </p:nvSpPr>
        <p:spPr>
          <a:xfrm>
            <a:off x="5638680" y="13716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lect Key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5638680" y="335268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Plot Competitors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"/>
          <p:cNvSpPr/>
          <p:nvPr/>
        </p:nvSpPr>
        <p:spPr>
          <a:xfrm>
            <a:off x="5638680" y="43434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4. Look for Nich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5638680" y="53341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5. Develop Marketing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0A622D8-5BE6-4A2D-9AA3-1CF188F3AA5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28600" y="1039680"/>
            <a:ext cx="8610480" cy="60984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0" descr=""/>
          <p:cNvPicPr/>
          <p:nvPr/>
        </p:nvPicPr>
        <p:blipFill>
          <a:blip r:embed="rId2"/>
          <a:stretch/>
        </p:blipFill>
        <p:spPr>
          <a:xfrm>
            <a:off x="144360" y="1673280"/>
            <a:ext cx="8778960" cy="3524040"/>
          </a:xfrm>
          <a:prstGeom prst="rect">
            <a:avLst/>
          </a:prstGeom>
          <a:ln w="0">
            <a:noFill/>
          </a:ln>
        </p:spPr>
      </p:pic>
      <p:sp>
        <p:nvSpPr>
          <p:cNvPr id="120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C91202FF-0D71-4CA8-9F81-BFBA997E6B6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vacant ni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 sub 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serve 2 segments with sam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position in the middle of the m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3520" y="457200"/>
            <a:ext cx="60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 Positioning as Strategy Implem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FF51F90-187A-425A-A0D1-0A29B86FAB3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ibzdacek[1]"/>
          <p:cNvPicPr/>
          <p:nvPr/>
        </p:nvPicPr>
        <p:blipFill>
          <a:blip r:embed="rId1"/>
          <a:stretch/>
        </p:blipFill>
        <p:spPr>
          <a:xfrm>
            <a:off x="6019920" y="3429000"/>
            <a:ext cx="2298600" cy="228600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856E7BE-5F83-4927-84CB-EE2D2435C66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533520" y="2057400"/>
            <a:ext cx="59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 to strategy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rketing, Finance 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ccounting, R&amp;D, and M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D4F1F71-4D11-4718-9891-905131B272A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needed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ing financi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worth of a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"/>
          <p:cNvSpPr/>
          <p:nvPr/>
        </p:nvSpPr>
        <p:spPr>
          <a:xfrm>
            <a:off x="533520" y="22096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ntial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C6417392-7AC9-4134-85AA-E46223B2A6E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15364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capital – short-term, long-term, preferred, or common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se or buy fixed as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appropriate dividend payout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% discount on accounts for te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mount of cash kept on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53352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isions Based on Finance/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F2196C7-14FF-441E-8282-2DE45D2E2A3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153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533520" y="457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ital Acquisition to Implemen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63BFC96-0B7F-4202-A109-0D0041AE09F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an organization to examine the expected results of various action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5" descr="w2oopsnl[1]"/>
          <p:cNvPicPr/>
          <p:nvPr/>
        </p:nvPicPr>
        <p:blipFill>
          <a:blip r:embed="rId1"/>
          <a:stretch/>
        </p:blipFill>
        <p:spPr>
          <a:xfrm>
            <a:off x="6934320" y="3887640"/>
            <a:ext cx="1617480" cy="1827360"/>
          </a:xfrm>
          <a:prstGeom prst="rect">
            <a:avLst/>
          </a:prstGeom>
          <a:ln w="0">
            <a:noFill/>
          </a:ln>
        </p:spPr>
      </p:pic>
      <p:sp>
        <p:nvSpPr>
          <p:cNvPr id="1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163B619-6353-4DC2-9A2A-0112F1B83C2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s how funds will be obtained and spent for a specified period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6" descr="mnuictmi[1]"/>
          <p:cNvPicPr/>
          <p:nvPr/>
        </p:nvPicPr>
        <p:blipFill>
          <a:blip r:embed="rId1"/>
          <a:stretch/>
        </p:blipFill>
        <p:spPr>
          <a:xfrm>
            <a:off x="5562720" y="3754440"/>
            <a:ext cx="2871720" cy="1884240"/>
          </a:xfrm>
          <a:prstGeom prst="rect">
            <a:avLst/>
          </a:prstGeom>
          <a:ln w="0">
            <a:noFill/>
          </a:ln>
        </p:spPr>
      </p:pic>
      <p:sp>
        <p:nvSpPr>
          <p:cNvPr id="12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8467807-1983-43C6-97E3-EE53CFBA3AB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64680" y="2285640"/>
            <a:ext cx="4133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38240" y="2361960"/>
            <a:ext cx="413388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ns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3049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 of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3AC2647-422A-4769-B58B-9CDE36945BA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ow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ea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will bring in th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533520" y="2343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Basic Approach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77E1F9E-74E0-4492-B690-2676DDF07D8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"/>
          <p:cNvSpPr/>
          <p:nvPr/>
        </p:nvSpPr>
        <p:spPr>
          <a:xfrm>
            <a:off x="952560" y="91440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ng Worth of a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4EFE0A6-1EA9-423B-AEB8-A054F2B6BC3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09480" y="2286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products and improvement of existing products that allow for effective strategy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vel of support constrained by resour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improvements shorten product life cy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533520" y="4572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4E16A13-DD13-4827-9CCD-EECA81D0B3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rm to market new technolog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ve imitator of successfu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er of similar but less expensiv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533520" y="45720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Major R&amp;D Approaches to 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B9DFBD1-9CFC-4380-AB1E-0B7E9DDC51A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419AE07-3EAA-443D-95BF-6E98CF43A91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457200" y="167652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e/Accoun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&amp; Development (R&amp;D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Information Systems (MIS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5335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nformation Systems (MIS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5E847B2E-2ADF-4F9E-AF90-CD1685B9FC2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"/>
          <p:cNvSpPr/>
          <p:nvPr/>
        </p:nvSpPr>
        <p:spPr>
          <a:xfrm>
            <a:off x="533520" y="213372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is the basis for understanding the firm. It’s one of the most important factors differentiating successful from unsuccessful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collection, retrieval/ feedback , and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managers in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of activities among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firm to reduc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"/>
          <p:cNvSpPr/>
          <p:nvPr/>
        </p:nvSpPr>
        <p:spPr>
          <a:xfrm>
            <a:off x="5335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 of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4E7A937-C89D-4212-8E2B-48954FE1947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8-</a:t>
            </a:r>
            <a:fld id="{75A9D133-F6F8-44A4-A073-72869E5CAB2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56840" y="1295280"/>
            <a:ext cx="838188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200"/>
            </a:b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The greatest strategy is doomed if it’s implemented badly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rnard Reiman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4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80880" y="3429000"/>
            <a:ext cx="83059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Without planning and integrated studies for our investment projects, we certainly lose our competitive edge.”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dul Rahman Bin Ali Al Jeraisy Chairman, Al Jerais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3D6141C-AB49-49A6-BA46-C24566511A3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6" descr=""/>
          <p:cNvPicPr/>
          <p:nvPr/>
        </p:nvPicPr>
        <p:blipFill>
          <a:blip r:embed="rId1"/>
          <a:srcRect l="0" t="0" r="0" b="4512"/>
          <a:stretch/>
        </p:blipFill>
        <p:spPr>
          <a:xfrm>
            <a:off x="341280" y="380880"/>
            <a:ext cx="8421840" cy="5337360"/>
          </a:xfrm>
          <a:prstGeom prst="rect">
            <a:avLst/>
          </a:prstGeom>
          <a:ln w="0">
            <a:noFill/>
          </a:ln>
        </p:spPr>
      </p:pic>
      <p:sp>
        <p:nvSpPr>
          <p:cNvPr id="11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C30BFAB4-D75A-40F8-80DB-7C6CDCDE00A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9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983A28D-A89F-4A87-A787-099CC269D69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685800" y="2133720"/>
            <a:ext cx="807732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implementation mean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than 10% of strategies formulated are successfully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685440" y="2743200"/>
            <a:ext cx="79246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segment markets appropriat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ing too much for a new 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ling behind competition in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recognizing benefit of computers in managi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Text Box 3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5"/>
          <p:cNvSpPr/>
          <p:nvPr/>
        </p:nvSpPr>
        <p:spPr>
          <a:xfrm>
            <a:off x="609480" y="1905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the low success rate of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0F914F4-C2A2-4811-89E7-315F30A49A5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goods &amp; services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needed working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technologically sound 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nd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Text Box 3"/>
          <p:cNvSpPr/>
          <p:nvPr/>
        </p:nvSpPr>
        <p:spPr>
          <a:xfrm>
            <a:off x="68580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85800" y="21146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ys to successful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3CC80CA-F8D4-477F-B8DA-DC4FBF2945C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9E43130-F0AB-4FF5-990E-5FF2FDBC07A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"/>
          <p:cNvSpPr/>
          <p:nvPr/>
        </p:nvSpPr>
        <p:spPr>
          <a:xfrm>
            <a:off x="533520" y="18288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variables affect success/fail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12-14T20:44:42Z</dcterms:modified>
  <cp:revision>425</cp:revision>
  <dc:subject/>
  <dc:title>Chapter 1  The Nature of Strategic Management</dc:title>
</cp:coreProperties>
</file>