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  <p:sldId id="28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slide" Target="slides/slide3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dt" idx="4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4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 type="sldNum" idx="4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4234-C144-4907-ABD9-BFC354416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73A0D-E28F-4905-B92E-D9E5701F0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35AD-A593-4870-8D75-941D5CD0A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F7FF-6E19-4A66-AE45-7A5E95B4F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9154-A8FB-4F40-A588-5C2561BF4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3BB0-351D-447B-A1AD-BAE961FAF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FFEB-89A6-4436-91F9-064B783F5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D7DCF-A49F-445F-B116-97B4D488D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EEFE-8979-427F-9616-D48A1E2DA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671E-8C6E-497A-9B12-F8AE08D52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8148-5F7D-49C1-BFEC-8C7617F607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ED34-622F-4D3A-A8CA-B4BA7141F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2581-AE64-49CD-AF1A-1E81FBE48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380F-1F2A-4091-B9BA-0B3C0B436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4D9E-BFAF-42EA-90DE-B3FE5F11E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A6D3-F27D-443A-BD44-9AE8FE9DE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50A2-21A6-4268-8A94-B71E28A97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4550-50A5-438C-9C02-78E170FBD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BAE2E-E4D5-4D96-B6B8-74716E90E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3C48-E183-443A-AF61-21B5D25A26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C4EE-3741-4C41-AB65-5B746A741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9EEA-A34B-41D2-A492-973A53EB85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1070-12C3-466C-9754-B0F480A02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B667-3BCD-4444-A78F-17AF3C79C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E3D9-7EC0-4D3A-841A-B16DEFF17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08B1C-92F6-4AA4-91CE-A0BFF4114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E6F4-9EE7-4499-83AB-7A07EB34C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9A54-7476-4B06-93F0-B00657899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CFDA-81F9-47C9-9E85-29105240E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23FB-49A4-469F-A4B2-E6D0E24E8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2F1F-A1EE-4A39-8328-F504DAD5E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B9B1E-2925-4555-BFEC-EE6DE762CE4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D041DC-232E-4242-9E65-167B66E0748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817567-85E2-4AF3-958F-6DA3CAFB608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53A9E5-3198-42B6-BCAA-3B6F181F032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A0F0F5-EDCB-493A-9BD3-9F1D29DBC08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7CB755-2403-4515-8315-B10610E94CE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A9DBD4-5C3A-4EDA-9090-A2B5BFAC1A2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A420DB-EF8B-4E24-B8D8-B90B0BBAB49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A1B29C-CAD7-4FDC-AAF7-E3D344C136B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93A867-1236-48B0-8853-7BD63B54F86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49220-0158-43D7-BD20-AD60ADAB3C9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F442-2D6B-4B99-8B53-6F7168F5F07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605A2C-34E2-44CD-81A0-4B1CD635F73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EF9A92-59F8-4A30-B358-5764DE92639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7E0289-DADA-4CEA-93F5-5768CECDE6B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0E4EE0-E7C0-42B4-8A34-55E0E4CCEF6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72DEAF-2026-4730-ACFB-EEAF3540886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6C3017-949B-43D1-81F6-9E0D2181089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F55DE0-04EF-4E02-8D9F-419D04DD8DE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F9EC66-8EB4-42AD-8A3C-94D3E3C5096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4E986E-C39D-4F7C-9451-2B7FDE2FF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4F28B-B962-4EDD-862C-E828E3726A3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75463D-A47D-4E4A-ABC5-93F35971861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0E7FDA-7186-47B3-BC26-D4BD8CF3869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04EC0E-C029-4A67-8D65-A690F5D050E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52CCB-554A-41A5-89A0-818DE0D5DD5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AC84C-3D05-4421-9B88-8DE3271D3D8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8755B-6A1A-4CD1-BE67-D48845774F3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2F210-DA0F-4022-AA2E-E4ED4822754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BF0EB1-D44D-4A7F-A1F1-CCED80A79DB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71572-E0C0-41F6-B4D4-987F534BB48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C9CEF-0C47-4E40-8E3B-C36AAC896B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57FF33-E22D-4978-91D9-3EF0C03382D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8CD5D-9E90-48BE-A6B0-24955FA1714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AB941-F8B2-462B-BC12-780EDC2BD43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33F84-2C16-4EC6-8CC2-DD73E7D4D24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E2DCC-60F7-41A6-897A-052E1C2ED1D5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889E9-C35A-4FCF-B2C7-1245414352F3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242C0-DC2A-4C92-9881-BA5A119A7C66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EA093-CF25-4A5A-85B4-9CB3B830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2D6B1-F836-46FF-AF7B-281087DB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B9F4B-39C7-43FD-AB47-FD248580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DA8B2-DAF6-4E3B-A6CA-1DC26C69033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AEB36-DDF3-427C-BF42-89A839E9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1EEC1-BE5B-4654-88C2-D23CC7B9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17FB7-AC81-4FBA-B3D4-D9D4C71E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6E29B-56EE-4BD1-90E3-F4E1FBA7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AAE91-D8D5-4CCF-9769-3F247B66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047C2-BF14-45CF-987F-0DE3AA44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BFD51-D34F-4445-9F3F-2E65576B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553E7-58F9-4F44-9863-F2A30218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AC1F0-869F-4035-94C2-C5C65E10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66714-211B-4DFF-9991-9F0382681783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5FF49-FD84-42F7-AB3A-2B259B43A15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50FBCA2-8753-4615-88ED-D19F57B21DBD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C05F3A-8FB7-46F7-B33B-4312F6744AB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A19B47-05A2-4DB1-81E2-9532F85B412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7512934-E8FD-4717-9CCA-B47ABAF7B463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843CEC-4B00-453B-AE0F-3B1AEE1DCB5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11D398-3916-4A09-8ECE-EDF098F9F0A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833685-FAEE-49A5-BEF6-0726074134B4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F75C06-3C87-4496-8A42-DFB4A93C142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E6B616-31E8-4970-998F-1EC33B9D44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04C40-4D7D-476F-9D30-E155026A198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0A4227-9B47-4BF8-9075-2868EAF4D80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342A7E-FBAF-455C-8D76-8CDEF37B5C69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25E9B2-72B5-4838-8531-F06709301B03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6D83E-0973-4335-94C5-51312EF0542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53584-8260-438C-9AE5-1BE250CEB172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B26E4-687A-4583-8ABD-831F061BACA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89BC1-E3B1-459E-BD4F-7FA102A40F9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DCCFB-0F0B-4EA2-B3C2-C92746D1AA3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EF7CA-63B0-4507-8389-5E9029FABDA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3109B-CEB4-48D6-899F-E396A11B33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7B5A-25FD-4251-8013-6135F1A5E7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83463-EEC1-45F4-B61E-AC12BEA114B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F56CE-0FCA-4509-9468-4EA55CAD0D6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D5BC7-24DE-49D6-9307-A0BBAB1472C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F53311-8FF6-4ECD-BDF4-027C0409BFF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AFDAE-640B-4519-8FC2-F7D1F9A9742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F347E-0381-45B8-BF7E-02056986DE2C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F917C5-E134-435B-B968-E6D766F486B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33F74E-50EC-42CC-97BA-40DE79051B0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8DE5A6-6386-443E-861C-6FB824E6D9E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C669F5-A915-4AE1-9EF7-F5015390B4F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A9424BB-4E18-4C2C-A80D-110E95E344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5AC84-2FBB-48AE-8BE9-F94E94A093D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D8A85F-E927-44CB-BA08-4233FC42DF0B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FEE7D4-98A9-4448-ABF4-D0570AA0B04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269E5D-0B63-4040-A59B-9A77266A678F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604B9A-49A2-4562-B9F8-49BFD171C8C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1B6C3B-198C-423D-8400-ED9816B20922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8E362E-AF2E-4454-8B56-62BF3E163467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9686E5-52F8-484A-A94B-68A5D9553A92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EC78F-027E-4830-821E-7D9DD3890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8C4BC-5774-416F-B405-48DD0DCE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57E09B-BF38-4ECF-8469-CA7A71640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70AF2-6861-4BD5-A720-550E808FC45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2816E-553B-434F-98BF-1E2D4376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1B5BE-767C-45AF-8EC1-7AD322BE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EA1E2-5CF2-4B3F-81AE-91D360C4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414F5-5689-4EDA-9F24-723FFC14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998C20-94D1-4867-A5B2-B907601D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BFFFA-9393-40D4-A0B6-9C64BB78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3BCFB-6647-4D25-8DCC-6A07BA1A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66A8D-DBEF-453E-8E90-326FF2938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1DDD7-DC04-4BC5-9DE9-D8E14A8BB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4D425-358E-4FAD-91D2-4BCA4F2C1AB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CE8CB1-6FFB-4CA9-8ED3-F3566FE9FA12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5C9F797-6854-4CA5-A213-E0FE6B1A34C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690DAB-1F90-40C2-B13C-941C9742E17D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18199D6-4A89-4A68-BC52-E2B0271F2D7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68BABE-362E-416C-9E3D-3813C5EDA0A5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47A985-5BFD-480A-A012-DD68A0B71F3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3B3BC7-9731-48AF-B3DA-BFC3A26D3D2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D24C32-7142-4AD6-9A59-EDB5FBF0A47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2D7647-44E3-45BA-B722-8670FF9C901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02E82B-A205-4828-B6EE-7B32BB7979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0F680-900E-4522-AE8B-CC5F889E237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FD93C7-877F-46FE-9730-723E52A3CEC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D6E1B74-B3AB-4B41-A32F-ABE60C2D08E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D9FEB9-7089-4F10-A219-2C15C904A867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EA59F4-BFCC-437C-8314-A7EF4E5106B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07344-3C5E-4DE8-B352-7C5F262B6A6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25C63-A32F-4240-AF98-E6EB96403ED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56D2A-EBCE-4D05-B80F-494D9ED10171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D2B9FD-4814-4FC1-8D34-FD315955312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60B8F-9881-40A7-BD43-15FEEE31AB0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AC56CB-B992-42B9-A553-EF59874B2B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36077-688A-4C68-87DB-E5B68245B82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D29F2-7BDF-46B6-B6AB-10588F15390A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A56581-90C7-4BD1-A54D-1C4BB6E424A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3DF96-FF3F-4200-B999-4677484A2B68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87737D-711E-492D-BD5A-2F49DE5C6B2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4C9D2-E7BA-4A70-9896-0A0BF91B9A9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42FE41-86FF-4363-97B9-53EEF4434E9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6AE56-AE61-4718-8141-8C79D6CCD6C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5B275-4AE2-4F29-A005-A95334B63357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68680-DCBA-48AC-A9A7-1D5315FDAD31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5FC0E5-D277-4825-A613-9CD6F9B256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4F4DB-F312-4CA3-901D-1C0DBAF42D0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D64CAA-0755-4FE0-9956-E827147F2FA9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2467E-7299-466E-927F-8C249AC0366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904A7-B392-443B-B786-6F2CD0FF04B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F918B-A20E-496B-A300-7D8EDEB24AA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B16E9-CD7A-4CE5-BAF8-166FDDD832C2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5F1F5-5844-4DA4-81C4-8B9FAC672B47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EB6BF-D642-4524-A0C7-469F91C63D4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0A5D6A-4F10-4A93-BBEF-8EA7C3DE2F6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823660-43AC-464D-A5D9-875D458435F3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8DBC17-6D2C-42EB-9B25-8A29EF25BDE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106A8-E009-4AE2-AF44-F6350EFDAA8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190477-211B-46C5-8E2A-7F7168A3F2A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35D88C-8C62-42D6-BCCC-FA98EBD8711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587325-53E4-429E-BF37-ECAF3E0BF87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12932A-CB71-47C2-A1F2-267D5CC7646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C6947E-8B25-4993-BF67-286983B580E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43CB68F-B4B8-4BA6-B18A-82962879884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6315382-C0B8-463D-ACBA-B880A5DB2B8E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0E3115E-88B6-4CFF-A0E6-568B4DCEF26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14DEB0-1D44-4240-A12F-3D5D1D04B5E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88A2A0B-12B0-426E-81D0-6CEF04B8AD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F96D2B-B1A6-4544-8328-3C89FC0CCBF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14C76D-7664-4EF2-BFCC-8B22E40F7CA0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099447-4774-48F2-BE2D-73B63CC8021D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674718F-7440-4A88-AF2A-B19ECCC18D7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88F5D14-2D34-46D1-B1EE-95A4F5EC775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B91A99-A3C4-4D1F-B270-7D64FED6256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B92D5A3-E848-454B-BF47-E88B88592CB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8B03DA-78CD-422D-B199-9D61C588961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F64AD43-1252-4E6A-B8CB-0C0E6262521A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081808-F87B-4285-8220-A38870E3EB4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4E3CE16-1CFF-441E-AC62-76C4B0D55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0A6D2-99EC-472B-8590-2B09E8E68D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D85F0-E099-410E-B9C9-BF5C66D32EE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725D62-D2E8-465C-9C84-04A30D09A36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61EC893-3616-48C0-ACEF-BCD82F6F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8BE4CAA-9FCD-47F3-BEDE-C68D55345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3844BC6-B0AD-4E24-91B9-B96237C0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731C00F-2739-4AA2-AE83-77EFA283A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C4FFF2-D069-4310-AF54-AA8E3963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426D50-CF85-4572-816A-749F10CB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1F5DDA4-12E6-4D90-AABF-66EF65C2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219C76D-029D-4C32-A58B-F45E5D20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34AD7C8-E25C-43D5-9B58-E47B18B7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479E9-8EF5-474B-9ECF-939879E8170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97EB923-0B34-4741-ACD4-4D656F5E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E5023FD-B02F-43CB-8F62-4E82C2B1B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3D0CB1-B00F-4B7A-9B1C-91CDF9C8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F892E-AFA6-4F5E-AB93-0AFFD231FE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A902B-6513-4E2C-9B19-85454C9536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4D382-72A0-444E-B5BD-FC757BD450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6EEF8-04F9-4B62-84CB-ADDE4BDBBD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E80FD-3D01-4395-A066-9A13F2CAA54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470005-D5AD-438D-95CC-5ABD7D24B42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7755D-AA6C-4C94-93A3-EFD863F323F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544BA-9781-4A1A-843A-6FDD4CA33F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47AF-3265-4E07-A9AD-9713C0BAD7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1772B-9811-4DE6-BBAE-8EC91026DB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0BB4D-4AA4-4451-AACB-AB327870C9C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DBF0A-E56D-4E1E-87E8-2764C8E487F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449C8-7C9D-49D7-974C-1003FE8E36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7DA126-C185-4B03-8080-9C8C609F172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B4AA8-BE63-484A-B8AC-ACC80335564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E5386-53AD-4B23-8418-62F8257165F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C971C-AC2B-4CA3-9775-0A3250AC035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81C52-2342-4681-9E4B-77C9847D948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A71F-FF6B-4D27-819C-976BE5766FF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1688-1F47-479A-9BF9-519CBE8A6B7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ACF24A-1A2D-4B64-9848-6DF2ABBBAAF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FF85B5-857C-4590-85C2-FF94569C07C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BAC1F7-DAEF-4038-AA6A-AEF1AA792A6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4878A6-AC64-4D69-B78F-A4C147F5419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43C1F-6C2F-4F00-B496-AAE18C3BB46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53CE30-76AB-4048-A91D-53DCA511C2C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C13BE0-0A96-4769-85C3-3FBCA56A8CC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28EC24-E22D-45C5-8367-B1BFD0828E4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8C70E9-1429-4C9A-8E3A-5D1A6DBF48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98662-0D05-4AC9-BFA0-050E0E9D717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42F174-860A-42A2-9792-28B4C123B07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516619-C521-4446-9DF0-17D87CE4802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723C72-7317-4945-9619-085C622F0A8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B2725-9A2C-4E34-861A-B13E881A2C3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E3FE-0B63-4883-96B4-10C528737D8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22164-DEE0-4EEB-9FFD-78F0B479900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6CD5B-FF67-4EBB-9571-2E0A0405AED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87D51-6C21-4903-A5CB-68960C1968B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17B14-58C4-4436-8DB0-4C87D1AE9DE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D13D2-0CE6-4A67-81DB-A54624D6A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66B8B-2504-440A-887C-6AD8CD19598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33FD0-AC51-4766-8170-47DD85E4645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D4E48-85E8-4A5F-A56A-EB4E87E9B45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D7062-6536-4990-BB92-A65E2CA6CAC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2708B-A508-4FB4-A13E-B6282FD9246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6842A-1779-40A1-A7A9-9527D356918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BF548-9797-42A8-83A8-3283B30A8BF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435C2E-60FA-4EAC-B0BA-5AB768CEE45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5CF0FA-1854-4114-A361-C0D0E85BB49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B6212B-3BD5-4821-82C5-2370A0FECB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8-</a:t>
            </a:r>
            <a:fld id="{6187B28A-2F3C-422D-B9D5-25E1BE937BDA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84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5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6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F811-E3EF-4242-885D-96438A441A44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B7C7-C896-44CA-8852-04730D762B59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471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0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0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1DBF-362D-42E5-BA66-B81FE4138AA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594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22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8-</a:t>
            </a:r>
            <a:fld id="{7A8DF00B-B224-4011-AE92-BA43B457E5EF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3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24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8-</a:t>
            </a:r>
            <a:fld id="{E43D9078-DD89-4E59-8DC5-6FBB773901D0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2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sldNum" idx="26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8-</a:t>
            </a:r>
            <a:fld id="{D3FAF9B4-574D-4E3B-8A6D-E700453A5AA0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ftr" idx="27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3D05-7CA4-4DFD-BC56-6D6F5E1F6C7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8-</a:t>
            </a:r>
            <a:fld id="{E3A537F3-5635-471B-9203-00BD7C05DD0B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810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sldNum" idx="3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504B46EB-A3AA-4BFB-A266-B5D321562587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3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3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7F3C5618-A3DA-4690-9F10-01BCB48C80C5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3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0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ftr" idx="3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sldNum" idx="36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10EB8ACF-BD2A-452D-BAA9-46CD6C8BD3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ftr" idx="37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sldNum" idx="38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94126020-E5CD-48AC-BC86-A6EB55711E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6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 type="ftr" idx="39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 type="sldNum" idx="40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5C753691-806B-4C57-AD73-D1583245F1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D5F2-575C-4858-890F-52FB94BB6C4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5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3 -</a:t>
            </a:r>
            <a:fld id="{29B6ACD8-7796-405C-85BE-898F084DD777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781EC87D-A4EF-4E33-BD75-76459CB4CE86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173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9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BA345-E8E0-4906-BA69-C4B91E5A2D1F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ftr" idx="11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2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F944-D643-4B0C-AE7D-0E3AA9187933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260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9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sldNum" idx="1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2 -</a:t>
            </a:r>
            <a:fld id="{44ECC882-7084-44E6-B27C-B7C6E6233856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1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8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2" descr="Always_Learning_Text_Orange_RGB"/>
          <p:cNvPicPr/>
          <p:nvPr/>
        </p:nvPicPr>
        <p:blipFill>
          <a:blip r:embed="rId1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Slide Number Placeholder 5"/>
          <p:cNvSpPr/>
          <p:nvPr/>
        </p:nvSpPr>
        <p:spPr>
          <a:xfrm>
            <a:off x="2905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D02F6903-257B-4A96-A9EB-2CB7BC80E2A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47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decisions requiring polici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use exclusive dealerships – multiple channels of distrib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use heavy, light, or no TV adverti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reward sales peo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be a price leader or price follow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ther to advertise online or n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0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D0A142B9-4BCB-45A3-BBCB-4A5D6FFD277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/>
          </p:nvPr>
        </p:nvSpPr>
        <p:spPr>
          <a:xfrm>
            <a:off x="533160" y="2514240"/>
            <a:ext cx="79246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rally important to implement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8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 posit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8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72A7FFBE-A56D-4104-B777-82FCD6CA2DD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533160" y="2133720"/>
            <a:ext cx="7924680" cy="167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 Seg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bdividing of a market into distinct subsets of customers according to needs and buying hab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8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9" name="Picture 5" descr="d1_ay0ip[1]"/>
          <p:cNvPicPr/>
          <p:nvPr/>
        </p:nvPicPr>
        <p:blipFill>
          <a:blip r:embed="rId1"/>
          <a:stretch/>
        </p:blipFill>
        <p:spPr>
          <a:xfrm>
            <a:off x="6934320" y="4379760"/>
            <a:ext cx="1576440" cy="1258920"/>
          </a:xfrm>
          <a:prstGeom prst="rect">
            <a:avLst/>
          </a:prstGeom>
          <a:ln w="0">
            <a:noFill/>
          </a:ln>
        </p:spPr>
      </p:pic>
      <p:sp>
        <p:nvSpPr>
          <p:cNvPr id="117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B046DBAA-ADC5-4092-9866-FBA02277632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/>
          </p:nvPr>
        </p:nvSpPr>
        <p:spPr>
          <a:xfrm>
            <a:off x="533520" y="2438280"/>
            <a:ext cx="8076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ngs that directly affect marketing mix variabl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2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Text Box 3"/>
          <p:cNvSpPr/>
          <p:nvPr/>
        </p:nvSpPr>
        <p:spPr>
          <a:xfrm>
            <a:off x="533520" y="457200"/>
            <a:ext cx="6095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rket Segmentation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BB3CE810-D93C-407B-9CE9-2F73E1819A2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7" name="Rectangle 3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rket Segmen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6019920" y="3733920"/>
            <a:ext cx="2743200" cy="609480"/>
          </a:xfrm>
          <a:prstGeom prst="rect">
            <a:avLst/>
          </a:prstGeom>
          <a:solidFill>
            <a:srgbClr val="f6861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sychogra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5"/>
          <p:cNvSpPr/>
          <p:nvPr/>
        </p:nvSpPr>
        <p:spPr>
          <a:xfrm>
            <a:off x="6019920" y="4800600"/>
            <a:ext cx="2743200" cy="609480"/>
          </a:xfrm>
          <a:prstGeom prst="rect">
            <a:avLst/>
          </a:prstGeom>
          <a:solidFill>
            <a:srgbClr val="f6861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ehavio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6"/>
          <p:cNvSpPr/>
          <p:nvPr/>
        </p:nvSpPr>
        <p:spPr>
          <a:xfrm>
            <a:off x="6019920" y="1752480"/>
            <a:ext cx="2743200" cy="609840"/>
          </a:xfrm>
          <a:prstGeom prst="rect">
            <a:avLst/>
          </a:prstGeom>
          <a:solidFill>
            <a:srgbClr val="f6861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ogra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Rectangle 7"/>
          <p:cNvSpPr/>
          <p:nvPr/>
        </p:nvSpPr>
        <p:spPr>
          <a:xfrm>
            <a:off x="6019920" y="2743200"/>
            <a:ext cx="2743200" cy="609480"/>
          </a:xfrm>
          <a:prstGeom prst="rect">
            <a:avLst/>
          </a:prstGeom>
          <a:solidFill>
            <a:srgbClr val="f6861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ograph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8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9"/>
          <p:cNvSpPr/>
          <p:nvPr/>
        </p:nvSpPr>
        <p:spPr>
          <a:xfrm flipV="1">
            <a:off x="3657600" y="3048120"/>
            <a:ext cx="23623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0"/>
          <p:cNvSpPr/>
          <p:nvPr/>
        </p:nvSpPr>
        <p:spPr>
          <a:xfrm>
            <a:off x="3581280" y="388620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1"/>
          <p:cNvSpPr/>
          <p:nvPr/>
        </p:nvSpPr>
        <p:spPr>
          <a:xfrm>
            <a:off x="3657600" y="388620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61E2F5E1-39FB-4DD6-97B5-41235FBCCFB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2"/>
          <p:cNvSpPr/>
          <p:nvPr/>
        </p:nvSpPr>
        <p:spPr>
          <a:xfrm>
            <a:off x="533520" y="3808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37529DC6-E2C8-496C-B2CE-719041FC1C9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"/>
          <p:cNvSpPr/>
          <p:nvPr/>
        </p:nvSpPr>
        <p:spPr>
          <a:xfrm>
            <a:off x="533520" y="2362320"/>
            <a:ext cx="789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duct Positi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chematic representations that reflect how products/services compare to competitors’ on dimensions most important to success in the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roduct Positioning Step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93" name="Rectangle 3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roduct-Positio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4"/>
          <p:cNvSpPr/>
          <p:nvPr/>
        </p:nvSpPr>
        <p:spPr>
          <a:xfrm>
            <a:off x="3886200" y="3809880"/>
            <a:ext cx="1447920" cy="0"/>
          </a:xfrm>
          <a:prstGeom prst="line">
            <a:avLst/>
          </a:prstGeom>
          <a:ln w="120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5"/>
          <p:cNvSpPr/>
          <p:nvPr/>
        </p:nvSpPr>
        <p:spPr>
          <a:xfrm>
            <a:off x="5638680" y="2362320"/>
            <a:ext cx="2743200" cy="76176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2. Diagram 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6"/>
          <p:cNvSpPr/>
          <p:nvPr/>
        </p:nvSpPr>
        <p:spPr>
          <a:xfrm>
            <a:off x="5638680" y="1371600"/>
            <a:ext cx="2743200" cy="76212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Select Key Crite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7"/>
          <p:cNvSpPr/>
          <p:nvPr/>
        </p:nvSpPr>
        <p:spPr>
          <a:xfrm>
            <a:off x="5638680" y="3352680"/>
            <a:ext cx="2743200" cy="76212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3. Plot Competitors’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Produ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8"/>
          <p:cNvSpPr/>
          <p:nvPr/>
        </p:nvSpPr>
        <p:spPr>
          <a:xfrm>
            <a:off x="5638680" y="4343400"/>
            <a:ext cx="2743200" cy="76212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4. Look for Nich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9"/>
          <p:cNvSpPr/>
          <p:nvPr/>
        </p:nvSpPr>
        <p:spPr>
          <a:xfrm>
            <a:off x="5638680" y="5334120"/>
            <a:ext cx="2743200" cy="761760"/>
          </a:xfrm>
          <a:prstGeom prst="rect">
            <a:avLst/>
          </a:prstGeom>
          <a:solidFill>
            <a:srgbClr val="f39b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5. Develop Marketing</a:t>
            </a:r>
            <a:br>
              <a:rPr sz="1700"/>
            </a:b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   P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8AD8BE7D-1CF0-4FDD-B169-BC4A9847FE9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7" descr=""/>
          <p:cNvPicPr/>
          <p:nvPr/>
        </p:nvPicPr>
        <p:blipFill>
          <a:blip r:embed="rId1"/>
          <a:stretch/>
        </p:blipFill>
        <p:spPr>
          <a:xfrm>
            <a:off x="228600" y="1039680"/>
            <a:ext cx="8610480" cy="60984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0" descr=""/>
          <p:cNvPicPr/>
          <p:nvPr/>
        </p:nvPicPr>
        <p:blipFill>
          <a:blip r:embed="rId2"/>
          <a:stretch/>
        </p:blipFill>
        <p:spPr>
          <a:xfrm>
            <a:off x="144360" y="1673280"/>
            <a:ext cx="8778960" cy="3524040"/>
          </a:xfrm>
          <a:prstGeom prst="rect">
            <a:avLst/>
          </a:prstGeom>
          <a:ln w="0">
            <a:noFill/>
          </a:ln>
        </p:spPr>
      </p:pic>
      <p:sp>
        <p:nvSpPr>
          <p:cNvPr id="120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B553CBA6-960B-4484-8293-F8FA3D60B3B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/>
          </p:nvPr>
        </p:nvSpPr>
        <p:spPr>
          <a:xfrm>
            <a:off x="533520" y="2590920"/>
            <a:ext cx="815328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ok for vacant nich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void sub optim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serve 2 segments with same strate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n’t position in the middle of the m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Text Box 3"/>
          <p:cNvSpPr/>
          <p:nvPr/>
        </p:nvSpPr>
        <p:spPr>
          <a:xfrm>
            <a:off x="533520" y="457200"/>
            <a:ext cx="6095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duct Positioning as Strategy Implementati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7E355EC9-E55F-4912-8D3A-AECC535272C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Text Box 2"/>
          <p:cNvSpPr/>
          <p:nvPr/>
        </p:nvSpPr>
        <p:spPr>
          <a:xfrm>
            <a:off x="53352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Picture 4" descr="ibzdacek[1]"/>
          <p:cNvPicPr/>
          <p:nvPr/>
        </p:nvPicPr>
        <p:blipFill>
          <a:blip r:embed="rId1"/>
          <a:stretch/>
        </p:blipFill>
        <p:spPr>
          <a:xfrm>
            <a:off x="6019920" y="3429000"/>
            <a:ext cx="2298600" cy="2286000"/>
          </a:xfrm>
          <a:prstGeom prst="rect">
            <a:avLst/>
          </a:prstGeom>
          <a:ln w="0">
            <a:noFill/>
          </a:ln>
        </p:spPr>
      </p:pic>
      <p:sp>
        <p:nvSpPr>
          <p:cNvPr id="121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3307FE27-4AB8-4910-8AC7-6F3E439006E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2"/>
          <p:cNvSpPr/>
          <p:nvPr/>
        </p:nvSpPr>
        <p:spPr>
          <a:xfrm>
            <a:off x="533520" y="2057400"/>
            <a:ext cx="591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ral to strategy implemen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84740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d6b06"/>
                </a:solidFill>
                <a:latin typeface="Verdana"/>
              </a:rPr>
              <a:t>Strategic Management: Concepts and Cases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66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d R. Dav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bas J. 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dulrahman Y. Al-A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Chapter 9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Implementing Strategi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Marketing, Finance /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ccounting, R&amp;D, and MI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1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4" name="Picture 4" descr="CVR_STMA_SB_ARW_5674_CVR"/>
          <p:cNvPicPr/>
          <p:nvPr/>
        </p:nvPicPr>
        <p:blipFill>
          <a:blip r:embed="rId1"/>
          <a:stretch/>
        </p:blipFill>
        <p:spPr>
          <a:xfrm>
            <a:off x="5410080" y="1523880"/>
            <a:ext cx="2874960" cy="4138560"/>
          </a:xfrm>
          <a:prstGeom prst="rect">
            <a:avLst/>
          </a:prstGeom>
          <a:ln w="0">
            <a:noFill/>
          </a:ln>
        </p:spPr>
      </p:pic>
      <p:sp>
        <p:nvSpPr>
          <p:cNvPr id="112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Slide Number Placeholder 5"/>
          <p:cNvSpPr/>
          <p:nvPr/>
        </p:nvSpPr>
        <p:spPr>
          <a:xfrm>
            <a:off x="2905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AECA411A-88B9-4397-8389-39F41200CD7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/>
          </p:nvPr>
        </p:nvSpPr>
        <p:spPr>
          <a:xfrm>
            <a:off x="533520" y="2895120"/>
            <a:ext cx="815328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quiring needed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ing projected financial stat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paring financial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aluating worth of a busi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4"/>
          <p:cNvSpPr/>
          <p:nvPr/>
        </p:nvSpPr>
        <p:spPr>
          <a:xfrm>
            <a:off x="533520" y="22096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sential for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452F330C-B24A-43E0-B771-9CD6CBFE05C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/>
          </p:nvPr>
        </p:nvSpPr>
        <p:spPr>
          <a:xfrm>
            <a:off x="380520" y="2057400"/>
            <a:ext cx="815364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ise capital – short-term, long-term, preferred, or common sto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se or buy fixed ass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appropriate dividend payout rat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 % discount on accounts for te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the amount of cash kept on ha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Text Box 3"/>
          <p:cNvSpPr/>
          <p:nvPr/>
        </p:nvSpPr>
        <p:spPr>
          <a:xfrm>
            <a:off x="533520" y="457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cisions Based on Finance/Accou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6AAD8126-8ECD-45F2-B872-DA024D950E2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/>
          </p:nvPr>
        </p:nvSpPr>
        <p:spPr>
          <a:xfrm>
            <a:off x="533520" y="2437920"/>
            <a:ext cx="81532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b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Text Box 3"/>
          <p:cNvSpPr/>
          <p:nvPr/>
        </p:nvSpPr>
        <p:spPr>
          <a:xfrm>
            <a:off x="533520" y="45720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ital Acquisition to Implement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90FADE04-86CF-4D06-A83E-484AF5A0C68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1532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jected Financial Stat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 an organization to examine the expected results of various actions and approach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Text Box 3"/>
          <p:cNvSpPr/>
          <p:nvPr/>
        </p:nvSpPr>
        <p:spPr>
          <a:xfrm>
            <a:off x="53352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0" name="Picture 5" descr="w2oopsnl[1]"/>
          <p:cNvPicPr/>
          <p:nvPr/>
        </p:nvPicPr>
        <p:blipFill>
          <a:blip r:embed="rId1"/>
          <a:stretch/>
        </p:blipFill>
        <p:spPr>
          <a:xfrm>
            <a:off x="6934320" y="3887640"/>
            <a:ext cx="1617480" cy="1827360"/>
          </a:xfrm>
          <a:prstGeom prst="rect">
            <a:avLst/>
          </a:prstGeom>
          <a:ln w="0">
            <a:noFill/>
          </a:ln>
        </p:spPr>
      </p:pic>
      <p:sp>
        <p:nvSpPr>
          <p:cNvPr id="123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DD9B6C9A-3A4D-4B23-A113-BD87BE51735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/>
          </p:nvPr>
        </p:nvSpPr>
        <p:spPr>
          <a:xfrm>
            <a:off x="533520" y="2590560"/>
            <a:ext cx="815328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ails how funds will be obtained and spent for a specified period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4" name="Text Box 3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5" name="Picture 6" descr="mnuictmi[1]"/>
          <p:cNvPicPr/>
          <p:nvPr/>
        </p:nvPicPr>
        <p:blipFill>
          <a:blip r:embed="rId1"/>
          <a:stretch/>
        </p:blipFill>
        <p:spPr>
          <a:xfrm>
            <a:off x="5562720" y="3754440"/>
            <a:ext cx="2871720" cy="1884240"/>
          </a:xfrm>
          <a:prstGeom prst="rect">
            <a:avLst/>
          </a:prstGeom>
          <a:ln w="0">
            <a:noFill/>
          </a:ln>
        </p:spPr>
      </p:pic>
      <p:sp>
        <p:nvSpPr>
          <p:cNvPr id="123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183D5044-1982-46DD-82F9-C9C7FD2AC2A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39" name=""/>
          <p:cNvSpPr txBox="1"/>
          <p:nvPr/>
        </p:nvSpPr>
        <p:spPr>
          <a:xfrm>
            <a:off x="364680" y="2285640"/>
            <a:ext cx="4133880" cy="25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h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erating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les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fit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ctory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4638240" y="2361960"/>
            <a:ext cx="4133880" cy="23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pense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isional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riable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lexible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xed budg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1" name="Text Box 4"/>
          <p:cNvSpPr/>
          <p:nvPr/>
        </p:nvSpPr>
        <p:spPr>
          <a:xfrm>
            <a:off x="304920" y="838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ypes of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D67BDF0D-DF9A-487B-BB87-DC52B1494CD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/>
          </p:nvPr>
        </p:nvSpPr>
        <p:spPr>
          <a:xfrm>
            <a:off x="533520" y="2819520"/>
            <a:ext cx="81532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 firm ow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 firm ear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 firm will bring in the mark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5" name="Text Box 3"/>
          <p:cNvSpPr/>
          <p:nvPr/>
        </p:nvSpPr>
        <p:spPr>
          <a:xfrm>
            <a:off x="533520" y="4572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e/Accoun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Text Box 4"/>
          <p:cNvSpPr/>
          <p:nvPr/>
        </p:nvSpPr>
        <p:spPr>
          <a:xfrm>
            <a:off x="533520" y="234324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ree Basic Approach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8679AD0B-A231-46E8-8606-A84709E853C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1"/>
          <p:cNvSpPr/>
          <p:nvPr/>
        </p:nvSpPr>
        <p:spPr>
          <a:xfrm>
            <a:off x="952560" y="914400"/>
            <a:ext cx="49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valuating Worth of a Busi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Text Box 2"/>
          <p:cNvSpPr/>
          <p:nvPr/>
        </p:nvSpPr>
        <p:spPr>
          <a:xfrm>
            <a:off x="53352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search &amp; Develop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19070CAC-2281-4F02-9344-1EE61D378F9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1"/>
          <p:cNvSpPr/>
          <p:nvPr/>
        </p:nvSpPr>
        <p:spPr>
          <a:xfrm>
            <a:off x="609480" y="22860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products and improvement of existing products that allow for effective strategy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15328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vel of support constrained by resource avail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ological improvements shorten product life cyc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Text Box 3"/>
          <p:cNvSpPr/>
          <p:nvPr/>
        </p:nvSpPr>
        <p:spPr>
          <a:xfrm>
            <a:off x="533520" y="457200"/>
            <a:ext cx="7162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search &amp; Develop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7DC7A424-89CC-4638-A14A-7789EC224BF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1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/>
          </p:nvPr>
        </p:nvSpPr>
        <p:spPr>
          <a:xfrm>
            <a:off x="533520" y="2895120"/>
            <a:ext cx="815328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rm to market new technological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novative imitator of successful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-cost producer of similar but less expensive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Text Box 3"/>
          <p:cNvSpPr/>
          <p:nvPr/>
        </p:nvSpPr>
        <p:spPr>
          <a:xfrm>
            <a:off x="533520" y="457200"/>
            <a:ext cx="71625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search &amp; Development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ree Major R&amp;D Approaches to Implement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9BA8C1B2-DE56-4460-8186-F7227E2A404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9" name="Slide Number Placeholder 5"/>
          <p:cNvSpPr/>
          <p:nvPr/>
        </p:nvSpPr>
        <p:spPr>
          <a:xfrm>
            <a:off x="2905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A4AAA1B7-C309-49DA-8795-0E5CED2A1D8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1"/>
          <p:cNvSpPr/>
          <p:nvPr/>
        </p:nvSpPr>
        <p:spPr>
          <a:xfrm>
            <a:off x="457200" y="1676520"/>
            <a:ext cx="78231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Nature of Strategy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nce/Accounting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arch &amp; Development (R&amp;D)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agement Information Systems (MIS)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Text Box 2"/>
          <p:cNvSpPr/>
          <p:nvPr/>
        </p:nvSpPr>
        <p:spPr>
          <a:xfrm>
            <a:off x="533520" y="4572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nagement Information Systems (MIS)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4B098D2F-FCE8-4344-A34B-B910407E621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2"/>
          <p:cNvSpPr/>
          <p:nvPr/>
        </p:nvSpPr>
        <p:spPr>
          <a:xfrm>
            <a:off x="533520" y="213372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is the basis for understanding the firm. It’s one of the most important factors differentiating successful from unsuccessful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/>
          </p:nvPr>
        </p:nvSpPr>
        <p:spPr>
          <a:xfrm>
            <a:off x="533520" y="2362320"/>
            <a:ext cx="81532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ormation collection, retrieval/ feedback , and sto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ing managers inform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ordination of activities among div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ow firm to reduce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IS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4"/>
          <p:cNvSpPr/>
          <p:nvPr/>
        </p:nvSpPr>
        <p:spPr>
          <a:xfrm>
            <a:off x="533520" y="838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s of 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49483232-756A-4561-A774-531B7E8BFDF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72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en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Footer Placeholder 4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Slide Number Placeholder 5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8-</a:t>
            </a:r>
            <a:fld id="{F7936426-CC88-4304-ADE7-E6EB5988F8BD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"/>
          <p:cNvSpPr txBox="1"/>
          <p:nvPr/>
        </p:nvSpPr>
        <p:spPr>
          <a:xfrm>
            <a:off x="456840" y="1295280"/>
            <a:ext cx="8381880" cy="190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200"/>
            </a:br>
            <a:r>
              <a:rPr b="1" i="1" lang="en-US" sz="2400" spc="-1" strike="noStrike">
                <a:solidFill>
                  <a:srgbClr val="f6861f"/>
                </a:solidFill>
                <a:latin typeface="Verdana"/>
              </a:rPr>
              <a:t>“</a:t>
            </a:r>
            <a:r>
              <a:rPr b="1" i="1" lang="en-US" sz="2400" spc="-1" strike="noStrike">
                <a:solidFill>
                  <a:srgbClr val="f6861f"/>
                </a:solidFill>
                <a:latin typeface="Verdana"/>
              </a:rPr>
              <a:t>The greatest strategy is doomed if it’s implemented badly.”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rnard Reiman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Text Box 4"/>
          <p:cNvSpPr/>
          <p:nvPr/>
        </p:nvSpPr>
        <p:spPr>
          <a:xfrm>
            <a:off x="53352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Implement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3"/>
          <p:cNvSpPr/>
          <p:nvPr/>
        </p:nvSpPr>
        <p:spPr>
          <a:xfrm>
            <a:off x="380880" y="3429000"/>
            <a:ext cx="8305920" cy="266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400" spc="-1" strike="noStrike">
                <a:solidFill>
                  <a:srgbClr val="f39b1c"/>
                </a:solidFill>
                <a:latin typeface="Verdana"/>
              </a:rPr>
              <a:t>“</a:t>
            </a:r>
            <a:r>
              <a:rPr b="1" i="1" lang="en-US" sz="2400" spc="-1" strike="noStrike">
                <a:solidFill>
                  <a:srgbClr val="f39b1c"/>
                </a:solidFill>
                <a:latin typeface="Verdana"/>
              </a:rPr>
              <a:t>Without planning and integrated studies for our investment projects, we certainly lose our competitive edge.”</a:t>
            </a:r>
            <a:r>
              <a:rPr b="1" i="1" lang="en-US" sz="2400" spc="-1" strike="noStrike">
                <a:solidFill>
                  <a:srgbClr val="f6861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dul Rahman Bin Ali Al Jeraisy Chairman, Al Jeraisy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F82C3C49-DA36-43ED-B4D0-659B33B67B3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Picture 6" descr=""/>
          <p:cNvPicPr/>
          <p:nvPr/>
        </p:nvPicPr>
        <p:blipFill>
          <a:blip r:embed="rId1"/>
          <a:srcRect l="0" t="0" r="0" b="4512"/>
          <a:stretch/>
        </p:blipFill>
        <p:spPr>
          <a:xfrm>
            <a:off x="341280" y="380880"/>
            <a:ext cx="8421840" cy="5337360"/>
          </a:xfrm>
          <a:prstGeom prst="rect">
            <a:avLst/>
          </a:prstGeom>
          <a:ln w="0">
            <a:noFill/>
          </a:ln>
        </p:spPr>
      </p:pic>
      <p:sp>
        <p:nvSpPr>
          <p:cNvPr id="113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73EA7E26-3370-4220-85D2-CA5C158193A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1"/>
          <p:cNvSpPr/>
          <p:nvPr/>
        </p:nvSpPr>
        <p:spPr>
          <a:xfrm>
            <a:off x="783360" y="5867280"/>
            <a:ext cx="738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Adapted from Fred R. David, “How Companies Define Their Mission,”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ng Range Plann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2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. 3 (June 1988) 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Text Box 9"/>
          <p:cNvSpPr/>
          <p:nvPr/>
        </p:nvSpPr>
        <p:spPr>
          <a:xfrm>
            <a:off x="685800" y="533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Nature of Strateg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B43EB9D8-EE1A-4975-AB5D-96719A2EF0F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2"/>
          <p:cNvSpPr/>
          <p:nvPr/>
        </p:nvSpPr>
        <p:spPr>
          <a:xfrm>
            <a:off x="685800" y="2133720"/>
            <a:ext cx="8077320" cy="18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y implementation means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ss than 10% of strategies formulated are successfully implemente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/>
          </p:nvPr>
        </p:nvSpPr>
        <p:spPr>
          <a:xfrm>
            <a:off x="685440" y="2743200"/>
            <a:ext cx="792468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ing to segment markets appropriate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ying too much for a new acqui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lling behind competition in R&amp;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recognizing benefit of computers in managing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Text Box 3"/>
          <p:cNvSpPr/>
          <p:nvPr/>
        </p:nvSpPr>
        <p:spPr>
          <a:xfrm>
            <a:off x="685800" y="5335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Nature of Strateg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15"/>
          <p:cNvSpPr/>
          <p:nvPr/>
        </p:nvSpPr>
        <p:spPr>
          <a:xfrm>
            <a:off x="609480" y="190512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sons for the low success rate of strategy imple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27A5398E-D996-48C2-9DA2-60D22D71C4A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/>
          </p:nvPr>
        </p:nvSpPr>
        <p:spPr>
          <a:xfrm>
            <a:off x="609480" y="2514600"/>
            <a:ext cx="792504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 goods &amp; services wel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ise needed working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e technologically sound goo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und informatio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Text Box 3"/>
          <p:cNvSpPr/>
          <p:nvPr/>
        </p:nvSpPr>
        <p:spPr>
          <a:xfrm>
            <a:off x="685800" y="533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Nature of Strategy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4"/>
          <p:cNvSpPr/>
          <p:nvPr/>
        </p:nvSpPr>
        <p:spPr>
          <a:xfrm>
            <a:off x="685800" y="211464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ys to successful Strategy Implement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4E2A2CE7-1004-4A6F-9549-AC8D6D00DB9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Text Box 3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rket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9 -</a:t>
            </a:r>
            <a:fld id="{E00AEFE1-729D-4FAC-96B3-AD57023DE04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1"/>
          <p:cNvSpPr/>
          <p:nvPr/>
        </p:nvSpPr>
        <p:spPr>
          <a:xfrm>
            <a:off x="533520" y="1828800"/>
            <a:ext cx="769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rketing variables affect success/failure of strategy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Default</cp:lastModifiedBy>
  <dcterms:modified xsi:type="dcterms:W3CDTF">2012-12-14T20:44:42Z</dcterms:modified>
  <cp:revision>425</cp:revision>
  <dc:subject/>
  <dc:title>Chapter 1  The Nature of Strategic Management</dc:title>
</cp:coreProperties>
</file>