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dt" idx="4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 type="ftr" idx="4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 type="sldNum" idx="4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D7A6-85CF-4C22-862C-050BEBC97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433E-F1A5-410B-BFFE-7E8847569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52FE-1FDF-408A-83AB-3B3036763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6ECA-A1A6-40CB-97BA-F49517398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E15E-1FCF-45CA-A1F1-3AD4B9D14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DF77F-B863-4BA3-9615-AD9660842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56F6-4BB8-455E-8985-7F261B2A6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4A08-11BB-4BB8-80A0-DAFA40765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3E22-B368-4879-B147-87A3B0C4A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AEE0-9201-40C2-9124-EDD6834D4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010D-F39A-4FAD-A918-F3524A5111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3ECA-F951-4461-8A70-1D208AB79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ED93-7978-4022-BA85-7B49F32A3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2886-6518-4A3F-98E0-DBC1E3884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48F1-6B15-4555-88AB-560B2EBFA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DFEB-5E51-40E7-AC82-90EE55D80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514EC-C546-40D9-82F8-47C56FE47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BABB-8E09-43C1-9DC0-4A838F0FD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DBE4-EEF8-4C4A-A8E6-A23EDD131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207C-1822-47B7-BDFB-A58CD4ADC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C66C-B95E-400F-B634-B8B199D0C5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D421-F107-4A4D-A261-B69B13B62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B0AE-1B31-43D7-B06E-F4F567F88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D314-AEC9-4278-989C-B6776441B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EEFF2-3E27-4C01-981E-DA78F3411F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19E87-E2FF-46D7-B4FE-45EDAD4ED23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A6CD45-653B-4106-83F5-6AE3A411857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0E6E80-A28F-4BC5-AE3E-3D8F6CC0F24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29E72B-1149-40A5-BFD7-62A4DD23BE3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C7D3BD-D60D-4763-92B1-DDED169ED09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C7CDD6-F441-443B-B48C-2E70F6FA66F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A3553B-FDA9-43EE-9012-645C17638F6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4487A4-BAEE-49C4-9D7B-AAB39708A9B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90F56F-6CF0-4903-A324-9A71EA32E57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76F5CE-F468-4AA7-B64D-CC0C2EC9CE7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5BB73-59AE-47FA-9F7D-D0C1E1B1BEF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F2FAD-D567-41F9-9D58-6C1A85EF92D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78DA50-69CF-430A-9098-4947EE42550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BE4172-2B4D-4E42-9732-7276FF1AB2C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DF9660-2448-4B13-8384-90044E6A72F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6A5828-9E5C-4B88-8312-B76E45406DE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16449D-1D49-43C4-A003-668576C8622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C03E4D-1292-4352-802E-079C22553E69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5824D3-3A3A-4DCF-9464-91C84F291C0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EBF630-EBA8-47F4-BF52-BA9DA218E98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67916A-3BB4-436E-BA4A-84B4FE9FA1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76DAD0-1C51-4BC7-958C-3DF221F868C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DBF074-79F8-4608-83DE-1FF32AC5285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537D66-B9D2-4F37-B8B9-5DFB68BE64EF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4A1D0E-DC6A-4CD4-B8BE-77C5F8DBD29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3AF7D-A96B-4BD1-A839-8679660F3D1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DD47E-A4D7-44B2-9B05-154C4EDBBE0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7E454-F886-4389-A425-D3DDD31DB5D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D84E1-9FEA-4350-9A8A-83B6FD7CF72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E5909-3843-4EE5-AFA6-0E8435303F3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84847-0A3C-4A64-A226-71649D6700E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A612B-9AAF-4AAC-8BA0-03FE76F06EC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6D6EF-549D-4DA9-BCD7-734C6655C9F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9EC27-6E75-4038-8E20-5138E46D2B7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4C5301-7B29-44E5-BAAE-EA52FC83E54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1A360-2638-49A5-B7EE-6146B5A9D42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FD2C6-2D25-48B4-A369-09865A5DF6F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9C80E-C800-40D2-8D7D-92AE27760EC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6F97E1-962E-41ED-8F61-01EE3FF6C43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4EEDBA-2D42-4906-9AE2-14CE2900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67763-8F7E-4615-9FFF-BA6EE24C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C396F-5BA2-4474-9EA5-14DE5CAD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5469A-C524-444B-9E40-F1F2F001BEA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B39C2-DFC8-4F7F-B1EC-9F036AE2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1B7EB-3BE1-46E7-AB5E-74C5D3DA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53920-2017-45DA-B0E0-C84C44DE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4AE05-CDF9-4F93-8BDA-74D1FBEF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577E9-B1EE-42EA-94CA-906B5489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0FBFE-1659-42E4-A799-5A470DB4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C3C36-8073-4166-B0CC-8628F7C5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4D48E-4D50-4CE6-850B-74E8F79F6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1E9C9-19D3-4E96-AAED-5450C444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588B2B-524A-417C-8CA7-B9C042702DC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43B4DF-1DD2-403A-914F-AA56EF7EECD1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2BC564-50D9-4EEF-B770-9721B0609635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F66BCF-C4D1-4E22-BF32-AACF5A661F0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9E618C-2A92-4C6E-A9E3-715E23CDA19B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38908C-53EB-49B1-8D2A-369CBE89BA55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F49062-12B1-4FEA-B1A1-6817438302E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C41FA3-3931-4570-8A0A-252A0E4C352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FBF3BC-D7E8-4134-93F2-2396FC83972E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51475E-6BD6-4D9C-832A-4737B20FEA3D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4FB250-AECB-4EBB-926E-43FAD39DD1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445BD-F69C-4702-80C6-40B891D98ECF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49A176-ECE7-496A-BECC-A78CA170FFB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5B1FB2-7F3F-47A5-BEA9-D61D42E4DD4D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C40248-8D6C-4953-AE87-821C8A9295D1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9A9BF-F244-4FA5-8CAF-74E5F073A3D2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76C9E-17A4-4220-89E3-C05FA7787939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BCBDF-2E94-4A5B-80C4-AB5718DFB3E9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E573E-B934-4E57-B5ED-C687CFE9E356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4D883-335E-425F-95DA-625BF790A4DF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1C1B2-A69B-48F1-85E1-01B04ECAAFE0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43A8E-8A52-4F54-9326-6C353A56B6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817DF-2308-49F8-B7AD-674D6CE1DA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C9B1E-A1A9-4492-BD71-E7AFB4216632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E4DA1-D2C7-4DEA-852C-EEE213EE05EE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A2D9A-A2D3-462A-81E5-55932C8DF823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7F11F-2FCC-4019-974C-E57667FE8FB1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45773-2399-431C-B400-75A9E8EFAB1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9726C-23EA-4BB5-B194-0BF10AA90D16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425108-C8AC-49FE-83B5-2948382D48B3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17309B-17D3-49CA-B098-F19CCE53A612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DAECA6-D84F-4EF3-8D0B-2684D3C5E653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855D98-F903-4DCC-9DE2-D75A5FD74E01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B55801-D63F-4F9F-981D-F99BC8E834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F2001-64E7-4539-B712-04FB1898AF9D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004921-022A-4153-8086-1F26C824AA64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1A955E-D16B-47A9-821E-71F9ED7CB4A3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5EBA9D-2F2C-4185-8E3E-FE6B1C3DF2E3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704A64-A360-4C01-A855-E777C78E072D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EFCBFC-B3AC-4DDD-854A-14F13AD50564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0451A5-06F9-4F18-A65A-4E2BD7D20DDC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B74E83-236A-4F1E-9C2F-C7793FFA16A5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B3BFE1-DDB8-407B-9C88-E4608C344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B50160-D493-4088-8156-87A5E906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16BA65-BA35-4987-8899-2F682B0B6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5CCAC-6CFC-4DA4-9D16-97582DB5844C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DD6C43-F711-4CCC-9324-CAC33F16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F10FB-5D4F-4FFA-AD56-BBA5A8A2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08017-390A-479D-ADBD-254BE6C5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F4238F-F0D1-45A7-B90D-80CB07D8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76EB5-A528-4B1A-9830-CDDB6AA3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678F2-D5BD-4921-8BA3-74716712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86628-3A27-45C7-90FC-507F1CC9B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21DAD-CE4B-4EE7-839C-04403AAC2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4E5AC4-F852-4F1C-B84D-E3FD49EB2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4D56F-48CF-47BD-9FD6-73B46D448020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8B607-43E8-4D5A-90B3-877564D4694F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F52161F-5EFE-400E-8423-238607DD0425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8943A2F-EE43-44E6-95AC-1C5DEB7B02F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94C1A65-62D9-4272-8DB9-4D726516A681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9559A92-DB78-4FA9-9431-139101B10343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58B497F-D801-4FA0-89F4-D1D50F3D4DD5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3DF2E11-6334-4AE5-BBF6-F7F9BFBC9797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647F62E-3D63-4B6E-8DC5-6C1F3CE493AF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85E41D7-06C2-46A7-95A3-AACB161AA7A2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B1BFD1C-7ACB-4FC7-8859-10410398A91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AC71E-C365-4C83-9878-38C89C601E80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D29995E-D112-4360-A86C-48BE4A447C69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CE1F1AA-A1AD-4063-81B0-68FBCD1C7A71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7D4AB68-687B-4918-B86D-9DC5BC4D5C57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C8F02-FEBD-48D8-A263-513FC2638C98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F9772-925A-4B36-8484-37CA30CD94BF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5F0362-EA88-40F6-8439-605A9FC9B26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2E415-F66F-464A-84BA-3561F52BD0D5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5E620-E845-4EB5-AFD2-D0A4659C2F18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0B8F03-DF88-4328-9CB6-FAEA8851BD40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7A5D59-EC85-45A4-9DE6-F837E0CE096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E5020-C6F4-4D80-9AF9-C2E1A617F1FB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25C2F-91CB-4158-8F63-610EBF5910D2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B3D62-D395-413B-86F5-7062B190BE96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0A96E9-2E2C-48AC-A16C-EBDE1ED4942F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F7CD5-1FB7-4111-B793-76406F2C9909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D4CCB-F8DE-4775-8D6A-72D80A6A1F5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3DE5E0-31AA-4228-8DAE-34889C9FEE3E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FAC974-0CBB-4975-8323-8F815A7E061A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B58BBF-EE51-45C5-90AA-E8CD6885B3E8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D262FC-F992-4B77-8A80-34667B86AF1D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46996-170F-42B2-8298-8A872A9D13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7D855-7A71-4DDE-A7E6-F1310F992E3D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916A5A-962D-4B4A-97F7-6A79A9BEB9C6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F57271-D4C3-4EEB-AF98-B9054F2D8928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B5D97A-1551-4AD9-AB5D-AB10DA41B463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ED9F5A-88A0-4F19-AFA1-A3931A6D8E1C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B7367-E09B-4724-BB26-F6C7F6CFB925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D34D5C-98D3-498B-9425-C1CAA72ACDC2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1F8FA8-45E3-429E-9EC6-35A8315B77E7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2046C41-7A8C-4C8F-A598-C2EA8F76EC41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A058FAB-21C5-4C09-890B-3742DB996D76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61C6D8-7796-4C18-A1C8-D9CF2B1D99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0E5E0-6540-4259-8921-35E1A2F31F79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621DB86-D2E3-4E86-AA75-AB366B3038D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C2A82FE-AD5E-40AB-85D3-EA091ADC8008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A36FB8-5FC2-4C68-BFB8-6216B76DBD8F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1F9849-DD50-416A-8ED1-455F205B75BD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A8B45A-0FC9-4FA6-84F2-9EF7A419371A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559B66F-D107-4A7C-8C26-4430F32BD96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D868FF-B3B1-44DF-A52C-894A23A3FA60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3EA710-7808-494E-9BD4-2F1698CB0E96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07EAF6-C27F-4CE7-AD89-FD9EC43D0FA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E9AC053-9873-46F0-BBB4-09768B3B829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704C0-D83A-405A-9997-68801D8C65D9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172D208-F91C-4759-8095-E7A92C89883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3BDEFA0-8D8D-409C-AB90-5AF54402DA13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C97FDC4-E9E8-4D39-8A9A-A4C4323D8FA8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228AE14-E946-43E3-8B57-9CC9E44A5DA9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9F2CB99-1BFB-4F25-8A44-DEE0B3A19C9C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51EE655-6AF6-4D95-8F0E-9F3625695FED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CB7D2E4-8FB7-4B42-80E8-5919F44E203C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07A9AFC-7B9D-4A3A-B892-4426442F5078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F46A901-FBDD-4BFD-BD44-80C312B819B6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C96EA25-0074-42F1-8ADE-6141840B73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91959-E735-4EB9-8161-68A8BFD8EED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1F8A9-A63C-447F-8CC4-99CD52FEFDAD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C07D2D8-DAE3-41A9-AD4D-798CA5990F60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1D684D4-D902-475A-AAD1-3677BF1DC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F5BCA4D-4A81-456B-A05E-578D8437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389E873-7527-4E1E-BAF5-2B940794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7A9DE6B-237F-4711-B202-29B8CE76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DB715CD-E102-4351-939A-A9AA214F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6BF855E-5903-4EFD-B23D-E23B827A2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23A82EA-E70A-47BD-BE06-3DD04EBD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D0A47E9-BDC3-49A8-A17B-ACFF4A90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EE28FC5-3081-41E4-AF60-BA89EBA38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DD161-4740-45A6-B949-D3643051734E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27C1169-BB41-48FB-8583-561901D4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EA02FD0-C797-48EE-89D2-D9EB12E34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0A7A20F-A925-404E-9692-259DF1C3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94805-6B36-454B-8A7D-405BF7706D1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76BE6-64E2-4BC9-B841-941C62508FD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D1032-D594-453F-9873-EAE3F91A3F3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B581A-F8F5-4669-810B-EE498852E40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B06A9-13FA-46E2-BA99-C627B1FF750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11D98B-807E-4F61-A1F5-996EB16B1A8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DB0DA9-0D45-46C1-BC70-2E14DB1DAA6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AA37B1-D370-4241-AB48-CEEE918C49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8D6E3-9B11-41D7-80EF-E3D9FC841D0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70B1DE-9810-44AC-85AB-C0340C1F393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8A605F-69A2-4E2D-A3F4-668D4C357BA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2E786C-EA41-499D-A5DD-AF6B973E2B6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26655B-0DAB-4FCF-93FA-6BDE09E7F62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1D922E-8E26-4132-A73B-06EB402A352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110ADD-5725-4A66-9952-19C733FA5E1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DD0096-1837-4549-8106-B686F75156C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257ADE-3BEF-498F-9F7B-5E266D16925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03826D-4C1C-473E-A93E-CF32AFC8F36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4C73D-29AB-4782-B988-FD7298F9E68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0A62A-6737-4A02-B6B9-B366B4AA673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1837C1-5649-4477-9219-629346D6399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C8B1DD-0047-438D-A536-FB3494CE76F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36CC9B-A194-4DCE-B78A-8D7571B3641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15569A-0C2D-4A39-A026-0DBF1475546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BFCDF0-6987-4974-840A-9F5F56398C1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91F503-C41F-475B-A06B-E97AB715486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B3B74B-071F-44AD-8DC0-1DDBE4EEFF0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E0E966-0B42-4B8C-AFFF-34D0BB93C8B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B6EBAA-E818-446E-BF8D-AAF7337C00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DF78B-F1CD-4AEE-A9B9-4BF3CF33723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43D8A2-C03E-4C8E-9715-E378ED66832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D6F7BC-F40C-42A9-A4C1-5DAE420E6D9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301154-41E4-4BFD-AFCA-1D874AE9384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84E19-9818-4B42-A473-260776FDA6B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8999E-EBD1-407D-A734-B7E894CD171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0E25B-B908-4E3A-84CE-E553AE148BA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F52E5-AF24-4D60-82F3-8745561D7B4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70EB3-B00B-41F8-95E4-0D8692C9954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3FDB4-5804-4CAE-A511-B9EB28D7A11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4B4CB-2538-404F-A667-94DA6EF210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E6591-84FD-4EC4-9C74-7DC21AA6511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226DD-7CC1-4294-B8DE-47A824B1B27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0D7C5-DAAC-41EF-9575-EA52586F464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07640-404B-4CE6-B787-FE156762422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345E9-265F-4AB7-A1DE-3859A747F91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9EFE7-B029-49A8-B56A-C0E13657752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1C7A5-119B-428A-ABED-E3AB3262A36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AA48F5-52DE-4E37-9125-0D93CDC391E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8ADA76-E275-41A9-8C55-2865B49C537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E065A3-6E77-4AB0-9261-316CE97CC3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Ch 9-</a:t>
            </a:r>
            <a:fld id="{3B80CDE0-7993-4044-AFF2-44782FFEF8B1}" type="slidenum"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Copyright © 2009 Pearson Education, In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384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6b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321600" y="-29226240"/>
            <a:ext cx="265896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21000"/>
          </a:bodyPr>
          <a:p>
            <a:pPr marL="33840" indent="-33840" algn="r"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1" marL="74520" indent="-36360" algn="r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2" marL="113400" indent="-34560" algn="r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3" marL="170640" indent="-38520" algn="r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4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5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6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Line 7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15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16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8997-B5A8-40A9-90F5-9B3C3FED3A4A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22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9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558180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364680" y="3562200"/>
            <a:ext cx="558180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42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78560" indent="65232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24880" indent="-183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17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18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B582-F637-433F-AA6F-05971974E0CA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17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471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558180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364680" y="3562200"/>
            <a:ext cx="558180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42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78560" indent="65232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24880" indent="-183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0" name="Line 14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5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16" descr="Pearson_Strap_Bound_White"/>
          <p:cNvPicPr/>
          <p:nvPr/>
        </p:nvPicPr>
        <p:blipFill>
          <a:blip r:embed="rId2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7" descr="Pearson_Bound_White"/>
          <p:cNvPicPr/>
          <p:nvPr/>
        </p:nvPicPr>
        <p:blipFill>
          <a:blip r:embed="rId3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2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pyright 2005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9C8F-65D8-4558-9C67-6E30B760343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7" descr="Pearson_Bound_White"/>
          <p:cNvPicPr/>
          <p:nvPr/>
        </p:nvPicPr>
        <p:blipFill>
          <a:blip r:embed="rId2"/>
          <a:stretch/>
        </p:blipFill>
        <p:spPr>
          <a:xfrm>
            <a:off x="7783560" y="6496200"/>
            <a:ext cx="1190520" cy="223560"/>
          </a:xfrm>
          <a:prstGeom prst="rect">
            <a:avLst/>
          </a:prstGeom>
          <a:ln w="0">
            <a:noFill/>
          </a:ln>
        </p:spPr>
      </p:pic>
      <p:sp>
        <p:nvSpPr>
          <p:cNvPr id="594" name="Line 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9" descr="Always_Learning_Text_Orange_RGB"/>
          <p:cNvPicPr/>
          <p:nvPr/>
        </p:nvPicPr>
        <p:blipFill>
          <a:blip r:embed="rId3"/>
          <a:stretch/>
        </p:blipFill>
        <p:spPr>
          <a:xfrm>
            <a:off x="1262160" y="2330280"/>
            <a:ext cx="6610320" cy="172728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10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13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4" descr="Pearson_Bound_White"/>
          <p:cNvPicPr/>
          <p:nvPr/>
        </p:nvPicPr>
        <p:blipFill>
          <a:blip r:embed="rId5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sldNum" idx="22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9-</a:t>
            </a:r>
            <a:fld id="{DCE70DC0-4200-498F-B2E1-9C80C290FF18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23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sldNum" idx="24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9-</a:t>
            </a:r>
            <a:fld id="{16D9176B-FD7E-46F8-8EAD-6D648F2763A9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25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sldNum" idx="26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9-</a:t>
            </a:r>
            <a:fld id="{551F59B6-D008-41D8-82E1-1E2E69EC2E71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ftr" idx="27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2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pyright 2005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447E-AF41-43DE-BC0F-7A5B3747526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9-</a:t>
            </a:r>
            <a:fld id="{63EF20A2-598B-40CA-859A-59F63F30EB23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7" descr="Pearson_Bound_White"/>
          <p:cNvPicPr/>
          <p:nvPr/>
        </p:nvPicPr>
        <p:blipFill>
          <a:blip r:embed="rId2"/>
          <a:stretch/>
        </p:blipFill>
        <p:spPr>
          <a:xfrm>
            <a:off x="7783560" y="6496200"/>
            <a:ext cx="1190520" cy="223560"/>
          </a:xfrm>
          <a:prstGeom prst="rect">
            <a:avLst/>
          </a:prstGeom>
          <a:ln w="0">
            <a:noFill/>
          </a:ln>
        </p:spPr>
      </p:pic>
      <p:sp>
        <p:nvSpPr>
          <p:cNvPr id="810" name="Line 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Picture 9" descr="Always_Learning_Text_Orange_RGB"/>
          <p:cNvPicPr/>
          <p:nvPr/>
        </p:nvPicPr>
        <p:blipFill>
          <a:blip r:embed="rId3"/>
          <a:stretch/>
        </p:blipFill>
        <p:spPr>
          <a:xfrm>
            <a:off x="1262160" y="2330280"/>
            <a:ext cx="6610320" cy="1727280"/>
          </a:xfrm>
          <a:prstGeom prst="rect">
            <a:avLst/>
          </a:prstGeom>
          <a:ln w="0">
            <a:noFill/>
          </a:ln>
        </p:spPr>
      </p:pic>
      <p:sp>
        <p:nvSpPr>
          <p:cNvPr id="812" name="Rectangle 10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Picture 13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4" descr="Pearson_Bound_White"/>
          <p:cNvPicPr/>
          <p:nvPr/>
        </p:nvPicPr>
        <p:blipFill>
          <a:blip r:embed="rId5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sldNum" idx="31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26208E04-B321-40F6-8F98-23B242451CC9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32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33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E063E767-BFA6-494E-BE58-5B131A988ACF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ftr" idx="34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0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ftr" idx="35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9 Pearson Education, In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ing as Prentice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sldNum" idx="36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 1 -</a:t>
            </a:r>
            <a:fld id="{1CCB015A-FF8C-471A-AF18-2041D1F33C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3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ftr" idx="37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9 Pearson Education, In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ing as Prentice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sldNum" idx="38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 1 -</a:t>
            </a:r>
            <a:fld id="{2A8787AC-0F08-4346-8568-4EC93CEAEC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6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ftr" idx="39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9 Pearson Education, In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ing as Prentice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sldNum" idx="40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 1 -</a:t>
            </a:r>
            <a:fld id="{694B0718-F1DC-45D9-B170-FAD48404EF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4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4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pyright 2005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4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7DC2-5F9E-4B79-BF34-E66488C67D1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5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Ch 3 -</a:t>
            </a:r>
            <a:fld id="{5E0BDBCB-8E40-457F-8317-80D7A4203378}" type="slidenum"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Copyright © 2009 Pearson Education, In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7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8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EAAC214E-101C-4F94-880B-CE57CCA4FA04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173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6b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321600" y="-29226240"/>
            <a:ext cx="265896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21000"/>
          </a:bodyPr>
          <a:p>
            <a:pPr marL="33840" indent="-33840" algn="r"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1" marL="74520" indent="-36360" algn="r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2" marL="113400" indent="-34560" algn="r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3" marL="170640" indent="-38520" algn="r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4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5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6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Line 7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9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0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447F-057A-4369-BEFC-DFE59D0AA19C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22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9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558180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364680" y="3562200"/>
            <a:ext cx="558180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42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78560" indent="65232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24880" indent="-183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11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2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B870-6AC6-4E86-A626-2DAD5F378060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17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260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558180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64680" y="3562200"/>
            <a:ext cx="558180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42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78560" indent="65232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24880" indent="-183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99" name="Line 14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6" descr="Pearson_Strap_Bound_White"/>
          <p:cNvPicPr/>
          <p:nvPr/>
        </p:nvPicPr>
        <p:blipFill>
          <a:blip r:embed="rId2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7" descr="Pearson_Bound_White"/>
          <p:cNvPicPr/>
          <p:nvPr/>
        </p:nvPicPr>
        <p:blipFill>
          <a:blip r:embed="rId3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13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Ch 2 -</a:t>
            </a:r>
            <a:fld id="{15A8A9B5-877E-471D-B378-50320CE076B8}" type="slidenum"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4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Copyright © 2009 Pearson Education, In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8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8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checkmateplan/" TargetMode="External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Picture 2" descr="Always_Learning_Text_Orange_RGB"/>
          <p:cNvPicPr/>
          <p:nvPr/>
        </p:nvPicPr>
        <p:blipFill>
          <a:blip r:embed="rId1"/>
          <a:stretch/>
        </p:blipFill>
        <p:spPr>
          <a:xfrm>
            <a:off x="1262160" y="2330280"/>
            <a:ext cx="6610320" cy="1727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Slide Number Placeholder 5"/>
          <p:cNvSpPr/>
          <p:nvPr/>
        </p:nvSpPr>
        <p:spPr>
          <a:xfrm>
            <a:off x="304920" y="655308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1 -</a:t>
            </a:r>
            <a:fld id="{13444D1D-0289-4140-93C6-3935A7825CC6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533520" y="460440"/>
            <a:ext cx="80769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y Review, Evaluation, and Contro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66" name=""/>
          <p:cNvSpPr txBox="1"/>
          <p:nvPr/>
        </p:nvSpPr>
        <p:spPr>
          <a:xfrm>
            <a:off x="533520" y="2133360"/>
            <a:ext cx="822960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sistency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ategy should not present inconsistent goals &amp; poli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Slide Number Placeholder 5"/>
          <p:cNvSpPr/>
          <p:nvPr/>
        </p:nvSpPr>
        <p:spPr>
          <a:xfrm>
            <a:off x="290520" y="6524640"/>
            <a:ext cx="852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1 -</a:t>
            </a:r>
            <a:fld id="{10877E3D-8A9A-4CDF-B8C7-91E8C3045B28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33160" y="460440"/>
            <a:ext cx="78483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y Review, Evaluation, and Contro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70" name=""/>
          <p:cNvSpPr txBox="1"/>
          <p:nvPr/>
        </p:nvSpPr>
        <p:spPr>
          <a:xfrm>
            <a:off x="457200" y="2514240"/>
            <a:ext cx="830592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herence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herence refers to                    the need for strategies to examine sets of tre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Slide Number Placeholder 5"/>
          <p:cNvSpPr/>
          <p:nvPr/>
        </p:nvSpPr>
        <p:spPr>
          <a:xfrm>
            <a:off x="290520" y="6524640"/>
            <a:ext cx="852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1 -</a:t>
            </a:r>
            <a:fld id="{82BF0538-7FA3-4CF9-9527-8FE4182B748D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3" name="Straight Arrow Connector 6"/>
          <p:cNvCxnSpPr/>
          <p:nvPr/>
        </p:nvCxnSpPr>
        <p:spPr>
          <a:xfrm>
            <a:off x="3123720" y="3123720"/>
            <a:ext cx="1600920" cy="1080"/>
          </a:xfrm>
          <a:prstGeom prst="straightConnector1">
            <a:avLst/>
          </a:prstGeom>
          <a:ln w="38160">
            <a:solidFill>
              <a:srgbClr val="ed6b0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07696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y Review, Evaluation, and Contro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75" name=""/>
          <p:cNvSpPr txBox="1"/>
          <p:nvPr/>
        </p:nvSpPr>
        <p:spPr>
          <a:xfrm>
            <a:off x="533520" y="2361960"/>
            <a:ext cx="82296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easibility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trategy must neither overtax resources or create unsolvable sub-probl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6" name="Slide Number Placeholder 5"/>
          <p:cNvSpPr/>
          <p:nvPr/>
        </p:nvSpPr>
        <p:spPr>
          <a:xfrm>
            <a:off x="290520" y="6524640"/>
            <a:ext cx="852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1 -</a:t>
            </a:r>
            <a:fld id="{122BB039-EC4D-4DB2-8DBB-1583E7104088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533520" y="460440"/>
            <a:ext cx="81532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y Review, Evaluation, and Contro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79" name=""/>
          <p:cNvSpPr txBox="1"/>
          <p:nvPr/>
        </p:nvSpPr>
        <p:spPr>
          <a:xfrm>
            <a:off x="380880" y="2133360"/>
            <a:ext cx="838224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dvantage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trategy must provide for the creation or maintenance of competitive advantag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0" name="Slide Number Placeholder 5"/>
          <p:cNvSpPr/>
          <p:nvPr/>
        </p:nvSpPr>
        <p:spPr>
          <a:xfrm>
            <a:off x="290520" y="6524640"/>
            <a:ext cx="852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1 -</a:t>
            </a:r>
            <a:fld id="{60DB3B03-01CF-47A0-93FB-18A1893FB2CA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33160" y="460440"/>
            <a:ext cx="80010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y Review, Evaluation, and Contro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fficulties in Strategy Evaluation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457200" y="1371600"/>
            <a:ext cx="82296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e in environment’s complex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ing number of vari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te of obsolescence of pla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mestic and global ev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reasing time span for planning certain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4" name="Slide Number Placeholder 5"/>
          <p:cNvSpPr/>
          <p:nvPr/>
        </p:nvSpPr>
        <p:spPr>
          <a:xfrm>
            <a:off x="290520" y="6524640"/>
            <a:ext cx="852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1 -</a:t>
            </a:r>
            <a:fld id="{947A330E-8A4D-4B31-ACAE-EE0FC743F357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A Strategy-Evaluation Framework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view of Underlying Bases of Strategy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457200" y="2590560"/>
            <a:ext cx="822960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 revised EFE Matr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 revised IFE Matr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Slide Number Placeholder 5"/>
          <p:cNvSpPr/>
          <p:nvPr/>
        </p:nvSpPr>
        <p:spPr>
          <a:xfrm>
            <a:off x="290520" y="6524640"/>
            <a:ext cx="852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1 -</a:t>
            </a:r>
            <a:fld id="{FC110B53-7723-41C1-B1D0-C0C075B904C0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533160" y="460080"/>
            <a:ext cx="800100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view Effectiveness of Strategy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533520" y="1600200"/>
            <a:ext cx="82296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571680" indent="-5716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etitors’ reaction to strate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etitors’ change in strate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etitors’ changes in strengths &amp; weakness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5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sons for competitors’ strategic chan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5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sons for competitors’ successful strateg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5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etitors’ present market positions &amp; profita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5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tential for competitor retali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5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tential for cooperation with competi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2" name="Slide Number Placeholder 5"/>
          <p:cNvSpPr/>
          <p:nvPr/>
        </p:nvSpPr>
        <p:spPr>
          <a:xfrm>
            <a:off x="290520" y="6524640"/>
            <a:ext cx="852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1 -</a:t>
            </a:r>
            <a:fld id="{2F206583-BBC6-46C5-B83D-CA842CC0392F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33520" y="460080"/>
            <a:ext cx="822960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onitor Strengths &amp; Weaknesses; Opportunities &amp; Threats</a:t>
            </a:r>
            <a:br>
              <a:rPr sz="2400"/>
            </a:b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533520" y="1676160"/>
            <a:ext cx="82296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e strengths still strength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ve we added additional strength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e weaknesses still weakness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ve we developed other weakness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e opportunities still opportunitie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e there any other opportunities develop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e threats still threat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e there any other threats emerge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6" name="Slide Number Placeholder 5"/>
          <p:cNvSpPr/>
          <p:nvPr/>
        </p:nvSpPr>
        <p:spPr>
          <a:xfrm>
            <a:off x="290520" y="6524640"/>
            <a:ext cx="852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1 -</a:t>
            </a:r>
            <a:fld id="{C9775B92-A967-4B86-B012-DF2D5F4EC709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3160" y="383760"/>
            <a:ext cx="8001000" cy="9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99" name=""/>
          <p:cNvSpPr txBox="1"/>
          <p:nvPr/>
        </p:nvSpPr>
        <p:spPr>
          <a:xfrm>
            <a:off x="533520" y="2514600"/>
            <a:ext cx="82296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re expected to actual resul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stigate deviations from pl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aluate individual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gress toward stated objec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0" name="Text Box 4"/>
          <p:cNvSpPr/>
          <p:nvPr/>
        </p:nvSpPr>
        <p:spPr>
          <a:xfrm>
            <a:off x="457200" y="8380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easuring Organizational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Slide Number Placeholder 5"/>
          <p:cNvSpPr/>
          <p:nvPr/>
        </p:nvSpPr>
        <p:spPr>
          <a:xfrm>
            <a:off x="290520" y="6524640"/>
            <a:ext cx="852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1 -</a:t>
            </a:r>
            <a:fld id="{9938620A-225D-49E5-ABFA-E94EF7BEF143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33160" y="384120"/>
            <a:ext cx="80010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Quantitative Criteria for Strategy Evaluation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04" name=""/>
          <p:cNvSpPr txBox="1"/>
          <p:nvPr/>
        </p:nvSpPr>
        <p:spPr>
          <a:xfrm>
            <a:off x="609480" y="2514600"/>
            <a:ext cx="822960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ancial Rat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re performance over different peri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re performance to competitors’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re performance to industry aver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9880" indent="-49536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5" name="Slide Number Placeholder 5"/>
          <p:cNvSpPr/>
          <p:nvPr/>
        </p:nvSpPr>
        <p:spPr>
          <a:xfrm>
            <a:off x="290520" y="6524640"/>
            <a:ext cx="852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1 -</a:t>
            </a:r>
            <a:fld id="{CDAF6FEE-C417-47BB-B968-11A61A8E8515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84740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d6b06"/>
                </a:solidFill>
                <a:latin typeface="Verdana"/>
              </a:rPr>
              <a:t>Strategic Management: Concepts and Cases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340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Arab World Ed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red R. Dav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bbas J. 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bdulrahman Y. Al-A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Chapter 11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Strategy Review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Evaluation and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4" name="Picture 4" descr="CVR_STMA_SB_ARW_5674_CVR"/>
          <p:cNvPicPr/>
          <p:nvPr/>
        </p:nvPicPr>
        <p:blipFill>
          <a:blip r:embed="rId1"/>
          <a:stretch/>
        </p:blipFill>
        <p:spPr>
          <a:xfrm>
            <a:off x="5410080" y="1523880"/>
            <a:ext cx="2874960" cy="4138560"/>
          </a:xfrm>
          <a:prstGeom prst="rect">
            <a:avLst/>
          </a:prstGeom>
          <a:ln w="0">
            <a:noFill/>
          </a:ln>
        </p:spPr>
      </p:pic>
      <p:sp>
        <p:nvSpPr>
          <p:cNvPr id="1125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Slide Number Placeholder 5"/>
          <p:cNvSpPr/>
          <p:nvPr/>
        </p:nvSpPr>
        <p:spPr>
          <a:xfrm>
            <a:off x="304920" y="655308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1 -</a:t>
            </a:r>
            <a:fld id="{7847EB1C-72A4-472C-B77F-13430F027DF1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3160" y="384120"/>
            <a:ext cx="79246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Qualitative Evaluation of Strategy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533520" y="2057400"/>
            <a:ext cx="822960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nal consistency of strate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stency with enviro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eptable degree of ris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ropriate time fr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ability of the strate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39880" indent="-49536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9" name="Slide Number Placeholder 5"/>
          <p:cNvSpPr/>
          <p:nvPr/>
        </p:nvSpPr>
        <p:spPr>
          <a:xfrm>
            <a:off x="290520" y="6524640"/>
            <a:ext cx="852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1 -</a:t>
            </a:r>
            <a:fld id="{AF34F609-A43E-44D7-BF98-A4C329A87CDA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3160" y="384120"/>
            <a:ext cx="792468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533520" y="2514240"/>
            <a:ext cx="822960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ing changes to competitively reposition a firm for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eping organization on track toward achieving stated objec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Text Box 4"/>
          <p:cNvSpPr/>
          <p:nvPr/>
        </p:nvSpPr>
        <p:spPr>
          <a:xfrm>
            <a:off x="457200" y="7621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aking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Slide Number Placeholder 5"/>
          <p:cNvSpPr/>
          <p:nvPr/>
        </p:nvSpPr>
        <p:spPr>
          <a:xfrm>
            <a:off x="290520" y="6524640"/>
            <a:ext cx="852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1 -</a:t>
            </a:r>
            <a:fld id="{F3795376-7B41-4A2D-BE0F-FEE2E3E10198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Text Box 7"/>
          <p:cNvSpPr/>
          <p:nvPr/>
        </p:nvSpPr>
        <p:spPr>
          <a:xfrm>
            <a:off x="533520" y="8380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Balanced Score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Slide Number Placeholder 5"/>
          <p:cNvSpPr/>
          <p:nvPr/>
        </p:nvSpPr>
        <p:spPr>
          <a:xfrm>
            <a:off x="290520" y="6524640"/>
            <a:ext cx="852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1 -</a:t>
            </a:r>
            <a:fld id="{E5B7A77F-7BF0-4B37-913C-3196064C049D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Rectangle 1"/>
          <p:cNvSpPr/>
          <p:nvPr/>
        </p:nvSpPr>
        <p:spPr>
          <a:xfrm>
            <a:off x="533520" y="2274840"/>
            <a:ext cx="822960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aluate strategies from 4 perspecti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355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Financial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355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ustomer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355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Internal business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355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Learning &amp;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533520" y="384120"/>
            <a:ext cx="8076960" cy="6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haracteristics of Strategy Evaluation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21" name=""/>
          <p:cNvSpPr txBox="1"/>
          <p:nvPr/>
        </p:nvSpPr>
        <p:spPr>
          <a:xfrm>
            <a:off x="533160" y="1371600"/>
            <a:ext cx="830556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Strategy evaluation must meet several basic requirements to be effective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conomic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aningfu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enerates useful infor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vides accurate picture of eve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tion-orient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Slide Number Placeholder 5"/>
          <p:cNvSpPr/>
          <p:nvPr/>
        </p:nvSpPr>
        <p:spPr>
          <a:xfrm>
            <a:off x="290520" y="6524640"/>
            <a:ext cx="852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1 -</a:t>
            </a:r>
            <a:fld id="{27A43E30-E6FC-4BAB-8CD1-124476CDF744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2"/>
          <p:cNvSpPr/>
          <p:nvPr/>
        </p:nvSpPr>
        <p:spPr>
          <a:xfrm>
            <a:off x="457200" y="228600"/>
            <a:ext cx="723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y-Evaluation Assessment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5" name="Group 3"/>
          <p:cNvGrpSpPr/>
          <p:nvPr/>
        </p:nvGrpSpPr>
        <p:grpSpPr>
          <a:xfrm>
            <a:off x="457200" y="838080"/>
            <a:ext cx="8153280" cy="5257800"/>
            <a:chOff x="457200" y="838080"/>
            <a:chExt cx="8153280" cy="5257800"/>
          </a:xfrm>
        </p:grpSpPr>
        <p:sp>
          <p:nvSpPr>
            <p:cNvPr id="1226" name="Rectangle 4"/>
            <p:cNvSpPr/>
            <p:nvPr/>
          </p:nvSpPr>
          <p:spPr>
            <a:xfrm>
              <a:off x="6270840" y="5706720"/>
              <a:ext cx="2339280" cy="38880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ntinue cour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5"/>
            <p:cNvSpPr/>
            <p:nvPr/>
          </p:nvSpPr>
          <p:spPr>
            <a:xfrm>
              <a:off x="4002120" y="5706720"/>
              <a:ext cx="2268360" cy="38880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6"/>
            <p:cNvSpPr/>
            <p:nvPr/>
          </p:nvSpPr>
          <p:spPr>
            <a:xfrm>
              <a:off x="2230920" y="5706720"/>
              <a:ext cx="1771200" cy="38880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7"/>
            <p:cNvSpPr/>
            <p:nvPr/>
          </p:nvSpPr>
          <p:spPr>
            <a:xfrm>
              <a:off x="457200" y="5706720"/>
              <a:ext cx="1773720" cy="38880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8"/>
            <p:cNvSpPr/>
            <p:nvPr/>
          </p:nvSpPr>
          <p:spPr>
            <a:xfrm>
              <a:off x="6270840" y="5317560"/>
              <a:ext cx="2339280" cy="38880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rrective ac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9"/>
            <p:cNvSpPr/>
            <p:nvPr/>
          </p:nvSpPr>
          <p:spPr>
            <a:xfrm>
              <a:off x="4002120" y="5317560"/>
              <a:ext cx="2268360" cy="38880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10"/>
            <p:cNvSpPr/>
            <p:nvPr/>
          </p:nvSpPr>
          <p:spPr>
            <a:xfrm>
              <a:off x="2230920" y="5317560"/>
              <a:ext cx="1771200" cy="38880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11"/>
            <p:cNvSpPr/>
            <p:nvPr/>
          </p:nvSpPr>
          <p:spPr>
            <a:xfrm>
              <a:off x="457200" y="5317560"/>
              <a:ext cx="1773720" cy="38880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12"/>
            <p:cNvSpPr/>
            <p:nvPr/>
          </p:nvSpPr>
          <p:spPr>
            <a:xfrm>
              <a:off x="6270840" y="4887720"/>
              <a:ext cx="2339280" cy="42948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rrective ac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13"/>
            <p:cNvSpPr/>
            <p:nvPr/>
          </p:nvSpPr>
          <p:spPr>
            <a:xfrm>
              <a:off x="4002120" y="4887720"/>
              <a:ext cx="2268360" cy="42948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Rectangle 14"/>
            <p:cNvSpPr/>
            <p:nvPr/>
          </p:nvSpPr>
          <p:spPr>
            <a:xfrm>
              <a:off x="2230920" y="4887720"/>
              <a:ext cx="1771200" cy="42948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Rectangle 15"/>
            <p:cNvSpPr/>
            <p:nvPr/>
          </p:nvSpPr>
          <p:spPr>
            <a:xfrm>
              <a:off x="457200" y="4887720"/>
              <a:ext cx="1773720" cy="42948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Rectangle 16"/>
            <p:cNvSpPr/>
            <p:nvPr/>
          </p:nvSpPr>
          <p:spPr>
            <a:xfrm>
              <a:off x="6270840" y="4465800"/>
              <a:ext cx="2339280" cy="42192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rrective ac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Rectangle 17"/>
            <p:cNvSpPr/>
            <p:nvPr/>
          </p:nvSpPr>
          <p:spPr>
            <a:xfrm>
              <a:off x="4002120" y="4465800"/>
              <a:ext cx="2268360" cy="42192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Rectangle 18"/>
            <p:cNvSpPr/>
            <p:nvPr/>
          </p:nvSpPr>
          <p:spPr>
            <a:xfrm>
              <a:off x="2230920" y="4465800"/>
              <a:ext cx="1771200" cy="42192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Rectangle 19"/>
            <p:cNvSpPr/>
            <p:nvPr/>
          </p:nvSpPr>
          <p:spPr>
            <a:xfrm>
              <a:off x="457200" y="4465800"/>
              <a:ext cx="1773720" cy="42192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Rectangle 20"/>
            <p:cNvSpPr/>
            <p:nvPr/>
          </p:nvSpPr>
          <p:spPr>
            <a:xfrm>
              <a:off x="6270840" y="4076640"/>
              <a:ext cx="2339280" cy="38880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rrective ac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Rectangle 21"/>
            <p:cNvSpPr/>
            <p:nvPr/>
          </p:nvSpPr>
          <p:spPr>
            <a:xfrm>
              <a:off x="4002120" y="4076640"/>
              <a:ext cx="2268360" cy="38880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Rectangle 22"/>
            <p:cNvSpPr/>
            <p:nvPr/>
          </p:nvSpPr>
          <p:spPr>
            <a:xfrm>
              <a:off x="2230920" y="4076640"/>
              <a:ext cx="1771200" cy="38880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Rectangle 23"/>
            <p:cNvSpPr/>
            <p:nvPr/>
          </p:nvSpPr>
          <p:spPr>
            <a:xfrm>
              <a:off x="457200" y="4076640"/>
              <a:ext cx="1773720" cy="38880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Rectangle 24"/>
            <p:cNvSpPr/>
            <p:nvPr/>
          </p:nvSpPr>
          <p:spPr>
            <a:xfrm>
              <a:off x="6270840" y="3687840"/>
              <a:ext cx="2339280" cy="38880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rrective ac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Rectangle 25"/>
            <p:cNvSpPr/>
            <p:nvPr/>
          </p:nvSpPr>
          <p:spPr>
            <a:xfrm>
              <a:off x="4002120" y="3687840"/>
              <a:ext cx="2268360" cy="38880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Rectangle 26"/>
            <p:cNvSpPr/>
            <p:nvPr/>
          </p:nvSpPr>
          <p:spPr>
            <a:xfrm>
              <a:off x="2230920" y="3687840"/>
              <a:ext cx="1771200" cy="38880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Rectangle 27"/>
            <p:cNvSpPr/>
            <p:nvPr/>
          </p:nvSpPr>
          <p:spPr>
            <a:xfrm>
              <a:off x="457200" y="3687840"/>
              <a:ext cx="1773720" cy="38880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Rectangle 28"/>
            <p:cNvSpPr/>
            <p:nvPr/>
          </p:nvSpPr>
          <p:spPr>
            <a:xfrm>
              <a:off x="6270840" y="3208320"/>
              <a:ext cx="2339280" cy="47916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rrective ac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Rectangle 29"/>
            <p:cNvSpPr/>
            <p:nvPr/>
          </p:nvSpPr>
          <p:spPr>
            <a:xfrm>
              <a:off x="4002120" y="3208320"/>
              <a:ext cx="2268360" cy="47916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Rectangle 30"/>
            <p:cNvSpPr/>
            <p:nvPr/>
          </p:nvSpPr>
          <p:spPr>
            <a:xfrm>
              <a:off x="2230920" y="3208320"/>
              <a:ext cx="1771200" cy="47916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31"/>
            <p:cNvSpPr/>
            <p:nvPr/>
          </p:nvSpPr>
          <p:spPr>
            <a:xfrm>
              <a:off x="457200" y="3208320"/>
              <a:ext cx="1773720" cy="47916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Y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Rectangle 32"/>
            <p:cNvSpPr/>
            <p:nvPr/>
          </p:nvSpPr>
          <p:spPr>
            <a:xfrm>
              <a:off x="6270840" y="2819160"/>
              <a:ext cx="2339280" cy="38880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rrective ac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Rectangle 33"/>
            <p:cNvSpPr/>
            <p:nvPr/>
          </p:nvSpPr>
          <p:spPr>
            <a:xfrm>
              <a:off x="4002120" y="2819160"/>
              <a:ext cx="2268360" cy="38880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34"/>
            <p:cNvSpPr/>
            <p:nvPr/>
          </p:nvSpPr>
          <p:spPr>
            <a:xfrm>
              <a:off x="2230920" y="2819160"/>
              <a:ext cx="1771200" cy="38880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Rectangle 35"/>
            <p:cNvSpPr/>
            <p:nvPr/>
          </p:nvSpPr>
          <p:spPr>
            <a:xfrm>
              <a:off x="457200" y="2819160"/>
              <a:ext cx="1773720" cy="388800"/>
            </a:xfrm>
            <a:prstGeom prst="rect">
              <a:avLst/>
            </a:prstGeom>
            <a:solidFill>
              <a:srgbClr val="fbaa19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Rectangle 36"/>
            <p:cNvSpPr/>
            <p:nvPr/>
          </p:nvSpPr>
          <p:spPr>
            <a:xfrm>
              <a:off x="6440400" y="838080"/>
              <a:ext cx="2169720" cy="1981080"/>
            </a:xfrm>
            <a:prstGeom prst="rect">
              <a:avLst/>
            </a:prstGeom>
            <a:solidFill>
              <a:srgbClr val="f39b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Resul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37"/>
            <p:cNvSpPr/>
            <p:nvPr/>
          </p:nvSpPr>
          <p:spPr>
            <a:xfrm>
              <a:off x="4002120" y="838080"/>
              <a:ext cx="2438280" cy="1981080"/>
            </a:xfrm>
            <a:prstGeom prst="rect">
              <a:avLst/>
            </a:prstGeom>
            <a:solidFill>
              <a:srgbClr val="f39b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Has the firm progressed satisfactorily toward achieving its stated objectives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Rectangle 38"/>
            <p:cNvSpPr/>
            <p:nvPr/>
          </p:nvSpPr>
          <p:spPr>
            <a:xfrm>
              <a:off x="2230920" y="838080"/>
              <a:ext cx="1771200" cy="1981080"/>
            </a:xfrm>
            <a:prstGeom prst="rect">
              <a:avLst/>
            </a:prstGeom>
            <a:solidFill>
              <a:srgbClr val="f39b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Have major changes occurred in the firm’s external strategic position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Rectangle 39"/>
            <p:cNvSpPr/>
            <p:nvPr/>
          </p:nvSpPr>
          <p:spPr>
            <a:xfrm>
              <a:off x="457200" y="838080"/>
              <a:ext cx="1773720" cy="1981080"/>
            </a:xfrm>
            <a:prstGeom prst="rect">
              <a:avLst/>
            </a:prstGeom>
            <a:solidFill>
              <a:srgbClr val="f39b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b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Have major changes occurred in the firm’s internal strategic position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Line 40"/>
            <p:cNvSpPr/>
            <p:nvPr/>
          </p:nvSpPr>
          <p:spPr>
            <a:xfrm>
              <a:off x="458640" y="838080"/>
              <a:ext cx="8151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Line 41"/>
            <p:cNvSpPr/>
            <p:nvPr/>
          </p:nvSpPr>
          <p:spPr>
            <a:xfrm>
              <a:off x="458640" y="6095880"/>
              <a:ext cx="1770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Line 42"/>
            <p:cNvSpPr/>
            <p:nvPr/>
          </p:nvSpPr>
          <p:spPr>
            <a:xfrm>
              <a:off x="457200" y="2820600"/>
              <a:ext cx="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Line 43"/>
            <p:cNvSpPr/>
            <p:nvPr/>
          </p:nvSpPr>
          <p:spPr>
            <a:xfrm>
              <a:off x="8610480" y="2820600"/>
              <a:ext cx="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Line 44"/>
            <p:cNvSpPr/>
            <p:nvPr/>
          </p:nvSpPr>
          <p:spPr>
            <a:xfrm>
              <a:off x="457200" y="839160"/>
              <a:ext cx="0" cy="19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Line 45"/>
            <p:cNvSpPr/>
            <p:nvPr/>
          </p:nvSpPr>
          <p:spPr>
            <a:xfrm>
              <a:off x="8610480" y="839160"/>
              <a:ext cx="0" cy="19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Line 46"/>
            <p:cNvSpPr/>
            <p:nvPr/>
          </p:nvSpPr>
          <p:spPr>
            <a:xfrm>
              <a:off x="457200" y="5708160"/>
              <a:ext cx="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Line 47"/>
            <p:cNvSpPr/>
            <p:nvPr/>
          </p:nvSpPr>
          <p:spPr>
            <a:xfrm>
              <a:off x="8610480" y="5708160"/>
              <a:ext cx="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Line 48"/>
            <p:cNvSpPr/>
            <p:nvPr/>
          </p:nvSpPr>
          <p:spPr>
            <a:xfrm>
              <a:off x="457200" y="3209760"/>
              <a:ext cx="0" cy="47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Line 49"/>
            <p:cNvSpPr/>
            <p:nvPr/>
          </p:nvSpPr>
          <p:spPr>
            <a:xfrm>
              <a:off x="8610480" y="3209760"/>
              <a:ext cx="0" cy="47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Line 50"/>
            <p:cNvSpPr/>
            <p:nvPr/>
          </p:nvSpPr>
          <p:spPr>
            <a:xfrm>
              <a:off x="457200" y="3689640"/>
              <a:ext cx="0" cy="38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Line 51"/>
            <p:cNvSpPr/>
            <p:nvPr/>
          </p:nvSpPr>
          <p:spPr>
            <a:xfrm>
              <a:off x="8610480" y="3689640"/>
              <a:ext cx="0" cy="38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Line 52"/>
            <p:cNvSpPr/>
            <p:nvPr/>
          </p:nvSpPr>
          <p:spPr>
            <a:xfrm>
              <a:off x="457200" y="4078440"/>
              <a:ext cx="0" cy="38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Line 53"/>
            <p:cNvSpPr/>
            <p:nvPr/>
          </p:nvSpPr>
          <p:spPr>
            <a:xfrm>
              <a:off x="8610480" y="4078440"/>
              <a:ext cx="0" cy="38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Line 54"/>
            <p:cNvSpPr/>
            <p:nvPr/>
          </p:nvSpPr>
          <p:spPr>
            <a:xfrm>
              <a:off x="457200" y="4467600"/>
              <a:ext cx="0" cy="42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Line 55"/>
            <p:cNvSpPr/>
            <p:nvPr/>
          </p:nvSpPr>
          <p:spPr>
            <a:xfrm>
              <a:off x="8610480" y="4467600"/>
              <a:ext cx="0" cy="42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Line 56"/>
            <p:cNvSpPr/>
            <p:nvPr/>
          </p:nvSpPr>
          <p:spPr>
            <a:xfrm>
              <a:off x="457200" y="4889160"/>
              <a:ext cx="0" cy="42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Line 57"/>
            <p:cNvSpPr/>
            <p:nvPr/>
          </p:nvSpPr>
          <p:spPr>
            <a:xfrm>
              <a:off x="8610480" y="4889160"/>
              <a:ext cx="0" cy="42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Line 58"/>
            <p:cNvSpPr/>
            <p:nvPr/>
          </p:nvSpPr>
          <p:spPr>
            <a:xfrm>
              <a:off x="457200" y="5319000"/>
              <a:ext cx="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Line 59"/>
            <p:cNvSpPr/>
            <p:nvPr/>
          </p:nvSpPr>
          <p:spPr>
            <a:xfrm>
              <a:off x="8610480" y="5319000"/>
              <a:ext cx="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Line 60"/>
            <p:cNvSpPr/>
            <p:nvPr/>
          </p:nvSpPr>
          <p:spPr>
            <a:xfrm>
              <a:off x="2230920" y="6095880"/>
              <a:ext cx="177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Line 61"/>
            <p:cNvSpPr/>
            <p:nvPr/>
          </p:nvSpPr>
          <p:spPr>
            <a:xfrm>
              <a:off x="4003560" y="6095880"/>
              <a:ext cx="226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Line 62"/>
            <p:cNvSpPr/>
            <p:nvPr/>
          </p:nvSpPr>
          <p:spPr>
            <a:xfrm>
              <a:off x="6271920" y="6095880"/>
              <a:ext cx="233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5" name="Slide Number Placeholder 5"/>
          <p:cNvSpPr/>
          <p:nvPr/>
        </p:nvSpPr>
        <p:spPr>
          <a:xfrm>
            <a:off x="290520" y="6524640"/>
            <a:ext cx="852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1 -</a:t>
            </a:r>
            <a:fld id="{803364E7-D6CD-4BDB-BC6D-8BA211B0E3B0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omputerized Evaluation 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mputer networks and the internet help to coordinate SM activities  and to ensure that decisions are based on good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checkmate strategic planning software is especially good in this regard (</a:t>
            </a:r>
            <a:r>
              <a:rPr b="0" lang="en-US" sz="2000" spc="-1" strike="noStrike" u="sng">
                <a:solidFill>
                  <a:srgbClr val="f29751"/>
                </a:solidFill>
                <a:uFillTx/>
                <a:latin typeface="Verdana"/>
                <a:hlinkClick r:id="rId1"/>
              </a:rPr>
              <a:t>www.checkmateplan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com 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ing a combination of intuition and analysis is key  to effective strategy evaluation and to successful S.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9" name="Footer Placeholder 1"/>
          <p:cNvSpPr/>
          <p:nvPr/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9-</a:t>
            </a:r>
            <a:fld id="{5597EC77-C91C-49D6-83D1-34E9DF67EDDD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7772400" cy="4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Auditing :-  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92" name=""/>
          <p:cNvSpPr txBox="1"/>
          <p:nvPr/>
        </p:nvSpPr>
        <p:spPr>
          <a:xfrm>
            <a:off x="457200" y="1295280"/>
            <a:ext cx="8305920" cy="335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diting is defined by the American Accounting Association (AAA) as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: A systematic process of objectively obtaining and evaluating evidence about economic actions and events to ascertain the degree of correspondence between these assertions and established criteria 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wo important types of auditing :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Financial audit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etermine correspondence between assertions based on strategic plan &amp; established crite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 u="sng">
                <a:solidFill>
                  <a:srgbClr val="0070c0"/>
                </a:solidFill>
                <a:uFillTx/>
                <a:latin typeface="Verdana"/>
              </a:rPr>
              <a:t>Environmental audit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nsure sound and safe practi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3" name="Text Box 4"/>
          <p:cNvSpPr/>
          <p:nvPr/>
        </p:nvSpPr>
        <p:spPr>
          <a:xfrm>
            <a:off x="457200" y="114300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Slide Number Placeholder 5"/>
          <p:cNvSpPr/>
          <p:nvPr/>
        </p:nvSpPr>
        <p:spPr>
          <a:xfrm>
            <a:off x="290520" y="6524640"/>
            <a:ext cx="852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1 -</a:t>
            </a:r>
            <a:fld id="{B7A3B0DC-60D6-4E2A-B07E-3F91A568A2E0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4074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i="1" lang="en-US" sz="4400" spc="-1" strike="noStrike" u="sng">
                <a:solidFill>
                  <a:srgbClr val="ed6b06"/>
                </a:solidFill>
                <a:uFillTx/>
                <a:latin typeface="Verdana"/>
              </a:rPr>
              <a:t>The End </a:t>
            </a:r>
            <a:endParaRPr b="1" lang="en-US" sz="4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97" name="Footer Placeholder 3"/>
          <p:cNvSpPr/>
          <p:nvPr/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Slide Number Placeholder 4"/>
          <p:cNvSpPr/>
          <p:nvPr/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9-</a:t>
            </a:r>
            <a:fld id="{05AC3796-136D-403D-987E-03BD354C6A5E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hapter Outline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1 -</a:t>
            </a:r>
            <a:fld id="{A86FE6AB-DF3B-40DA-9F5F-414C163489AB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1"/>
          <p:cNvSpPr/>
          <p:nvPr/>
        </p:nvSpPr>
        <p:spPr>
          <a:xfrm>
            <a:off x="533520" y="1447920"/>
            <a:ext cx="7848360" cy="41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Nature of Strategy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trategy-Evaluation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Balanced Score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blished Sources of Strategy Evaluation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racteristics of an Effective Evalua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ingency 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d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1st Century Challenges in Strategic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/>
          </p:nvPr>
        </p:nvSpPr>
        <p:spPr>
          <a:xfrm>
            <a:off x="609480" y="2590560"/>
            <a:ext cx="7925040" cy="243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tal to the organization’s well-be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ert management to potential/actual problems in a timely fash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3" name="Text Box 3"/>
          <p:cNvSpPr/>
          <p:nvPr/>
        </p:nvSpPr>
        <p:spPr>
          <a:xfrm>
            <a:off x="533520" y="4572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y Review, Evaluation, and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rategy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1 -</a:t>
            </a:r>
            <a:fld id="{24368D3E-61DD-4A63-A793-1B890CBA1D3B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6" name="Picture 5" descr=""/>
          <p:cNvPicPr/>
          <p:nvPr/>
        </p:nvPicPr>
        <p:blipFill>
          <a:blip r:embed="rId1"/>
          <a:srcRect l="0" t="0" r="0" b="5972"/>
          <a:stretch/>
        </p:blipFill>
        <p:spPr>
          <a:xfrm>
            <a:off x="388800" y="457200"/>
            <a:ext cx="8310600" cy="5302080"/>
          </a:xfrm>
          <a:prstGeom prst="rect">
            <a:avLst/>
          </a:prstGeom>
          <a:ln w="0">
            <a:noFill/>
          </a:ln>
        </p:spPr>
      </p:pic>
      <p:sp>
        <p:nvSpPr>
          <p:cNvPr id="1137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1 -</a:t>
            </a:r>
            <a:fld id="{5F8D9480-48F7-405E-BDC9-6F0ECC22C06D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1"/>
          <p:cNvSpPr/>
          <p:nvPr/>
        </p:nvSpPr>
        <p:spPr>
          <a:xfrm>
            <a:off x="783360" y="5867280"/>
            <a:ext cx="738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: Adapted from Fred R. David, “How Companies Define Their Mission,”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Long Range Planning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2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. 3 (June 1988) 4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/>
          </p:nvPr>
        </p:nvSpPr>
        <p:spPr>
          <a:xfrm>
            <a:off x="609480" y="2666520"/>
            <a:ext cx="7925040" cy="221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95360" indent="-495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ine the underlying bases of a firm’s strateg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re expected to actual resul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king corrective actions to ensure that performance conforms to pla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1" name="Text Box 3"/>
          <p:cNvSpPr/>
          <p:nvPr/>
        </p:nvSpPr>
        <p:spPr>
          <a:xfrm>
            <a:off x="533520" y="4572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y Review, Evaluation, and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ree Basic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1 -</a:t>
            </a:r>
            <a:fld id="{0BE08203-0892-4D3F-B0DE-E01E84F0176D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/>
          </p:nvPr>
        </p:nvSpPr>
        <p:spPr>
          <a:xfrm>
            <a:off x="609480" y="2514600"/>
            <a:ext cx="792504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ategy evaluation can be complex &amp; sensitive undertak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 much  emphasis can be costly &amp; counterproductiv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5" name="Text Box 3"/>
          <p:cNvSpPr/>
          <p:nvPr/>
        </p:nvSpPr>
        <p:spPr>
          <a:xfrm>
            <a:off x="533520" y="457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y Review, Evaluation, and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 Box 4"/>
          <p:cNvSpPr/>
          <p:nvPr/>
        </p:nvSpPr>
        <p:spPr>
          <a:xfrm>
            <a:off x="533520" y="9144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rategy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Slide Number Placeholder 5"/>
          <p:cNvSpPr/>
          <p:nvPr/>
        </p:nvSpPr>
        <p:spPr>
          <a:xfrm>
            <a:off x="290520" y="6524640"/>
            <a:ext cx="852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1 -</a:t>
            </a:r>
            <a:fld id="{7A58C07A-6A5A-43FF-9115-8A00C4C7C619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75438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y Review, Evaluation, and Contro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ppraisal of Strategic Performance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533520" y="1523520"/>
            <a:ext cx="8229600" cy="43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 many organizations , strategy evaluation is simply an assessment of the following :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ow well an organization has performed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ave assets increased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s the profitability increased 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s there any  increasing  in sales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s there any increasing in productivity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s there any increasing in profit margins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f the answers are “yes”  thus the strategy may be correct  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Slide Number Placeholder 5"/>
          <p:cNvSpPr/>
          <p:nvPr/>
        </p:nvSpPr>
        <p:spPr>
          <a:xfrm>
            <a:off x="290520" y="6524640"/>
            <a:ext cx="852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1 -</a:t>
            </a:r>
            <a:fld id="{7AA0E1DC-55D1-4F08-957C-6C65FA9D0316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33160" y="460440"/>
            <a:ext cx="75438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y Review, Evaluation, and Contro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54" name="Rectangle 10"/>
          <p:cNvSpPr/>
          <p:nvPr/>
        </p:nvSpPr>
        <p:spPr>
          <a:xfrm>
            <a:off x="4952880" y="2819520"/>
            <a:ext cx="3048120" cy="761760"/>
          </a:xfrm>
          <a:prstGeom prst="rect">
            <a:avLst/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h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Rectangle 11"/>
          <p:cNvSpPr/>
          <p:nvPr/>
        </p:nvSpPr>
        <p:spPr>
          <a:xfrm>
            <a:off x="4952880" y="1676520"/>
            <a:ext cx="3048120" cy="76176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sis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12"/>
          <p:cNvSpPr/>
          <p:nvPr/>
        </p:nvSpPr>
        <p:spPr>
          <a:xfrm>
            <a:off x="4952880" y="3886200"/>
            <a:ext cx="3048120" cy="762120"/>
          </a:xfrm>
          <a:prstGeom prst="rect">
            <a:avLst/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ea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Rectangle 13"/>
          <p:cNvSpPr/>
          <p:nvPr/>
        </p:nvSpPr>
        <p:spPr>
          <a:xfrm>
            <a:off x="4952880" y="5029200"/>
            <a:ext cx="3048120" cy="762120"/>
          </a:xfrm>
          <a:prstGeom prst="rect">
            <a:avLst/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Oval 14"/>
          <p:cNvSpPr/>
          <p:nvPr/>
        </p:nvSpPr>
        <p:spPr>
          <a:xfrm>
            <a:off x="533520" y="2514600"/>
            <a:ext cx="2895480" cy="2057400"/>
          </a:xfrm>
          <a:prstGeom prst="ellipse">
            <a:avLst/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umelt’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4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Line 15"/>
          <p:cNvSpPr/>
          <p:nvPr/>
        </p:nvSpPr>
        <p:spPr>
          <a:xfrm flipV="1">
            <a:off x="3429000" y="2057040"/>
            <a:ext cx="152388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16"/>
          <p:cNvSpPr/>
          <p:nvPr/>
        </p:nvSpPr>
        <p:spPr>
          <a:xfrm flipV="1">
            <a:off x="3429000" y="3276720"/>
            <a:ext cx="1523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Line 17"/>
          <p:cNvSpPr/>
          <p:nvPr/>
        </p:nvSpPr>
        <p:spPr>
          <a:xfrm>
            <a:off x="3429000" y="3581280"/>
            <a:ext cx="15238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Line 18"/>
          <p:cNvSpPr/>
          <p:nvPr/>
        </p:nvSpPr>
        <p:spPr>
          <a:xfrm>
            <a:off x="3429000" y="3581280"/>
            <a:ext cx="152388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Slide Number Placeholder 5"/>
          <p:cNvSpPr/>
          <p:nvPr/>
        </p:nvSpPr>
        <p:spPr>
          <a:xfrm>
            <a:off x="290520" y="6524640"/>
            <a:ext cx="8524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1 -</a:t>
            </a:r>
            <a:fld id="{07F5215E-65E6-43B5-8604-18DEA904AEB8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7T18:56:05Z</dcterms:created>
  <dc:creator>Preferred Customer</dc:creator>
  <dc:description/>
  <dc:language>en-US</dc:language>
  <cp:lastModifiedBy>Default</cp:lastModifiedBy>
  <dcterms:modified xsi:type="dcterms:W3CDTF">2012-05-06T19:40:39Z</dcterms:modified>
  <cp:revision>463</cp:revision>
  <dc:subject/>
  <dc:title>Chapter 1  The Nature of Strategic Management</dc:title>
</cp:coreProperties>
</file>