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F00-96F9-4C02-967A-75BDFCD3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A8CD-6D08-4372-920D-254525DE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DF1-6DD7-4578-9258-34DF836A9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E52-19B6-4DC9-BBC6-CBC121C6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199-7D34-4D2F-9F34-447919AD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ACA-D83B-44E7-BA57-B7AB816C7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8320-B47B-488D-BE2A-EF4ED240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6932-EFC0-443E-AD36-750F0192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3A8E-3BF9-41BD-9011-45F43C2E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33ED-F9E5-4DAA-B074-8F66B53C0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79CC-CD99-4520-A4D4-1E4AA2675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BC9-4D37-4CD2-A2A0-044387E6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17D-B5C2-455F-88AA-75449393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32AC-03B8-44C6-99D4-5758229FA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9C6E-B809-412A-8FB1-1D78B9D5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0714-4BDE-437D-83AC-794894EEB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BFB5-99C7-4B88-B087-82E80F9F2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C892-07AC-4049-B38B-1EEA8785A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940B-F6B7-41F1-BE42-94CCEBBF3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FA5-FCF7-4E3E-8D5A-2B0F77827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B658-78EC-4751-BC1C-C06F289CE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A8EB-A377-47F1-B2F6-76866C93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E847-28F5-4DF5-A1F5-F4934F3FD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54C-3C18-403D-985B-3275BDA6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D650-5146-4BF0-940A-510CF31B5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1D5C-6CAC-4D60-A6E2-E42502CE74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D4D2A6-2EB1-46FC-B02F-048CA0922D1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06901-2CD0-4793-87BA-063AD2F480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64A28-2CA8-4CA7-96D7-5F9972CC1D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945A8-6B11-4CF6-AC36-1D90804768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EB5E9-4A3F-4852-9920-1A93474BE0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C39F2-C9BE-454B-B551-3B9A16CC53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03B98E-5D55-4912-855B-9CDC27FE544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CEF5F2-9F4E-4FD8-A536-EEE7AB693C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23215C-96DD-4DF5-BD30-EB7C04EAD2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CB10-A794-4002-B9CB-3BE978E48A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3426-6397-4F9A-8A3F-0F46CCA2BE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1D13FD-4A1C-4A96-8BFB-7C1AC42559A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B20FA2-4A3A-4243-BC2B-0E7A3A6CD65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ED03C-26D2-4DE9-B408-F46A334F7A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08668-5232-4575-8508-8A5165726E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EED18-135F-4497-8FD4-C531ACAEA5D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B5C03C-A580-4EFB-AAEE-0D93E3BD59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ECA5D-F6AB-47BA-B312-6A9D9C6FAA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5BD38-975E-4623-A56D-09C53B5A3F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35545B-6621-4E7A-ACAD-A4DF70C38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D97D6-EF8F-401C-8CE1-2E08C19F89C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D8A0C-F232-430A-9220-57CF5A14939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142532-82EC-426E-8D28-8734A90781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8DB20-A5A5-4B13-A07E-E3DEF085BB4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935CF-23FF-4324-9630-71706DB8A88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6BB18-7F7D-41F0-BCF9-862F94D9A31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CCD3-342F-43F6-AF8C-E77A6CB9EE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7794-D550-45D5-9367-E6E609189B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319BE-E08B-4E72-A2A8-DC8D83C1F32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DDAFD-43F6-497B-B412-A54FBC5A8B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284D-9D85-433B-99DB-80719642DE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94E34-EF00-4B07-8DFC-FD156221FED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B59D-2B60-43B6-9239-8787EFD3A4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A9A8F-6277-45AC-9E3C-2E7DB8919C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EA91-B50B-4C55-A430-A0D0B82A1F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49134-1470-4D9F-85E8-E572F14CE9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F838B-07F0-4239-9BAB-31F022876D6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78323-A0EF-434A-9E00-AA1F6643F95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1B8BC-A42D-4D8C-8002-58E4E8F3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FA3FD-EEC4-4913-B492-BD4B0328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17E2-B9C7-4DE5-9E0C-CC7CCCC3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5470A-F59B-4414-9D1F-01A35BA955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53E8-5CD3-47E0-9B35-7A64592C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9217-B166-4E31-9BF4-159A224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C3BF8-6A46-4439-A065-404E9F62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B415A-A743-489D-99C2-2D7D4A3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0560D-428D-44F7-8AD2-4B1964C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A8D31-7FB6-41D1-A9B3-0EC4BB3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3E87-F8F5-45D2-A43B-857CEC7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8C9D-7123-4B82-978A-F0CE094B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A537-CDE8-45EA-B213-1A1EBE8A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511AC-7A52-4E8D-83DC-2BF6A55D233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598AF-7C30-4FFF-A4E6-2FD0185F30D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54F505-3A50-4BE9-BFEE-C37D761088D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DA37B-F229-420B-B02B-7A0BB9BD2C0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AAA776-3D15-44E3-A693-A552BF26FDD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CE2C64-1EAF-4FBE-9BCD-AC5209D0E2B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A7FA4-5677-4FE7-8B72-4847EDF1510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9A07D1-2350-42FB-A416-E378FD99482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F6E1E-6F4E-4BEB-807D-823FE30A8E6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2E5F1-ACD0-4C06-A662-B3F7F0D1A0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5A96F-D3A6-4B7E-8AFB-22035E675F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CBB18-40BD-4C4E-853B-C0F9D155E48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95E818-AD24-4476-A37C-EC1FA776C83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D5CDF-619D-4177-BB91-BD11D7ECE3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C1AE9-D23F-44DC-BDD8-B72756D50AD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ABFA-4CE9-4535-ABA7-D5A63B1B395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A03DB-E0EF-480C-A4E6-2758F9C51D2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91F3E-B529-44E6-A379-6E8367EB3B1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BB74-8111-408D-9AD1-D94B96BEBB8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EE3D4-51D0-4510-AAE7-7DBF8B63FF8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5EBC6-AF73-4F36-93D0-A0103DBA38C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172B8-E906-4628-B8ED-09F916A41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2A53-2F4B-4C04-9EA2-C44E997F8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5187-9512-41F3-BF53-D04B86D6BA5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8B42-6DF4-4E0D-9C22-CA3DA92E3C7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2D640-4192-4213-A83F-B7DB26EB9F9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4C87-E333-4463-A99F-FE0219DCA03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CA6EC-5CC6-40B6-B81B-00BF3B6F429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EDB7-5E4A-402A-94F0-F975D8C93D7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49FC4-DE25-4D2A-8B2A-EE910728255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6F6D16-7F8F-4C40-9D4B-220E6DA59D3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31B2DA-9265-4F2F-843B-7AE87F13C62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D4960-B2D1-4D20-891D-6B3793971A1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E37005-B951-49A0-A9F4-DE5EEE0AC7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E670-D03E-40F6-985C-8AB41B3C19A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2E7BDD-7917-44BF-AFE7-F1878EBBD3F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8548B-0C9F-489E-954C-EF219999838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ADD81-62B5-4D1F-9309-2F2DCD2B50F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7C0F0B-7A31-4D28-B9DE-B996C92358E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F9908-8879-4AE1-860D-8A5FBFD7051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6E9CFA-377D-498A-8E75-57C1EFB7FD1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50C4D-455E-41CE-86F1-E16228DC528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6E554-0EAA-4FF5-A853-9F83152B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FB448-0DEF-45FE-8BD7-CFA6413F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2CA21-31D7-42BA-B885-171CA11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75F8C-4A7F-4E21-9BCF-9700B53FF4E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BAFE3-2904-4EFF-87E0-C270F9C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1F0F-3BCD-4FB1-8A9E-FF865029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B6AC7-68CE-41A4-B704-543C4105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B7B9E-C92F-416C-B0B0-FF5AEDF5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FA677-B098-41B5-8ED2-DCE0D90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6893A-D7DB-4D40-840C-7DD814E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CE275-17B5-487D-91B3-431BF812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994AF-8394-4F9B-8F9A-AB661D47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245E7-087F-4FF8-80A8-BFBDF37D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25EEF-BD60-4B0E-B8A9-FF28931715A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7DDF9-ED1C-4736-B0AC-5C6D2D3B070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92BEAA-3483-4055-B8AE-A150D21C8AF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C469AE-4334-4A97-A562-AB2E554EC90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E017C5-7246-446B-BDD1-54AB2FA97BB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3D9B55-B316-4B46-9E16-4F3930FCBAC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17295C-CC2A-40AA-83AF-F52E6521389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3F20D9-AD66-4D05-9EDA-0954E370F10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87CA09-C381-4A27-A402-65CBA7587E2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C1BE79-2242-45C0-BFBF-E485D319097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CC986D-B032-4091-8671-8CAABB065C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8D82C-5051-4777-9489-6C48801DBC1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82F41B-7F51-4AE0-B6D9-F2F55787481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7DB457-0250-4B54-BD69-F751B01D5F6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0A9678-5F77-4FE2-B194-F689B2B7080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7AD45-28D4-4C35-931D-1E5AA8C47D7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B807D-78BE-4919-9628-ECB7071C299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4E2A5-A5CB-4EEE-8B2C-D8521159E22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D7FA5-4D3C-46DD-98EC-C657DE841A6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7F6A6-A17A-43E9-A6CE-099ACA0628A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7456A-E196-4EF4-B682-D6DDF49EC85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6931-D6D9-4F8A-86A1-2BA5237C63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2AF4-BDC4-4A27-8F77-5762E112B81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56A03-2D69-4CED-A73D-91740A6648C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2FDE5-0F78-4740-83F0-F45E03B84F5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05F23-1716-4397-A69C-90EEF0C4582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AF520-7738-4B39-B2F7-8A9BAC9FBD7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F7FA9-0631-4492-8950-53757532F96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37CCD-261F-461D-A8F7-D9A612C1438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39A69-52FC-4CE2-973F-9ED5EA540CA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38374-9473-4C7F-9E8B-15B24D66120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48943-0115-4942-AE83-AB8AACFE0FD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B63A3-4E1F-48A9-9A0A-BE976EA1F1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C8C2C-91D0-41C6-9BC8-354BC0696F5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0DE62-5F44-4ACC-92BA-4F514C5E264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F3C74-4984-40F0-8BE4-D78C8570FFE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6190B-BE3B-45A0-96F0-097D7E7E587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CE50C-6550-41CA-9CF7-14D37856B45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5AB0C-0734-41E8-B5F2-1E07EC1492F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3D64D-2368-4AD6-B7A9-D26B4DBFC36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1E337-2FED-42D9-A8A3-5FDA7A483CC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A3EA91-1A50-4CAA-BABB-45C7A22E1D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FC7D2C-A087-4858-975E-35D64CA20CF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24A1F8-C47E-42FD-9A21-82964F5D5F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CABBB-9C71-416B-8BDD-CCA2837CF94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7B2CCD-9B6D-4394-88AE-F2C414B7153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9C4C31-B150-4D4F-B890-D927510865D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97B03-ED5F-4DA3-9B77-73858EFD16C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8A358D-0410-4CAA-8A21-EDE64B63857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7387F-8C0E-4FC5-BC73-AC45490BCCA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E76368-0D5D-445E-96C1-3359F55BDAD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592A48-3AD2-4511-B8E4-63A5ABB388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C3A9E5-C5ED-4B3C-A767-EF6250E54BC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CD5E6A-8B15-48E0-8344-EDEA984A5E2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817B64-44D7-4B92-92E8-D30AF5075C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7E88-2EAE-42E0-86F8-8388F521099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3ED0EE-B87A-49B9-86B1-8D27F21DC35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113D5A-1423-4FB4-AB1C-5D9FB7FA684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164122-6E2D-4A5D-9F89-501476F01EF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389B64-52C8-4650-9A60-68662CD93D5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037573-1388-474C-A238-DAC240894A4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A3961C-6134-4276-AD2D-77C88718B6B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D045E7-1D37-4DD6-90A3-E00226C824C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8DBBD4-784E-4742-BAC2-9DFBDDF7BFE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5AE276-7103-4474-A07D-534CB192A44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4AE6DA-9E58-449F-97B2-8885E9AC8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94D2-7B9F-43F3-8504-3FB1714B5F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26462-4F9F-46A4-BF7A-CD82C79AAAE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9DEE73-3C78-4590-A770-64FBFF565AD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7CB779-8E0D-425E-8623-2CEA7EED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0768D8-FB36-4C2E-9002-897495B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5F6EC0-9773-4356-91EB-A260FD91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D4317F-3E38-42F6-9A3D-DB9773F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9B25F16-99E7-4301-B322-4ED7986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3D7FC4-D4B8-4D3A-BBEE-759703C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C48F0B-9830-4837-8EFD-2D90C36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60EEC5-C0E2-4C32-A84A-FD437A6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CCCC64-77B5-4D25-A807-C33C79D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B955-AD00-45D5-93E1-2699D0893A7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456904-3124-48F1-9A0D-9C897498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4E93F6-68ED-4424-8E8E-336D819A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F799AF-C454-4821-8552-30E36EED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8B578-F748-4BE1-90DC-262762AFE8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1B22A-3146-4070-900B-F201B34DED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5BA1C-77E1-4455-83C0-6AFF604315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95C3D-8A01-4CC9-BBF5-12459AA779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F08C7-B7EB-4FD0-A0FB-CE8822A635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6216E-A91D-41B4-9062-BCFE94B7D2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0258-0A41-46B8-AEB0-6C9A80ED07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ADAC8-CBE8-4409-8DCA-7EA9C14F4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9409-B4E8-4F60-9D7D-C6CD224EFC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95934-2102-430B-B35E-E4A36743A6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83372-396D-429C-B632-F74CE7B42A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A92B4-00E7-4EC9-B384-682267C0D1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141A1-5404-4C6C-9067-A4F55E8836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640E5-8035-40B2-A75C-D9C57DBFE9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6B69C-9D49-4460-BDA4-C7849E1C83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24774-B060-4024-ADB5-C4634288D7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07AB1-B2DA-41D6-AC54-A9B830D31A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CC1F1-F8A9-442D-BC1E-7B46108AAA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4071-9E5A-4DE0-B2B4-1BF3469CDB5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67D3-F40E-4BEC-912F-C0A2B947FE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98BE0-6C27-4B09-B495-04EAE3B371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3EB24-23AF-40E1-967F-E8016B88FA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D0D55-D2B7-4349-A755-BB284C8727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D73BB-A39F-47D0-AF08-E10BE5A9FF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41BCA-B83B-43CC-BA44-C1BA4E22EF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7A288-9770-42C2-81FF-FE0A5D4B21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E4257-327A-43EC-8421-746C33EB89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553C4-7FB5-4048-80B2-D5F8C83F2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58EF0-23DB-4D61-97CC-D778DA09C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DCCF-C6F1-41D8-B073-3C408B060D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6B926-9E2B-4A32-9373-E2262E40E5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524D10-E2E4-4C0B-82D5-5AD5DE66B5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9B941-80CF-48FD-8E2A-B1793F17A9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288D-1F29-48A8-B00C-3E69D5AB22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B3D4-F30D-47E3-98C2-A0D7677986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AC88-7992-4A8D-868E-3BC7115DF8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D92F-A126-432B-B92A-202D0093D8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00B4-8739-4C45-9283-05FD893782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685C-23E7-40B0-95EF-AA9BC5540A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C70D-C8C5-45AD-BC03-1A9E311AC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2E63-AEDD-4C4B-8BC1-1672D9DBB04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6339-A8CF-479B-8741-7C3E368314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161E-81C7-4A0F-BC3F-DB7D3A02F5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E212-6773-4E05-82F6-FA816C1572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E895-D88F-4114-809A-D20721B20F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A332-86AB-461B-883B-FFB04E1AE2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6200-AE12-4488-A5A2-C046ED3DED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A221C8-6967-4F52-8DAD-900C210425F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11C2B-7902-4CF2-A799-78A91A9AB9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7C2F2-92CF-40C5-B110-883D61178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9-</a:t>
            </a:r>
            <a:fld id="{C9317822-C73D-4A84-9CFB-827E15D136C4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5607-AFB6-43FD-8596-6B7E0ADD3675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D86D-33EA-4325-8C5F-D127C9D48F52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C3A-6078-4F86-8A3E-F53A53116F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3B459DF1-8760-49F2-A088-2923EE975737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97C75AD1-509A-4C31-B44E-3D467DEA608C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3CB0BE00-322A-44E0-A3BF-807FD767FA9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C9F-0DEE-411E-BD67-675310748E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C651D7AD-CFA8-4EAD-8FD6-8FA742B9494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1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D3560A6D-E22A-48FD-9C21-0D4232549DB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9A0414A-2E4F-4B15-ACE8-D48089DB8ED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138B121-57AD-40E6-AE80-F69A321C67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505B641D-AC50-421C-84BE-A60DAE8DD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6990FF53-49D8-4B14-94BE-F5F605FE58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32ED-06AC-4AC5-88B7-9A2739F38B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F2A70578-9FE5-43F8-BFF3-C1FDD052FCD9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8ACD61B-B378-4CB1-BF0B-622BCC365F20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AE8C-E207-47EA-84A4-28B76727DC8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ECC-E2CF-4E35-B7D7-61635F9B8FB5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970C2A98-2F5F-4A24-B961-D4E5DC82CBC9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heckmateplan/" TargetMode="Externa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5327DAB9-0791-4736-84DB-0E8EAB78A95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8076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533520" y="2133360"/>
            <a:ext cx="82296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istenc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should not present inconsistent goals &amp; poli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44A77AF2-8BC1-4314-B0DE-47A5180931F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7848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57200" y="2514240"/>
            <a:ext cx="8305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herenc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herence refers to                    the need for strategies to examine sets of tr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0016B602-27E4-4FCA-87EF-34BDF7015AA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Straight Arrow Connector 6"/>
          <p:cNvCxnSpPr/>
          <p:nvPr/>
        </p:nvCxnSpPr>
        <p:spPr>
          <a:xfrm>
            <a:off x="3123720" y="3123720"/>
            <a:ext cx="1600920" cy="1080"/>
          </a:xfrm>
          <a:prstGeom prst="straightConnector1">
            <a:avLst/>
          </a:prstGeom>
          <a:ln w="38160">
            <a:solidFill>
              <a:srgbClr val="ed6b0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3520" y="2361960"/>
            <a:ext cx="8229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asibilit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ategy must neither overtax resources or create unsolvable sub-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CA09CF54-0D19-47A2-A834-175E5E75BC5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8153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80880" y="2133360"/>
            <a:ext cx="83822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vantag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must provide for the creation or maintenance of competitive advant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DB69C4C3-FCC3-4569-85E2-5917D035695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iculties in Strategy Evaluation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457200" y="1371600"/>
            <a:ext cx="8229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in environment’s complex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 number of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e of obsolescence of pl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mestic and global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ing time span for planning certain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E566C444-E463-430F-9E39-CD38B4607AB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 Strategy-Evaluation Framewor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iew of Underlying Bases of Strategy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7200" y="2590560"/>
            <a:ext cx="8229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revised EF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revised IF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4CE30DF0-61C3-4D7E-A129-ACF2817FEC0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33160" y="46008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iew Effectiveness of Strategy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533520" y="160020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reaction to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change in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changes in strengths &amp; weakn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competitors’ strategic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competitors’ successful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present market positions &amp;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for competitor retal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for cooperation with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777BFA93-5D8F-49C0-9401-16F59289796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4600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onitor Strengths &amp; Weaknesses; Opportunities &amp; Threats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533520" y="1676160"/>
            <a:ext cx="82296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strengths still strength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we added additional strength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weaknesses still weaknes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we developed other weaknes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opportunities still opportunit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re any other opportunities develo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reats still threa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re any other threats emerg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357A8530-9CFB-4118-B59B-38AAC7DB5D1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160" y="3837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33520" y="2514600"/>
            <a:ext cx="82296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expected to actual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stigate deviations from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individua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toward stated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Text Box 4"/>
          <p:cNvSpPr/>
          <p:nvPr/>
        </p:nvSpPr>
        <p:spPr>
          <a:xfrm>
            <a:off x="45720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asuring Organization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558AC9B5-4AA5-4230-9059-6F7788A43EF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uantitative Criteria for Strategy Evaluation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09480" y="2514600"/>
            <a:ext cx="82296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performance over different peri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performance to competitors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performance to industry aver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1BF491CC-7901-4FAD-9B73-3971CEBF4C7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1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y Review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Evaluation and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4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848BCE71-2768-40E2-A600-EBCADE86EB3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79246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ualitative Evaluation of Strategy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533520" y="2057400"/>
            <a:ext cx="8229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consistency of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 with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ble degree of r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priate time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ability of th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FD9A1DCC-0663-48CB-9731-C9ABF979FA5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79246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533520" y="2514240"/>
            <a:ext cx="8229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changes to competitively reposition a firm for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ing organization on track toward achieving stated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Text Box 4"/>
          <p:cNvSpPr/>
          <p:nvPr/>
        </p:nvSpPr>
        <p:spPr>
          <a:xfrm>
            <a:off x="4572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0FBCD59D-9601-4B33-A7D8-3D207A42A8B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7"/>
          <p:cNvSpPr/>
          <p:nvPr/>
        </p:nvSpPr>
        <p:spPr>
          <a:xfrm>
            <a:off x="533520" y="838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8E8494C9-4646-4BAF-9E64-383613838C6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"/>
          <p:cNvSpPr/>
          <p:nvPr/>
        </p:nvSpPr>
        <p:spPr>
          <a:xfrm>
            <a:off x="533520" y="2274840"/>
            <a:ext cx="82296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strategies from 4 persp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inancia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ustome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rnal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arning &amp;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80769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racteristics of Strategy Evaluation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533160" y="1371600"/>
            <a:ext cx="8305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trategy evaluation must meet several basic requirements to be effective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conom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ing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tes usefu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vides accurate picture of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B3B32C22-D15A-40C9-AD59-B75782C7293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2"/>
          <p:cNvSpPr/>
          <p:nvPr/>
        </p:nvSpPr>
        <p:spPr>
          <a:xfrm>
            <a:off x="4572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Evaluation Assessmen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3"/>
          <p:cNvGrpSpPr/>
          <p:nvPr/>
        </p:nvGrpSpPr>
        <p:grpSpPr>
          <a:xfrm>
            <a:off x="457200" y="838080"/>
            <a:ext cx="8153280" cy="5257800"/>
            <a:chOff x="457200" y="838080"/>
            <a:chExt cx="8153280" cy="5257800"/>
          </a:xfrm>
        </p:grpSpPr>
        <p:sp>
          <p:nvSpPr>
            <p:cNvPr id="1226" name="Rectangle 4"/>
            <p:cNvSpPr/>
            <p:nvPr/>
          </p:nvSpPr>
          <p:spPr>
            <a:xfrm>
              <a:off x="6270840" y="570672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inue 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"/>
            <p:cNvSpPr/>
            <p:nvPr/>
          </p:nvSpPr>
          <p:spPr>
            <a:xfrm>
              <a:off x="4002120" y="570672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2230920" y="570672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57200" y="570672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6270840" y="531756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4002120" y="531756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230920" y="531756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457200" y="531756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6270840" y="4887720"/>
              <a:ext cx="233928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4002120" y="4887720"/>
              <a:ext cx="226836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4"/>
            <p:cNvSpPr/>
            <p:nvPr/>
          </p:nvSpPr>
          <p:spPr>
            <a:xfrm>
              <a:off x="2230920" y="4887720"/>
              <a:ext cx="177120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5"/>
            <p:cNvSpPr/>
            <p:nvPr/>
          </p:nvSpPr>
          <p:spPr>
            <a:xfrm>
              <a:off x="457200" y="4887720"/>
              <a:ext cx="177372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6"/>
            <p:cNvSpPr/>
            <p:nvPr/>
          </p:nvSpPr>
          <p:spPr>
            <a:xfrm>
              <a:off x="6270840" y="4465800"/>
              <a:ext cx="233928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7"/>
            <p:cNvSpPr/>
            <p:nvPr/>
          </p:nvSpPr>
          <p:spPr>
            <a:xfrm>
              <a:off x="4002120" y="4465800"/>
              <a:ext cx="226836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"/>
            <p:cNvSpPr/>
            <p:nvPr/>
          </p:nvSpPr>
          <p:spPr>
            <a:xfrm>
              <a:off x="2230920" y="4465800"/>
              <a:ext cx="177120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9"/>
            <p:cNvSpPr/>
            <p:nvPr/>
          </p:nvSpPr>
          <p:spPr>
            <a:xfrm>
              <a:off x="457200" y="4465800"/>
              <a:ext cx="177372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0"/>
            <p:cNvSpPr/>
            <p:nvPr/>
          </p:nvSpPr>
          <p:spPr>
            <a:xfrm>
              <a:off x="6270840" y="407664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21"/>
            <p:cNvSpPr/>
            <p:nvPr/>
          </p:nvSpPr>
          <p:spPr>
            <a:xfrm>
              <a:off x="4002120" y="407664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22"/>
            <p:cNvSpPr/>
            <p:nvPr/>
          </p:nvSpPr>
          <p:spPr>
            <a:xfrm>
              <a:off x="2230920" y="407664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3"/>
            <p:cNvSpPr/>
            <p:nvPr/>
          </p:nvSpPr>
          <p:spPr>
            <a:xfrm>
              <a:off x="457200" y="407664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4"/>
            <p:cNvSpPr/>
            <p:nvPr/>
          </p:nvSpPr>
          <p:spPr>
            <a:xfrm>
              <a:off x="6270840" y="368784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5"/>
            <p:cNvSpPr/>
            <p:nvPr/>
          </p:nvSpPr>
          <p:spPr>
            <a:xfrm>
              <a:off x="4002120" y="368784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6"/>
            <p:cNvSpPr/>
            <p:nvPr/>
          </p:nvSpPr>
          <p:spPr>
            <a:xfrm>
              <a:off x="2230920" y="368784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7"/>
            <p:cNvSpPr/>
            <p:nvPr/>
          </p:nvSpPr>
          <p:spPr>
            <a:xfrm>
              <a:off x="457200" y="368784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8"/>
            <p:cNvSpPr/>
            <p:nvPr/>
          </p:nvSpPr>
          <p:spPr>
            <a:xfrm>
              <a:off x="6270840" y="3208320"/>
              <a:ext cx="233928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9"/>
            <p:cNvSpPr/>
            <p:nvPr/>
          </p:nvSpPr>
          <p:spPr>
            <a:xfrm>
              <a:off x="4002120" y="3208320"/>
              <a:ext cx="226836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30"/>
            <p:cNvSpPr/>
            <p:nvPr/>
          </p:nvSpPr>
          <p:spPr>
            <a:xfrm>
              <a:off x="2230920" y="3208320"/>
              <a:ext cx="177120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31"/>
            <p:cNvSpPr/>
            <p:nvPr/>
          </p:nvSpPr>
          <p:spPr>
            <a:xfrm>
              <a:off x="457200" y="3208320"/>
              <a:ext cx="177372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2"/>
            <p:cNvSpPr/>
            <p:nvPr/>
          </p:nvSpPr>
          <p:spPr>
            <a:xfrm>
              <a:off x="6270840" y="281916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33"/>
            <p:cNvSpPr/>
            <p:nvPr/>
          </p:nvSpPr>
          <p:spPr>
            <a:xfrm>
              <a:off x="4002120" y="281916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34"/>
            <p:cNvSpPr/>
            <p:nvPr/>
          </p:nvSpPr>
          <p:spPr>
            <a:xfrm>
              <a:off x="2230920" y="281916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35"/>
            <p:cNvSpPr/>
            <p:nvPr/>
          </p:nvSpPr>
          <p:spPr>
            <a:xfrm>
              <a:off x="457200" y="281916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36"/>
            <p:cNvSpPr/>
            <p:nvPr/>
          </p:nvSpPr>
          <p:spPr>
            <a:xfrm>
              <a:off x="6440400" y="838080"/>
              <a:ext cx="216972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7"/>
            <p:cNvSpPr/>
            <p:nvPr/>
          </p:nvSpPr>
          <p:spPr>
            <a:xfrm>
              <a:off x="4002120" y="838080"/>
              <a:ext cx="243828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as the firm progressed satisfactorily toward achieving its stated objectiv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8"/>
            <p:cNvSpPr/>
            <p:nvPr/>
          </p:nvSpPr>
          <p:spPr>
            <a:xfrm>
              <a:off x="2230920" y="838080"/>
              <a:ext cx="177120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ave major changes occurred in the firm’s external strategic posi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39"/>
            <p:cNvSpPr/>
            <p:nvPr/>
          </p:nvSpPr>
          <p:spPr>
            <a:xfrm>
              <a:off x="457200" y="838080"/>
              <a:ext cx="177372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ave major changes occurred in the firm’s internal strategic posi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40"/>
            <p:cNvSpPr/>
            <p:nvPr/>
          </p:nvSpPr>
          <p:spPr>
            <a:xfrm>
              <a:off x="458640" y="838080"/>
              <a:ext cx="815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41"/>
            <p:cNvSpPr/>
            <p:nvPr/>
          </p:nvSpPr>
          <p:spPr>
            <a:xfrm>
              <a:off x="458640" y="6095880"/>
              <a:ext cx="177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42"/>
            <p:cNvSpPr/>
            <p:nvPr/>
          </p:nvSpPr>
          <p:spPr>
            <a:xfrm>
              <a:off x="457200" y="28206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43"/>
            <p:cNvSpPr/>
            <p:nvPr/>
          </p:nvSpPr>
          <p:spPr>
            <a:xfrm>
              <a:off x="8610480" y="28206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44"/>
            <p:cNvSpPr/>
            <p:nvPr/>
          </p:nvSpPr>
          <p:spPr>
            <a:xfrm>
              <a:off x="457200" y="839160"/>
              <a:ext cx="0" cy="19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45"/>
            <p:cNvSpPr/>
            <p:nvPr/>
          </p:nvSpPr>
          <p:spPr>
            <a:xfrm>
              <a:off x="8610480" y="839160"/>
              <a:ext cx="0" cy="19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46"/>
            <p:cNvSpPr/>
            <p:nvPr/>
          </p:nvSpPr>
          <p:spPr>
            <a:xfrm>
              <a:off x="457200" y="57081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47"/>
            <p:cNvSpPr/>
            <p:nvPr/>
          </p:nvSpPr>
          <p:spPr>
            <a:xfrm>
              <a:off x="8610480" y="57081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48"/>
            <p:cNvSpPr/>
            <p:nvPr/>
          </p:nvSpPr>
          <p:spPr>
            <a:xfrm>
              <a:off x="457200" y="320976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49"/>
            <p:cNvSpPr/>
            <p:nvPr/>
          </p:nvSpPr>
          <p:spPr>
            <a:xfrm>
              <a:off x="8610480" y="320976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50"/>
            <p:cNvSpPr/>
            <p:nvPr/>
          </p:nvSpPr>
          <p:spPr>
            <a:xfrm>
              <a:off x="457200" y="36896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51"/>
            <p:cNvSpPr/>
            <p:nvPr/>
          </p:nvSpPr>
          <p:spPr>
            <a:xfrm>
              <a:off x="8610480" y="36896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52"/>
            <p:cNvSpPr/>
            <p:nvPr/>
          </p:nvSpPr>
          <p:spPr>
            <a:xfrm>
              <a:off x="457200" y="40784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53"/>
            <p:cNvSpPr/>
            <p:nvPr/>
          </p:nvSpPr>
          <p:spPr>
            <a:xfrm>
              <a:off x="8610480" y="40784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54"/>
            <p:cNvSpPr/>
            <p:nvPr/>
          </p:nvSpPr>
          <p:spPr>
            <a:xfrm>
              <a:off x="457200" y="4467600"/>
              <a:ext cx="0" cy="4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55"/>
            <p:cNvSpPr/>
            <p:nvPr/>
          </p:nvSpPr>
          <p:spPr>
            <a:xfrm>
              <a:off x="8610480" y="4467600"/>
              <a:ext cx="0" cy="4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56"/>
            <p:cNvSpPr/>
            <p:nvPr/>
          </p:nvSpPr>
          <p:spPr>
            <a:xfrm>
              <a:off x="457200" y="488916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57"/>
            <p:cNvSpPr/>
            <p:nvPr/>
          </p:nvSpPr>
          <p:spPr>
            <a:xfrm>
              <a:off x="8610480" y="488916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58"/>
            <p:cNvSpPr/>
            <p:nvPr/>
          </p:nvSpPr>
          <p:spPr>
            <a:xfrm>
              <a:off x="457200" y="531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59"/>
            <p:cNvSpPr/>
            <p:nvPr/>
          </p:nvSpPr>
          <p:spPr>
            <a:xfrm>
              <a:off x="8610480" y="531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60"/>
            <p:cNvSpPr/>
            <p:nvPr/>
          </p:nvSpPr>
          <p:spPr>
            <a:xfrm>
              <a:off x="2230920" y="6095880"/>
              <a:ext cx="17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61"/>
            <p:cNvSpPr/>
            <p:nvPr/>
          </p:nvSpPr>
          <p:spPr>
            <a:xfrm>
              <a:off x="4003560" y="6095880"/>
              <a:ext cx="22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62"/>
            <p:cNvSpPr/>
            <p:nvPr/>
          </p:nvSpPr>
          <p:spPr>
            <a:xfrm>
              <a:off x="6271920" y="6095880"/>
              <a:ext cx="23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6CCBEBDA-6A99-4CCB-B76F-9EB54207E81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omputerized Evaluation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uter networks and the internet help to coordinate SM activities  and to ensure that decisions are based on goo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checkmate strategic planning software is especially good in this regard (</a:t>
            </a:r>
            <a:r>
              <a:rPr b="0" lang="en-US" sz="2000" spc="-1" strike="noStrike" u="sng">
                <a:solidFill>
                  <a:srgbClr val="f29751"/>
                </a:solidFill>
                <a:uFillTx/>
                <a:latin typeface="Verdana"/>
                <a:hlinkClick r:id="rId1"/>
              </a:rPr>
              <a:t>www.checkmatepl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com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a combination of intuition and analysis is key  to effective strategy evaluation and to successful S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Footer Placeholder 1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9-</a:t>
            </a:r>
            <a:fld id="{1CB00FD5-32EE-44BC-9CC1-47A76B1200B2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uditing :- 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57200" y="1295280"/>
            <a:ext cx="830592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ing is defined by the American Accounting Association (AAA) as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: A systematic process of objectively obtaining and evaluating evidence about economic actions and events to ascertain the degree of correspondence between these assertions and established criteria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wo important types of auditing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Financial aud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termine correspondence between assertions based on strategic plan &amp; established cri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Environmental aud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sure sound and safe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457200" y="11430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F84D3813-42FE-4C9C-AAF8-7D701586E76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07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 u="sng">
                <a:solidFill>
                  <a:srgbClr val="ed6b06"/>
                </a:solidFill>
                <a:uFillTx/>
                <a:latin typeface="Verdana"/>
              </a:rPr>
              <a:t>The End </a:t>
            </a:r>
            <a:endParaRPr b="1" lang="en-US" sz="4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7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9-</a:t>
            </a:r>
            <a:fld id="{B4EA32DC-9894-4A9D-AEE7-9410687B3E8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AD55857A-78EE-4D8E-91AA-CA76C509AF6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"/>
          <p:cNvSpPr/>
          <p:nvPr/>
        </p:nvSpPr>
        <p:spPr>
          <a:xfrm>
            <a:off x="533520" y="1447920"/>
            <a:ext cx="784836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-Evalu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shed Sources of Strategy Evalua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istics of an Effective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gency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st Century Challenges in Strategic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609480" y="2590560"/>
            <a:ext cx="792504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tal to the organization’s well-be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rt management to potential/actual problems in a timely fash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3"/>
          <p:cNvSpPr/>
          <p:nvPr/>
        </p:nvSpPr>
        <p:spPr>
          <a:xfrm>
            <a:off x="533520" y="4572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E629EBCE-FFA8-4DA3-A750-7E009356051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5" descr=""/>
          <p:cNvPicPr/>
          <p:nvPr/>
        </p:nvPicPr>
        <p:blipFill>
          <a:blip r:embed="rId1"/>
          <a:srcRect l="0" t="0" r="0" b="5972"/>
          <a:stretch/>
        </p:blipFill>
        <p:spPr>
          <a:xfrm>
            <a:off x="388800" y="457200"/>
            <a:ext cx="8310600" cy="5302080"/>
          </a:xfrm>
          <a:prstGeom prst="rect">
            <a:avLst/>
          </a:prstGeom>
          <a:ln w="0">
            <a:noFill/>
          </a:ln>
        </p:spPr>
      </p:pic>
      <p:sp>
        <p:nvSpPr>
          <p:cNvPr id="113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1DAFF55E-E553-464F-BB0C-FE082B8DAB4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"/>
          <p:cNvSpPr/>
          <p:nvPr/>
        </p:nvSpPr>
        <p:spPr>
          <a:xfrm>
            <a:off x="783360" y="586728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609480" y="2666520"/>
            <a:ext cx="792504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ine the underlying bases of a firm’s strate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expected to actual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ing corrective actions to ensure that performance conforms to pl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Text Box 3"/>
          <p:cNvSpPr/>
          <p:nvPr/>
        </p:nvSpPr>
        <p:spPr>
          <a:xfrm>
            <a:off x="533520" y="4572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e Bas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1478301C-A0D0-4590-A85E-D43610BD9FE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evaluation can be complex &amp; sensitive underta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much  emphasis can be costly &amp; counterproductiv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Text Box 3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4"/>
          <p:cNvSpPr/>
          <p:nvPr/>
        </p:nvSpPr>
        <p:spPr>
          <a:xfrm>
            <a:off x="533520" y="9144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DC2BD84D-039E-47E7-BEE3-6D14B79B679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raisal of Strategic Performanc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many organizations , strategy evaluation is simply an assessment of the following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well an organization has perform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ve assets increas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 profitability increased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re any  increasing  in sa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re any increasing in productivit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re any increasing in profit margin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he answers are “yes”  thus the strategy may be correct 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70E9614F-F304-4A15-8D13-B64A4830D4F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4" name="Rectangle 10"/>
          <p:cNvSpPr/>
          <p:nvPr/>
        </p:nvSpPr>
        <p:spPr>
          <a:xfrm>
            <a:off x="4952880" y="2819520"/>
            <a:ext cx="3048120" cy="76176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1"/>
          <p:cNvSpPr/>
          <p:nvPr/>
        </p:nvSpPr>
        <p:spPr>
          <a:xfrm>
            <a:off x="4952880" y="1676520"/>
            <a:ext cx="3048120" cy="76176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2"/>
          <p:cNvSpPr/>
          <p:nvPr/>
        </p:nvSpPr>
        <p:spPr>
          <a:xfrm>
            <a:off x="4952880" y="3886200"/>
            <a:ext cx="3048120" cy="76212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13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14"/>
          <p:cNvSpPr/>
          <p:nvPr/>
        </p:nvSpPr>
        <p:spPr>
          <a:xfrm>
            <a:off x="533520" y="2514600"/>
            <a:ext cx="2895480" cy="205740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umelt’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5"/>
          <p:cNvSpPr/>
          <p:nvPr/>
        </p:nvSpPr>
        <p:spPr>
          <a:xfrm flipV="1">
            <a:off x="3429000" y="205704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6"/>
          <p:cNvSpPr/>
          <p:nvPr/>
        </p:nvSpPr>
        <p:spPr>
          <a:xfrm flipV="1">
            <a:off x="3429000" y="32767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7"/>
          <p:cNvSpPr/>
          <p:nvPr/>
        </p:nvSpPr>
        <p:spPr>
          <a:xfrm>
            <a:off x="3429000" y="35812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8"/>
          <p:cNvSpPr/>
          <p:nvPr/>
        </p:nvSpPr>
        <p:spPr>
          <a:xfrm>
            <a:off x="3429000" y="3581280"/>
            <a:ext cx="1523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A7E50CCB-4057-4755-A477-32E2D152AE5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05-06T19:40:39Z</dcterms:modified>
  <cp:revision>463</cp:revision>
  <dc:subject/>
  <dc:title>Chapter 1  The Nature of Strategic Management</dc:title>
</cp:coreProperties>
</file>