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wmf" ContentType="image/x-wmf"/>
  <Override PartName="/ppt/media/image4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3A6B-0E87-4A78-BEA1-C5FBE8445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99072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Pearson Education, Inc. Publishing as Pearson Addison-W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2" descr="AW logo"/>
          <p:cNvPicPr/>
          <p:nvPr/>
        </p:nvPicPr>
        <p:blipFill>
          <a:blip r:embed="rId3"/>
          <a:stretch/>
        </p:blipFill>
        <p:spPr>
          <a:xfrm>
            <a:off x="0" y="6173640"/>
            <a:ext cx="914400" cy="684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"/>
          <p:cNvPicPr/>
          <p:nvPr/>
        </p:nvPicPr>
        <p:blipFill>
          <a:blip r:embed="rId4"/>
          <a:stretch/>
        </p:blipFill>
        <p:spPr>
          <a:xfrm>
            <a:off x="3733920" y="228600"/>
            <a:ext cx="5151240" cy="632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68580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Ramez Elmasri and Shamkant Nava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0" y="6345360"/>
            <a:ext cx="685800" cy="512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4"/>
          <a:stretch/>
        </p:blipFill>
        <p:spPr>
          <a:xfrm>
            <a:off x="8686800" y="0"/>
            <a:ext cx="466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68580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Ramez Elmasri and Shamkant Nava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AW logo"/>
          <p:cNvPicPr/>
          <p:nvPr/>
        </p:nvPicPr>
        <p:blipFill>
          <a:blip r:embed="rId3"/>
          <a:stretch/>
        </p:blipFill>
        <p:spPr>
          <a:xfrm>
            <a:off x="0" y="6345360"/>
            <a:ext cx="685800" cy="512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4"/>
          <a:stretch/>
        </p:blipFill>
        <p:spPr>
          <a:xfrm>
            <a:off x="8686800" y="0"/>
            <a:ext cx="466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99072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Pearson Education, Inc. Publishing as Pearson Addison-W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AW logo"/>
          <p:cNvPicPr/>
          <p:nvPr/>
        </p:nvPicPr>
        <p:blipFill>
          <a:blip r:embed="rId3"/>
          <a:stretch/>
        </p:blipFill>
        <p:spPr>
          <a:xfrm>
            <a:off x="0" y="6173640"/>
            <a:ext cx="914400" cy="684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4"/>
          <a:stretch/>
        </p:blipFill>
        <p:spPr>
          <a:xfrm>
            <a:off x="3733920" y="228600"/>
            <a:ext cx="5151240" cy="6327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380880" y="2209680"/>
            <a:ext cx="304812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entury Gothic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Century Gothic"/>
              </a:rPr>
              <a:t>Databases and Database Us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80880" y="2209680"/>
            <a:ext cx="3048120" cy="39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entury Gothic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Century Gothic"/>
              </a:rPr>
              <a:t>More SQL: Complex Queries, Triggers, Views, and Schema Mod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6002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ther comparison operators to compare a single val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 AN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 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per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val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qual to some value in the s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s hence equivalen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operators that can be combined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752480" y="4952880"/>
            <a:ext cx="5094360" cy="14479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ed Queri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ed Queri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potential errors and ambigu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uple variables (aliases) for all tables referenced in SQL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7272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lated Nested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l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sted qu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d once for each tuple in the outer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XISTS and UNIQUE Function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whether the result of a correlated nested query is empty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OT EX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used in conjunction with a correlated nested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functio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UNIQUE(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there are no duplicate tuples in the result of query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Sets and Renaming of Attribute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e explicit set of values in WHERE 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qualifier AS followed by desired new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ame any attribute that appears in the result of a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914400" y="5105520"/>
            <a:ext cx="7431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ed Tables in SQL and Outer Jo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ined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s users to specify a table resulting from a join operation in the FROM clause of a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OM clause in Q1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 single joined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380880" y="4648320"/>
            <a:ext cx="80820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ed Tables in SQL and Outer Joi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different types of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JO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types of OUTER J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JOIN on two relations R and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join condition 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EQUIJOIN condition for each pair of attributes with same name from R and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ed Tables in SQL and Outer Joi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ner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type of join in a joined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ple is included in the result only if a matching tuple exists in the other 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OUTER JO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uple in left table must appear in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matching t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ded with NULL values for attributes of right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ed Tables in SQL and Outer Joi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OUTER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uple in right table must appear in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matching t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ded with NULL values for the attributes of left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OUTER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nest join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e Function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ummarize information from multiple tuples into a single-tuple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p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subgroups of tuples before summar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-in aggregat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V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can be used in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use or in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AV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5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plex SQL Retrieval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ing Constraints as Assertions and Actions as Tri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s (Virtual Tables) in 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ma Change Statements in 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e Functions in SQ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LL values discarded when aggregate functions are applied to a particular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32448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ing: The GROUP BY and HAVING Cl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ation into subsets of tu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ing attribute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function to each such group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 B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s grouping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ULLs exist in grouping attribu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group created for all tuples with a NULL value in grouping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ing: The GROUP BY and HAVING Claus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AV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 condition on the summar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221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and Summary of SQL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61005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ying Constraints as Assertions and Actions as Trig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05120"/>
            <a:ext cx="8228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ASSE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additional types of constraints outside scope of built-in relational model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TRI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automatic actions that database system will perform when certain events and conditions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ying General Constraints as Assertion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ASSER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a query that selects any tuples that violate the desired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nly in cases where it is not possible to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ttributes and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6337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Trigger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TRIGG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onitor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trigger has three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t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s (Virtual Tables)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 of a view in 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table derived from other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to be a virtual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ation of View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VI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able name, list of attribute names, and a query to specify the contents of the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6572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ation of Views in SQL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SQL queries on a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always up-to-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ility of the DBMS and not the u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ROP VIE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e of a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Complex SQL Retrieval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features allow users to specify more complex retrievals from datab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queries, joined tables, outer joins, aggregate functions, and grou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 Implementation, View Update, and Inline 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of efficiently implementing a view for quer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ry modific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view query into a query on underlying bas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: inefficient for views defined via complex queries that are time-consuming to exec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 materialization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ly create a temporary view table when the view is first quer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at table on the assumption that other queries on the view will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efficient strategy for automatically updating the view table when the base tables are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 Implementation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mental update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MS determines what new tuples must be inserted, deleted, or modified in a materialized view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 Update and Inline 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on a view defined on a single table without any aggregat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mapped to an update on underlying bas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involving jo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not possible for DBMS to determine which of the updates is in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600200"/>
            <a:ext cx="8228160" cy="39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 CHECK O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added at the end of the view definition if a view is to be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-line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use of an SQL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 Update and Inline View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 Change Statements i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ma evolution comm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one while the database is operat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require recompilation of the database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ROP Com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DRO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drop named schema elements, such as tables, domains, or con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behavior op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SCA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ROP SCHEMA COMPANY CASCA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 Com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er table ac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r dropping a column (attribu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a column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r dropping table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LTER TABLE COMPANY.EMPLOYEE ADD COLUMN Job VARCHAR(1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rop a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ei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SCA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 Command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constraints specified on a 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r drop a named con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6004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SQ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queries, joined tables, outer joins, aggregate functions, grou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ASSER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TRI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or derived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s Involving NU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ree-Valued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s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known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available or withhel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applicable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ndividual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 considered to be different from every other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uses a three-valued log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s Involving NU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ree-Valued Logic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5819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s Involving NU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ree-Valued Logic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allows queries that check whether an attribute value i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S NOT N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7253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ed Queries, Tuple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Set/Multiset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sted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select-from-where blocks within WHERE clause of another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er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perator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s valu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a set (or multiset) of valu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ne of the elemen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ed Queri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72900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ed Queri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uples of values in comparis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m within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6562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5:58:58Z</dcterms:created>
  <dc:creator>Dr. HASSAN</dc:creator>
  <dc:description/>
  <dc:language>en-US</dc:language>
  <cp:lastModifiedBy>Dr. HASSAN</cp:lastModifiedBy>
  <dcterms:modified xsi:type="dcterms:W3CDTF">2011-06-26T09:16:50Z</dcterms:modified>
  <cp:revision>61</cp:revision>
  <dc:subject/>
  <dc:title>Slide 1</dc:title>
</cp:coreProperties>
</file>