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9F9-B742-40FE-ACE2-BAB0F611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D15-6117-4F19-B4A2-6F43CF0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5F8-6666-4D21-8935-269F9ED9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F6F-8325-4794-A736-82B0C7FC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090-1F00-40D7-B9A4-5694C055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F5F-5943-49F3-B960-3FAC305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8C6-45D7-4459-9090-0901964E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FE0-260B-4174-8DE1-7942B21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132-C769-4EDC-AC0F-DE1E1E6C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AB8-EF85-43CF-8BFF-5F3AA8A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908-A930-4A77-9BC1-8BCD573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E0E-FD64-4CE9-92BE-6911F2B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F97-752D-4764-96D7-9E24E5E5A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pc38</cp:lastModifiedBy>
  <dcterms:modified xsi:type="dcterms:W3CDTF">2012-02-05T08:46:55Z</dcterms:modified>
  <cp:revision>14</cp:revision>
  <dc:subject/>
  <dc:title>PowerPoint Presentation</dc:title>
</cp:coreProperties>
</file>