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434-2B37-4DDA-A07D-4548CFD1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7E1-DFB2-4D01-940A-DA087446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0D4-3EFD-42D8-BE61-6ABE0AF1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0B2-2A89-4BB6-9CC7-33CAD3C2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9D85-BA1B-4E7D-920D-A79DB9DF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A61E-64C5-490E-9A09-FEAF4D67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E7EE-9745-4845-BAD2-00B4526C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18AB-FCE3-4660-9DEF-4192672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594-81B7-4E88-BC2F-880663AA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025E-5E13-4444-8939-18E3923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83E6-023F-4AB8-9238-7E86278B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9D5-96B3-46F0-BAEB-568E7662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B83C-DB30-4043-AB14-EC8FF99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AED1-5417-4668-8194-4A6D965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6F8E-3720-4080-B82C-A313EBE6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DD2A-C0D2-4D21-B279-BF8111CA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EEDA-F3E2-43DB-9E7F-20F73427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3CB-69EC-4130-BF39-CB209DEC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7A3-E3FC-4DEF-BF57-A54BD50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0FA-8DDD-46CE-928E-2F5906DB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3EC-5E4E-4A9C-A375-B5CD333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DAE-BAAA-4C03-85BF-7208870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92B-BB9E-4A4F-955A-9BA25F2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97F-9A42-4E2E-8255-78E18DE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0EE-216B-4180-B40C-C6A812FB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0E45-E188-4D74-A52B-68264FB7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pc38</cp:lastModifiedBy>
  <dcterms:modified xsi:type="dcterms:W3CDTF">2012-02-05T08:49:05Z</dcterms:modified>
  <cp:revision>10</cp:revision>
  <dc:subject/>
  <dc:title>PowerPoint Presentation</dc:title>
</cp:coreProperties>
</file>