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F8E-F938-4517-935F-40D9B4EC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A38-0222-407D-A913-CD4C36B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08F-B6C3-438A-9BDB-3DB7EB14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56C-94FC-4B0B-9CDF-4F7C691B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D6F2-C18F-4649-B284-35368A63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0300-84FA-4D0D-B745-C494DE7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518-E1E7-4C98-B521-CE992CA2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130-287B-4870-8EAA-6BAFB519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10E-9489-4DB4-8E57-1012DEC1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4747-2B6C-445B-8FFC-93DDEF9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5416-A787-4362-8A8F-19775F8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664-7D48-480A-879B-C9009DE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2F4-3B74-4B40-AC61-8648EB8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2B22-D373-408C-AFCE-FB2D956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37F7-9602-4A0B-AB56-C2E1F06C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CDE4-2B7A-44A8-B510-957CFD36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F6FD-FC0C-47C0-869A-C89D4630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942-7E86-4105-9E0E-E9526DC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F7E-9323-4486-AF98-905F406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793-D447-4D83-A10F-72946954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2A0-066E-427E-8476-B773522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91C-2BD2-43EF-83A7-69AF29DC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56D-E5CF-42E7-B3BA-5A23FCA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754-E478-4476-8D08-BAC1693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E5A7-3F27-459E-9536-BD3B715A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B31-39F1-4E06-A2D0-136731EE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pc38</cp:lastModifiedBy>
  <dcterms:modified xsi:type="dcterms:W3CDTF">2012-02-05T08:49:21Z</dcterms:modified>
  <cp:revision>22</cp:revision>
  <dc:subject/>
  <dc:title>PowerPoint Presentation</dc:title>
</cp:coreProperties>
</file>