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2430-6547-4AA0-AA7E-745800124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28C0-D88A-486B-B999-F6B1C3D5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684E-13E6-49CA-9B9F-AF464E57C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013A-389E-4071-B159-4A2634F83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6CAA-6886-43B4-B7E3-5B55E6FB3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535A-5788-42A7-B188-F5DBE138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7CF5-671D-473C-A128-DB71FE9D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B2AC-FCB9-47A7-9DB9-4AECCDF5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CAAD-5338-4D99-A99E-B6FFD1C0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FECB-F743-4F9D-A296-D56FB97A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2B27F-61CB-461E-82D0-FD172FAC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E26F-FE50-49CA-85B8-F1EE8CC6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2750-A8E4-46F0-ACBB-F74A259D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67554-5856-4DE4-BF20-BEDD204C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F0BBB-19DC-48C9-80C8-83ABD112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B9BB2-6003-4634-B88E-154AEE681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B556-8CB3-4F17-86AB-E3070B234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B09D-0D31-4714-A929-8D7A9644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6410-16B3-4B0F-AC6B-4B7F093C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9AB9-F538-4302-91CC-9114C8AB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4947-025E-402D-9EB3-B7D03A1F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9A8B-27DE-4DAB-895B-F5AB1C25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8937-00BF-485E-8E8C-306CD9BF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50B7-E0F6-40A6-BC68-86E106B4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837840"/>
                  <a:gd name="textAreaBottom" fmla="*/ 6838200 h 68378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DBE2-DB58-4BB2-AAB5-B5EE45080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20240"/>
                  <a:gd name="textAreaBottom" fmla="*/ 9120600 h 91202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560"/>
                  <a:gd name="textAreaBottom" fmla="*/ 574920 h 574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0040"/>
                  <a:gd name="textAreaBottom" fmla="*/ 500400 h 5000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>
                  <a:gd name="textAreaLeft" fmla="*/ -360 w 461880"/>
                  <a:gd name="textAreaRight" fmla="*/ 461880 w 46188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840"/>
                  <a:gd name="textAreaBottom" fmla="*/ 502200 h 501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>
                <a:gd name="textAreaLeft" fmla="*/ -360 w 9147240"/>
                <a:gd name="textAreaRight" fmla="*/ 9147240 w 914724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44A9-E80C-4438-8168-9DCB9DE8F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304920" y="762120"/>
            <a:ext cx="8458200" cy="182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90a8"/>
                </a:solidFill>
                <a:latin typeface="Times New Roman"/>
              </a:rPr>
              <a:t>Chapter 4:</a:t>
            </a:r>
            <a:r>
              <a:rPr b="1" lang="en-US" sz="3600" spc="-1" strike="noStrike">
                <a:solidFill>
                  <a:srgbClr val="5490a8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90a8"/>
                </a:solidFill>
                <a:latin typeface="Times New Roman"/>
              </a:rPr>
              <a:t>Probability </a:t>
            </a:r>
            <a:r>
              <a:rPr b="1" lang="en-US" sz="4800" spc="-1" strike="noStrike">
                <a:solidFill>
                  <a:srgbClr val="5490a8"/>
                </a:solidFill>
                <a:latin typeface="Times New Roman"/>
              </a:rPr>
              <a:t>Distribu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90a8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838080" y="3808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11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probability that the selected person ha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ss th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col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7"/>
              <p:cNvSpPr txBox="1"/>
              <p:nvPr/>
            </p:nvSpPr>
            <p:spPr>
              <a:xfrm>
                <a:off x="1600200" y="1295280"/>
                <a:ext cx="304812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6" name="Rectangle 8"/>
          <p:cNvSpPr/>
          <p:nvPr/>
        </p:nvSpPr>
        <p:spPr>
          <a:xfrm>
            <a:off x="838080" y="1979640"/>
            <a:ext cx="83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Graphical Presenta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ability distribution of a discrete r. v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graphically presented as foll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Group 23"/>
          <p:cNvGrpSpPr/>
          <p:nvPr/>
        </p:nvGrpSpPr>
        <p:grpSpPr>
          <a:xfrm>
            <a:off x="3429000" y="3505320"/>
            <a:ext cx="1992240" cy="1981080"/>
            <a:chOff x="3429000" y="3505320"/>
            <a:chExt cx="1992240" cy="1981080"/>
          </a:xfrm>
        </p:grpSpPr>
        <p:grpSp>
          <p:nvGrpSpPr>
            <p:cNvPr id="278" name="Group 21"/>
            <p:cNvGrpSpPr/>
            <p:nvPr/>
          </p:nvGrpSpPr>
          <p:grpSpPr>
            <a:xfrm>
              <a:off x="3433680" y="3509280"/>
              <a:ext cx="1982880" cy="1971720"/>
              <a:chOff x="3433680" y="3509280"/>
              <a:chExt cx="1982880" cy="1971720"/>
            </a:xfrm>
          </p:grpSpPr>
          <p:grpSp>
            <p:nvGrpSpPr>
              <p:cNvPr id="279" name="Group 14"/>
              <p:cNvGrpSpPr/>
              <p:nvPr/>
            </p:nvGrpSpPr>
            <p:grpSpPr>
              <a:xfrm>
                <a:off x="3433680" y="3509280"/>
                <a:ext cx="676440" cy="647280"/>
                <a:chOff x="3433680" y="3509280"/>
                <a:chExt cx="676440" cy="647280"/>
              </a:xfrm>
            </p:grpSpPr>
            <p:sp>
              <p:nvSpPr>
                <p:cNvPr id="280" name="Rectangle 9"/>
                <p:cNvSpPr/>
                <p:nvPr/>
              </p:nvSpPr>
              <p:spPr>
                <a:xfrm>
                  <a:off x="3502080" y="3509280"/>
                  <a:ext cx="539640" cy="64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Rectangle 13"/>
                <p:cNvSpPr/>
                <p:nvPr/>
              </p:nvSpPr>
              <p:spPr>
                <a:xfrm>
                  <a:off x="3433680" y="3509280"/>
                  <a:ext cx="676440" cy="64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Group 16"/>
              <p:cNvGrpSpPr/>
              <p:nvPr/>
            </p:nvGrpSpPr>
            <p:grpSpPr>
              <a:xfrm>
                <a:off x="4110120" y="3509280"/>
                <a:ext cx="1306440" cy="647280"/>
                <a:chOff x="4110120" y="3509280"/>
                <a:chExt cx="1306440" cy="647280"/>
              </a:xfrm>
            </p:grpSpPr>
            <p:sp>
              <p:nvSpPr>
                <p:cNvPr id="283" name="Rectangle 10"/>
                <p:cNvSpPr/>
                <p:nvPr/>
              </p:nvSpPr>
              <p:spPr>
                <a:xfrm>
                  <a:off x="4178160" y="3509280"/>
                  <a:ext cx="1170000" cy="64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(X=x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Rectangle 15"/>
                <p:cNvSpPr/>
                <p:nvPr/>
              </p:nvSpPr>
              <p:spPr>
                <a:xfrm>
                  <a:off x="4110120" y="3509280"/>
                  <a:ext cx="1306440" cy="64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Group 18"/>
              <p:cNvGrpSpPr/>
              <p:nvPr/>
            </p:nvGrpSpPr>
            <p:grpSpPr>
              <a:xfrm>
                <a:off x="3433680" y="4156560"/>
                <a:ext cx="676440" cy="1324440"/>
                <a:chOff x="3433680" y="4156560"/>
                <a:chExt cx="676440" cy="1324440"/>
              </a:xfrm>
            </p:grpSpPr>
            <p:sp>
              <p:nvSpPr>
                <p:cNvPr id="286" name="Rectangle 11"/>
                <p:cNvSpPr/>
                <p:nvPr/>
              </p:nvSpPr>
              <p:spPr>
                <a:xfrm>
                  <a:off x="3502080" y="4156560"/>
                  <a:ext cx="539640" cy="132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Rectangle 17"/>
                <p:cNvSpPr/>
                <p:nvPr/>
              </p:nvSpPr>
              <p:spPr>
                <a:xfrm>
                  <a:off x="3433680" y="4156560"/>
                  <a:ext cx="676440" cy="132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Group 20"/>
              <p:cNvGrpSpPr/>
              <p:nvPr/>
            </p:nvGrpSpPr>
            <p:grpSpPr>
              <a:xfrm>
                <a:off x="4110120" y="4156560"/>
                <a:ext cx="1306440" cy="1324440"/>
                <a:chOff x="4110120" y="4156560"/>
                <a:chExt cx="1306440" cy="1324440"/>
              </a:xfrm>
            </p:grpSpPr>
            <p:sp>
              <p:nvSpPr>
                <p:cNvPr id="289" name="Rectangle 12"/>
                <p:cNvSpPr/>
                <p:nvPr/>
              </p:nvSpPr>
              <p:spPr>
                <a:xfrm>
                  <a:off x="4178160" y="4156560"/>
                  <a:ext cx="1170000" cy="132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625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187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125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062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Rectangle 19"/>
                <p:cNvSpPr/>
                <p:nvPr/>
              </p:nvSpPr>
              <p:spPr>
                <a:xfrm>
                  <a:off x="4110120" y="4156560"/>
                  <a:ext cx="1306440" cy="132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1" name="Rectangle 22"/>
            <p:cNvSpPr/>
            <p:nvPr/>
          </p:nvSpPr>
          <p:spPr>
            <a:xfrm>
              <a:off x="3429000" y="3505320"/>
              <a:ext cx="1992240" cy="19810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5"/>
          <p:cNvSpPr/>
          <p:nvPr/>
        </p:nvSpPr>
        <p:spPr>
          <a:xfrm>
            <a:off x="914400" y="152280"/>
            <a:ext cx="822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Population Mean of a Discrete Random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an of a discrete random varia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denoted by µ  and defin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6"/>
              <p:cNvSpPr txBox="1"/>
              <p:nvPr/>
            </p:nvSpPr>
            <p:spPr>
              <a:xfrm>
                <a:off x="1847880" y="1631880"/>
                <a:ext cx="19620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x</m:t>
                        </m:r>
                        <m:r>
                          <m:t xml:space="preserve">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94" name="Rectangle 8"/>
          <p:cNvSpPr/>
          <p:nvPr/>
        </p:nvSpPr>
        <p:spPr>
          <a:xfrm>
            <a:off x="4191120" y="1541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ean = expected value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838080" y="2151000"/>
            <a:ext cx="830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wish to calculate the mean µ of the discrete r. v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revious exam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Group 43"/>
          <p:cNvGrpSpPr/>
          <p:nvPr/>
        </p:nvGrpSpPr>
        <p:grpSpPr>
          <a:xfrm>
            <a:off x="2286000" y="3095640"/>
            <a:ext cx="4343040" cy="2847960"/>
            <a:chOff x="2286000" y="3095640"/>
            <a:chExt cx="4343040" cy="2847960"/>
          </a:xfrm>
        </p:grpSpPr>
        <mc:AlternateContent>
          <mc:Choice xmlns:a14="http://schemas.microsoft.com/office/drawing/2010/main" Requires="a14">
            <p:sp>
              <p:nvSpPr>
                <p:cNvPr id="297" name="Object 12"/>
                <p:cNvSpPr txBox="1"/>
                <p:nvPr/>
              </p:nvSpPr>
              <p:spPr>
                <a:xfrm>
                  <a:off x="4876920" y="5305680"/>
                  <a:ext cx="1676160" cy="29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x</m:t>
                              </m:r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0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8" name="Object 11"/>
                <p:cNvSpPr txBox="1"/>
                <p:nvPr/>
              </p:nvSpPr>
              <p:spPr>
                <a:xfrm>
                  <a:off x="3200400" y="5291280"/>
                  <a:ext cx="1600200" cy="62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xP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</m:nary>
                          <m:r>
                            <m:rPr>
                              <m:lit/>
                              <m:nor/>
                            </m:rPr>
                            <m:t xml:space="preserve">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</m:t>
                          </m:r>
                          <m:r>
                            <m:t xml:space="preserve">=</m:t>
                          </m:r>
                          <m:r>
                            <m:t xml:space="preserve">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625</m:t>
                          </m:r>
                          <m:r>
                            <m:t xml:space="preserve">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299" name="Group 42"/>
            <p:cNvGrpSpPr/>
            <p:nvPr/>
          </p:nvGrpSpPr>
          <p:grpSpPr>
            <a:xfrm>
              <a:off x="2286000" y="3095640"/>
              <a:ext cx="4343040" cy="2847960"/>
              <a:chOff x="2286000" y="3095640"/>
              <a:chExt cx="4343040" cy="2847960"/>
            </a:xfrm>
          </p:grpSpPr>
          <p:grpSp>
            <p:nvGrpSpPr>
              <p:cNvPr id="300" name="Group 40"/>
              <p:cNvGrpSpPr/>
              <p:nvPr/>
            </p:nvGrpSpPr>
            <p:grpSpPr>
              <a:xfrm>
                <a:off x="2290680" y="3100320"/>
                <a:ext cx="4332600" cy="2838600"/>
                <a:chOff x="2290680" y="3100320"/>
                <a:chExt cx="4332600" cy="2838600"/>
              </a:xfrm>
            </p:grpSpPr>
            <p:grpSp>
              <p:nvGrpSpPr>
                <p:cNvPr id="301" name="Group 23"/>
                <p:cNvGrpSpPr/>
                <p:nvPr/>
              </p:nvGrpSpPr>
              <p:grpSpPr>
                <a:xfrm>
                  <a:off x="2290680" y="3100320"/>
                  <a:ext cx="852120" cy="701640"/>
                  <a:chOff x="2290680" y="3100320"/>
                  <a:chExt cx="852120" cy="701640"/>
                </a:xfrm>
              </p:grpSpPr>
              <p:sp>
                <p:nvSpPr>
                  <p:cNvPr id="302" name="Rectangle 13"/>
                  <p:cNvSpPr/>
                  <p:nvPr/>
                </p:nvSpPr>
                <p:spPr>
                  <a:xfrm>
                    <a:off x="2362680" y="3100320"/>
                    <a:ext cx="70812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Rectangle 22"/>
                  <p:cNvSpPr/>
                  <p:nvPr/>
                </p:nvSpPr>
                <p:spPr>
                  <a:xfrm>
                    <a:off x="2290680" y="3100320"/>
                    <a:ext cx="85212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4" name="Group 25"/>
                <p:cNvGrpSpPr/>
                <p:nvPr/>
              </p:nvGrpSpPr>
              <p:grpSpPr>
                <a:xfrm>
                  <a:off x="3143160" y="3100320"/>
                  <a:ext cx="1686240" cy="701640"/>
                  <a:chOff x="3143160" y="3100320"/>
                  <a:chExt cx="1686240" cy="701640"/>
                </a:xfrm>
              </p:grpSpPr>
              <p:sp>
                <p:nvSpPr>
                  <p:cNvPr id="305" name="Rectangle 14"/>
                  <p:cNvSpPr/>
                  <p:nvPr/>
                </p:nvSpPr>
                <p:spPr>
                  <a:xfrm>
                    <a:off x="3215160" y="3100320"/>
                    <a:ext cx="154188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(X=x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Rectangle 24"/>
                  <p:cNvSpPr/>
                  <p:nvPr/>
                </p:nvSpPr>
                <p:spPr>
                  <a:xfrm>
                    <a:off x="3143160" y="3100320"/>
                    <a:ext cx="168624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7" name="Group 27"/>
                <p:cNvGrpSpPr/>
                <p:nvPr/>
              </p:nvGrpSpPr>
              <p:grpSpPr>
                <a:xfrm>
                  <a:off x="4829760" y="3100320"/>
                  <a:ext cx="1793520" cy="701640"/>
                  <a:chOff x="4829760" y="3100320"/>
                  <a:chExt cx="1793520" cy="701640"/>
                </a:xfrm>
              </p:grpSpPr>
              <p:sp>
                <p:nvSpPr>
                  <p:cNvPr id="308" name="Rectangle 15"/>
                  <p:cNvSpPr/>
                  <p:nvPr/>
                </p:nvSpPr>
                <p:spPr>
                  <a:xfrm>
                    <a:off x="4901760" y="3100320"/>
                    <a:ext cx="164916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P(X=x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Rectangle 26"/>
                  <p:cNvSpPr/>
                  <p:nvPr/>
                </p:nvSpPr>
                <p:spPr>
                  <a:xfrm>
                    <a:off x="4829760" y="3100320"/>
                    <a:ext cx="179352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0" name="Group 29"/>
                <p:cNvGrpSpPr/>
                <p:nvPr/>
              </p:nvGrpSpPr>
              <p:grpSpPr>
                <a:xfrm>
                  <a:off x="2290680" y="3801960"/>
                  <a:ext cx="852120" cy="1434960"/>
                  <a:chOff x="2290680" y="3801960"/>
                  <a:chExt cx="852120" cy="1434960"/>
                </a:xfrm>
              </p:grpSpPr>
              <p:sp>
                <p:nvSpPr>
                  <p:cNvPr id="311" name="Rectangle 16"/>
                  <p:cNvSpPr/>
                  <p:nvPr/>
                </p:nvSpPr>
                <p:spPr>
                  <a:xfrm>
                    <a:off x="2362680" y="3801960"/>
                    <a:ext cx="708120" cy="14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Rectangle 28"/>
                  <p:cNvSpPr/>
                  <p:nvPr/>
                </p:nvSpPr>
                <p:spPr>
                  <a:xfrm>
                    <a:off x="2290680" y="3801960"/>
                    <a:ext cx="852120" cy="1434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3" name="Group 31"/>
                <p:cNvGrpSpPr/>
                <p:nvPr/>
              </p:nvGrpSpPr>
              <p:grpSpPr>
                <a:xfrm>
                  <a:off x="3143160" y="3801960"/>
                  <a:ext cx="1686240" cy="1434960"/>
                  <a:chOff x="3143160" y="3801960"/>
                  <a:chExt cx="1686240" cy="1434960"/>
                </a:xfrm>
              </p:grpSpPr>
              <p:sp>
                <p:nvSpPr>
                  <p:cNvPr id="314" name="Rectangle 17"/>
                  <p:cNvSpPr/>
                  <p:nvPr/>
                </p:nvSpPr>
                <p:spPr>
                  <a:xfrm>
                    <a:off x="3215160" y="3801960"/>
                    <a:ext cx="1541880" cy="14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625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87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25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62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Rectangle 30"/>
                  <p:cNvSpPr/>
                  <p:nvPr/>
                </p:nvSpPr>
                <p:spPr>
                  <a:xfrm>
                    <a:off x="3143160" y="3801960"/>
                    <a:ext cx="1686240" cy="1434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6" name="Group 33"/>
                <p:cNvGrpSpPr/>
                <p:nvPr/>
              </p:nvGrpSpPr>
              <p:grpSpPr>
                <a:xfrm>
                  <a:off x="4829760" y="3801960"/>
                  <a:ext cx="1793520" cy="1434960"/>
                  <a:chOff x="4829760" y="3801960"/>
                  <a:chExt cx="1793520" cy="1434960"/>
                </a:xfrm>
              </p:grpSpPr>
              <p:sp>
                <p:nvSpPr>
                  <p:cNvPr id="317" name="Rectangle 18"/>
                  <p:cNvSpPr/>
                  <p:nvPr/>
                </p:nvSpPr>
                <p:spPr>
                  <a:xfrm>
                    <a:off x="4901760" y="3801960"/>
                    <a:ext cx="1649160" cy="14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87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25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87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Rectangle 32"/>
                  <p:cNvSpPr/>
                  <p:nvPr/>
                </p:nvSpPr>
                <p:spPr>
                  <a:xfrm>
                    <a:off x="4829760" y="3801960"/>
                    <a:ext cx="1793520" cy="1434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9" name="Group 35"/>
                <p:cNvGrpSpPr/>
                <p:nvPr/>
              </p:nvGrpSpPr>
              <p:grpSpPr>
                <a:xfrm>
                  <a:off x="2290680" y="5236920"/>
                  <a:ext cx="852120" cy="702000"/>
                  <a:chOff x="2290680" y="5236920"/>
                  <a:chExt cx="852120" cy="702000"/>
                </a:xfrm>
              </p:grpSpPr>
              <p:sp>
                <p:nvSpPr>
                  <p:cNvPr id="320" name="Rectangle 19"/>
                  <p:cNvSpPr/>
                  <p:nvPr/>
                </p:nvSpPr>
                <p:spPr>
                  <a:xfrm>
                    <a:off x="2362680" y="5236920"/>
                    <a:ext cx="70812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ta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Rectangle 34"/>
                  <p:cNvSpPr/>
                  <p:nvPr/>
                </p:nvSpPr>
                <p:spPr>
                  <a:xfrm>
                    <a:off x="2290680" y="5236920"/>
                    <a:ext cx="852120" cy="702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2" name="Group 37"/>
                <p:cNvGrpSpPr/>
                <p:nvPr/>
              </p:nvGrpSpPr>
              <p:grpSpPr>
                <a:xfrm>
                  <a:off x="3143160" y="5236920"/>
                  <a:ext cx="1686240" cy="702000"/>
                  <a:chOff x="3143160" y="5236920"/>
                  <a:chExt cx="1686240" cy="702000"/>
                </a:xfrm>
              </p:grpSpPr>
              <p:sp>
                <p:nvSpPr>
                  <p:cNvPr id="323" name="Rectangle 20"/>
                  <p:cNvSpPr/>
                  <p:nvPr/>
                </p:nvSpPr>
                <p:spPr>
                  <a:xfrm>
                    <a:off x="3215160" y="5236920"/>
                    <a:ext cx="154188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Rectangle 36"/>
                  <p:cNvSpPr/>
                  <p:nvPr/>
                </p:nvSpPr>
                <p:spPr>
                  <a:xfrm>
                    <a:off x="3143160" y="5236920"/>
                    <a:ext cx="1686240" cy="702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5" name="Group 39"/>
                <p:cNvGrpSpPr/>
                <p:nvPr/>
              </p:nvGrpSpPr>
              <p:grpSpPr>
                <a:xfrm>
                  <a:off x="4829760" y="5236920"/>
                  <a:ext cx="1793520" cy="702000"/>
                  <a:chOff x="4829760" y="5236920"/>
                  <a:chExt cx="1793520" cy="702000"/>
                </a:xfrm>
              </p:grpSpPr>
              <p:sp>
                <p:nvSpPr>
                  <p:cNvPr id="326" name="Rectangle 21"/>
                  <p:cNvSpPr/>
                  <p:nvPr/>
                </p:nvSpPr>
                <p:spPr>
                  <a:xfrm>
                    <a:off x="4901760" y="5236920"/>
                    <a:ext cx="164916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Rectangle 38"/>
                  <p:cNvSpPr/>
                  <p:nvPr/>
                </p:nvSpPr>
                <p:spPr>
                  <a:xfrm>
                    <a:off x="4829760" y="5236920"/>
                    <a:ext cx="1793520" cy="702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8" name="Rectangle 41"/>
              <p:cNvSpPr/>
              <p:nvPr/>
            </p:nvSpPr>
            <p:spPr>
              <a:xfrm>
                <a:off x="2286000" y="3095640"/>
                <a:ext cx="4343040" cy="284796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329" name="Object 44"/>
              <p:cNvSpPr txBox="1"/>
              <p:nvPr/>
            </p:nvSpPr>
            <p:spPr>
              <a:xfrm>
                <a:off x="914400" y="6100920"/>
                <a:ext cx="80010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25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75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</m:t>
                        </m:r>
                      </m:e>
                    </m:nary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25</m:t>
                        </m:r>
                      </m:e>
                    </m:d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5"/>
          <p:cNvSpPr/>
          <p:nvPr/>
        </p:nvSpPr>
        <p:spPr>
          <a:xfrm>
            <a:off x="838080" y="228600"/>
            <a:ext cx="830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Cumulative Distributions: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umulative distribution of a discrete r. v. x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defin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6"/>
              <p:cNvSpPr txBox="1"/>
              <p:nvPr/>
            </p:nvSpPr>
            <p:spPr>
              <a:xfrm>
                <a:off x="2095560" y="1665360"/>
                <a:ext cx="27050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32" name="Rectangle 8"/>
          <p:cNvSpPr/>
          <p:nvPr/>
        </p:nvSpPr>
        <p:spPr>
          <a:xfrm>
            <a:off x="838080" y="2133720"/>
            <a:ext cx="830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cumulative distribu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previous example i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Group 32"/>
          <p:cNvGrpSpPr/>
          <p:nvPr/>
        </p:nvGrpSpPr>
        <p:grpSpPr>
          <a:xfrm>
            <a:off x="1676520" y="3276720"/>
            <a:ext cx="6247800" cy="2590200"/>
            <a:chOff x="1676520" y="3276720"/>
            <a:chExt cx="6247800" cy="2590200"/>
          </a:xfrm>
        </p:grpSpPr>
        <mc:AlternateContent>
          <mc:Choice xmlns:a14="http://schemas.microsoft.com/office/drawing/2010/main" Requires="a14">
            <p:sp>
              <p:nvSpPr>
                <p:cNvPr id="334" name="Object 13"/>
                <p:cNvSpPr txBox="1"/>
                <p:nvPr/>
              </p:nvSpPr>
              <p:spPr>
                <a:xfrm>
                  <a:off x="2257560" y="3355920"/>
                  <a:ext cx="942840" cy="30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x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5" name="Object 12"/>
                <p:cNvSpPr txBox="1"/>
                <p:nvPr/>
              </p:nvSpPr>
              <p:spPr>
                <a:xfrm>
                  <a:off x="3505320" y="3705120"/>
                  <a:ext cx="2209680" cy="33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0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6" name="Object 11"/>
                <p:cNvSpPr txBox="1"/>
                <p:nvPr/>
              </p:nvSpPr>
              <p:spPr>
                <a:xfrm>
                  <a:off x="3457440" y="4091040"/>
                  <a:ext cx="3248280" cy="32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1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d>
                      <m:r>
                        <m:t xml:space="preserve">+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7" name="Object 10"/>
                <p:cNvSpPr txBox="1"/>
                <p:nvPr/>
              </p:nvSpPr>
              <p:spPr>
                <a:xfrm>
                  <a:off x="3495600" y="4940280"/>
                  <a:ext cx="4353120" cy="31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2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d>
                      <m:r>
                        <m:t xml:space="preserve">+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d>
                      <m:r>
                        <m:t xml:space="preserve">+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8" name="Object 9"/>
                <p:cNvSpPr txBox="1"/>
                <p:nvPr/>
              </p:nvSpPr>
              <p:spPr>
                <a:xfrm>
                  <a:off x="3467160" y="4495680"/>
                  <a:ext cx="3848040" cy="33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3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d>
                      <m:r>
                        <m:t xml:space="preserve">+</m:t>
                      </m:r>
                      <m:r>
                        <m:t xml:space="preserve">L</m:t>
                      </m:r>
                      <m:r>
                        <m:t xml:space="preserve">+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339" name="Group 31"/>
            <p:cNvGrpSpPr/>
            <p:nvPr/>
          </p:nvGrpSpPr>
          <p:grpSpPr>
            <a:xfrm>
              <a:off x="1676520" y="3276720"/>
              <a:ext cx="6247800" cy="2590200"/>
              <a:chOff x="1676520" y="3276720"/>
              <a:chExt cx="6247800" cy="2590200"/>
            </a:xfrm>
          </p:grpSpPr>
          <p:grpSp>
            <p:nvGrpSpPr>
              <p:cNvPr id="340" name="Group 29"/>
              <p:cNvGrpSpPr/>
              <p:nvPr/>
            </p:nvGrpSpPr>
            <p:grpSpPr>
              <a:xfrm>
                <a:off x="1681560" y="3282120"/>
                <a:ext cx="6236640" cy="2577960"/>
                <a:chOff x="1681560" y="3282120"/>
                <a:chExt cx="6236640" cy="2577960"/>
              </a:xfrm>
            </p:grpSpPr>
            <p:grpSp>
              <p:nvGrpSpPr>
                <p:cNvPr id="341" name="Group 20"/>
                <p:cNvGrpSpPr/>
                <p:nvPr/>
              </p:nvGrpSpPr>
              <p:grpSpPr>
                <a:xfrm>
                  <a:off x="1681560" y="3282120"/>
                  <a:ext cx="545040" cy="846360"/>
                  <a:chOff x="1681560" y="3282120"/>
                  <a:chExt cx="545040" cy="846360"/>
                </a:xfrm>
              </p:grpSpPr>
              <p:sp>
                <p:nvSpPr>
                  <p:cNvPr id="342" name="Rectangle 14"/>
                  <p:cNvSpPr/>
                  <p:nvPr/>
                </p:nvSpPr>
                <p:spPr>
                  <a:xfrm>
                    <a:off x="1757520" y="3282120"/>
                    <a:ext cx="393120" cy="84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Rectangle 19"/>
                  <p:cNvSpPr/>
                  <p:nvPr/>
                </p:nvSpPr>
                <p:spPr>
                  <a:xfrm>
                    <a:off x="1681560" y="3282120"/>
                    <a:ext cx="545040" cy="84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Group 22"/>
                <p:cNvGrpSpPr/>
                <p:nvPr/>
              </p:nvGrpSpPr>
              <p:grpSpPr>
                <a:xfrm>
                  <a:off x="2226960" y="3282120"/>
                  <a:ext cx="1040760" cy="846360"/>
                  <a:chOff x="2226960" y="3282120"/>
                  <a:chExt cx="1040760" cy="846360"/>
                </a:xfrm>
              </p:grpSpPr>
              <p:sp>
                <p:nvSpPr>
                  <p:cNvPr id="345" name="Rectangle 15"/>
                  <p:cNvSpPr/>
                  <p:nvPr/>
                </p:nvSpPr>
                <p:spPr>
                  <a:xfrm>
                    <a:off x="2302560" y="3282120"/>
                    <a:ext cx="889560" cy="84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Rectangle 21"/>
                  <p:cNvSpPr/>
                  <p:nvPr/>
                </p:nvSpPr>
                <p:spPr>
                  <a:xfrm>
                    <a:off x="2226960" y="3282120"/>
                    <a:ext cx="1040760" cy="84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Group 24"/>
                <p:cNvGrpSpPr/>
                <p:nvPr/>
              </p:nvGrpSpPr>
              <p:grpSpPr>
                <a:xfrm>
                  <a:off x="3268440" y="3282120"/>
                  <a:ext cx="4649760" cy="2577960"/>
                  <a:chOff x="3268440" y="3282120"/>
                  <a:chExt cx="4649760" cy="2577960"/>
                </a:xfrm>
              </p:grpSpPr>
              <p:sp>
                <p:nvSpPr>
                  <p:cNvPr id="348" name="Rectangle 16"/>
                  <p:cNvSpPr/>
                  <p:nvPr/>
                </p:nvSpPr>
                <p:spPr>
                  <a:xfrm>
                    <a:off x="3344400" y="3282120"/>
                    <a:ext cx="4497840" cy="2577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Rectangle 23"/>
                  <p:cNvSpPr/>
                  <p:nvPr/>
                </p:nvSpPr>
                <p:spPr>
                  <a:xfrm>
                    <a:off x="3268440" y="3282120"/>
                    <a:ext cx="4649760" cy="257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Group 26"/>
                <p:cNvGrpSpPr/>
                <p:nvPr/>
              </p:nvGrpSpPr>
              <p:grpSpPr>
                <a:xfrm>
                  <a:off x="1681560" y="4128840"/>
                  <a:ext cx="545040" cy="1731240"/>
                  <a:chOff x="1681560" y="4128840"/>
                  <a:chExt cx="545040" cy="1731240"/>
                </a:xfrm>
              </p:grpSpPr>
              <p:sp>
                <p:nvSpPr>
                  <p:cNvPr id="351" name="Rectangle 17"/>
                  <p:cNvSpPr/>
                  <p:nvPr/>
                </p:nvSpPr>
                <p:spPr>
                  <a:xfrm>
                    <a:off x="1757520" y="4128840"/>
                    <a:ext cx="393120" cy="1731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Rectangle 25"/>
                  <p:cNvSpPr/>
                  <p:nvPr/>
                </p:nvSpPr>
                <p:spPr>
                  <a:xfrm>
                    <a:off x="1681560" y="4128840"/>
                    <a:ext cx="545040" cy="1731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Group 28"/>
                <p:cNvGrpSpPr/>
                <p:nvPr/>
              </p:nvGrpSpPr>
              <p:grpSpPr>
                <a:xfrm>
                  <a:off x="2226960" y="4128840"/>
                  <a:ext cx="1040760" cy="1731240"/>
                  <a:chOff x="2226960" y="4128840"/>
                  <a:chExt cx="1040760" cy="1731240"/>
                </a:xfrm>
              </p:grpSpPr>
              <p:sp>
                <p:nvSpPr>
                  <p:cNvPr id="354" name="Rectangle 18"/>
                  <p:cNvSpPr/>
                  <p:nvPr/>
                </p:nvSpPr>
                <p:spPr>
                  <a:xfrm>
                    <a:off x="2302560" y="4128840"/>
                    <a:ext cx="889560" cy="1731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625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812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937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.00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Rectangle 27"/>
                  <p:cNvSpPr/>
                  <p:nvPr/>
                </p:nvSpPr>
                <p:spPr>
                  <a:xfrm>
                    <a:off x="2226960" y="4128840"/>
                    <a:ext cx="1040760" cy="1731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56" name="Rectangle 30"/>
              <p:cNvSpPr/>
              <p:nvPr/>
            </p:nvSpPr>
            <p:spPr>
              <a:xfrm>
                <a:off x="1676520" y="3276720"/>
                <a:ext cx="6247800" cy="259020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4"/>
          <p:cNvSpPr/>
          <p:nvPr/>
        </p:nvSpPr>
        <p:spPr>
          <a:xfrm>
            <a:off x="1066680" y="152280"/>
            <a:ext cx="792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Binomial Distribution: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discrete distrib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used to model an experiment for which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1066680" y="1600200"/>
            <a:ext cx="8075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buClr>
                <a:srgbClr val="000000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xperiment has tri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buClr>
                <a:srgbClr val="000000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possible outcomes for each trial 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success 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fail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buClr>
                <a:srgbClr val="000000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oy or girl, Saudi or non-Saudi,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buClr>
                <a:srgbClr val="000000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ability of success:   is constant for each tr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buClr>
                <a:srgbClr val="000000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rials are independent; that is the outcome of one trial has no effect on the outcome of any other t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914400" y="470520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iscrete r. v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The number of successes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als has a binomial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 with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and we 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9"/>
              <p:cNvSpPr txBox="1"/>
              <p:nvPr/>
            </p:nvSpPr>
            <p:spPr>
              <a:xfrm>
                <a:off x="2819520" y="6095880"/>
                <a:ext cx="236196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Binomia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4"/>
          <p:cNvSpPr/>
          <p:nvPr/>
        </p:nvSpPr>
        <p:spPr>
          <a:xfrm>
            <a:off x="838080" y="76356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ability distribu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given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0"/>
              <p:cNvSpPr txBox="1"/>
              <p:nvPr/>
            </p:nvSpPr>
            <p:spPr>
              <a:xfrm>
                <a:off x="1447920" y="1346040"/>
                <a:ext cx="563868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π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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o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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1"/>
              <p:cNvSpPr txBox="1"/>
              <p:nvPr/>
            </p:nvSpPr>
            <p:spPr>
              <a:xfrm>
                <a:off x="3652920" y="2744640"/>
                <a:ext cx="16048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!</m:t>
                        </m:r>
                        <m:r>
                          <m:t xml:space="preserve"></m:t>
                        </m:r>
                        <m:r>
                          <m:t xml:space="preserve"> </m:t>
                        </m:r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4" name="Rectangle 9"/>
          <p:cNvSpPr/>
          <p:nvPr/>
        </p:nvSpPr>
        <p:spPr>
          <a:xfrm>
            <a:off x="914400" y="28335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5" name="Object 0"/>
              <p:cNvSpPr txBox="1"/>
              <p:nvPr/>
            </p:nvSpPr>
            <p:spPr>
              <a:xfrm>
                <a:off x="3657600" y="1336680"/>
                <a:ext cx="9907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1"/>
              <p:cNvSpPr txBox="1"/>
              <p:nvPr/>
            </p:nvSpPr>
            <p:spPr>
              <a:xfrm>
                <a:off x="3591000" y="1774800"/>
                <a:ext cx="227628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2"/>
              <p:cNvSpPr txBox="1"/>
              <p:nvPr/>
            </p:nvSpPr>
            <p:spPr>
              <a:xfrm>
                <a:off x="3581280" y="2576520"/>
                <a:ext cx="129564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3"/>
              <p:cNvSpPr txBox="1"/>
              <p:nvPr/>
            </p:nvSpPr>
            <p:spPr>
              <a:xfrm>
                <a:off x="3581280" y="3317760"/>
                <a:ext cx="129564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4"/>
              <p:cNvSpPr txBox="1"/>
              <p:nvPr/>
            </p:nvSpPr>
            <p:spPr>
              <a:xfrm>
                <a:off x="3514680" y="4619520"/>
                <a:ext cx="15908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5"/>
              <p:cNvSpPr txBox="1"/>
              <p:nvPr/>
            </p:nvSpPr>
            <p:spPr>
              <a:xfrm>
                <a:off x="3505320" y="5394240"/>
                <a:ext cx="18288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71" name="Rectangle 63"/>
          <p:cNvSpPr/>
          <p:nvPr/>
        </p:nvSpPr>
        <p:spPr>
          <a:xfrm>
            <a:off x="838080" y="1522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write the probability distribu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table as follo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600200" y="1209600"/>
          <a:ext cx="5943600" cy="5421240"/>
        </p:xfrm>
        <a:graphic>
          <a:graphicData uri="http://schemas.openxmlformats.org/drawingml/2006/table">
            <a:tbl>
              <a:tblPr/>
              <a:tblGrid>
                <a:gridCol w="1676520"/>
                <a:gridCol w="4267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4"/>
          <p:cNvSpPr/>
          <p:nvPr/>
        </p:nvSpPr>
        <p:spPr>
          <a:xfrm>
            <a:off x="914400" y="22860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Resul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~ Binomi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n , π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1066680" y="141588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a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xpected value)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Object 0"/>
              <p:cNvSpPr txBox="1"/>
              <p:nvPr/>
            </p:nvSpPr>
            <p:spPr>
              <a:xfrm>
                <a:off x="2743200" y="1568520"/>
                <a:ext cx="99072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n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1"/>
              <p:cNvSpPr txBox="1"/>
              <p:nvPr/>
            </p:nvSpPr>
            <p:spPr>
              <a:xfrm>
                <a:off x="3276720" y="1889280"/>
                <a:ext cx="1904760" cy="44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n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7" name="Rectangle 10"/>
          <p:cNvSpPr/>
          <p:nvPr/>
        </p:nvSpPr>
        <p:spPr>
          <a:xfrm>
            <a:off x="914400" y="2527200"/>
            <a:ext cx="8228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Example: 4.2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(p.1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that the probability that a Saudi man has high blood pressure is 0.15.  If we randomly select 6 Saudi men, find the probability distribution of th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number of men out of 6 with high blood pressu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so, find the expected number of men with high blood pressu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4"/>
          <p:cNvSpPr/>
          <p:nvPr/>
        </p:nvSpPr>
        <p:spPr>
          <a:xfrm>
            <a:off x="914400" y="380880"/>
            <a:ext cx="8228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olution: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The number of men with high blood pressure in 6 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Success: The man has high blood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failure: The man does not have high blood press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6"/>
          <p:cNvSpPr/>
          <p:nvPr/>
        </p:nvSpPr>
        <p:spPr>
          <a:xfrm>
            <a:off x="914400" y="257184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success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S) = π = 0.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. of trials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=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9"/>
          <p:cNvSpPr/>
          <p:nvPr/>
        </p:nvSpPr>
        <p:spPr>
          <a:xfrm>
            <a:off x="990720" y="36846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Binomial (6, 0.1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Object 0"/>
              <p:cNvSpPr txBox="1"/>
              <p:nvPr/>
            </p:nvSpPr>
            <p:spPr>
              <a:xfrm>
                <a:off x="6877080" y="3354480"/>
                <a:ext cx="1581120" cy="12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π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π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5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=</m:t>
                              </m:r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82" name="Rectangle 12"/>
          <p:cNvSpPr/>
          <p:nvPr/>
        </p:nvSpPr>
        <p:spPr>
          <a:xfrm>
            <a:off x="914400" y="45226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ability distribu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1"/>
              <p:cNvSpPr txBox="1"/>
              <p:nvPr/>
            </p:nvSpPr>
            <p:spPr>
              <a:xfrm>
                <a:off x="1600200" y="5041800"/>
                <a:ext cx="563868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6</m:t>
                                        </m:r>
                                      </m:e>
                                    </m:mr>
                                    <m:m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mr>
                                  </m:m>
                                </m:e>
                              </m:d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5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x</m:t>
                                  </m:r>
                                </m:sup>
                              </m:sSup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85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6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x</m:t>
                                  </m:r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2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3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4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5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84" name="Object 0"/>
              <p:cNvSpPr txBox="1"/>
              <p:nvPr/>
            </p:nvSpPr>
            <p:spPr>
              <a:xfrm>
                <a:off x="1143000" y="228600"/>
                <a:ext cx="594360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7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5" name="Rectangle 10"/>
          <p:cNvSpPr/>
          <p:nvPr/>
        </p:nvSpPr>
        <p:spPr>
          <a:xfrm>
            <a:off x="0" y="29988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Object 1"/>
              <p:cNvSpPr txBox="1"/>
              <p:nvPr/>
            </p:nvSpPr>
            <p:spPr>
              <a:xfrm>
                <a:off x="1143000" y="1081080"/>
                <a:ext cx="60199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1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993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2"/>
              <p:cNvSpPr txBox="1"/>
              <p:nvPr/>
            </p:nvSpPr>
            <p:spPr>
              <a:xfrm>
                <a:off x="1133640" y="1922400"/>
                <a:ext cx="61815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6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1143000" y="2770200"/>
                <a:ext cx="609588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14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9" name="Rectangle 14"/>
          <p:cNvSpPr/>
          <p:nvPr/>
        </p:nvSpPr>
        <p:spPr>
          <a:xfrm>
            <a:off x="0" y="29988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4"/>
              <p:cNvSpPr txBox="1"/>
              <p:nvPr/>
            </p:nvSpPr>
            <p:spPr>
              <a:xfrm>
                <a:off x="1143000" y="3651120"/>
                <a:ext cx="617220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4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5"/>
              <p:cNvSpPr txBox="1"/>
              <p:nvPr/>
            </p:nvSpPr>
            <p:spPr>
              <a:xfrm>
                <a:off x="1143000" y="4570560"/>
                <a:ext cx="617220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3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6"/>
              <p:cNvSpPr txBox="1"/>
              <p:nvPr/>
            </p:nvSpPr>
            <p:spPr>
              <a:xfrm>
                <a:off x="1143000" y="5494320"/>
                <a:ext cx="563868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0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Group 35"/>
          <p:cNvGrpSpPr/>
          <p:nvPr/>
        </p:nvGrpSpPr>
        <p:grpSpPr>
          <a:xfrm>
            <a:off x="3352680" y="379440"/>
            <a:ext cx="2111040" cy="2963520"/>
            <a:chOff x="3352680" y="379440"/>
            <a:chExt cx="2111040" cy="2963520"/>
          </a:xfrm>
        </p:grpSpPr>
        <mc:AlternateContent>
          <mc:Choice xmlns:a14="http://schemas.microsoft.com/office/drawing/2010/main" Requires="a14">
            <p:sp>
              <p:nvSpPr>
                <p:cNvPr id="394" name="Object 2"/>
                <p:cNvSpPr txBox="1"/>
                <p:nvPr/>
              </p:nvSpPr>
              <p:spPr>
                <a:xfrm>
                  <a:off x="4331880" y="447840"/>
                  <a:ext cx="990720" cy="32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395" name="Group 34"/>
            <p:cNvGrpSpPr/>
            <p:nvPr/>
          </p:nvGrpSpPr>
          <p:grpSpPr>
            <a:xfrm>
              <a:off x="3352680" y="379440"/>
              <a:ext cx="2111040" cy="2963520"/>
              <a:chOff x="3352680" y="379440"/>
              <a:chExt cx="2111040" cy="2963520"/>
            </a:xfrm>
          </p:grpSpPr>
          <p:grpSp>
            <p:nvGrpSpPr>
              <p:cNvPr id="396" name="Group 32"/>
              <p:cNvGrpSpPr/>
              <p:nvPr/>
            </p:nvGrpSpPr>
            <p:grpSpPr>
              <a:xfrm>
                <a:off x="3357000" y="384120"/>
                <a:ext cx="2100960" cy="2953440"/>
                <a:chOff x="3357000" y="384120"/>
                <a:chExt cx="2100960" cy="2953440"/>
              </a:xfrm>
            </p:grpSpPr>
            <p:grpSp>
              <p:nvGrpSpPr>
                <p:cNvPr id="397" name="Group 25"/>
                <p:cNvGrpSpPr/>
                <p:nvPr/>
              </p:nvGrpSpPr>
              <p:grpSpPr>
                <a:xfrm>
                  <a:off x="3357000" y="384120"/>
                  <a:ext cx="936360" cy="721440"/>
                  <a:chOff x="3357000" y="384120"/>
                  <a:chExt cx="936360" cy="721440"/>
                </a:xfrm>
              </p:grpSpPr>
              <p:sp>
                <p:nvSpPr>
                  <p:cNvPr id="398" name="Rectangle 20"/>
                  <p:cNvSpPr/>
                  <p:nvPr/>
                </p:nvSpPr>
                <p:spPr>
                  <a:xfrm>
                    <a:off x="3425040" y="384120"/>
                    <a:ext cx="799560" cy="721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Rectangle 24"/>
                  <p:cNvSpPr/>
                  <p:nvPr/>
                </p:nvSpPr>
                <p:spPr>
                  <a:xfrm>
                    <a:off x="3357000" y="384120"/>
                    <a:ext cx="936360" cy="721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0" name="Group 27"/>
                <p:cNvGrpSpPr/>
                <p:nvPr/>
              </p:nvGrpSpPr>
              <p:grpSpPr>
                <a:xfrm>
                  <a:off x="4293360" y="384120"/>
                  <a:ext cx="1164600" cy="721440"/>
                  <a:chOff x="4293360" y="384120"/>
                  <a:chExt cx="1164600" cy="721440"/>
                </a:xfrm>
              </p:grpSpPr>
              <p:sp>
                <p:nvSpPr>
                  <p:cNvPr id="401" name="Rectangle 21"/>
                  <p:cNvSpPr/>
                  <p:nvPr/>
                </p:nvSpPr>
                <p:spPr>
                  <a:xfrm>
                    <a:off x="4361040" y="384120"/>
                    <a:ext cx="1028520" cy="721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Rectangle 26"/>
                  <p:cNvSpPr/>
                  <p:nvPr/>
                </p:nvSpPr>
                <p:spPr>
                  <a:xfrm>
                    <a:off x="4293360" y="384120"/>
                    <a:ext cx="1164600" cy="721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3" name="Group 29"/>
                <p:cNvGrpSpPr/>
                <p:nvPr/>
              </p:nvGrpSpPr>
              <p:grpSpPr>
                <a:xfrm>
                  <a:off x="3357000" y="1105920"/>
                  <a:ext cx="936360" cy="2231640"/>
                  <a:chOff x="3357000" y="1105920"/>
                  <a:chExt cx="936360" cy="2231640"/>
                </a:xfrm>
              </p:grpSpPr>
              <p:sp>
                <p:nvSpPr>
                  <p:cNvPr id="404" name="Rectangle 22"/>
                  <p:cNvSpPr/>
                  <p:nvPr/>
                </p:nvSpPr>
                <p:spPr>
                  <a:xfrm>
                    <a:off x="3425040" y="1105920"/>
                    <a:ext cx="799560" cy="223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Rectangle 28"/>
                  <p:cNvSpPr/>
                  <p:nvPr/>
                </p:nvSpPr>
                <p:spPr>
                  <a:xfrm>
                    <a:off x="3357000" y="1105920"/>
                    <a:ext cx="936360" cy="223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6" name="Group 31"/>
                <p:cNvGrpSpPr/>
                <p:nvPr/>
              </p:nvGrpSpPr>
              <p:grpSpPr>
                <a:xfrm>
                  <a:off x="4293360" y="1105920"/>
                  <a:ext cx="1164600" cy="2231640"/>
                  <a:chOff x="4293360" y="1105920"/>
                  <a:chExt cx="1164600" cy="2231640"/>
                </a:xfrm>
              </p:grpSpPr>
              <p:sp>
                <p:nvSpPr>
                  <p:cNvPr id="407" name="Rectangle 23"/>
                  <p:cNvSpPr/>
                  <p:nvPr/>
                </p:nvSpPr>
                <p:spPr>
                  <a:xfrm>
                    <a:off x="4361040" y="1105920"/>
                    <a:ext cx="1028520" cy="223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3771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3993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7618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414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0549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0039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000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Rectangle 30"/>
                  <p:cNvSpPr/>
                  <p:nvPr/>
                </p:nvSpPr>
                <p:spPr>
                  <a:xfrm>
                    <a:off x="4293360" y="1105920"/>
                    <a:ext cx="1164600" cy="223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09" name="Rectangle 33"/>
              <p:cNvSpPr/>
              <p:nvPr/>
            </p:nvSpPr>
            <p:spPr>
              <a:xfrm>
                <a:off x="3352680" y="379440"/>
                <a:ext cx="2111040" cy="296352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0" name="Rectangle 38"/>
          <p:cNvSpPr/>
          <p:nvPr/>
        </p:nvSpPr>
        <p:spPr>
          <a:xfrm>
            <a:off x="914400" y="3656160"/>
            <a:ext cx="822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xpected number (mean) of men out of 6 with high blood pressure is: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nce i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0"/>
              <p:cNvSpPr txBox="1"/>
              <p:nvPr/>
            </p:nvSpPr>
            <p:spPr>
              <a:xfrm>
                <a:off x="4419720" y="4219560"/>
                <a:ext cx="28191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nπ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1"/>
              <p:cNvSpPr txBox="1"/>
              <p:nvPr/>
            </p:nvSpPr>
            <p:spPr>
              <a:xfrm>
                <a:off x="3962520" y="4648320"/>
                <a:ext cx="411480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n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6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914400" y="149400"/>
            <a:ext cx="822816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Chapter 4: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events can be defined using random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variabl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5"/>
              <p:cNvSpPr txBox="1"/>
              <p:nvPr/>
            </p:nvSpPr>
            <p:spPr>
              <a:xfrm>
                <a:off x="3581280" y="1600200"/>
                <a:ext cx="304812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screte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andom</m:t>
                            </m:r>
                            <m:r>
                              <m:t xml:space="preserve"></m:t>
                            </m:r>
                            <m:r>
                              <m:t xml:space="preserve"> </m:t>
                            </m:r>
                            <m:r>
                              <m:t xml:space="preserve">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ariables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/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1" name="Rectangle 6"/>
          <p:cNvSpPr/>
          <p:nvPr/>
        </p:nvSpPr>
        <p:spPr>
          <a:xfrm>
            <a:off x="914400" y="2743200"/>
            <a:ext cx="822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4.2.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Probability Distributions of Discrete R.V.’s:-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 of discrete r v.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o. of patients visiting KKUH in a we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o. of times a person had a  cold in last yea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914400" y="4676760"/>
            <a:ext cx="822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772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Example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sider the following discrete random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772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The number of times a person had a cold in January 1998  in Saudi Arab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4"/>
          <p:cNvSpPr/>
          <p:nvPr/>
        </p:nvSpPr>
        <p:spPr>
          <a:xfrm>
            <a:off x="1297080" y="152280"/>
            <a:ext cx="7846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Poisson Distribution: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discrete distrib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iscrete r. v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said to have a Poisson distribution with parameter (average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the probability distribution of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given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Object 0"/>
              <p:cNvSpPr txBox="1"/>
              <p:nvPr/>
            </p:nvSpPr>
            <p:spPr>
              <a:xfrm>
                <a:off x="1905120" y="2319480"/>
                <a:ext cx="5052960" cy="13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eqArr>
                                <m:e>
                                  <m:r>
                                    <m:t xml:space="preserve"> </m:t>
                                  </m:r>
                                  <m:f>
                                    <m:num>
                                      <m:sSup>
                                        <m:e>
                                          <m:r>
                                            <m:t xml:space="preserve">e</m:t>
                                          </m:r>
                                        </m:e>
                                        <m:sup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λ</m:t>
                                          </m:r>
                                        </m:sup>
                                      </m:sSup>
                                      <m:sSup>
                                        <m:e>
                                          <m:r>
                                            <m:t xml:space="preserve">λ</m:t>
                                          </m:r>
                                        </m:e>
                                        <m:sup>
                                          <m:r>
                                            <m:t xml:space="preserve">x</m:t>
                                          </m:r>
                                        </m:sup>
                                      </m:sSup>
                                    </m:num>
                                    <m:den>
                                      <m:r>
                                        <m:t xml:space="preserve">x</m:t>
                                      </m:r>
                                      <m:r>
                                        <m:t xml:space="preserve">!</m:t>
                                      </m:r>
                                    </m:den>
                                  </m:f>
                                  <m:r>
                                    <m:t xml:space="preserve"> </m:t>
                                  </m:r>
                                  <m:r>
                                    <m:t xml:space="preserve">;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or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3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…</m:t>
                                  </m:r>
                                  <m:r>
                                    <m:t xml:space="preserve"> </m:t>
                                  </m:r>
                                </m:e>
                                <m:e>
                                  <m:r>
                                    <m:t xml:space="preserve"> </m:t>
                                  </m:r>
                                </m:e>
                              </m:eqArr>
                            </m:e>
                          </m:mr>
                          <m:mr>
                            <m:e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15" name="Group 10"/>
          <p:cNvGrpSpPr/>
          <p:nvPr/>
        </p:nvGrpSpPr>
        <p:grpSpPr>
          <a:xfrm>
            <a:off x="914400" y="3632040"/>
            <a:ext cx="8763120" cy="590400"/>
            <a:chOff x="914400" y="3632040"/>
            <a:chExt cx="8763120" cy="590400"/>
          </a:xfrm>
        </p:grpSpPr>
        <p:sp>
          <p:nvSpPr>
            <p:cNvPr id="416" name="Rectangle 8"/>
            <p:cNvSpPr/>
            <p:nvPr/>
          </p:nvSpPr>
          <p:spPr>
            <a:xfrm>
              <a:off x="914400" y="3701880"/>
              <a:ext cx="876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here    e = 2.71828  (the natural number </a:t>
              </a:r>
              <a:r>
                <a:rPr b="0" lang="ar-SA" sz="28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)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7" name="Object 2"/>
                <p:cNvSpPr txBox="1"/>
                <p:nvPr/>
              </p:nvSpPr>
              <p:spPr>
                <a:xfrm>
                  <a:off x="7010280" y="3632040"/>
                  <a:ext cx="137160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18" name="Rectangle 12"/>
          <p:cNvSpPr/>
          <p:nvPr/>
        </p:nvSpPr>
        <p:spPr>
          <a:xfrm>
            <a:off x="990720" y="42354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ri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oisson (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λ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Group 16"/>
          <p:cNvGrpSpPr/>
          <p:nvPr/>
        </p:nvGrpSpPr>
        <p:grpSpPr>
          <a:xfrm>
            <a:off x="1295280" y="5103720"/>
            <a:ext cx="6629400" cy="947160"/>
            <a:chOff x="1295280" y="5103720"/>
            <a:chExt cx="6629400" cy="947160"/>
          </a:xfrm>
        </p:grpSpPr>
        <p:sp>
          <p:nvSpPr>
            <p:cNvPr id="420" name="Rectangle 15"/>
            <p:cNvSpPr/>
            <p:nvPr/>
          </p:nvSpPr>
          <p:spPr>
            <a:xfrm>
              <a:off x="1295280" y="5103720"/>
              <a:ext cx="6629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 mean (average) of Poisson (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is : μ</a:t>
              </a:r>
              <a:r>
                <a:rPr b="0" lang="ar-SA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 variance is: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1" name="Object 1"/>
                <p:cNvSpPr txBox="1"/>
                <p:nvPr/>
              </p:nvSpPr>
              <p:spPr>
                <a:xfrm>
                  <a:off x="4114800" y="5562720"/>
                  <a:ext cx="1066680" cy="44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4"/>
          <p:cNvSpPr/>
          <p:nvPr/>
        </p:nvSpPr>
        <p:spPr>
          <a:xfrm>
            <a:off x="914400" y="152280"/>
            <a:ext cx="8228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isson distribution is used to model a discrete r. v. which is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u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how many times a specified random event occurred in an interval of time or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. of patients in a waiting room in an ho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. of  serious injuries in a particular factory in a mon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. of calls received by a telephone operator in a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. of rates in each house in a particular cit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6"/>
          <p:cNvSpPr/>
          <p:nvPr/>
        </p:nvSpPr>
        <p:spPr>
          <a:xfrm>
            <a:off x="990720" y="4478400"/>
            <a:ext cx="8151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No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average (mean) of the distrib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The number of calls received in a month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sson 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4"/>
          <p:cNvSpPr/>
          <p:nvPr/>
        </p:nvSpPr>
        <p:spPr>
          <a:xfrm>
            <a:off x="915840" y="76320"/>
            <a:ext cx="822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)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The no. calls received in a y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oisson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 whe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oisson (1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AutoNum type="romanLcParenR" startAt="2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The no. calls received in a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oisson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 whe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oisson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3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that the number of snake bites cases seen at KKUH 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ye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Poisson distribution with average 6 bite c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- What is the probability th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 a year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) The no. of snake bite cases will be 7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i) The no. of snake bite cases will be less than 2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5"/>
          <p:cNvSpPr/>
          <p:nvPr/>
        </p:nvSpPr>
        <p:spPr>
          <a:xfrm>
            <a:off x="915840" y="152280"/>
            <a:ext cx="8228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 What is the probability th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 2 year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will be 10 bite cas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- What is the probability th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 a mon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re will be no snake bite cas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Solution: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 no. of snake bite cases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yea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oisson (6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Object 0"/>
              <p:cNvSpPr txBox="1"/>
              <p:nvPr/>
            </p:nvSpPr>
            <p:spPr>
              <a:xfrm>
                <a:off x="2057400" y="3429000"/>
                <a:ext cx="388620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27" name="Group 14"/>
          <p:cNvGrpSpPr/>
          <p:nvPr/>
        </p:nvGrpSpPr>
        <p:grpSpPr>
          <a:xfrm>
            <a:off x="991800" y="4495680"/>
            <a:ext cx="5256720" cy="2100240"/>
            <a:chOff x="991800" y="4495680"/>
            <a:chExt cx="5256720" cy="2100240"/>
          </a:xfrm>
        </p:grpSpPr>
        <mc:AlternateContent>
          <mc:Choice xmlns:a14="http://schemas.microsoft.com/office/drawing/2010/main" Requires="a14">
            <p:sp>
              <p:nvSpPr>
                <p:cNvPr id="428" name="Object 1"/>
                <p:cNvSpPr txBox="1"/>
                <p:nvPr/>
              </p:nvSpPr>
              <p:spPr>
                <a:xfrm>
                  <a:off x="2057760" y="4495680"/>
                  <a:ext cx="3429000" cy="78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7</m:t>
                          </m:r>
                          <m:r>
                            <m:t xml:space="preserve">)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6</m:t>
                              </m:r>
                            </m:e>
                            <m:sup>
                              <m:r>
                                <m:t xml:space="preserve">7</m:t>
                              </m:r>
                            </m:sup>
                          </m:sSup>
                        </m:num>
                        <m:den>
                          <m:r>
                            <m:t xml:space="preserve">7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3768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9" name="Object 2"/>
                <p:cNvSpPr txBox="1"/>
                <p:nvPr/>
              </p:nvSpPr>
              <p:spPr>
                <a:xfrm>
                  <a:off x="2057760" y="5356080"/>
                  <a:ext cx="4190760" cy="123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d>
                          <m:r>
                            <m:t xml:space="preserve">+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e>
                          </m:d>
                        </m:e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6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6</m:t>
                                  </m:r>
                                </m:e>
                                <m:sup>
                                  <m:r>
                                    <m:t xml:space="preserve">0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0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6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6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1735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30" name="Text Box 12"/>
            <p:cNvSpPr/>
            <p:nvPr/>
          </p:nvSpPr>
          <p:spPr>
            <a:xfrm>
              <a:off x="992160" y="4608360"/>
              <a:ext cx="51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i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Text Box 13"/>
            <p:cNvSpPr/>
            <p:nvPr/>
          </p:nvSpPr>
          <p:spPr>
            <a:xfrm>
              <a:off x="991800" y="5203800"/>
              <a:ext cx="61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ii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029"/>
          <p:cNvSpPr/>
          <p:nvPr/>
        </p:nvSpPr>
        <p:spPr>
          <a:xfrm>
            <a:off x="838080" y="152280"/>
            <a:ext cx="830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= no of snake bite cases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2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oisson(1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Object 1030"/>
              <p:cNvSpPr txBox="1"/>
              <p:nvPr/>
            </p:nvSpPr>
            <p:spPr>
              <a:xfrm>
                <a:off x="4951440" y="647640"/>
                <a:ext cx="2746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λ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λ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1032"/>
              <p:cNvSpPr txBox="1"/>
              <p:nvPr/>
            </p:nvSpPr>
            <p:spPr>
              <a:xfrm>
                <a:off x="2590920" y="1216080"/>
                <a:ext cx="40957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t xml:space="preserve">y</m:t>
                            </m:r>
                          </m:sup>
                        </m:sSup>
                      </m:num>
                      <m:den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1034"/>
              <p:cNvSpPr txBox="1"/>
              <p:nvPr/>
            </p:nvSpPr>
            <p:spPr>
              <a:xfrm>
                <a:off x="2590920" y="2135160"/>
                <a:ext cx="388620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4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6" name="Rectangle 1036"/>
          <p:cNvSpPr/>
          <p:nvPr/>
        </p:nvSpPr>
        <p:spPr>
          <a:xfrm>
            <a:off x="914400" y="289548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3- 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no. of snake bite cases 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nth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oisson (0.5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Object 1037"/>
              <p:cNvSpPr txBox="1"/>
              <p:nvPr/>
            </p:nvSpPr>
            <p:spPr>
              <a:xfrm>
                <a:off x="4794120" y="3657600"/>
                <a:ext cx="24447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**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1039"/>
              <p:cNvSpPr txBox="1"/>
              <p:nvPr/>
            </p:nvSpPr>
            <p:spPr>
              <a:xfrm>
                <a:off x="1488960" y="4570560"/>
                <a:ext cx="41068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r>
                          <m:t xml:space="preserve">w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</m:num>
                      <m:den>
                        <m:r>
                          <m:t xml:space="preserve">w</m:t>
                        </m:r>
                        <m:r>
                          <m:t xml:space="preserve"> 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Object 1041"/>
              <p:cNvSpPr txBox="1"/>
              <p:nvPr/>
            </p:nvSpPr>
            <p:spPr>
              <a:xfrm>
                <a:off x="1295280" y="5403960"/>
                <a:ext cx="426744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num>
                      <m:den>
                        <m:r>
                          <m:t xml:space="preserve">0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6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838080" y="152280"/>
            <a:ext cx="830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we are able to count the no. of people in Saudi Arabia for whic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Group 38"/>
          <p:cNvGrpSpPr/>
          <p:nvPr/>
        </p:nvGrpSpPr>
        <p:grpSpPr>
          <a:xfrm>
            <a:off x="1219320" y="1143000"/>
            <a:ext cx="7314840" cy="3581280"/>
            <a:chOff x="1219320" y="1143000"/>
            <a:chExt cx="7314840" cy="3581280"/>
          </a:xfrm>
        </p:grpSpPr>
        <p:grpSp>
          <p:nvGrpSpPr>
            <p:cNvPr id="135" name="Group 36"/>
            <p:cNvGrpSpPr/>
            <p:nvPr/>
          </p:nvGrpSpPr>
          <p:grpSpPr>
            <a:xfrm>
              <a:off x="1225080" y="1146600"/>
              <a:ext cx="7301880" cy="3573360"/>
              <a:chOff x="1225080" y="1146600"/>
              <a:chExt cx="7301880" cy="3573360"/>
            </a:xfrm>
          </p:grpSpPr>
          <p:grpSp>
            <p:nvGrpSpPr>
              <p:cNvPr id="136" name="Group 17"/>
              <p:cNvGrpSpPr/>
              <p:nvPr/>
            </p:nvGrpSpPr>
            <p:grpSpPr>
              <a:xfrm>
                <a:off x="1225080" y="1146600"/>
                <a:ext cx="3750120" cy="558720"/>
                <a:chOff x="1225080" y="1146600"/>
                <a:chExt cx="3750120" cy="558720"/>
              </a:xfrm>
            </p:grpSpPr>
            <p:sp>
              <p:nvSpPr>
                <p:cNvPr id="137" name="Rectangle 6"/>
                <p:cNvSpPr/>
                <p:nvPr/>
              </p:nvSpPr>
              <p:spPr>
                <a:xfrm>
                  <a:off x="1310400" y="1146600"/>
                  <a:ext cx="3579480" cy="55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Rectangle 16"/>
                <p:cNvSpPr/>
                <p:nvPr/>
              </p:nvSpPr>
              <p:spPr>
                <a:xfrm>
                  <a:off x="1225080" y="1146600"/>
                  <a:ext cx="3750120" cy="55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Group 19"/>
              <p:cNvGrpSpPr/>
              <p:nvPr/>
            </p:nvGrpSpPr>
            <p:grpSpPr>
              <a:xfrm>
                <a:off x="4975560" y="1146600"/>
                <a:ext cx="3551400" cy="558720"/>
                <a:chOff x="4975560" y="1146600"/>
                <a:chExt cx="3551400" cy="558720"/>
              </a:xfrm>
            </p:grpSpPr>
            <p:sp>
              <p:nvSpPr>
                <p:cNvPr id="140" name="Rectangle 7"/>
                <p:cNvSpPr/>
                <p:nvPr/>
              </p:nvSpPr>
              <p:spPr>
                <a:xfrm>
                  <a:off x="5060880" y="1146600"/>
                  <a:ext cx="3380760" cy="55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Frequency of 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Rectangle 18"/>
                <p:cNvSpPr/>
                <p:nvPr/>
              </p:nvSpPr>
              <p:spPr>
                <a:xfrm>
                  <a:off x="4975560" y="1146600"/>
                  <a:ext cx="3551400" cy="55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Group 21"/>
              <p:cNvGrpSpPr/>
              <p:nvPr/>
            </p:nvGrpSpPr>
            <p:grpSpPr>
              <a:xfrm>
                <a:off x="1225080" y="1705320"/>
                <a:ext cx="3750120" cy="948240"/>
                <a:chOff x="1225080" y="1705320"/>
                <a:chExt cx="3750120" cy="948240"/>
              </a:xfrm>
            </p:grpSpPr>
            <p:sp>
              <p:nvSpPr>
                <p:cNvPr id="143" name="Rectangle 8"/>
                <p:cNvSpPr/>
                <p:nvPr/>
              </p:nvSpPr>
              <p:spPr>
                <a:xfrm>
                  <a:off x="1310400" y="1705320"/>
                  <a:ext cx="3579480" cy="94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no. of times a person had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  cold in January 1998 in S. A.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Rectangle 20"/>
                <p:cNvSpPr/>
                <p:nvPr/>
              </p:nvSpPr>
              <p:spPr>
                <a:xfrm>
                  <a:off x="1225080" y="1705320"/>
                  <a:ext cx="3750120" cy="94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Group 23"/>
              <p:cNvGrpSpPr/>
              <p:nvPr/>
            </p:nvGrpSpPr>
            <p:grpSpPr>
              <a:xfrm>
                <a:off x="4975560" y="1705320"/>
                <a:ext cx="3551400" cy="948240"/>
                <a:chOff x="4975560" y="1705320"/>
                <a:chExt cx="3551400" cy="948240"/>
              </a:xfrm>
            </p:grpSpPr>
            <p:sp>
              <p:nvSpPr>
                <p:cNvPr id="146" name="Rectangle 9"/>
                <p:cNvSpPr/>
                <p:nvPr/>
              </p:nvSpPr>
              <p:spPr>
                <a:xfrm>
                  <a:off x="5060880" y="1705320"/>
                  <a:ext cx="3380760" cy="94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no. of people who had a col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in January 1998 in S.A.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Rectangle 22"/>
                <p:cNvSpPr/>
                <p:nvPr/>
              </p:nvSpPr>
              <p:spPr>
                <a:xfrm>
                  <a:off x="4975560" y="1705320"/>
                  <a:ext cx="3551400" cy="94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Group 25"/>
              <p:cNvGrpSpPr/>
              <p:nvPr/>
            </p:nvGrpSpPr>
            <p:grpSpPr>
              <a:xfrm>
                <a:off x="1225080" y="2653560"/>
                <a:ext cx="3750120" cy="558720"/>
                <a:chOff x="1225080" y="2653560"/>
                <a:chExt cx="3750120" cy="558720"/>
              </a:xfrm>
            </p:grpSpPr>
            <p:sp>
              <p:nvSpPr>
                <p:cNvPr id="149" name="Rectangle 10"/>
                <p:cNvSpPr/>
                <p:nvPr/>
              </p:nvSpPr>
              <p:spPr>
                <a:xfrm>
                  <a:off x="1310400" y="2653560"/>
                  <a:ext cx="3579480" cy="55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Rectangle 24"/>
                <p:cNvSpPr/>
                <p:nvPr/>
              </p:nvSpPr>
              <p:spPr>
                <a:xfrm>
                  <a:off x="1225080" y="2653560"/>
                  <a:ext cx="3750120" cy="55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Group 27"/>
              <p:cNvGrpSpPr/>
              <p:nvPr/>
            </p:nvGrpSpPr>
            <p:grpSpPr>
              <a:xfrm>
                <a:off x="4975560" y="2653560"/>
                <a:ext cx="3551400" cy="558720"/>
                <a:chOff x="4975560" y="2653560"/>
                <a:chExt cx="3551400" cy="558720"/>
              </a:xfrm>
            </p:grpSpPr>
            <p:sp>
              <p:nvSpPr>
                <p:cNvPr id="152" name="Rectangle 11"/>
                <p:cNvSpPr/>
                <p:nvPr/>
              </p:nvSpPr>
              <p:spPr>
                <a:xfrm>
                  <a:off x="5060880" y="2653560"/>
                  <a:ext cx="3380760" cy="55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0,000,0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Rectangle 26"/>
                <p:cNvSpPr/>
                <p:nvPr/>
              </p:nvSpPr>
              <p:spPr>
                <a:xfrm>
                  <a:off x="4975560" y="2653560"/>
                  <a:ext cx="3551400" cy="55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Group 29"/>
              <p:cNvGrpSpPr/>
              <p:nvPr/>
            </p:nvGrpSpPr>
            <p:grpSpPr>
              <a:xfrm>
                <a:off x="1225080" y="3212640"/>
                <a:ext cx="3750120" cy="948600"/>
                <a:chOff x="1225080" y="3212640"/>
                <a:chExt cx="3750120" cy="948600"/>
              </a:xfrm>
            </p:grpSpPr>
            <p:sp>
              <p:nvSpPr>
                <p:cNvPr id="155" name="Rectangle 12"/>
                <p:cNvSpPr/>
                <p:nvPr/>
              </p:nvSpPr>
              <p:spPr>
                <a:xfrm>
                  <a:off x="1310400" y="3212640"/>
                  <a:ext cx="3579480" cy="94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Rectangle 28"/>
                <p:cNvSpPr/>
                <p:nvPr/>
              </p:nvSpPr>
              <p:spPr>
                <a:xfrm>
                  <a:off x="1225080" y="3212640"/>
                  <a:ext cx="3750120" cy="94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Group 31"/>
              <p:cNvGrpSpPr/>
              <p:nvPr/>
            </p:nvGrpSpPr>
            <p:grpSpPr>
              <a:xfrm>
                <a:off x="4975560" y="3212640"/>
                <a:ext cx="3551400" cy="948600"/>
                <a:chOff x="4975560" y="3212640"/>
                <a:chExt cx="3551400" cy="948600"/>
              </a:xfrm>
            </p:grpSpPr>
            <p:sp>
              <p:nvSpPr>
                <p:cNvPr id="158" name="Rectangle 13"/>
                <p:cNvSpPr/>
                <p:nvPr/>
              </p:nvSpPr>
              <p:spPr>
                <a:xfrm>
                  <a:off x="5060880" y="3212640"/>
                  <a:ext cx="3380760" cy="94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,000,0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,000,0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00,0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Rectangle 30"/>
                <p:cNvSpPr/>
                <p:nvPr/>
              </p:nvSpPr>
              <p:spPr>
                <a:xfrm>
                  <a:off x="4975560" y="3212640"/>
                  <a:ext cx="3551400" cy="94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Group 33"/>
              <p:cNvGrpSpPr/>
              <p:nvPr/>
            </p:nvGrpSpPr>
            <p:grpSpPr>
              <a:xfrm>
                <a:off x="1225080" y="4161240"/>
                <a:ext cx="3750120" cy="558720"/>
                <a:chOff x="1225080" y="4161240"/>
                <a:chExt cx="3750120" cy="558720"/>
              </a:xfrm>
            </p:grpSpPr>
            <p:sp>
              <p:nvSpPr>
                <p:cNvPr id="161" name="Rectangle 14"/>
                <p:cNvSpPr/>
                <p:nvPr/>
              </p:nvSpPr>
              <p:spPr>
                <a:xfrm>
                  <a:off x="1310400" y="4161240"/>
                  <a:ext cx="3579480" cy="55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Tot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Rectangle 32"/>
                <p:cNvSpPr/>
                <p:nvPr/>
              </p:nvSpPr>
              <p:spPr>
                <a:xfrm>
                  <a:off x="1225080" y="4161240"/>
                  <a:ext cx="3750120" cy="55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Group 35"/>
              <p:cNvGrpSpPr/>
              <p:nvPr/>
            </p:nvGrpSpPr>
            <p:grpSpPr>
              <a:xfrm>
                <a:off x="4975560" y="4161240"/>
                <a:ext cx="3551400" cy="558720"/>
                <a:chOff x="4975560" y="4161240"/>
                <a:chExt cx="3551400" cy="558720"/>
              </a:xfrm>
            </p:grpSpPr>
            <p:sp>
              <p:nvSpPr>
                <p:cNvPr id="164" name="Rectangle 15"/>
                <p:cNvSpPr/>
                <p:nvPr/>
              </p:nvSpPr>
              <p:spPr>
                <a:xfrm>
                  <a:off x="5060880" y="4161240"/>
                  <a:ext cx="3380760" cy="55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N=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16,000,0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Rectangle 34"/>
                <p:cNvSpPr/>
                <p:nvPr/>
              </p:nvSpPr>
              <p:spPr>
                <a:xfrm>
                  <a:off x="4975560" y="4161240"/>
                  <a:ext cx="3551400" cy="55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6" name="Rectangle 37"/>
            <p:cNvSpPr/>
            <p:nvPr/>
          </p:nvSpPr>
          <p:spPr>
            <a:xfrm>
              <a:off x="1219320" y="1143000"/>
              <a:ext cx="7314840" cy="3581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Rectangle 39"/>
          <p:cNvSpPr/>
          <p:nvPr/>
        </p:nvSpPr>
        <p:spPr>
          <a:xfrm>
            <a:off x="914400" y="49212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frequency table of no. of times a person had a cold in January 1998 in Saudi Arab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914400" y="177840"/>
            <a:ext cx="807732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eriment: Selecting a person at rando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the event: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vent that the selected person had a cold in January 1998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articular,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)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vent that the selected person had a cold in January 1998 two ti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is experiment, there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(Ω)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,000,000 equally likely outco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6"/>
              <p:cNvSpPr txBox="1"/>
              <p:nvPr/>
            </p:nvSpPr>
            <p:spPr>
              <a:xfrm>
                <a:off x="1066680" y="4911840"/>
                <a:ext cx="701064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f</m:t>
                            </m:r>
                            <m:r>
                              <m:t xml:space="preserve"> </m:t>
                            </m:r>
                            <m:r>
                              <m:t xml:space="preserve">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eople</m:t>
                            </m:r>
                            <m:r>
                              <m:t xml:space="preserve"></m:t>
                            </m:r>
                            <m:r>
                              <m:t xml:space="preserve"> </m:t>
                            </m:r>
                            <m:r>
                              <m:t xml:space="preserve">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who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ad</m:t>
                            </m:r>
                            <m:r>
                              <m:t xml:space="preserve"></m:t>
                            </m:r>
                            <m:r>
                              <m:t xml:space="preserve"> </m:t>
                            </m:r>
                            <m:r>
                              <m:t xml:space="preserve"></m:t>
                            </m:r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37"/>
          <p:cNvGrpSpPr/>
          <p:nvPr/>
        </p:nvGrpSpPr>
        <p:grpSpPr>
          <a:xfrm>
            <a:off x="2125800" y="228600"/>
            <a:ext cx="4808520" cy="2743200"/>
            <a:chOff x="2125800" y="228600"/>
            <a:chExt cx="4808520" cy="2743200"/>
          </a:xfrm>
        </p:grpSpPr>
        <mc:AlternateContent>
          <mc:Choice xmlns:a14="http://schemas.microsoft.com/office/drawing/2010/main" Requires="a14">
            <p:sp>
              <p:nvSpPr>
                <p:cNvPr id="171" name="Object 5"/>
                <p:cNvSpPr txBox="1"/>
                <p:nvPr/>
              </p:nvSpPr>
              <p:spPr>
                <a:xfrm>
                  <a:off x="5173560" y="304920"/>
                  <a:ext cx="83844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2" name="Object 4"/>
                <p:cNvSpPr txBox="1"/>
                <p:nvPr/>
              </p:nvSpPr>
              <p:spPr>
                <a:xfrm>
                  <a:off x="4640400" y="592200"/>
                  <a:ext cx="213336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n</m:t>
                      </m:r>
                      <m:f>
                        <m:fPr>
                          <m:type m:val="lin"/>
                        </m:fPr>
                        <m:num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x</m:t>
                              </m:r>
                            </m:e>
                          </m:d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60000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173" name="Group 36"/>
            <p:cNvGrpSpPr/>
            <p:nvPr/>
          </p:nvGrpSpPr>
          <p:grpSpPr>
            <a:xfrm>
              <a:off x="2125800" y="228600"/>
              <a:ext cx="4808520" cy="2743200"/>
              <a:chOff x="2125800" y="228600"/>
              <a:chExt cx="4808520" cy="2743200"/>
            </a:xfrm>
          </p:grpSpPr>
          <p:grpSp>
            <p:nvGrpSpPr>
              <p:cNvPr id="174" name="Group 34"/>
              <p:cNvGrpSpPr/>
              <p:nvPr/>
            </p:nvGrpSpPr>
            <p:grpSpPr>
              <a:xfrm>
                <a:off x="2130480" y="232920"/>
                <a:ext cx="4799160" cy="2733480"/>
                <a:chOff x="2130480" y="232920"/>
                <a:chExt cx="4799160" cy="2733480"/>
              </a:xfrm>
            </p:grpSpPr>
            <p:grpSp>
              <p:nvGrpSpPr>
                <p:cNvPr id="175" name="Group 17"/>
                <p:cNvGrpSpPr/>
                <p:nvPr/>
              </p:nvGrpSpPr>
              <p:grpSpPr>
                <a:xfrm>
                  <a:off x="2130480" y="232920"/>
                  <a:ext cx="1015920" cy="675720"/>
                  <a:chOff x="2130480" y="232920"/>
                  <a:chExt cx="1015920" cy="675720"/>
                </a:xfrm>
              </p:grpSpPr>
              <p:sp>
                <p:nvSpPr>
                  <p:cNvPr id="176" name="Rectangle 7"/>
                  <p:cNvSpPr/>
                  <p:nvPr/>
                </p:nvSpPr>
                <p:spPr>
                  <a:xfrm>
                    <a:off x="2198880" y="232920"/>
                    <a:ext cx="879480" cy="67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Rectangle 16"/>
                  <p:cNvSpPr/>
                  <p:nvPr/>
                </p:nvSpPr>
                <p:spPr>
                  <a:xfrm>
                    <a:off x="2130480" y="232920"/>
                    <a:ext cx="101592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8" name="Group 19"/>
                <p:cNvGrpSpPr/>
                <p:nvPr/>
              </p:nvGrpSpPr>
              <p:grpSpPr>
                <a:xfrm>
                  <a:off x="3146400" y="232920"/>
                  <a:ext cx="1397160" cy="675720"/>
                  <a:chOff x="3146400" y="232920"/>
                  <a:chExt cx="1397160" cy="675720"/>
                </a:xfrm>
              </p:grpSpPr>
              <p:sp>
                <p:nvSpPr>
                  <p:cNvPr id="179" name="Rectangle 8"/>
                  <p:cNvSpPr/>
                  <p:nvPr/>
                </p:nvSpPr>
                <p:spPr>
                  <a:xfrm>
                    <a:off x="3214800" y="232920"/>
                    <a:ext cx="1260360" cy="67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req. of  </a:t>
                    </a: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(X=x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Rectangle 18"/>
                  <p:cNvSpPr/>
                  <p:nvPr/>
                </p:nvSpPr>
                <p:spPr>
                  <a:xfrm>
                    <a:off x="3146400" y="232920"/>
                    <a:ext cx="13971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1" name="Group 21"/>
                <p:cNvGrpSpPr/>
                <p:nvPr/>
              </p:nvGrpSpPr>
              <p:grpSpPr>
                <a:xfrm>
                  <a:off x="4543560" y="232920"/>
                  <a:ext cx="2386080" cy="675720"/>
                  <a:chOff x="4543560" y="232920"/>
                  <a:chExt cx="2386080" cy="675720"/>
                </a:xfrm>
              </p:grpSpPr>
              <p:sp>
                <p:nvSpPr>
                  <p:cNvPr id="182" name="Rectangle 9"/>
                  <p:cNvSpPr/>
                  <p:nvPr/>
                </p:nvSpPr>
                <p:spPr>
                  <a:xfrm>
                    <a:off x="4611600" y="232920"/>
                    <a:ext cx="2249640" cy="67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Rectangle 20"/>
                  <p:cNvSpPr/>
                  <p:nvPr/>
                </p:nvSpPr>
                <p:spPr>
                  <a:xfrm>
                    <a:off x="4543560" y="232920"/>
                    <a:ext cx="238608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4" name="Group 23"/>
                <p:cNvGrpSpPr/>
                <p:nvPr/>
              </p:nvGrpSpPr>
              <p:grpSpPr>
                <a:xfrm>
                  <a:off x="2130480" y="908640"/>
                  <a:ext cx="1015920" cy="1381680"/>
                  <a:chOff x="2130480" y="908640"/>
                  <a:chExt cx="1015920" cy="1381680"/>
                </a:xfrm>
              </p:grpSpPr>
              <p:sp>
                <p:nvSpPr>
                  <p:cNvPr id="185" name="Rectangle 10"/>
                  <p:cNvSpPr/>
                  <p:nvPr/>
                </p:nvSpPr>
                <p:spPr>
                  <a:xfrm>
                    <a:off x="2198880" y="908640"/>
                    <a:ext cx="879480" cy="1381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Rectangle 22"/>
                  <p:cNvSpPr/>
                  <p:nvPr/>
                </p:nvSpPr>
                <p:spPr>
                  <a:xfrm>
                    <a:off x="2130480" y="908640"/>
                    <a:ext cx="1015920" cy="1381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7" name="Group 25"/>
                <p:cNvGrpSpPr/>
                <p:nvPr/>
              </p:nvGrpSpPr>
              <p:grpSpPr>
                <a:xfrm>
                  <a:off x="3146400" y="908640"/>
                  <a:ext cx="1397160" cy="1381680"/>
                  <a:chOff x="3146400" y="908640"/>
                  <a:chExt cx="1397160" cy="1381680"/>
                </a:xfrm>
              </p:grpSpPr>
              <p:sp>
                <p:nvSpPr>
                  <p:cNvPr id="188" name="Rectangle 11"/>
                  <p:cNvSpPr/>
                  <p:nvPr/>
                </p:nvSpPr>
                <p:spPr>
                  <a:xfrm>
                    <a:off x="3214800" y="908640"/>
                    <a:ext cx="1260360" cy="1381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0000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0000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0000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000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Rectangle 24"/>
                  <p:cNvSpPr/>
                  <p:nvPr/>
                </p:nvSpPr>
                <p:spPr>
                  <a:xfrm>
                    <a:off x="3146400" y="908640"/>
                    <a:ext cx="1397160" cy="1381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0" name="Group 27"/>
                <p:cNvGrpSpPr/>
                <p:nvPr/>
              </p:nvGrpSpPr>
              <p:grpSpPr>
                <a:xfrm>
                  <a:off x="4543560" y="908640"/>
                  <a:ext cx="2386080" cy="1381680"/>
                  <a:chOff x="4543560" y="908640"/>
                  <a:chExt cx="2386080" cy="1381680"/>
                </a:xfrm>
              </p:grpSpPr>
              <p:sp>
                <p:nvSpPr>
                  <p:cNvPr id="191" name="Rectangle 12"/>
                  <p:cNvSpPr/>
                  <p:nvPr/>
                </p:nvSpPr>
                <p:spPr>
                  <a:xfrm>
                    <a:off x="4611600" y="908640"/>
                    <a:ext cx="2249640" cy="1381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625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87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25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62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Rectangle 26"/>
                  <p:cNvSpPr/>
                  <p:nvPr/>
                </p:nvSpPr>
                <p:spPr>
                  <a:xfrm>
                    <a:off x="4543560" y="908640"/>
                    <a:ext cx="2386080" cy="1381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3" name="Group 29"/>
                <p:cNvGrpSpPr/>
                <p:nvPr/>
              </p:nvGrpSpPr>
              <p:grpSpPr>
                <a:xfrm>
                  <a:off x="2130480" y="2290320"/>
                  <a:ext cx="1015920" cy="676080"/>
                  <a:chOff x="2130480" y="2290320"/>
                  <a:chExt cx="1015920" cy="676080"/>
                </a:xfrm>
              </p:grpSpPr>
              <p:sp>
                <p:nvSpPr>
                  <p:cNvPr id="194" name="Rectangle 13"/>
                  <p:cNvSpPr/>
                  <p:nvPr/>
                </p:nvSpPr>
                <p:spPr>
                  <a:xfrm>
                    <a:off x="2198880" y="2290320"/>
                    <a:ext cx="87948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ta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Rectangle 28"/>
                  <p:cNvSpPr/>
                  <p:nvPr/>
                </p:nvSpPr>
                <p:spPr>
                  <a:xfrm>
                    <a:off x="2130480" y="2290320"/>
                    <a:ext cx="101592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6" name="Group 31"/>
                <p:cNvGrpSpPr/>
                <p:nvPr/>
              </p:nvGrpSpPr>
              <p:grpSpPr>
                <a:xfrm>
                  <a:off x="3146400" y="2290320"/>
                  <a:ext cx="1397160" cy="676080"/>
                  <a:chOff x="3146400" y="2290320"/>
                  <a:chExt cx="1397160" cy="676080"/>
                </a:xfrm>
              </p:grpSpPr>
              <p:sp>
                <p:nvSpPr>
                  <p:cNvPr id="197" name="Rectangle 14"/>
                  <p:cNvSpPr/>
                  <p:nvPr/>
                </p:nvSpPr>
                <p:spPr>
                  <a:xfrm>
                    <a:off x="3214800" y="2290320"/>
                    <a:ext cx="12603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60000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Rectangle 30"/>
                  <p:cNvSpPr/>
                  <p:nvPr/>
                </p:nvSpPr>
                <p:spPr>
                  <a:xfrm>
                    <a:off x="3146400" y="2290320"/>
                    <a:ext cx="139716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9" name="Group 33"/>
                <p:cNvGrpSpPr/>
                <p:nvPr/>
              </p:nvGrpSpPr>
              <p:grpSpPr>
                <a:xfrm>
                  <a:off x="4543560" y="2290320"/>
                  <a:ext cx="2386080" cy="676080"/>
                  <a:chOff x="4543560" y="2290320"/>
                  <a:chExt cx="2386080" cy="676080"/>
                </a:xfrm>
              </p:grpSpPr>
              <p:sp>
                <p:nvSpPr>
                  <p:cNvPr id="200" name="Rectangle 15"/>
                  <p:cNvSpPr/>
                  <p:nvPr/>
                </p:nvSpPr>
                <p:spPr>
                  <a:xfrm>
                    <a:off x="4611600" y="2290320"/>
                    <a:ext cx="224964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.00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Rectangle 32"/>
                  <p:cNvSpPr/>
                  <p:nvPr/>
                </p:nvSpPr>
                <p:spPr>
                  <a:xfrm>
                    <a:off x="4543560" y="2290320"/>
                    <a:ext cx="238608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02" name="Rectangle 35"/>
              <p:cNvSpPr/>
              <p:nvPr/>
            </p:nvSpPr>
            <p:spPr>
              <a:xfrm>
                <a:off x="2125800" y="228600"/>
                <a:ext cx="4808520" cy="274320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3" name="Rectangle 39"/>
          <p:cNvSpPr/>
          <p:nvPr/>
        </p:nvSpPr>
        <p:spPr>
          <a:xfrm>
            <a:off x="914400" y="29862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38"/>
              <p:cNvSpPr txBox="1"/>
              <p:nvPr/>
            </p:nvSpPr>
            <p:spPr>
              <a:xfrm>
                <a:off x="1219320" y="3409920"/>
                <a:ext cx="2895480" cy="19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000000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rPr>
                            <m:lit/>
                            <m:nor/>
                          </m:rPr>
                          <m:t xml:space="preserve">lative</m:t>
                        </m:r>
                        <m:r>
                          <m:rPr>
                            <m:lit/>
                            <m:nor/>
                          </m:rPr>
                          <m:t xml:space="preserve"></m:t>
                        </m:r>
                        <m:r>
                          <m:rPr>
                            <m:lit/>
                            <m:nor/>
                          </m:rPr>
                          <m:t xml:space="preserve">Frequenc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requenc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00000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6"/>
          <p:cNvGrpSpPr/>
          <p:nvPr/>
        </p:nvGrpSpPr>
        <p:grpSpPr>
          <a:xfrm>
            <a:off x="2717640" y="222120"/>
            <a:ext cx="3073320" cy="3404880"/>
            <a:chOff x="2717640" y="222120"/>
            <a:chExt cx="3073320" cy="3404880"/>
          </a:xfrm>
        </p:grpSpPr>
        <mc:AlternateContent>
          <mc:Choice xmlns:a14="http://schemas.microsoft.com/office/drawing/2010/main" Requires="a14">
            <p:sp>
              <p:nvSpPr>
                <p:cNvPr id="206" name="Object 4"/>
                <p:cNvSpPr txBox="1"/>
                <p:nvPr/>
              </p:nvSpPr>
              <p:spPr>
                <a:xfrm>
                  <a:off x="4246560" y="348120"/>
                  <a:ext cx="1227240" cy="39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207" name="Group 25"/>
            <p:cNvGrpSpPr/>
            <p:nvPr/>
          </p:nvGrpSpPr>
          <p:grpSpPr>
            <a:xfrm>
              <a:off x="2717640" y="222120"/>
              <a:ext cx="3073320" cy="3404880"/>
              <a:chOff x="2717640" y="222120"/>
              <a:chExt cx="3073320" cy="3404880"/>
            </a:xfrm>
          </p:grpSpPr>
          <p:grpSp>
            <p:nvGrpSpPr>
              <p:cNvPr id="208" name="Group 23"/>
              <p:cNvGrpSpPr/>
              <p:nvPr/>
            </p:nvGrpSpPr>
            <p:grpSpPr>
              <a:xfrm>
                <a:off x="2722320" y="227520"/>
                <a:ext cx="3063960" cy="3393000"/>
                <a:chOff x="2722320" y="227520"/>
                <a:chExt cx="3063960" cy="3393000"/>
              </a:xfrm>
            </p:grpSpPr>
            <p:grpSp>
              <p:nvGrpSpPr>
                <p:cNvPr id="209" name="Group 12"/>
                <p:cNvGrpSpPr/>
                <p:nvPr/>
              </p:nvGrpSpPr>
              <p:grpSpPr>
                <a:xfrm>
                  <a:off x="2722320" y="227520"/>
                  <a:ext cx="1216080" cy="838440"/>
                  <a:chOff x="2722320" y="227520"/>
                  <a:chExt cx="1216080" cy="838440"/>
                </a:xfrm>
              </p:grpSpPr>
              <p:sp>
                <p:nvSpPr>
                  <p:cNvPr id="210" name="Rectangle 5"/>
                  <p:cNvSpPr/>
                  <p:nvPr/>
                </p:nvSpPr>
                <p:spPr>
                  <a:xfrm>
                    <a:off x="2790720" y="227520"/>
                    <a:ext cx="1079280" cy="838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Rectangle 11"/>
                  <p:cNvSpPr/>
                  <p:nvPr/>
                </p:nvSpPr>
                <p:spPr>
                  <a:xfrm>
                    <a:off x="2722320" y="227520"/>
                    <a:ext cx="1216080" cy="838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" name="Group 14"/>
                <p:cNvGrpSpPr/>
                <p:nvPr/>
              </p:nvGrpSpPr>
              <p:grpSpPr>
                <a:xfrm>
                  <a:off x="3938400" y="227520"/>
                  <a:ext cx="1847880" cy="838440"/>
                  <a:chOff x="3938400" y="227520"/>
                  <a:chExt cx="1847880" cy="838440"/>
                </a:xfrm>
              </p:grpSpPr>
              <p:sp>
                <p:nvSpPr>
                  <p:cNvPr id="213" name="Rectangle 6"/>
                  <p:cNvSpPr/>
                  <p:nvPr/>
                </p:nvSpPr>
                <p:spPr>
                  <a:xfrm>
                    <a:off x="4006440" y="227520"/>
                    <a:ext cx="1711440" cy="838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Rectangle 13"/>
                  <p:cNvSpPr/>
                  <p:nvPr/>
                </p:nvSpPr>
                <p:spPr>
                  <a:xfrm>
                    <a:off x="3938400" y="227520"/>
                    <a:ext cx="1847880" cy="838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" name="Group 16"/>
                <p:cNvGrpSpPr/>
                <p:nvPr/>
              </p:nvGrpSpPr>
              <p:grpSpPr>
                <a:xfrm>
                  <a:off x="2722320" y="1066320"/>
                  <a:ext cx="1216080" cy="1715040"/>
                  <a:chOff x="2722320" y="1066320"/>
                  <a:chExt cx="1216080" cy="1715040"/>
                </a:xfrm>
              </p:grpSpPr>
              <p:sp>
                <p:nvSpPr>
                  <p:cNvPr id="216" name="Rectangle 7"/>
                  <p:cNvSpPr/>
                  <p:nvPr/>
                </p:nvSpPr>
                <p:spPr>
                  <a:xfrm>
                    <a:off x="2790720" y="1066320"/>
                    <a:ext cx="1079280" cy="171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Rectangle 15"/>
                  <p:cNvSpPr/>
                  <p:nvPr/>
                </p:nvSpPr>
                <p:spPr>
                  <a:xfrm>
                    <a:off x="2722320" y="1066320"/>
                    <a:ext cx="1216080" cy="1715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8" name="Group 18"/>
                <p:cNvGrpSpPr/>
                <p:nvPr/>
              </p:nvGrpSpPr>
              <p:grpSpPr>
                <a:xfrm>
                  <a:off x="3938400" y="1066320"/>
                  <a:ext cx="1847880" cy="1715040"/>
                  <a:chOff x="3938400" y="1066320"/>
                  <a:chExt cx="1847880" cy="1715040"/>
                </a:xfrm>
              </p:grpSpPr>
              <p:sp>
                <p:nvSpPr>
                  <p:cNvPr id="219" name="Rectangle 8"/>
                  <p:cNvSpPr/>
                  <p:nvPr/>
                </p:nvSpPr>
                <p:spPr>
                  <a:xfrm>
                    <a:off x="4006440" y="1066320"/>
                    <a:ext cx="1711440" cy="171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625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874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25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625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Rectangle 17"/>
                  <p:cNvSpPr/>
                  <p:nvPr/>
                </p:nvSpPr>
                <p:spPr>
                  <a:xfrm>
                    <a:off x="3938400" y="1066320"/>
                    <a:ext cx="1847880" cy="1715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1" name="Group 20"/>
                <p:cNvGrpSpPr/>
                <p:nvPr/>
              </p:nvGrpSpPr>
              <p:grpSpPr>
                <a:xfrm>
                  <a:off x="2722320" y="2781720"/>
                  <a:ext cx="1216080" cy="838800"/>
                  <a:chOff x="2722320" y="2781720"/>
                  <a:chExt cx="1216080" cy="838800"/>
                </a:xfrm>
              </p:grpSpPr>
              <p:sp>
                <p:nvSpPr>
                  <p:cNvPr id="222" name="Rectangle 9"/>
                  <p:cNvSpPr/>
                  <p:nvPr/>
                </p:nvSpPr>
                <p:spPr>
                  <a:xfrm>
                    <a:off x="2790720" y="2781720"/>
                    <a:ext cx="1079280" cy="83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tal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Rectangle 19"/>
                  <p:cNvSpPr/>
                  <p:nvPr/>
                </p:nvSpPr>
                <p:spPr>
                  <a:xfrm>
                    <a:off x="2722320" y="2781720"/>
                    <a:ext cx="1216080" cy="838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4" name="Group 22"/>
                <p:cNvGrpSpPr/>
                <p:nvPr/>
              </p:nvGrpSpPr>
              <p:grpSpPr>
                <a:xfrm>
                  <a:off x="3938400" y="2781720"/>
                  <a:ext cx="1847880" cy="838800"/>
                  <a:chOff x="3938400" y="2781720"/>
                  <a:chExt cx="1847880" cy="838800"/>
                </a:xfrm>
              </p:grpSpPr>
              <p:sp>
                <p:nvSpPr>
                  <p:cNvPr id="225" name="Rectangle 10"/>
                  <p:cNvSpPr/>
                  <p:nvPr/>
                </p:nvSpPr>
                <p:spPr>
                  <a:xfrm>
                    <a:off x="4006440" y="2781720"/>
                    <a:ext cx="1711440" cy="83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.000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Rectangle 21"/>
                  <p:cNvSpPr/>
                  <p:nvPr/>
                </p:nvSpPr>
                <p:spPr>
                  <a:xfrm>
                    <a:off x="3938400" y="2781720"/>
                    <a:ext cx="1847880" cy="838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27" name="Rectangle 24"/>
              <p:cNvSpPr/>
              <p:nvPr/>
            </p:nvSpPr>
            <p:spPr>
              <a:xfrm>
                <a:off x="2717640" y="222120"/>
                <a:ext cx="3073320" cy="340488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8" name="Rectangle 27"/>
          <p:cNvSpPr/>
          <p:nvPr/>
        </p:nvSpPr>
        <p:spPr>
          <a:xfrm>
            <a:off x="914400" y="36702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able is called the probability distribution of the discrete random varia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36"/>
          <p:cNvSpPr/>
          <p:nvPr/>
        </p:nvSpPr>
        <p:spPr>
          <a:xfrm>
            <a:off x="914400" y="44784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38"/>
          <p:cNvSpPr/>
          <p:nvPr/>
        </p:nvSpPr>
        <p:spPr>
          <a:xfrm>
            <a:off x="990720" y="4997520"/>
            <a:ext cx="815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=0) , (X=1) , (X=2) , (X=3) are mutually exclusive (disjoint) ev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5"/>
          <p:cNvSpPr/>
          <p:nvPr/>
        </p:nvSpPr>
        <p:spPr>
          <a:xfrm>
            <a:off x="838080" y="304920"/>
            <a:ext cx="830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X=0) , (X=1) , (X=2) , (X=3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mutually exhaustive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838080" y="13716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ability distribution of any discrete random varia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ust satisfy the following two properti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10"/>
              <p:cNvSpPr txBox="1"/>
              <p:nvPr/>
            </p:nvSpPr>
            <p:spPr>
              <a:xfrm>
                <a:off x="2581200" y="2438280"/>
                <a:ext cx="324828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         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2616120" y="2906640"/>
                <a:ext cx="2982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        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P</m:t>
                        </m:r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Rectangle 12"/>
          <p:cNvSpPr/>
          <p:nvPr/>
        </p:nvSpPr>
        <p:spPr>
          <a:xfrm>
            <a:off x="914400" y="342756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the probability distribution of a discrete r.v. we can find the probability of any event expressed in term of the r.v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3"/>
          <p:cNvSpPr/>
          <p:nvPr/>
        </p:nvSpPr>
        <p:spPr>
          <a:xfrm>
            <a:off x="914400" y="47689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 the discrete r.v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in the previous examp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18"/>
          <p:cNvGrpSpPr/>
          <p:nvPr/>
        </p:nvGrpSpPr>
        <p:grpSpPr>
          <a:xfrm>
            <a:off x="3486240" y="152280"/>
            <a:ext cx="2173320" cy="2146320"/>
            <a:chOff x="3486240" y="152280"/>
            <a:chExt cx="2173320" cy="2146320"/>
          </a:xfrm>
        </p:grpSpPr>
        <p:grpSp>
          <p:nvGrpSpPr>
            <p:cNvPr id="238" name="Group 16"/>
            <p:cNvGrpSpPr/>
            <p:nvPr/>
          </p:nvGrpSpPr>
          <p:grpSpPr>
            <a:xfrm>
              <a:off x="3490920" y="156960"/>
              <a:ext cx="2163600" cy="2136600"/>
              <a:chOff x="3490920" y="156960"/>
              <a:chExt cx="2163600" cy="2136600"/>
            </a:xfrm>
          </p:grpSpPr>
          <p:grpSp>
            <p:nvGrpSpPr>
              <p:cNvPr id="239" name="Group 9"/>
              <p:cNvGrpSpPr/>
              <p:nvPr/>
            </p:nvGrpSpPr>
            <p:grpSpPr>
              <a:xfrm>
                <a:off x="3490920" y="156960"/>
                <a:ext cx="857160" cy="701640"/>
                <a:chOff x="3490920" y="156960"/>
                <a:chExt cx="857160" cy="701640"/>
              </a:xfrm>
            </p:grpSpPr>
            <p:sp>
              <p:nvSpPr>
                <p:cNvPr id="240" name="Rectangle 4"/>
                <p:cNvSpPr/>
                <p:nvPr/>
              </p:nvSpPr>
              <p:spPr>
                <a:xfrm>
                  <a:off x="3559320" y="156960"/>
                  <a:ext cx="7207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Rectangle 8"/>
                <p:cNvSpPr/>
                <p:nvPr/>
              </p:nvSpPr>
              <p:spPr>
                <a:xfrm>
                  <a:off x="3490920" y="156960"/>
                  <a:ext cx="8571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Group 11"/>
              <p:cNvGrpSpPr/>
              <p:nvPr/>
            </p:nvGrpSpPr>
            <p:grpSpPr>
              <a:xfrm>
                <a:off x="4348080" y="156960"/>
                <a:ext cx="1306440" cy="701640"/>
                <a:chOff x="4348080" y="156960"/>
                <a:chExt cx="1306440" cy="701640"/>
              </a:xfrm>
            </p:grpSpPr>
            <p:sp>
              <p:nvSpPr>
                <p:cNvPr id="243" name="Rectangle 5"/>
                <p:cNvSpPr/>
                <p:nvPr/>
              </p:nvSpPr>
              <p:spPr>
                <a:xfrm>
                  <a:off x="4416480" y="156960"/>
                  <a:ext cx="117000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(X=x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Rectangle 10"/>
                <p:cNvSpPr/>
                <p:nvPr/>
              </p:nvSpPr>
              <p:spPr>
                <a:xfrm>
                  <a:off x="4348080" y="156960"/>
                  <a:ext cx="130644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Group 13"/>
              <p:cNvGrpSpPr/>
              <p:nvPr/>
            </p:nvGrpSpPr>
            <p:grpSpPr>
              <a:xfrm>
                <a:off x="3490920" y="858600"/>
                <a:ext cx="857160" cy="1434960"/>
                <a:chOff x="3490920" y="858600"/>
                <a:chExt cx="857160" cy="1434960"/>
              </a:xfrm>
            </p:grpSpPr>
            <p:sp>
              <p:nvSpPr>
                <p:cNvPr id="246" name="Rectangle 6"/>
                <p:cNvSpPr/>
                <p:nvPr/>
              </p:nvSpPr>
              <p:spPr>
                <a:xfrm>
                  <a:off x="3559320" y="858600"/>
                  <a:ext cx="720720" cy="143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Rectangle 12"/>
                <p:cNvSpPr/>
                <p:nvPr/>
              </p:nvSpPr>
              <p:spPr>
                <a:xfrm>
                  <a:off x="3490920" y="858600"/>
                  <a:ext cx="857160" cy="143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Group 15"/>
              <p:cNvGrpSpPr/>
              <p:nvPr/>
            </p:nvGrpSpPr>
            <p:grpSpPr>
              <a:xfrm>
                <a:off x="4348080" y="858600"/>
                <a:ext cx="1306440" cy="1434960"/>
                <a:chOff x="4348080" y="858600"/>
                <a:chExt cx="1306440" cy="1434960"/>
              </a:xfrm>
            </p:grpSpPr>
            <p:sp>
              <p:nvSpPr>
                <p:cNvPr id="249" name="Rectangle 7"/>
                <p:cNvSpPr/>
                <p:nvPr/>
              </p:nvSpPr>
              <p:spPr>
                <a:xfrm>
                  <a:off x="4416480" y="858600"/>
                  <a:ext cx="1170000" cy="143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625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187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125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062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Rectangle 14"/>
                <p:cNvSpPr/>
                <p:nvPr/>
              </p:nvSpPr>
              <p:spPr>
                <a:xfrm>
                  <a:off x="4348080" y="858600"/>
                  <a:ext cx="1306440" cy="143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1" name="Rectangle 17"/>
            <p:cNvSpPr/>
            <p:nvPr/>
          </p:nvSpPr>
          <p:spPr>
            <a:xfrm>
              <a:off x="3486240" y="152280"/>
              <a:ext cx="2173320" cy="21463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2" name="Object 19"/>
              <p:cNvSpPr txBox="1"/>
              <p:nvPr/>
            </p:nvSpPr>
            <p:spPr>
              <a:xfrm>
                <a:off x="1905120" y="2475000"/>
                <a:ext cx="65530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50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25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21"/>
              <p:cNvSpPr txBox="1"/>
              <p:nvPr/>
            </p:nvSpPr>
            <p:spPr>
              <a:xfrm>
                <a:off x="1905120" y="2895480"/>
                <a:ext cx="320040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&gt;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23"/>
              <p:cNvSpPr txBox="1"/>
              <p:nvPr/>
            </p:nvSpPr>
            <p:spPr>
              <a:xfrm>
                <a:off x="1905120" y="3330720"/>
                <a:ext cx="647676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75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50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25"/>
              <p:cNvSpPr txBox="1"/>
              <p:nvPr/>
            </p:nvSpPr>
            <p:spPr>
              <a:xfrm>
                <a:off x="1905120" y="3762360"/>
                <a:ext cx="548640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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50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75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5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7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6" name="Text Box 27"/>
          <p:cNvSpPr/>
          <p:nvPr/>
        </p:nvSpPr>
        <p:spPr>
          <a:xfrm>
            <a:off x="1144800" y="2392200"/>
            <a:ext cx="6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1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0"/>
          <p:cNvSpPr/>
          <p:nvPr/>
        </p:nvSpPr>
        <p:spPr>
          <a:xfrm>
            <a:off x="1144800" y="2819520"/>
            <a:ext cx="6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2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1"/>
          <p:cNvSpPr/>
          <p:nvPr/>
        </p:nvSpPr>
        <p:spPr>
          <a:xfrm>
            <a:off x="1144800" y="3276720"/>
            <a:ext cx="6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3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32"/>
          <p:cNvSpPr/>
          <p:nvPr/>
        </p:nvSpPr>
        <p:spPr>
          <a:xfrm>
            <a:off x="1144800" y="3733920"/>
            <a:ext cx="6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4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33"/>
          <p:cNvSpPr/>
          <p:nvPr/>
        </p:nvSpPr>
        <p:spPr>
          <a:xfrm>
            <a:off x="914400" y="42814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34"/>
              <p:cNvSpPr txBox="1"/>
              <p:nvPr/>
            </p:nvSpPr>
            <p:spPr>
              <a:xfrm>
                <a:off x="1957320" y="4724280"/>
                <a:ext cx="35290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c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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</m:t>
                        </m:r>
                        <m:r>
                          <m:t xml:space="preserve"> </m:t>
                        </m:r>
                        <m:r>
                          <m:t xml:space="preserve">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gt;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36"/>
              <p:cNvSpPr txBox="1"/>
              <p:nvPr/>
            </p:nvSpPr>
            <p:spPr>
              <a:xfrm>
                <a:off x="1914480" y="5546880"/>
                <a:ext cx="387684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50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7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3" name="Text Box 38"/>
          <p:cNvSpPr/>
          <p:nvPr/>
        </p:nvSpPr>
        <p:spPr>
          <a:xfrm>
            <a:off x="1144800" y="5440320"/>
            <a:ext cx="6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5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4" name="Object 6"/>
              <p:cNvSpPr txBox="1"/>
              <p:nvPr/>
            </p:nvSpPr>
            <p:spPr>
              <a:xfrm>
                <a:off x="1676520" y="380880"/>
                <a:ext cx="40384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50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7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5" name="Text Box 7"/>
          <p:cNvSpPr/>
          <p:nvPr/>
        </p:nvSpPr>
        <p:spPr>
          <a:xfrm>
            <a:off x="916200" y="258840"/>
            <a:ext cx="6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6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8"/>
              <p:cNvSpPr txBox="1"/>
              <p:nvPr/>
            </p:nvSpPr>
            <p:spPr>
              <a:xfrm>
                <a:off x="1676520" y="1143000"/>
                <a:ext cx="26668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Text Box 10"/>
          <p:cNvSpPr/>
          <p:nvPr/>
        </p:nvSpPr>
        <p:spPr>
          <a:xfrm>
            <a:off x="916200" y="1066680"/>
            <a:ext cx="6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7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11"/>
          <p:cNvSpPr/>
          <p:nvPr/>
        </p:nvSpPr>
        <p:spPr>
          <a:xfrm>
            <a:off x="914400" y="1523880"/>
            <a:ext cx="822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8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probability that the selected person ha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lea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col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12"/>
              <p:cNvSpPr txBox="1"/>
              <p:nvPr/>
            </p:nvSpPr>
            <p:spPr>
              <a:xfrm>
                <a:off x="1685880" y="2452680"/>
                <a:ext cx="3191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≥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7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0" name="Rectangle 14"/>
          <p:cNvSpPr/>
          <p:nvPr/>
        </p:nvSpPr>
        <p:spPr>
          <a:xfrm>
            <a:off x="914400" y="3200400"/>
            <a:ext cx="822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9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probability that the selected person ha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m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col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15"/>
              <p:cNvSpPr txBox="1"/>
              <p:nvPr/>
            </p:nvSpPr>
            <p:spPr>
              <a:xfrm>
                <a:off x="1676520" y="4129200"/>
                <a:ext cx="12189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7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2" name="Rectangle 17"/>
          <p:cNvSpPr/>
          <p:nvPr/>
        </p:nvSpPr>
        <p:spPr>
          <a:xfrm>
            <a:off x="914400" y="48448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10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probability that the selected person ha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th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col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18"/>
              <p:cNvSpPr txBox="1"/>
              <p:nvPr/>
            </p:nvSpPr>
            <p:spPr>
              <a:xfrm>
                <a:off x="1676520" y="5791320"/>
                <a:ext cx="20574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gt;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1T21:41:10Z</dcterms:created>
  <dc:creator>ahalzaid</dc:creator>
  <dc:description/>
  <dc:language>en-US</dc:language>
  <cp:lastModifiedBy>USER</cp:lastModifiedBy>
  <dcterms:modified xsi:type="dcterms:W3CDTF">2012-01-24T13:14:17Z</dcterms:modified>
  <cp:revision>10</cp:revision>
  <dc:subject/>
  <dc:title>PowerPoint Presentation</dc:title>
</cp:coreProperties>
</file>