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C21-B939-4EB7-A90B-20642749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922-1430-4AD4-AF07-B6FC4BF2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C00-5E5E-4BF1-A65B-657DEABF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B04-E0D2-4EBF-8DA5-DD543800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97F8-5534-4F65-91CD-0F2039EA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864B-CD6E-4971-A2C6-8D9DF4E2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264E-DFC1-47C2-B6EA-9C1EFED9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49B2-2DE3-49C4-8629-AD987106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E127-C4C0-4D6B-B217-B1A2EB6F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2ABB-1BCE-473C-9081-954805BE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7557-95A9-41A1-ABA5-025FECAC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004-AABB-40A4-B774-89BA014B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2D46-1EB4-443C-A007-695599A3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392D-71B9-4249-B474-C832A3B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2BBA-2099-4F11-A253-1C7020FA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8E4B-AB1D-415C-BA09-A32E8234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FEE5-B101-4D46-AD43-2247D1E8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253-F5FB-4C4D-A9BF-0466A8D2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6A3-5183-40A1-8606-9010934B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003-6AC3-4450-B6E1-6BD394F3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161-DE21-4376-B3ED-93650F01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BC9-B721-457F-9A96-864C4C63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447-2331-4399-A676-BC06B041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709-8159-4A05-B606-762E9DBC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6A55-F264-495B-8C98-789AA473C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6795-B6DF-4497-848B-E166C5A2A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5"/>
          <p:cNvSpPr txBox="1"/>
          <p:nvPr/>
        </p:nvSpPr>
        <p:spPr>
          <a:xfrm>
            <a:off x="1219320" y="1447920"/>
            <a:ext cx="6858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373673" dir="18318786" blurRad="0" rotWithShape="0">
                    <a:srgbClr val="000099"/>
                  </a:outerShdw>
                </a:effectLst>
                <a:latin typeface="FreesiaUPC"/>
              </a:rPr>
              <a:t>Chapter 5 :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373673" dir="18318786" blurRad="0" rotWithShape="0">
                    <a:srgbClr val="000099"/>
                  </a:outerShdw>
                </a:effectLst>
                <a:latin typeface="FreesiaUPC"/>
              </a:rPr>
              <a:t>Hypothesis Testing and Estimation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990720" y="15084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90% confident  that  the mean μ lies in (25.71,26.69) 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.72 &lt;  μ &lt; 26.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990720" y="1600200"/>
            <a:ext cx="8151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4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imation for a population  proportion: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pulation proportion is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π is a parame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elements in the  population with a specified  characteristic “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0"/>
              <p:cNvSpPr txBox="1"/>
              <p:nvPr/>
            </p:nvSpPr>
            <p:spPr>
              <a:xfrm>
                <a:off x="1676520" y="2916360"/>
                <a:ext cx="1066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1066680" y="4245120"/>
                <a:ext cx="990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2"/>
          <p:cNvSpPr/>
          <p:nvPr/>
        </p:nvSpPr>
        <p:spPr>
          <a:xfrm>
            <a:off x="990720" y="5087880"/>
            <a:ext cx="81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= total number of element in the population  (population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ple proporti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1447920" y="76320"/>
                <a:ext cx="1295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4572000" y="1666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tatist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27"/>
          <p:cNvGrpSpPr/>
          <p:nvPr/>
        </p:nvGrpSpPr>
        <p:grpSpPr>
          <a:xfrm>
            <a:off x="914400" y="790560"/>
            <a:ext cx="8229600" cy="1800360"/>
            <a:chOff x="914400" y="790560"/>
            <a:chExt cx="8229600" cy="1800360"/>
          </a:xfrm>
        </p:grpSpPr>
        <p:sp>
          <p:nvSpPr>
            <p:cNvPr id="192" name="Rectangle 8"/>
            <p:cNvSpPr/>
            <p:nvPr/>
          </p:nvSpPr>
          <p:spPr>
            <a:xfrm>
              <a:off x="914400" y="790560"/>
              <a:ext cx="8229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umber of elements in the  sample with the same characteristic “A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sample siz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Object 7"/>
                <p:cNvSpPr txBox="1"/>
                <p:nvPr/>
              </p:nvSpPr>
              <p:spPr>
                <a:xfrm>
                  <a:off x="1447920" y="1265400"/>
                  <a:ext cx="9903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" name="Group 26"/>
          <p:cNvGrpSpPr/>
          <p:nvPr/>
        </p:nvGrpSpPr>
        <p:grpSpPr>
          <a:xfrm>
            <a:off x="990720" y="2590920"/>
            <a:ext cx="7772400" cy="527040"/>
            <a:chOff x="990720" y="2590920"/>
            <a:chExt cx="7772400" cy="527040"/>
          </a:xfrm>
        </p:grpSpPr>
        <p:sp>
          <p:nvSpPr>
            <p:cNvPr id="195" name="Rectangle 10"/>
            <p:cNvSpPr/>
            <p:nvPr/>
          </p:nvSpPr>
          <p:spPr>
            <a:xfrm>
              <a:off x="990720" y="25909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sult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large sample sizes                 , we hav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9"/>
                <p:cNvSpPr txBox="1"/>
                <p:nvPr/>
              </p:nvSpPr>
              <p:spPr>
                <a:xfrm>
                  <a:off x="5486400" y="2652840"/>
                  <a:ext cx="121932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7" name="Object 11"/>
              <p:cNvSpPr txBox="1"/>
              <p:nvPr/>
            </p:nvSpPr>
            <p:spPr>
              <a:xfrm>
                <a:off x="2514600" y="3048120"/>
                <a:ext cx="26668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8" name="Group 23"/>
          <p:cNvGrpSpPr/>
          <p:nvPr/>
        </p:nvGrpSpPr>
        <p:grpSpPr>
          <a:xfrm>
            <a:off x="914400" y="4081320"/>
            <a:ext cx="8153280" cy="2896920"/>
            <a:chOff x="914400" y="4081320"/>
            <a:chExt cx="8153280" cy="2896920"/>
          </a:xfrm>
        </p:grpSpPr>
        <p:sp>
          <p:nvSpPr>
            <p:cNvPr id="199" name="Rectangle 24"/>
            <p:cNvSpPr/>
            <p:nvPr/>
          </p:nvSpPr>
          <p:spPr>
            <a:xfrm>
              <a:off x="914400" y="4081320"/>
              <a:ext cx="8153280" cy="28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stimation for π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1) Point Estim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good point estimate for π is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2) Interval Estimation (confidence interval): 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                confidence interval for π 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25"/>
                <p:cNvSpPr txBox="1"/>
                <p:nvPr/>
              </p:nvSpPr>
              <p:spPr>
                <a:xfrm>
                  <a:off x="2209680" y="6318360"/>
                  <a:ext cx="144792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α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1" name="Object 10"/>
              <p:cNvSpPr txBox="1"/>
              <p:nvPr/>
            </p:nvSpPr>
            <p:spPr>
              <a:xfrm>
                <a:off x="2514600" y="228600"/>
                <a:ext cx="25146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Rectangle 13"/>
          <p:cNvSpPr/>
          <p:nvPr/>
        </p:nvSpPr>
        <p:spPr>
          <a:xfrm>
            <a:off x="1066680" y="928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4"/>
              <p:cNvSpPr txBox="1"/>
              <p:nvPr/>
            </p:nvSpPr>
            <p:spPr>
              <a:xfrm>
                <a:off x="1738440" y="1371600"/>
                <a:ext cx="50432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914400" y="133200"/>
            <a:ext cx="8228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5.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(p.15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= whether or not a women is obese (qualitative vari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= all adult Saudi women in the western region see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 at  primary health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= π = The proportion of women who are obese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9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women in  the samp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women in the sample who are obe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2743200" y="5068800"/>
                <a:ext cx="3309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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914400" y="152280"/>
            <a:ext cx="822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proportion of  women who are obese in the sample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A point estimate for π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6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We need to construct 95% C.I. about π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1981080" y="2362320"/>
                <a:ext cx="4648320" cy="22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</m:t>
                        </m:r>
                        <m:r>
                          <m:t xml:space="preserve">⇔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⇔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⇔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e>
                      <m:e>
                        <m:r>
                          <m:t xml:space="preserve"></m:t>
                        </m:r>
                        <m:r>
                          <m:t xml:space="preserve">⇔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2066760" y="4782960"/>
                <a:ext cx="27608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∴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13"/>
          <p:cNvSpPr/>
          <p:nvPr/>
        </p:nvSpPr>
        <p:spPr>
          <a:xfrm>
            <a:off x="2438280" y="5607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% C.I. about π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2"/>
              <p:cNvSpPr txBox="1"/>
              <p:nvPr/>
            </p:nvSpPr>
            <p:spPr>
              <a:xfrm>
                <a:off x="0" y="3414600"/>
                <a:ext cx="14292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}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4"/>
              <p:cNvSpPr txBox="1"/>
              <p:nvPr/>
            </p:nvSpPr>
            <p:spPr>
              <a:xfrm>
                <a:off x="2057400" y="5715000"/>
                <a:ext cx="376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}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2362320" y="304920"/>
                <a:ext cx="25956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2319480" y="1271520"/>
                <a:ext cx="415764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3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43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43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950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3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5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Rectangle 8"/>
          <p:cNvSpPr/>
          <p:nvPr/>
        </p:nvSpPr>
        <p:spPr>
          <a:xfrm>
            <a:off x="1143000" y="1676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14300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2286000" y="2971800"/>
                <a:ext cx="1919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3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2"/>
              <p:cNvSpPr txBox="1"/>
              <p:nvPr/>
            </p:nvSpPr>
            <p:spPr>
              <a:xfrm>
                <a:off x="2209680" y="3409920"/>
                <a:ext cx="20574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27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3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Rectangle 14"/>
          <p:cNvSpPr/>
          <p:nvPr/>
        </p:nvSpPr>
        <p:spPr>
          <a:xfrm>
            <a:off x="1143000" y="30621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914400" y="399096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95% confident that the proportion of obese women, π , lies in the interval (0.61,0.67)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61 &lt; π &lt; 0.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990720" y="131760"/>
            <a:ext cx="7999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main purposes in statistic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hapter 1 &amp; 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Organization &amp; ummarization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Descriptive Statistic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hapter 5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Answering research questions about some population parame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tatistical Inferenc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Inferenc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) Hypothesis Te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ing questions about the population parameters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    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ng the actual values of Paramete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Ø    Point 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Ø    Interval 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Confidence Interv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1066680" y="304920"/>
            <a:ext cx="8077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 consider two types of population parameters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Population means (for quantitative variables):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μ =The average (expected) value of some quantitativ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 life span of som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ome mean of government employees in Saudi Arab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Population proportions  (for qualitative v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8"/>
              <p:cNvSpPr txBox="1"/>
              <p:nvPr/>
            </p:nvSpPr>
            <p:spPr>
              <a:xfrm>
                <a:off x="990720" y="5078520"/>
                <a:ext cx="80769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elements in the Population with some specified characteristi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elements in the Population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990720" y="7632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rtion of Saudi people who have some dis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rtion of smokers in Riyad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rtion of females in Saudi Ara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imation of Population Mean  :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(distribution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mean =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Varian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4038480" y="3962520"/>
                <a:ext cx="7239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Rectangle 7"/>
          <p:cNvSpPr/>
          <p:nvPr/>
        </p:nvSpPr>
        <p:spPr>
          <a:xfrm>
            <a:off x="990720" y="4494240"/>
            <a:ext cx="815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209680" y="575928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me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Var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2743200" y="5486400"/>
                <a:ext cx="1905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4724280" y="5816520"/>
                <a:ext cx="533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5257800" y="6264360"/>
                <a:ext cx="6094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2438280" y="76320"/>
                <a:ext cx="480564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Rectangle 7"/>
          <p:cNvSpPr/>
          <p:nvPr/>
        </p:nvSpPr>
        <p:spPr>
          <a:xfrm>
            <a:off x="914400" y="205740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interested in estimating the mean of a pop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I)Point Estim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estimate is a single number used to estimate (approximate) the true value of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population: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used as a point estimator of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2514600" y="251460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8"/>
              <p:cNvSpPr txBox="1"/>
              <p:nvPr/>
            </p:nvSpPr>
            <p:spPr>
              <a:xfrm>
                <a:off x="3048120" y="5105520"/>
                <a:ext cx="18288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0"/>
              <p:cNvSpPr txBox="1"/>
              <p:nvPr/>
            </p:nvSpPr>
            <p:spPr>
              <a:xfrm>
                <a:off x="1523880" y="5410080"/>
                <a:ext cx="13716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914400" y="2095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II)Interval Estimation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rval estimate of μ is an interval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ntaining the true value of μ “ with probability       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alled the confidence co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ower limit of the confidence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upper limit of the confidence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populatio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6248520" y="1123920"/>
                <a:ext cx="761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295280" y="4095720"/>
                <a:ext cx="1752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990720" y="2038320"/>
                <a:ext cx="761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914400" y="15228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         is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a distribution with mean μ and variance      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          100% confidence interval for  is 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if      is kn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9"/>
              <p:cNvSpPr txBox="1"/>
              <p:nvPr/>
            </p:nvSpPr>
            <p:spPr>
              <a:xfrm>
                <a:off x="1447920" y="1143000"/>
                <a:ext cx="16761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6477120" y="144792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1371600" y="2362320"/>
                <a:ext cx="8380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828800" y="2851200"/>
                <a:ext cx="3715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1219320" y="3327480"/>
                <a:ext cx="3124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Rectangle 13"/>
          <p:cNvSpPr/>
          <p:nvPr/>
        </p:nvSpPr>
        <p:spPr>
          <a:xfrm>
            <a:off x="4648320" y="3505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4"/>
              <p:cNvSpPr txBox="1"/>
              <p:nvPr/>
            </p:nvSpPr>
            <p:spPr>
              <a:xfrm>
                <a:off x="5867280" y="3406680"/>
                <a:ext cx="15242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17"/>
          <p:cNvSpPr/>
          <p:nvPr/>
        </p:nvSpPr>
        <p:spPr>
          <a:xfrm>
            <a:off x="914400" y="420516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 if       is unknow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6"/>
              <p:cNvSpPr txBox="1"/>
              <p:nvPr/>
            </p:nvSpPr>
            <p:spPr>
              <a:xfrm>
                <a:off x="1981080" y="4335480"/>
                <a:ext cx="381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8"/>
              <p:cNvSpPr txBox="1"/>
              <p:nvPr/>
            </p:nvSpPr>
            <p:spPr>
              <a:xfrm>
                <a:off x="1219320" y="4721400"/>
                <a:ext cx="32004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" name="Rectangle 20"/>
          <p:cNvSpPr/>
          <p:nvPr/>
        </p:nvSpPr>
        <p:spPr>
          <a:xfrm>
            <a:off x="4648320" y="4876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1"/>
              <p:cNvSpPr txBox="1"/>
              <p:nvPr/>
            </p:nvSpPr>
            <p:spPr>
              <a:xfrm>
                <a:off x="5877000" y="4800600"/>
                <a:ext cx="15904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0"/>
          <p:cNvGrpSpPr/>
          <p:nvPr/>
        </p:nvGrpSpPr>
        <p:grpSpPr>
          <a:xfrm>
            <a:off x="839880" y="152280"/>
            <a:ext cx="8304120" cy="3933360"/>
            <a:chOff x="839880" y="152280"/>
            <a:chExt cx="8304120" cy="3933360"/>
          </a:xfrm>
        </p:grpSpPr>
        <p:sp>
          <p:nvSpPr>
            <p:cNvPr id="162" name="Rectangle 11"/>
            <p:cNvSpPr/>
            <p:nvPr/>
          </p:nvSpPr>
          <p:spPr>
            <a:xfrm>
              <a:off x="839880" y="152280"/>
              <a:ext cx="830412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ample: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[point estimate of is                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Variable = blood glucose level (quantitative variab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opulation = diabetic ketoacidosis patients in Saudi Arabia of age 15 or mo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arameter = μ=  the average blood glucose lev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large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     is unknown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7"/>
                <p:cNvSpPr txBox="1"/>
                <p:nvPr/>
              </p:nvSpPr>
              <p:spPr>
                <a:xfrm>
                  <a:off x="1449360" y="2760840"/>
                  <a:ext cx="12949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Object 6"/>
                <p:cNvSpPr txBox="1"/>
                <p:nvPr/>
              </p:nvSpPr>
              <p:spPr>
                <a:xfrm>
                  <a:off x="1449360" y="3138480"/>
                  <a:ext cx="1294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Object 5"/>
                <p:cNvSpPr txBox="1"/>
                <p:nvPr/>
              </p:nvSpPr>
              <p:spPr>
                <a:xfrm>
                  <a:off x="1449360" y="3611520"/>
                  <a:ext cx="121860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Object 4"/>
                <p:cNvSpPr txBox="1"/>
                <p:nvPr/>
              </p:nvSpPr>
              <p:spPr>
                <a:xfrm>
                  <a:off x="2896920" y="3581280"/>
                  <a:ext cx="4568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12"/>
                <p:cNvSpPr txBox="1"/>
                <p:nvPr/>
              </p:nvSpPr>
              <p:spPr>
                <a:xfrm>
                  <a:off x="5792760" y="152280"/>
                  <a:ext cx="129492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8" name="Group 19"/>
          <p:cNvGrpSpPr/>
          <p:nvPr/>
        </p:nvGrpSpPr>
        <p:grpSpPr>
          <a:xfrm>
            <a:off x="914400" y="4173480"/>
            <a:ext cx="8228160" cy="2226960"/>
            <a:chOff x="914400" y="4173480"/>
            <a:chExt cx="8228160" cy="2226960"/>
          </a:xfrm>
        </p:grpSpPr>
        <p:sp>
          <p:nvSpPr>
            <p:cNvPr id="169" name="Rectangle 17"/>
            <p:cNvSpPr/>
            <p:nvPr/>
          </p:nvSpPr>
          <p:spPr>
            <a:xfrm>
              <a:off x="914400" y="4173480"/>
              <a:ext cx="8228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  Point Estim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e need to find a point estimate for μ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 a point estimate for μ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  Interval Estimation (Confidince Interval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e need to find 90% confidence interval for μ 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8"/>
                <p:cNvSpPr txBox="1"/>
                <p:nvPr/>
              </p:nvSpPr>
              <p:spPr>
                <a:xfrm>
                  <a:off x="1371600" y="5043600"/>
                  <a:ext cx="129528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1"/>
          <p:cNvSpPr/>
          <p:nvPr/>
        </p:nvSpPr>
        <p:spPr>
          <a:xfrm>
            <a:off x="990720" y="76320"/>
            <a:ext cx="6781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% =           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% confidence interval for μ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2590920" y="169920"/>
                <a:ext cx="8380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1523880" y="627120"/>
                <a:ext cx="3048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⇔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8"/>
              <p:cNvSpPr txBox="1"/>
              <p:nvPr/>
            </p:nvSpPr>
            <p:spPr>
              <a:xfrm>
                <a:off x="1600200" y="1008000"/>
                <a:ext cx="1143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7"/>
              <p:cNvSpPr txBox="1"/>
              <p:nvPr/>
            </p:nvSpPr>
            <p:spPr>
              <a:xfrm>
                <a:off x="3581280" y="1008000"/>
                <a:ext cx="15242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1600200" y="1852560"/>
                <a:ext cx="28954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143000" y="2760840"/>
                <a:ext cx="380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}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2"/>
              <p:cNvSpPr txBox="1"/>
              <p:nvPr/>
            </p:nvSpPr>
            <p:spPr>
              <a:xfrm>
                <a:off x="1581120" y="3111480"/>
                <a:ext cx="3295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9" name="Rectangle 14"/>
          <p:cNvSpPr/>
          <p:nvPr/>
        </p:nvSpPr>
        <p:spPr>
          <a:xfrm>
            <a:off x="990720" y="3809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1600200" y="4211640"/>
                <a:ext cx="53341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5</m:t>
                            </m:r>
                          </m:e>
                        </m:d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3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5</m:t>
                            </m:r>
                          </m:e>
                        </m:d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3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7"/>
              <p:cNvSpPr txBox="1"/>
              <p:nvPr/>
            </p:nvSpPr>
            <p:spPr>
              <a:xfrm>
                <a:off x="1600200" y="5162400"/>
                <a:ext cx="51055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947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9471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9"/>
              <p:cNvSpPr txBox="1"/>
              <p:nvPr/>
            </p:nvSpPr>
            <p:spPr>
              <a:xfrm>
                <a:off x="1600200" y="5695920"/>
                <a:ext cx="350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052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947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Rectangle 21"/>
          <p:cNvSpPr/>
          <p:nvPr/>
        </p:nvSpPr>
        <p:spPr>
          <a:xfrm>
            <a:off x="990720" y="5634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2T23:23:32Z</dcterms:created>
  <dc:creator>ahalzaid</dc:creator>
  <dc:description/>
  <dc:language>en-US</dc:language>
  <cp:lastModifiedBy>USER</cp:lastModifiedBy>
  <dcterms:modified xsi:type="dcterms:W3CDTF">2012-01-24T13:15:52Z</dcterms:modified>
  <cp:revision>4</cp:revision>
  <dc:subject/>
  <dc:title>PowerPoint Presentation</dc:title>
</cp:coreProperties>
</file>