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D13-B622-4D0B-8053-28732287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DAA-2E5A-4C04-896D-8D991C78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973-0BC0-4482-A66B-567D177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ACF-859D-43A5-B491-C97D3EB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3AB-C338-4A9B-AA3D-A5D601B6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97ED-B373-4C7E-9D0C-E7EE3D77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3E6-B0FD-46FE-A482-8CEF3DE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04B-FC21-4723-A8EE-66E8D10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FCE-78FE-4A02-B9E9-418F1B33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684-4A83-417F-914E-FE0FDF1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709-1F20-4814-8D65-3839D44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140-E7CF-4378-B7AF-36C9070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905-7725-4DF7-9B90-F7DE0E5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57AD-089E-4471-B341-66135BD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D7BE-F0B1-46FA-A8D2-328ECD4C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0344-9599-42B8-B99D-491A7E54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DA6-B396-4304-B97E-34358FBF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A5E-E945-4410-86A2-E02AE3C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1C6-9425-4EA8-9AE9-9354C8E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E84-089C-416B-92DA-A7766DD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B94-3F52-4343-82A4-F4F35D2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B9D-9572-4E2F-8DBF-5AC42EF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720-8E36-4503-97F1-A809784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893-2489-4AE2-A4E8-FDA1F79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D0F-728E-49AA-B855-4F1F01F7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559-4E38-493E-80B5-C23292B8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1219320" y="1447920"/>
            <a:ext cx="6858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Chapter 5 :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Hypothesis Testing and Estimation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990720" y="1508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90% confident  that  the mean μ lies in (25.71,26.69)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72 &lt;  μ &lt; 26.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990720" y="1600200"/>
            <a:ext cx="8151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for a population  proportion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proportion i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π is a parame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lements in the  population with a specified  characteristic “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676520" y="2916360"/>
                <a:ext cx="1066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1066680" y="424512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990720" y="508788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total number of element in the population  (population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propor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47920" y="7632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4572000" y="166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ati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7"/>
          <p:cNvGrpSpPr/>
          <p:nvPr/>
        </p:nvGrpSpPr>
        <p:grpSpPr>
          <a:xfrm>
            <a:off x="914400" y="790560"/>
            <a:ext cx="8229600" cy="1800360"/>
            <a:chOff x="914400" y="790560"/>
            <a:chExt cx="8229600" cy="1800360"/>
          </a:xfrm>
        </p:grpSpPr>
        <p:sp>
          <p:nvSpPr>
            <p:cNvPr id="192" name="Rectangle 8"/>
            <p:cNvSpPr/>
            <p:nvPr/>
          </p:nvSpPr>
          <p:spPr>
            <a:xfrm>
              <a:off x="914400" y="79056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elements in the  sample with the same characteristic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sample s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7"/>
                <p:cNvSpPr txBox="1"/>
                <p:nvPr/>
              </p:nvSpPr>
              <p:spPr>
                <a:xfrm>
                  <a:off x="1447920" y="1265400"/>
                  <a:ext cx="990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26"/>
          <p:cNvGrpSpPr/>
          <p:nvPr/>
        </p:nvGrpSpPr>
        <p:grpSpPr>
          <a:xfrm>
            <a:off x="990720" y="2590920"/>
            <a:ext cx="7772400" cy="527040"/>
            <a:chOff x="990720" y="2590920"/>
            <a:chExt cx="7772400" cy="527040"/>
          </a:xfrm>
        </p:grpSpPr>
        <p:sp>
          <p:nvSpPr>
            <p:cNvPr id="195" name="Rectangle 10"/>
            <p:cNvSpPr/>
            <p:nvPr/>
          </p:nvSpPr>
          <p:spPr>
            <a:xfrm>
              <a:off x="990720" y="25909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large sample sizes                 , we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5486400" y="2652840"/>
                  <a:ext cx="12193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514600" y="3048120"/>
                <a:ext cx="2666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8" name="Group 23"/>
          <p:cNvGrpSpPr/>
          <p:nvPr/>
        </p:nvGrpSpPr>
        <p:grpSpPr>
          <a:xfrm>
            <a:off x="914400" y="4081320"/>
            <a:ext cx="8153280" cy="2896920"/>
            <a:chOff x="914400" y="4081320"/>
            <a:chExt cx="8153280" cy="2896920"/>
          </a:xfrm>
        </p:grpSpPr>
        <p:sp>
          <p:nvSpPr>
            <p:cNvPr id="199" name="Rectangle 24"/>
            <p:cNvSpPr/>
            <p:nvPr/>
          </p:nvSpPr>
          <p:spPr>
            <a:xfrm>
              <a:off x="914400" y="4081320"/>
              <a:ext cx="815328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timation for π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)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good point estimate for π i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) Interval Estimation (confidence interval): 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confidence interval for π 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5"/>
                <p:cNvSpPr txBox="1"/>
                <p:nvPr/>
              </p:nvSpPr>
              <p:spPr>
                <a:xfrm>
                  <a:off x="2209680" y="6318360"/>
                  <a:ext cx="1447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2514600" y="228600"/>
                <a:ext cx="2514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Rectangle 13"/>
          <p:cNvSpPr/>
          <p:nvPr/>
        </p:nvSpPr>
        <p:spPr>
          <a:xfrm>
            <a:off x="1066680" y="9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738440" y="1371600"/>
                <a:ext cx="504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914400" y="133200"/>
            <a:ext cx="822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5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(p.1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= whether or not a women is obese (qualitative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= all adult Saudi women in the western region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at  primary health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= π = The proportion of women who are obes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 the s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the sample who are ob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2743200" y="5068800"/>
                <a:ext cx="3309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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914400" y="1522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portion of  women who are obese in the sam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A point estimate for π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6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e need to construct 95% C.I. about π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981080" y="2362320"/>
                <a:ext cx="46483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t xml:space="preserve">⇔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⇔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⇔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e>
                      <m:e>
                        <m:r>
                          <m:t xml:space="preserve"></m:t>
                        </m:r>
                        <m:r>
                          <m:t xml:space="preserve">⇔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2066760" y="4782960"/>
                <a:ext cx="2760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∴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3"/>
          <p:cNvSpPr/>
          <p:nvPr/>
        </p:nvSpPr>
        <p:spPr>
          <a:xfrm>
            <a:off x="2438280" y="5607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 C.I. about π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0" y="3414600"/>
                <a:ext cx="14292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2057400" y="5715000"/>
                <a:ext cx="376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362320" y="304920"/>
                <a:ext cx="25956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2319480" y="1271520"/>
                <a:ext cx="4157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5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5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8"/>
          <p:cNvSpPr/>
          <p:nvPr/>
        </p:nvSpPr>
        <p:spPr>
          <a:xfrm>
            <a:off x="11430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286000" y="2971800"/>
                <a:ext cx="1919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2209680" y="3409920"/>
                <a:ext cx="2057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7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14"/>
          <p:cNvSpPr/>
          <p:nvPr/>
        </p:nvSpPr>
        <p:spPr>
          <a:xfrm>
            <a:off x="1143000" y="3062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914400" y="3990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95% confident that the proportion of obese women, π , lies in the interval (0.61,0.67)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1 &lt; π &lt; 0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131760"/>
            <a:ext cx="7999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purposes in statistic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1 &amp;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ganization &amp; ummarization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scriptive Statistic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5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Answering research questions about some population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tatistical Inferenc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Hypothesis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ing questions about the population paramete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   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ng the actual values of Paramet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Point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Interval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Confidence Interv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066680" y="3049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 consider two types of population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Population means (for quantitative variables):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The average (expected) value of some quantitativ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life span of som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ome mean of government employees in Saudi Arab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opulation proportions  (for qualitative 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990720" y="5078520"/>
                <a:ext cx="8076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with some specified characteristi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90720" y="7632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audi people who have some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mokers in Riy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females in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of Population Mean  :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(distribution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mean =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Vari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4038480" y="3962520"/>
                <a:ext cx="723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990720" y="449424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209680" y="5759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743200" y="5486400"/>
                <a:ext cx="1905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724280" y="581652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257800" y="6264360"/>
                <a:ext cx="6094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438280" y="76320"/>
                <a:ext cx="48056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14400" y="20574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interested in estimating the mean of a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)Point Estim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estimate is a single number used to estimate (approximate) the true value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as a point estimator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514600" y="251460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048120" y="5105520"/>
                <a:ext cx="1828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1523880" y="5410080"/>
                <a:ext cx="13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914400" y="209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I)Interval Estimatio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al estimate of μ is an interv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aining the true value of μ “ with probability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lled the confidence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w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upp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6248520" y="11239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95280" y="4095720"/>
                <a:ext cx="1752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990720" y="20383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914400" y="152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distribution with mean μ and variance     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    100% confidence interval for  i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if      is 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447920" y="1143000"/>
                <a:ext cx="1676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6477120" y="144792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371600" y="23623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28800" y="2851200"/>
                <a:ext cx="371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219320" y="3327480"/>
                <a:ext cx="312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4648320" y="35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5867280" y="34066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914400" y="4205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 if       is unkn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981080" y="4335480"/>
                <a:ext cx="381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1219320" y="4721400"/>
                <a:ext cx="320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46483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5877000" y="4800600"/>
                <a:ext cx="1590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0"/>
          <p:cNvGrpSpPr/>
          <p:nvPr/>
        </p:nvGrpSpPr>
        <p:grpSpPr>
          <a:xfrm>
            <a:off x="839880" y="152280"/>
            <a:ext cx="8304120" cy="3933360"/>
            <a:chOff x="839880" y="152280"/>
            <a:chExt cx="8304120" cy="3933360"/>
          </a:xfrm>
        </p:grpSpPr>
        <p:sp>
          <p:nvSpPr>
            <p:cNvPr id="162" name="Rectangle 11"/>
            <p:cNvSpPr/>
            <p:nvPr/>
          </p:nvSpPr>
          <p:spPr>
            <a:xfrm>
              <a:off x="839880" y="152280"/>
              <a:ext cx="83041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ampl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[point estimate of is                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ariable = blood glucose level (quantitative variab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pulation = diabetic ketoacidosis patients in Saudi Arabia of age 15 or mo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rameter = μ=  the average blood glucose le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large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    is unknow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7"/>
                <p:cNvSpPr txBox="1"/>
                <p:nvPr/>
              </p:nvSpPr>
              <p:spPr>
                <a:xfrm>
                  <a:off x="1449360" y="2760840"/>
                  <a:ext cx="129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6"/>
                <p:cNvSpPr txBox="1"/>
                <p:nvPr/>
              </p:nvSpPr>
              <p:spPr>
                <a:xfrm>
                  <a:off x="1449360" y="3138480"/>
                  <a:ext cx="1294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5"/>
                <p:cNvSpPr txBox="1"/>
                <p:nvPr/>
              </p:nvSpPr>
              <p:spPr>
                <a:xfrm>
                  <a:off x="1449360" y="3611520"/>
                  <a:ext cx="1218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4"/>
                <p:cNvSpPr txBox="1"/>
                <p:nvPr/>
              </p:nvSpPr>
              <p:spPr>
                <a:xfrm>
                  <a:off x="2896920" y="3581280"/>
                  <a:ext cx="4568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12"/>
                <p:cNvSpPr txBox="1"/>
                <p:nvPr/>
              </p:nvSpPr>
              <p:spPr>
                <a:xfrm>
                  <a:off x="5792760" y="152280"/>
                  <a:ext cx="129492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19"/>
          <p:cNvGrpSpPr/>
          <p:nvPr/>
        </p:nvGrpSpPr>
        <p:grpSpPr>
          <a:xfrm>
            <a:off x="914400" y="4173480"/>
            <a:ext cx="8228160" cy="2226960"/>
            <a:chOff x="914400" y="4173480"/>
            <a:chExt cx="8228160" cy="2226960"/>
          </a:xfrm>
        </p:grpSpPr>
        <p:sp>
          <p:nvSpPr>
            <p:cNvPr id="169" name="Rectangle 17"/>
            <p:cNvSpPr/>
            <p:nvPr/>
          </p:nvSpPr>
          <p:spPr>
            <a:xfrm>
              <a:off x="914400" y="4173480"/>
              <a:ext cx="8228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 Interval Estimation (Confidince Interval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90% confidence interval for μ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8"/>
                <p:cNvSpPr txBox="1"/>
                <p:nvPr/>
              </p:nvSpPr>
              <p:spPr>
                <a:xfrm>
                  <a:off x="1371600" y="5043600"/>
                  <a:ext cx="12952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990720" y="7632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=         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confidence interval for μ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90920" y="1699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523880" y="627120"/>
                <a:ext cx="3048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⇔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600200" y="10080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581280" y="1008000"/>
                <a:ext cx="1524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600200" y="1852560"/>
                <a:ext cx="2895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143000" y="2760840"/>
                <a:ext cx="38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581120" y="3111480"/>
                <a:ext cx="3295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14"/>
          <p:cNvSpPr/>
          <p:nvPr/>
        </p:nvSpPr>
        <p:spPr>
          <a:xfrm>
            <a:off x="99072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1600200" y="4211640"/>
                <a:ext cx="5334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1600200" y="5162400"/>
                <a:ext cx="51055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9"/>
              <p:cNvSpPr txBox="1"/>
              <p:nvPr/>
            </p:nvSpPr>
            <p:spPr>
              <a:xfrm>
                <a:off x="1600200" y="5695920"/>
                <a:ext cx="350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05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947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Rectangle 21"/>
          <p:cNvSpPr/>
          <p:nvPr/>
        </p:nvSpPr>
        <p:spPr>
          <a:xfrm>
            <a:off x="990720" y="5634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3:32Z</dcterms:created>
  <dc:creator>ahalzaid</dc:creator>
  <dc:description/>
  <dc:language>en-US</dc:language>
  <cp:lastModifiedBy>USER</cp:lastModifiedBy>
  <dcterms:modified xsi:type="dcterms:W3CDTF">2012-01-24T13:15:52Z</dcterms:modified>
  <cp:revision>4</cp:revision>
  <dc:subject/>
  <dc:title>PowerPoint Presentation</dc:title>
</cp:coreProperties>
</file>