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EB7-1732-4B66-A9A9-A1441AB8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87C-9577-4315-90C5-D05F93F9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B41-842F-469F-9A59-88BD709B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11F-C767-4FD8-9A28-4C40C603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1777-F2E9-4101-9B8A-049F6070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8869-FEFF-45E4-B388-898F831F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69D2-E884-404F-9AD2-FF94ECE0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B4EC-B90C-419E-9B4B-29F2D887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89D1-D880-460F-BD93-ED2F4DD9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62A-2C1A-4AA9-9DC3-95F92DAA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C219-A1FB-4FC0-BD4E-CCA0D07F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F1D-0409-42D0-9F7D-FB6CDA93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183F-081E-4E79-A44F-D6241BB0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E43F-2F5C-4F29-BEB3-ECCC80D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A461-6A78-4138-B793-D2BE5352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182C-1948-4BD5-BC3D-A17578A2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8206-B6DC-4DE9-9FEF-746333BC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07F-F642-461F-85CD-5D29CC45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4E8-8D0B-441C-AD11-1CAD75AA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B24-E1D0-463A-B133-869ACDE5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598-C15A-4566-BAA1-67B6A20E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48E-F1D4-4A40-963C-66B8438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30D-47F8-4B4F-8EA3-8F9EB8FF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484-3A1D-4997-9501-7CC8308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9B97-5EAE-4B56-89B1-C42B20C6A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CBAE-EF73-43DB-BBCC-DAE3D8E43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5"/>
          <p:cNvSpPr txBox="1"/>
          <p:nvPr/>
        </p:nvSpPr>
        <p:spPr>
          <a:xfrm>
            <a:off x="1219320" y="1447920"/>
            <a:ext cx="6858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73673" dir="18318786" blurRad="0" rotWithShape="0">
                    <a:srgbClr val="000099"/>
                  </a:outerShdw>
                </a:effectLst>
                <a:latin typeface="FreesiaUPC"/>
              </a:rPr>
              <a:t>Chapter 5 :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73673" dir="18318786" blurRad="0" rotWithShape="0">
                    <a:srgbClr val="000099"/>
                  </a:outerShdw>
                </a:effectLst>
                <a:latin typeface="FreesiaUPC"/>
              </a:rPr>
              <a:t>Hypothesis Testing and Estimation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990720" y="15084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90% confident  that  the mean μ lies in (25.71,26.69) 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72 &lt;  μ &lt; 26.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990720" y="1600200"/>
            <a:ext cx="8151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4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imation for a population  proportion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pulation proportion i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π is a parame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elements in the  population with a specified  characteristic “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1676520" y="2916360"/>
                <a:ext cx="1066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1066680" y="4245120"/>
                <a:ext cx="99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2"/>
          <p:cNvSpPr/>
          <p:nvPr/>
        </p:nvSpPr>
        <p:spPr>
          <a:xfrm>
            <a:off x="990720" y="508788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= total number of element in the population  (population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ple propor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47920" y="76320"/>
                <a:ext cx="129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4572000" y="1666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tatis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27"/>
          <p:cNvGrpSpPr/>
          <p:nvPr/>
        </p:nvGrpSpPr>
        <p:grpSpPr>
          <a:xfrm>
            <a:off x="914400" y="790560"/>
            <a:ext cx="8229600" cy="1800360"/>
            <a:chOff x="914400" y="790560"/>
            <a:chExt cx="8229600" cy="1800360"/>
          </a:xfrm>
        </p:grpSpPr>
        <p:sp>
          <p:nvSpPr>
            <p:cNvPr id="192" name="Rectangle 8"/>
            <p:cNvSpPr/>
            <p:nvPr/>
          </p:nvSpPr>
          <p:spPr>
            <a:xfrm>
              <a:off x="914400" y="79056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umber of elements in the  sample with the same characteristic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sample siz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Object 7"/>
                <p:cNvSpPr txBox="1"/>
                <p:nvPr/>
              </p:nvSpPr>
              <p:spPr>
                <a:xfrm>
                  <a:off x="1447920" y="1265400"/>
                  <a:ext cx="9903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Group 26"/>
          <p:cNvGrpSpPr/>
          <p:nvPr/>
        </p:nvGrpSpPr>
        <p:grpSpPr>
          <a:xfrm>
            <a:off x="990720" y="2590920"/>
            <a:ext cx="7772400" cy="527040"/>
            <a:chOff x="990720" y="2590920"/>
            <a:chExt cx="7772400" cy="527040"/>
          </a:xfrm>
        </p:grpSpPr>
        <p:sp>
          <p:nvSpPr>
            <p:cNvPr id="195" name="Rectangle 10"/>
            <p:cNvSpPr/>
            <p:nvPr/>
          </p:nvSpPr>
          <p:spPr>
            <a:xfrm>
              <a:off x="990720" y="25909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large sample sizes                 , we ha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9"/>
                <p:cNvSpPr txBox="1"/>
                <p:nvPr/>
              </p:nvSpPr>
              <p:spPr>
                <a:xfrm>
                  <a:off x="5486400" y="2652840"/>
                  <a:ext cx="12193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Object 11"/>
              <p:cNvSpPr txBox="1"/>
              <p:nvPr/>
            </p:nvSpPr>
            <p:spPr>
              <a:xfrm>
                <a:off x="2514600" y="3048120"/>
                <a:ext cx="26668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8" name="Group 23"/>
          <p:cNvGrpSpPr/>
          <p:nvPr/>
        </p:nvGrpSpPr>
        <p:grpSpPr>
          <a:xfrm>
            <a:off x="914400" y="4081320"/>
            <a:ext cx="8153280" cy="2896920"/>
            <a:chOff x="914400" y="4081320"/>
            <a:chExt cx="8153280" cy="2896920"/>
          </a:xfrm>
        </p:grpSpPr>
        <p:sp>
          <p:nvSpPr>
            <p:cNvPr id="199" name="Rectangle 24"/>
            <p:cNvSpPr/>
            <p:nvPr/>
          </p:nvSpPr>
          <p:spPr>
            <a:xfrm>
              <a:off x="914400" y="4081320"/>
              <a:ext cx="815328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stimation for π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) Point Est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good point estimate for π i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) Interval Estimation (confidence interval): 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                confidence interval for π 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25"/>
                <p:cNvSpPr txBox="1"/>
                <p:nvPr/>
              </p:nvSpPr>
              <p:spPr>
                <a:xfrm>
                  <a:off x="2209680" y="6318360"/>
                  <a:ext cx="14479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α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2514600" y="228600"/>
                <a:ext cx="2514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Rectangle 13"/>
          <p:cNvSpPr/>
          <p:nvPr/>
        </p:nvSpPr>
        <p:spPr>
          <a:xfrm>
            <a:off x="1066680" y="9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4"/>
              <p:cNvSpPr txBox="1"/>
              <p:nvPr/>
            </p:nvSpPr>
            <p:spPr>
              <a:xfrm>
                <a:off x="1738440" y="1371600"/>
                <a:ext cx="5043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914400" y="133200"/>
            <a:ext cx="822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5.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(p.15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= whether or not a women is obese (qualitative vari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= all adult Saudi women in the western region see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 at  primary health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= π = The proportion of women who are obes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women in  the s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women in the sample who are ob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2743200" y="5068800"/>
                <a:ext cx="3309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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914400" y="1522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roportion of  women who are obese in the sam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A point estimate for π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6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We need to construct 95% C.I. about π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981080" y="2362320"/>
                <a:ext cx="4648320" cy="22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r>
                          <m:t xml:space="preserve">⇔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⇔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⇔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e>
                      <m:e>
                        <m:r>
                          <m:t xml:space="preserve"></m:t>
                        </m:r>
                        <m:r>
                          <m:t xml:space="preserve">⇔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2066760" y="4782960"/>
                <a:ext cx="2760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∴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13"/>
          <p:cNvSpPr/>
          <p:nvPr/>
        </p:nvSpPr>
        <p:spPr>
          <a:xfrm>
            <a:off x="2438280" y="5607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% C.I. about π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0" y="3414600"/>
                <a:ext cx="14292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4"/>
              <p:cNvSpPr txBox="1"/>
              <p:nvPr/>
            </p:nvSpPr>
            <p:spPr>
              <a:xfrm>
                <a:off x="2057400" y="5715000"/>
                <a:ext cx="376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2362320" y="304920"/>
                <a:ext cx="25956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2319480" y="1271520"/>
                <a:ext cx="4157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3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3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3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5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3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5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Rectangle 8"/>
          <p:cNvSpPr/>
          <p:nvPr/>
        </p:nvSpPr>
        <p:spPr>
          <a:xfrm>
            <a:off x="114300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286000" y="2971800"/>
                <a:ext cx="1919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2"/>
              <p:cNvSpPr txBox="1"/>
              <p:nvPr/>
            </p:nvSpPr>
            <p:spPr>
              <a:xfrm>
                <a:off x="2209680" y="3409920"/>
                <a:ext cx="20574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27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3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Rectangle 14"/>
          <p:cNvSpPr/>
          <p:nvPr/>
        </p:nvSpPr>
        <p:spPr>
          <a:xfrm>
            <a:off x="1143000" y="30621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914400" y="3990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95% confident that the proportion of obese women, π , lies in the interval (0.61,0.67)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61 &lt; π &lt; 0.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90720" y="131760"/>
            <a:ext cx="7999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purposes in statistic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apter 1 &amp; 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Organization &amp; ummarization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escriptive Statistic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apter 5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Answering research questions about some population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tatistical Inferenc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Inferenc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) Hypothesis Te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ing questions about the population paramete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    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ng the actual values of Paramet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Ø    Point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Ø    Interval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Confidence Interv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1066680" y="30492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 consider two types of population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Population means (for quantitative variables):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The average (expected) value of some quantitativ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life span of som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ome mean of government employees in Saudi Arab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Population proportions  (for qualitative v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990720" y="5078520"/>
                <a:ext cx="80769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elements in the Population with some specified characteristi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elements in the Population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990720" y="7632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Saudi people who have some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smokers in Riyad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females in Saudi Ara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imation of Population Mean  :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(distribution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mean =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Varian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4038480" y="3962520"/>
                <a:ext cx="7239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Rectangle 7"/>
          <p:cNvSpPr/>
          <p:nvPr/>
        </p:nvSpPr>
        <p:spPr>
          <a:xfrm>
            <a:off x="990720" y="4494240"/>
            <a:ext cx="815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209680" y="57592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e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2743200" y="5486400"/>
                <a:ext cx="1905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4724280" y="5816520"/>
                <a:ext cx="533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5257800" y="6264360"/>
                <a:ext cx="6094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438280" y="76320"/>
                <a:ext cx="48056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914400" y="205740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interested in estimating the mean of a po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I)Point Estim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estimate is a single number used to estimate (approximate) the true value of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population: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sed as a point estimator of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2514600" y="251460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3048120" y="5105520"/>
                <a:ext cx="18288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1523880" y="5410080"/>
                <a:ext cx="13716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914400" y="209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II)Interval Estimatio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val estimate of μ is an interv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ntaining the true value of μ “ with probability   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alled the confidence co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wer limit of the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upper limit of the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populati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6248520" y="1123920"/>
                <a:ext cx="761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295280" y="4095720"/>
                <a:ext cx="1752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990720" y="2038320"/>
                <a:ext cx="761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914400" y="152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 distribution with mean μ and variance     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         100% confidence interval for  i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if      is kn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447920" y="1143000"/>
                <a:ext cx="1676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6477120" y="144792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1371600" y="2362320"/>
                <a:ext cx="838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28800" y="2851200"/>
                <a:ext cx="371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219320" y="3327480"/>
                <a:ext cx="312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Rectangle 13"/>
          <p:cNvSpPr/>
          <p:nvPr/>
        </p:nvSpPr>
        <p:spPr>
          <a:xfrm>
            <a:off x="4648320" y="3505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5867280" y="3406680"/>
                <a:ext cx="15242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914400" y="42051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 if       is unknow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981080" y="4335480"/>
                <a:ext cx="381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8"/>
              <p:cNvSpPr txBox="1"/>
              <p:nvPr/>
            </p:nvSpPr>
            <p:spPr>
              <a:xfrm>
                <a:off x="1219320" y="4721400"/>
                <a:ext cx="3200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Rectangle 20"/>
          <p:cNvSpPr/>
          <p:nvPr/>
        </p:nvSpPr>
        <p:spPr>
          <a:xfrm>
            <a:off x="46483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5877000" y="4800600"/>
                <a:ext cx="1590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0"/>
          <p:cNvGrpSpPr/>
          <p:nvPr/>
        </p:nvGrpSpPr>
        <p:grpSpPr>
          <a:xfrm>
            <a:off x="839880" y="152280"/>
            <a:ext cx="8304120" cy="3933360"/>
            <a:chOff x="839880" y="152280"/>
            <a:chExt cx="8304120" cy="3933360"/>
          </a:xfrm>
        </p:grpSpPr>
        <p:sp>
          <p:nvSpPr>
            <p:cNvPr id="162" name="Rectangle 11"/>
            <p:cNvSpPr/>
            <p:nvPr/>
          </p:nvSpPr>
          <p:spPr>
            <a:xfrm>
              <a:off x="839880" y="152280"/>
              <a:ext cx="830412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ample: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[point estimate of is                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ariable = blood glucose level (quantitative variab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pulation = diabetic ketoacidosis patients in Saudi Arabia of age 15 or mo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rameter = μ=  the average blood glucose lev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large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     is unknow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7"/>
                <p:cNvSpPr txBox="1"/>
                <p:nvPr/>
              </p:nvSpPr>
              <p:spPr>
                <a:xfrm>
                  <a:off x="1449360" y="2760840"/>
                  <a:ext cx="12949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6"/>
                <p:cNvSpPr txBox="1"/>
                <p:nvPr/>
              </p:nvSpPr>
              <p:spPr>
                <a:xfrm>
                  <a:off x="1449360" y="3138480"/>
                  <a:ext cx="1294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Object 5"/>
                <p:cNvSpPr txBox="1"/>
                <p:nvPr/>
              </p:nvSpPr>
              <p:spPr>
                <a:xfrm>
                  <a:off x="1449360" y="3611520"/>
                  <a:ext cx="12186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4"/>
                <p:cNvSpPr txBox="1"/>
                <p:nvPr/>
              </p:nvSpPr>
              <p:spPr>
                <a:xfrm>
                  <a:off x="2896920" y="3581280"/>
                  <a:ext cx="4568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12"/>
                <p:cNvSpPr txBox="1"/>
                <p:nvPr/>
              </p:nvSpPr>
              <p:spPr>
                <a:xfrm>
                  <a:off x="5792760" y="152280"/>
                  <a:ext cx="129492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" name="Group 19"/>
          <p:cNvGrpSpPr/>
          <p:nvPr/>
        </p:nvGrpSpPr>
        <p:grpSpPr>
          <a:xfrm>
            <a:off x="914400" y="4173480"/>
            <a:ext cx="8228160" cy="2226960"/>
            <a:chOff x="914400" y="4173480"/>
            <a:chExt cx="8228160" cy="2226960"/>
          </a:xfrm>
        </p:grpSpPr>
        <p:sp>
          <p:nvSpPr>
            <p:cNvPr id="169" name="Rectangle 17"/>
            <p:cNvSpPr/>
            <p:nvPr/>
          </p:nvSpPr>
          <p:spPr>
            <a:xfrm>
              <a:off x="914400" y="4173480"/>
              <a:ext cx="8228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Point Est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need to find a point estimate for μ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 a point estimate for μ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 Interval Estimation (Confidince Interval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need to find 90% confidence interval for μ 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8"/>
                <p:cNvSpPr txBox="1"/>
                <p:nvPr/>
              </p:nvSpPr>
              <p:spPr>
                <a:xfrm>
                  <a:off x="1371600" y="5043600"/>
                  <a:ext cx="129528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990720" y="76320"/>
            <a:ext cx="6781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=         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confidence interval for μ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590920" y="169920"/>
                <a:ext cx="838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523880" y="627120"/>
                <a:ext cx="3048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⇔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1600200" y="1008000"/>
                <a:ext cx="1143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3581280" y="1008000"/>
                <a:ext cx="15242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1600200" y="1852560"/>
                <a:ext cx="2895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143000" y="2760840"/>
                <a:ext cx="380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1581120" y="3111480"/>
                <a:ext cx="3295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Rectangle 14"/>
          <p:cNvSpPr/>
          <p:nvPr/>
        </p:nvSpPr>
        <p:spPr>
          <a:xfrm>
            <a:off x="99072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1600200" y="4211640"/>
                <a:ext cx="53341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</m:e>
                        </m:d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</m:e>
                        </m:d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1600200" y="5162400"/>
                <a:ext cx="51055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47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471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9"/>
              <p:cNvSpPr txBox="1"/>
              <p:nvPr/>
            </p:nvSpPr>
            <p:spPr>
              <a:xfrm>
                <a:off x="1600200" y="5695920"/>
                <a:ext cx="350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052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947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Rectangle 21"/>
          <p:cNvSpPr/>
          <p:nvPr/>
        </p:nvSpPr>
        <p:spPr>
          <a:xfrm>
            <a:off x="990720" y="5634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23:23:32Z</dcterms:created>
  <dc:creator>ahalzaid</dc:creator>
  <dc:description/>
  <dc:language>en-US</dc:language>
  <cp:lastModifiedBy>USER</cp:lastModifiedBy>
  <dcterms:modified xsi:type="dcterms:W3CDTF">2012-01-24T13:15:52Z</dcterms:modified>
  <cp:revision>4</cp:revision>
  <dc:subject/>
  <dc:title>PowerPoint Presentation</dc:title>
</cp:coreProperties>
</file>