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2E9-A14F-4BBE-BCA5-900B8CCC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813-ED52-43AF-B955-7A13F75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55F-2883-45C7-A2A8-BC09B904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8DA-A3E9-4E12-A566-2B71F9DC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CA5-B7E4-4AB4-ACDD-08AEAAB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22D-D44E-444E-8033-B4B3EFB6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C3D-59C9-4183-8B9C-FC4C0BD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6A9-C1BF-4AE0-9A51-D8A93064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09C-0BDF-464E-B667-47042AB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4D0-5EAE-4C1B-B022-F90137D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A46-1C7B-43F5-8EB6-5645FF8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99B-0877-4701-81E6-132D547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FB84-6508-42EC-8842-2749CAC5E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787320"/>
            <a:ext cx="86868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 – 10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emester 1423/142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# 432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acher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Abdulhamid Alza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B41 Building # 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Statistics and Operations Re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Science, King Saud Un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: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lementary Biostatistics with  Applications from Saudi Arab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Nancy Hasabelna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762120"/>
            <a:ext cx="88394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1.2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ahoma"/>
              </a:rPr>
              <a:t>.Organizing The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Ungrouped (or Simple) frequency distribution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qual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discrete quantitative variables with a few different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-        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Grouped frequency distributions</a:t>
            </a: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continuous quant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discrete quantitative variables with large number of different valu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9480" y="3808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rebuchet MS"/>
                <a:ea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: (Simple frequency distribution or ungrouped frequency distribution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The following data represent the number of children of 16 Saudi wom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3, 5, 2, 4, 0, 1, 3, 5, 2, 3, 2, 3, 3, 2, 4,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o. of children  (discrete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 = 1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The possible values of the 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ar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: 0, 1, 2, 3, 4, 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685800" y="1143000"/>
            <a:ext cx="7620120" cy="3657240"/>
            <a:chOff x="685800" y="1143000"/>
            <a:chExt cx="7620120" cy="3657240"/>
          </a:xfrm>
        </p:grpSpPr>
        <p:sp>
          <p:nvSpPr>
            <p:cNvPr id="65" name="Rectangle 3"/>
            <p:cNvSpPr/>
            <p:nvPr/>
          </p:nvSpPr>
          <p:spPr>
            <a:xfrm>
              <a:off x="762120" y="1143000"/>
              <a:ext cx="1527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. of childre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variable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2438280" y="1143000"/>
              <a:ext cx="1654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no. of wo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4289400" y="1178280"/>
              <a:ext cx="20322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lative Freq. (R. F.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Freq /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6477120" y="1143000"/>
              <a:ext cx="17794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centage Freq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 R.F. * 100%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758880" y="17481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384280" y="16894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4216320" y="16894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6477120" y="1689480"/>
              <a:ext cx="1768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6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758880" y="20581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384280" y="20581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4191120" y="205812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6477120" y="204300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58880" y="25005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2384280" y="250056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4140360" y="24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6477120" y="250056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758880" y="2927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2384280" y="29275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4216320" y="292752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6450120" y="294264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1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762120" y="336960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2438280" y="336960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4191120" y="33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6477120" y="33112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762120" y="373788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2438280" y="37378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4216320" y="37378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6526080" y="3679560"/>
              <a:ext cx="1779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85800" y="4106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2362320" y="412164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4191120" y="404820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6477120" y="40330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Rectangle 35"/>
            <p:cNvSpPr/>
            <p:nvPr/>
          </p:nvSpPr>
          <p:spPr>
            <a:xfrm>
              <a:off x="762120" y="1173960"/>
              <a:ext cx="7543800" cy="331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 flipV="1">
              <a:off x="640080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 flipV="1">
              <a:off x="419112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2438280" y="117396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762120" y="4048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762120" y="3679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762120" y="331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762120" y="286884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762120" y="2500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762120" y="2058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762120" y="1689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47"/>
          <p:cNvSpPr/>
          <p:nvPr/>
        </p:nvSpPr>
        <p:spPr>
          <a:xfrm>
            <a:off x="304920" y="5105520"/>
            <a:ext cx="88390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Total of the frequencies = </a:t>
            </a:r>
            <a:r>
              <a:rPr b="0" i="1" lang="ar-SA" sz="2400" spc="-1" strike="noStrike">
                <a:solidFill>
                  <a:srgbClr val="339933"/>
                </a:solidFill>
                <a:latin typeface="Times New Roman"/>
              </a:rPr>
              <a:t>n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= e sample siz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= frequency/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Percentag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100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ple frequency distribution of the no. of child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3808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 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Frequency bar chart</a:t>
            </a:r>
            <a:r>
              <a:rPr b="0" lang="en-US" sz="24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 is a graphical representation for the simple frequency distribu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17468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76364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5440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94156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53052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11948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71024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7468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76364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35440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294156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53052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11948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71024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17468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176364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235440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94156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53052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11948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471024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117468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76364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235440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94156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353052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11948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71024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68400" y="6356520"/>
            <a:ext cx="1106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76"/>
          <p:cNvSpPr/>
          <p:nvPr/>
        </p:nvSpPr>
        <p:spPr>
          <a:xfrm>
            <a:off x="0" y="6154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1" name="Object 77"/>
          <p:cNvGraphicFramePr/>
          <p:nvPr/>
        </p:nvGraphicFramePr>
        <p:xfrm>
          <a:off x="1676520" y="1747800"/>
          <a:ext cx="647676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47800"/>
                    <a:ext cx="647676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5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5335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  <a:ea typeface="Times New Roman"/>
              </a:rPr>
              <a:t>Example 1.2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rouped frequency distribu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following table give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emoglobin leve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(g/dl) of a sample of 50 m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9" name="Group 63"/>
          <p:cNvGrpSpPr/>
          <p:nvPr/>
        </p:nvGrpSpPr>
        <p:grpSpPr>
          <a:xfrm>
            <a:off x="152280" y="2741760"/>
            <a:ext cx="6863040" cy="1525320"/>
            <a:chOff x="152280" y="2741760"/>
            <a:chExt cx="6863040" cy="1525320"/>
          </a:xfrm>
        </p:grpSpPr>
        <p:grpSp>
          <p:nvGrpSpPr>
            <p:cNvPr id="150" name="Group 6"/>
            <p:cNvGrpSpPr/>
            <p:nvPr/>
          </p:nvGrpSpPr>
          <p:grpSpPr>
            <a:xfrm>
              <a:off x="157320" y="2746440"/>
              <a:ext cx="6858000" cy="1520640"/>
              <a:chOff x="157320" y="2746440"/>
              <a:chExt cx="6858000" cy="1520640"/>
            </a:xfrm>
          </p:grpSpPr>
          <p:sp>
            <p:nvSpPr>
              <p:cNvPr id="151" name="Rectangle 4"/>
              <p:cNvSpPr/>
              <p:nvPr/>
            </p:nvSpPr>
            <p:spPr>
              <a:xfrm>
                <a:off x="225720" y="2746440"/>
                <a:ext cx="67212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7.0      17.7      15.9      15.2      16.2      17.1      15.7      17.3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3.5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6.3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4      15.8      15.3      16.4      13.7      16.2      16.4      16.1      17.0      15.9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0      16.2      16.4      14.9      17.8      16.1      15.5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8.3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5.8      16.7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5.9      15.3      13.9      16.8      15.9      16.3      17.4      15.0      17.5      16.1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2      16.1      15.7      15.1      17.4      16.5      14.4      16.3      17.3      15.8     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2" name="Rectangle 5"/>
              <p:cNvSpPr/>
              <p:nvPr/>
            </p:nvSpPr>
            <p:spPr>
              <a:xfrm>
                <a:off x="157320" y="2746440"/>
                <a:ext cx="68580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53" name="Rectangle 7"/>
            <p:cNvSpPr/>
            <p:nvPr/>
          </p:nvSpPr>
          <p:spPr>
            <a:xfrm>
              <a:off x="152280" y="2741760"/>
              <a:ext cx="6629400" cy="130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76320" y="47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X= hemoglobin level (continuous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8.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3.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839080" cy="57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1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Chapter :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Organizing and Displaying Dat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Statis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Statistics is that area of study which is interested in learning how to collect, organize, and summarize information, and how to answer research questions and draw conclus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iostatistic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f the information is obtained from biological and medical sciences, then we use the term biostatistic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0"/>
          <p:cNvSpPr/>
          <p:nvPr/>
        </p:nvSpPr>
        <p:spPr>
          <a:xfrm>
            <a:off x="228600" y="4419720"/>
            <a:ext cx="8686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lass interval = C. 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umulative frequency of a class interval = no. of values (frequency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obtained in that class interval or befor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d-Point (Class Mark) of C. I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668160" y="990720"/>
            <a:ext cx="6875640" cy="3123720"/>
            <a:chOff x="668160" y="990720"/>
            <a:chExt cx="6875640" cy="3123720"/>
          </a:xfrm>
        </p:grpSpPr>
        <p:sp>
          <p:nvSpPr>
            <p:cNvPr id="157" name="Rectangle 5"/>
            <p:cNvSpPr/>
            <p:nvPr/>
          </p:nvSpPr>
          <p:spPr>
            <a:xfrm>
              <a:off x="741240" y="1055520"/>
              <a:ext cx="147960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lass Interval (Hemoglobin level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2357280" y="1055520"/>
              <a:ext cx="1281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(no. of 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792240" y="1112760"/>
              <a:ext cx="1076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4987800" y="113580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6297480" y="105552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41240" y="2009880"/>
              <a:ext cx="14796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3.0 - 13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4.0 - 14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.0 - 15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.0 - 16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7.0 - 17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8.0 - 18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357280" y="2009880"/>
              <a:ext cx="1281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3774960" y="2009880"/>
              <a:ext cx="10764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>
              <a:off x="498780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0 = </a:t>
              </a:r>
              <a:r>
                <a:rPr b="0" i="1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29748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4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7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9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741240" y="3552120"/>
              <a:ext cx="1479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2357280" y="3552120"/>
              <a:ext cx="12812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=5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3774960" y="3552120"/>
              <a:ext cx="10764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Rectangle 49"/>
            <p:cNvSpPr/>
            <p:nvPr/>
          </p:nvSpPr>
          <p:spPr>
            <a:xfrm>
              <a:off x="668160" y="990720"/>
              <a:ext cx="6875640" cy="311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668160" y="990720"/>
              <a:ext cx="6858000" cy="311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Line 54"/>
            <p:cNvSpPr/>
            <p:nvPr/>
          </p:nvSpPr>
          <p:spPr>
            <a:xfrm flipH="1">
              <a:off x="685440" y="2028960"/>
              <a:ext cx="68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62308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493524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37162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2268360" y="1051560"/>
              <a:ext cx="0" cy="29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 flipH="1">
              <a:off x="668160" y="34948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Object 62"/>
              <p:cNvSpPr txBox="1"/>
              <p:nvPr/>
            </p:nvSpPr>
            <p:spPr>
              <a:xfrm>
                <a:off x="3809880" y="5638680"/>
                <a:ext cx="217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limit 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wer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63"/>
          <p:cNvSpPr/>
          <p:nvPr/>
        </p:nvSpPr>
        <p:spPr>
          <a:xfrm>
            <a:off x="440280" y="380880"/>
            <a:ext cx="78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n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ouped frequency distribution for the hemoglobin level of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1"/>
          <p:cNvSpPr/>
          <p:nvPr/>
        </p:nvSpPr>
        <p:spPr>
          <a:xfrm>
            <a:off x="231840" y="193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231840" y="2970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4" name="Object 55"/>
          <p:cNvGraphicFramePr/>
          <p:nvPr/>
        </p:nvGraphicFramePr>
        <p:xfrm>
          <a:off x="1600200" y="2171880"/>
          <a:ext cx="56386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71880"/>
                    <a:ext cx="5638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"/>
          <p:cNvGrpSpPr/>
          <p:nvPr/>
        </p:nvGrpSpPr>
        <p:grpSpPr>
          <a:xfrm>
            <a:off x="1155600" y="843120"/>
            <a:ext cx="1654200" cy="701640"/>
            <a:chOff x="1155600" y="843120"/>
            <a:chExt cx="1654200" cy="701640"/>
          </a:xfrm>
        </p:grpSpPr>
        <p:sp>
          <p:nvSpPr>
            <p:cNvPr id="187" name="Rectangle 5"/>
            <p:cNvSpPr/>
            <p:nvPr/>
          </p:nvSpPr>
          <p:spPr>
            <a:xfrm>
              <a:off x="12240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Interv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556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2809800" y="843120"/>
            <a:ext cx="1654200" cy="701640"/>
            <a:chOff x="2809800" y="843120"/>
            <a:chExt cx="1654200" cy="701640"/>
          </a:xfrm>
        </p:grpSpPr>
        <p:sp>
          <p:nvSpPr>
            <p:cNvPr id="190" name="Rectangle 8"/>
            <p:cNvSpPr/>
            <p:nvPr/>
          </p:nvSpPr>
          <p:spPr>
            <a:xfrm>
              <a:off x="28782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rue C. I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28098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2" name="Group 10"/>
          <p:cNvGrpSpPr/>
          <p:nvPr/>
        </p:nvGrpSpPr>
        <p:grpSpPr>
          <a:xfrm>
            <a:off x="4464000" y="843120"/>
            <a:ext cx="2406600" cy="701640"/>
            <a:chOff x="4464000" y="843120"/>
            <a:chExt cx="2406600" cy="701640"/>
          </a:xfrm>
        </p:grpSpPr>
        <p:sp>
          <p:nvSpPr>
            <p:cNvPr id="193" name="Rectangle 11"/>
            <p:cNvSpPr/>
            <p:nvPr/>
          </p:nvSpPr>
          <p:spPr>
            <a:xfrm>
              <a:off x="4532040" y="843120"/>
              <a:ext cx="2270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mid-point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4464000" y="843120"/>
              <a:ext cx="24066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6870600" y="843120"/>
            <a:ext cx="1278000" cy="701640"/>
            <a:chOff x="6870600" y="843120"/>
            <a:chExt cx="1278000" cy="701640"/>
          </a:xfrm>
        </p:grpSpPr>
        <p:sp>
          <p:nvSpPr>
            <p:cNvPr id="196" name="Rectangle 14"/>
            <p:cNvSpPr/>
            <p:nvPr/>
          </p:nvSpPr>
          <p:spPr>
            <a:xfrm>
              <a:off x="6939000" y="843120"/>
              <a:ext cx="1141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6870600" y="843120"/>
              <a:ext cx="12780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224000" y="1544760"/>
            <a:ext cx="15177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3.0 - 13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4.0 - 14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0 - 15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0 - 16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0 - 17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0 - 18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978280" y="1544760"/>
            <a:ext cx="151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2.95 - 13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3.95 - 14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4.95 - 15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95 - 16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95 - 17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95 - 18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4532400" y="1544760"/>
            <a:ext cx="2270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3.0+13.9)/2 = 13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4.9+14.9)/2 = 14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45                 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939000" y="1544760"/>
            <a:ext cx="11412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066680" y="32259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ower     upper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True       Tru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imits     limits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ower      upp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(L.L)     (U.L.)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imits      limits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0"/>
              <p:cNvSpPr txBox="1"/>
              <p:nvPr/>
            </p:nvSpPr>
            <p:spPr>
              <a:xfrm>
                <a:off x="389556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"/>
              <p:cNvSpPr txBox="1"/>
              <p:nvPr/>
            </p:nvSpPr>
            <p:spPr>
              <a:xfrm>
                <a:off x="31338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90512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3716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5"/>
          <p:cNvSpPr/>
          <p:nvPr/>
        </p:nvSpPr>
        <p:spPr>
          <a:xfrm>
            <a:off x="1143000" y="838080"/>
            <a:ext cx="70102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685800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449568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281952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Line 39"/>
          <p:cNvSpPr/>
          <p:nvPr/>
        </p:nvSpPr>
        <p:spPr>
          <a:xfrm flipH="1">
            <a:off x="1142640" y="15238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752480" y="4343400"/>
          <a:ext cx="509616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343400"/>
                    <a:ext cx="5096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8839080" cy="66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pulation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population is the largest group of people or things in which we are interested at a particular time and about which we want to make some statements or conclusions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From the population, we select various elements (or individuals) on which we collect our information. This part of the population on which we collect data is called the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 Siz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number of elements in the sample is called the sample size and is denoted by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5181480" cy="571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5257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41840" y="4680"/>
            <a:ext cx="8962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isplaying grouped frequency distributi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or representing frequency or relative frequency distributions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, we ha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following graphical presenta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304920" y="228600"/>
          <a:ext cx="380988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3809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3"/>
          <p:cNvGraphicFramePr/>
          <p:nvPr/>
        </p:nvGraphicFramePr>
        <p:xfrm>
          <a:off x="4572000" y="228600"/>
          <a:ext cx="41148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114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228600" y="2590920"/>
          <a:ext cx="3886200" cy="291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38862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5"/>
          <p:cNvGraphicFramePr/>
          <p:nvPr/>
        </p:nvGraphicFramePr>
        <p:xfrm>
          <a:off x="4572000" y="2666880"/>
          <a:ext cx="4114800" cy="2905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666880"/>
                    <a:ext cx="411480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0" y="0"/>
          <a:ext cx="47242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"/>
          <p:cNvGraphicFramePr/>
          <p:nvPr/>
        </p:nvGraphicFramePr>
        <p:xfrm>
          <a:off x="4648320" y="380880"/>
          <a:ext cx="4495680" cy="556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4956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3"/>
          <p:cNvSpPr/>
          <p:nvPr/>
        </p:nvSpPr>
        <p:spPr>
          <a:xfrm>
            <a:off x="3240" y="761508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6320" y="2286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representing cumulative frequency or cumulative relative frequency distribu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Polygon (ogiv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0"/>
          <p:cNvGraphicFramePr/>
          <p:nvPr/>
        </p:nvGraphicFramePr>
        <p:xfrm>
          <a:off x="1676520" y="1066680"/>
          <a:ext cx="62481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6248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Line 3"/>
          <p:cNvSpPr/>
          <p:nvPr/>
        </p:nvSpPr>
        <p:spPr>
          <a:xfrm>
            <a:off x="1981080" y="2514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905120" y="29718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905120" y="3505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1905120" y="3962160"/>
            <a:ext cx="5943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190512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9051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WINDOWS\Desktop\Untitled.bmp"/>
          <p:cNvPicPr/>
          <p:nvPr/>
        </p:nvPicPr>
        <p:blipFill>
          <a:blip r:embed="rId1"/>
          <a:stretch/>
        </p:blipFill>
        <p:spPr>
          <a:xfrm>
            <a:off x="2185920" y="0"/>
            <a:ext cx="477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WINDOWS\Desktop\Untitled.bmp"/>
          <p:cNvPicPr/>
          <p:nvPr/>
        </p:nvPicPr>
        <p:blipFill>
          <a:blip r:embed="rId1"/>
          <a:stretch/>
        </p:blipFill>
        <p:spPr>
          <a:xfrm>
            <a:off x="990720" y="182880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143000" y="685800"/>
            <a:ext cx="72388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Example of variables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no. of car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se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educational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845820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Types of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1) Quantitative Variable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alues of a quantitative variable   are   numbers indicating how much or how many of somethi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xamples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family siz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ag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914400" y="762120"/>
            <a:ext cx="76201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)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a qualitative variable are words or attributes indicating to which categ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ment of the population belong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lood typ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educational level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nation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62120" y="755640"/>
            <a:ext cx="7772400" cy="35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Types of Quantative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cret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crete variable can have only countable number of valu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 size  (x = 0, 1, 2, 3, …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 of patients (x = 0, 1, 2, 3, …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609480"/>
            <a:ext cx="75438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tinuous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ous variable can have any value within a certain interval of val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ight  (140 &lt; x &lt; 19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blood sugar level  (10 &lt; x &lt; 1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"/>
          <p:cNvSpPr/>
          <p:nvPr/>
        </p:nvSpPr>
        <p:spPr>
          <a:xfrm>
            <a:off x="449568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514600" y="1447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371600" y="1600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562720" y="1600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5146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259092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4382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1295280" y="2514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8098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12952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657600" y="5335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21:00:43Z</dcterms:created>
  <dc:creator>Dr Alzaid</dc:creator>
  <dc:description/>
  <dc:language>en-US</dc:language>
  <cp:lastModifiedBy>USER</cp:lastModifiedBy>
  <dcterms:modified xsi:type="dcterms:W3CDTF">2012-01-24T13:09:00Z</dcterms:modified>
  <cp:revision>22</cp:revision>
  <dc:subject/>
  <dc:title>عرض تقديمي من PowerPoint</dc:title>
</cp:coreProperties>
</file>