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A12-F420-4544-A39F-D71F1904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636-4D07-42F6-8CD1-A078F83A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A14-D786-440C-A1E5-68E62965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B64-79F7-439F-89B5-5B335C6C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BF8-7BCF-4AC2-82C7-203C899A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AA6-BAFC-4D1E-842E-CD0F3AEB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5A0-82FC-4327-AAEE-DDA2FB8F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C72-E2A1-482C-B53B-D132C7B6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301-0604-4B50-AE93-E9547412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54A-82A3-4170-A3A9-1D6CA650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7A3-D477-4033-B342-B7A3FBB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E75-AAB6-40AA-90CA-E99ECBD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1BD1-EDC5-4E2C-BFB1-C3EADC745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8600" y="787320"/>
            <a:ext cx="86868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 – 106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TATISTIC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emester 1423/142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# 4327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acher: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. Abdulhamid Alza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B41 Building # 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Statistics and Operations Resear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Science, King Saud Univers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book: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lementary Biostatistics with  Applications from Saudi Arab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. Nancy Hasabelna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762120"/>
            <a:ext cx="883944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1.2</a:t>
            </a:r>
            <a:r>
              <a:rPr b="1" lang="en-US" sz="3200" spc="-1" strike="noStrike">
                <a:solidFill>
                  <a:srgbClr val="3333cc"/>
                </a:solidFill>
                <a:latin typeface="Trebuchet MS"/>
                <a:ea typeface="Tahoma"/>
              </a:rPr>
              <a:t>.Organizing The Da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Ungrouped (or Simple) frequency distributions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Used fo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·   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qualitative variab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discrete quantitative variables with a few different val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-        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Grouped frequency distributions</a:t>
            </a: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Used fo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   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 continuous quantitative variab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 discrete quantitative variables with large number of different valu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9480" y="3808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rebuchet MS"/>
                <a:ea typeface="Tahoma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: (Simple frequency distribution or ungrouped frequency distribution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The following data represent the number of children of 16 Saudi wome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3, 5, 2, 4, 0, 1, 3, 5, 2, 3, 2, 3, 3, 2, 4,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no. of children  (discrete, quantitativ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Sample siz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n = 1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The possible values of the 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ar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: 0, 1, 2, 3, 4, 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685800" y="1143000"/>
            <a:ext cx="7620120" cy="3657240"/>
            <a:chOff x="685800" y="1143000"/>
            <a:chExt cx="7620120" cy="3657240"/>
          </a:xfrm>
        </p:grpSpPr>
        <p:sp>
          <p:nvSpPr>
            <p:cNvPr id="65" name="Rectangle 3"/>
            <p:cNvSpPr/>
            <p:nvPr/>
          </p:nvSpPr>
          <p:spPr>
            <a:xfrm>
              <a:off x="762120" y="1143000"/>
              <a:ext cx="1527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. of children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variable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2438280" y="1143000"/>
              <a:ext cx="16542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no. of wome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4289400" y="1178280"/>
              <a:ext cx="20322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elative Freq. (R. F.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=Freq /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6477120" y="1143000"/>
              <a:ext cx="17794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ercentage Freq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= R.F. * 100%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758880" y="174816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2384280" y="168948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4216320" y="168948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6477120" y="1689480"/>
              <a:ext cx="17683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6.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758880" y="20581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2384280" y="205812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4191120" y="205812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6477120" y="204300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758880" y="250056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2384280" y="250056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4140360" y="248508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6477120" y="250056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758880" y="29275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2384280" y="292752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4216320" y="292752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Rectangle 22"/>
            <p:cNvSpPr/>
            <p:nvPr/>
          </p:nvSpPr>
          <p:spPr>
            <a:xfrm>
              <a:off x="6450120" y="294264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1.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Rectangle 23"/>
            <p:cNvSpPr/>
            <p:nvPr/>
          </p:nvSpPr>
          <p:spPr>
            <a:xfrm>
              <a:off x="762120" y="336960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2438280" y="336960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7" name="Rectangle 25"/>
            <p:cNvSpPr/>
            <p:nvPr/>
          </p:nvSpPr>
          <p:spPr>
            <a:xfrm>
              <a:off x="4191120" y="338508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8" name="Rectangle 26"/>
            <p:cNvSpPr/>
            <p:nvPr/>
          </p:nvSpPr>
          <p:spPr>
            <a:xfrm>
              <a:off x="6477120" y="331128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762120" y="373788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2438280" y="373788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4216320" y="373788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" name="Rectangle 30"/>
            <p:cNvSpPr/>
            <p:nvPr/>
          </p:nvSpPr>
          <p:spPr>
            <a:xfrm>
              <a:off x="6526080" y="3679560"/>
              <a:ext cx="1779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685800" y="41065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" name="Rectangle 32"/>
            <p:cNvSpPr/>
            <p:nvPr/>
          </p:nvSpPr>
          <p:spPr>
            <a:xfrm>
              <a:off x="2362320" y="412164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4191120" y="404820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6477120" y="403308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" name="Rectangle 35"/>
            <p:cNvSpPr/>
            <p:nvPr/>
          </p:nvSpPr>
          <p:spPr>
            <a:xfrm>
              <a:off x="762120" y="1173960"/>
              <a:ext cx="7543800" cy="331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 flipV="1">
              <a:off x="6400800" y="117360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" name="Line 37"/>
            <p:cNvSpPr/>
            <p:nvPr/>
          </p:nvSpPr>
          <p:spPr>
            <a:xfrm flipV="1">
              <a:off x="4191120" y="117360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" name="Line 38"/>
            <p:cNvSpPr/>
            <p:nvPr/>
          </p:nvSpPr>
          <p:spPr>
            <a:xfrm>
              <a:off x="2438280" y="117396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" name="Line 39"/>
            <p:cNvSpPr/>
            <p:nvPr/>
          </p:nvSpPr>
          <p:spPr>
            <a:xfrm>
              <a:off x="762120" y="4048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Line 40"/>
            <p:cNvSpPr/>
            <p:nvPr/>
          </p:nvSpPr>
          <p:spPr>
            <a:xfrm>
              <a:off x="762120" y="367956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" name="Line 41"/>
            <p:cNvSpPr/>
            <p:nvPr/>
          </p:nvSpPr>
          <p:spPr>
            <a:xfrm>
              <a:off x="762120" y="33112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" name="Line 42"/>
            <p:cNvSpPr/>
            <p:nvPr/>
          </p:nvSpPr>
          <p:spPr>
            <a:xfrm>
              <a:off x="762120" y="286884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" name="Line 43"/>
            <p:cNvSpPr/>
            <p:nvPr/>
          </p:nvSpPr>
          <p:spPr>
            <a:xfrm>
              <a:off x="762120" y="250056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Line 44"/>
            <p:cNvSpPr/>
            <p:nvPr/>
          </p:nvSpPr>
          <p:spPr>
            <a:xfrm>
              <a:off x="762120" y="20581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Line 45"/>
            <p:cNvSpPr/>
            <p:nvPr/>
          </p:nvSpPr>
          <p:spPr>
            <a:xfrm>
              <a:off x="762120" y="1689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47"/>
          <p:cNvSpPr/>
          <p:nvPr/>
        </p:nvSpPr>
        <p:spPr>
          <a:xfrm>
            <a:off x="304920" y="5105520"/>
            <a:ext cx="88390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33"/>
                </a:solidFill>
                <a:latin typeface="Times New Roman"/>
              </a:rPr>
              <a:t>Total of the frequencies = </a:t>
            </a:r>
            <a:r>
              <a:rPr b="0" i="1" lang="ar-SA" sz="2400" spc="-1" strike="noStrike">
                <a:solidFill>
                  <a:srgbClr val="339933"/>
                </a:solidFill>
                <a:latin typeface="Times New Roman"/>
              </a:rPr>
              <a:t>n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</a:rPr>
              <a:t>= e sample size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elative frequency = frequency/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Percentage frequency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=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elative frequency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100%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ple frequency distribution of the no. of child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3808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 </a:t>
            </a:r>
            <a:r>
              <a:rPr b="1" lang="en-US" sz="28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Frequency bar chart</a:t>
            </a:r>
            <a:r>
              <a:rPr b="0" lang="en-US" sz="24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 is a graphical representation for the simple frequency distribu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17468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763640" y="1284120"/>
            <a:ext cx="5907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354400" y="1284120"/>
            <a:ext cx="5871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94156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53052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119480" y="1284120"/>
            <a:ext cx="5907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710240" y="1284120"/>
            <a:ext cx="5871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17468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1763640" y="230508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2354400" y="230508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294156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53052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119480" y="230508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710240" y="230508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17468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1763640" y="297504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2354400" y="297504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294156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353052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119480" y="297504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4710240" y="297504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117468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1763640" y="364500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2354400" y="364500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294156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353052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4119480" y="364500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4710240" y="364500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68400" y="6356520"/>
            <a:ext cx="11062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Rectangle 76"/>
          <p:cNvSpPr/>
          <p:nvPr/>
        </p:nvSpPr>
        <p:spPr>
          <a:xfrm>
            <a:off x="0" y="6154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1" name="Object 77"/>
          <p:cNvGraphicFramePr/>
          <p:nvPr/>
        </p:nvGraphicFramePr>
        <p:xfrm>
          <a:off x="1676520" y="1747800"/>
          <a:ext cx="6476760" cy="40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47800"/>
                    <a:ext cx="647676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5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5335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  <a:ea typeface="Times New Roman"/>
              </a:rPr>
              <a:t>Example 1.2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grouped frequency distribu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following table gives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emoglobin leve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(g/dl) of a sample of 50 m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9" name="Group 63"/>
          <p:cNvGrpSpPr/>
          <p:nvPr/>
        </p:nvGrpSpPr>
        <p:grpSpPr>
          <a:xfrm>
            <a:off x="152280" y="2741760"/>
            <a:ext cx="6863040" cy="1525320"/>
            <a:chOff x="152280" y="2741760"/>
            <a:chExt cx="6863040" cy="1525320"/>
          </a:xfrm>
        </p:grpSpPr>
        <p:grpSp>
          <p:nvGrpSpPr>
            <p:cNvPr id="150" name="Group 6"/>
            <p:cNvGrpSpPr/>
            <p:nvPr/>
          </p:nvGrpSpPr>
          <p:grpSpPr>
            <a:xfrm>
              <a:off x="157320" y="2746440"/>
              <a:ext cx="6858000" cy="1520640"/>
              <a:chOff x="157320" y="2746440"/>
              <a:chExt cx="6858000" cy="1520640"/>
            </a:xfrm>
          </p:grpSpPr>
          <p:sp>
            <p:nvSpPr>
              <p:cNvPr id="151" name="Rectangle 4"/>
              <p:cNvSpPr/>
              <p:nvPr/>
            </p:nvSpPr>
            <p:spPr>
              <a:xfrm>
                <a:off x="225720" y="2746440"/>
                <a:ext cx="6721200" cy="15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7.0      17.7      15.9      15.2      16.2      17.1      15.7      17.3      </a:t>
                </a:r>
                <a:r>
                  <a:rPr b="1" lang="en-US" sz="1600" spc="-1" strike="noStrike" u="sng">
                    <a:solidFill>
                      <a:srgbClr val="3333cc"/>
                    </a:solidFill>
                    <a:uFillTx/>
                    <a:latin typeface="Times New Roman"/>
                    <a:ea typeface="Times New Roman"/>
                  </a:rPr>
                  <a:t>13.5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      16.3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4      15.8      15.3      16.4      13.7      16.2      16.4      16.1      17.0      15.9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0      16.2      16.4      14.9      17.8      16.1      15.5      </a:t>
                </a:r>
                <a:r>
                  <a:rPr b="1" lang="en-US" sz="1600" spc="-1" strike="noStrike" u="sng">
                    <a:solidFill>
                      <a:srgbClr val="3333cc"/>
                    </a:solidFill>
                    <a:uFillTx/>
                    <a:latin typeface="Times New Roman"/>
                    <a:ea typeface="Times New Roman"/>
                  </a:rPr>
                  <a:t>18.3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      15.8      16.7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5.9      15.3      13.9      16.8      15.9      16.3      17.4      15.0      17.5      16.1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2      16.1      15.7      15.1      17.4      16.5      14.4      16.3      17.3      15.8     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2" name="Rectangle 5"/>
              <p:cNvSpPr/>
              <p:nvPr/>
            </p:nvSpPr>
            <p:spPr>
              <a:xfrm>
                <a:off x="157320" y="2746440"/>
                <a:ext cx="6858000" cy="15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53" name="Rectangle 7"/>
            <p:cNvSpPr/>
            <p:nvPr/>
          </p:nvSpPr>
          <p:spPr>
            <a:xfrm>
              <a:off x="152280" y="2741760"/>
              <a:ext cx="6629400" cy="1301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54" name="Rectangle 9"/>
          <p:cNvSpPr/>
          <p:nvPr/>
        </p:nvSpPr>
        <p:spPr>
          <a:xfrm>
            <a:off x="76320" y="47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 =X= hemoglobin level (continuous, quantitativ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Sample siz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Max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= 18.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Min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= 13.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839080" cy="57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1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Chapter :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Organizing and Displaying Dat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oductio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Statist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Statistics is that area of study which is interested in learning how to collect, organize, and summarize information, and how to answer research questions and draw conclus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iostatistics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f the information is obtained from biological and medical sciences, then we use the term biostatistics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0"/>
          <p:cNvSpPr/>
          <p:nvPr/>
        </p:nvSpPr>
        <p:spPr>
          <a:xfrm>
            <a:off x="228600" y="4419720"/>
            <a:ext cx="86868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       </a:t>
            </a:r>
            <a:r>
              <a:rPr b="0" lang="en-US" sz="20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class interval = C. 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       </a:t>
            </a:r>
            <a:r>
              <a:rPr b="0" lang="en-US" sz="20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Cumulative frequency of a class interval = no. of values (frequency)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obtained in that class interval or befor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d-Point (Class Mark) of C. I 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668160" y="990720"/>
            <a:ext cx="6875640" cy="3123720"/>
            <a:chOff x="668160" y="990720"/>
            <a:chExt cx="6875640" cy="3123720"/>
          </a:xfrm>
        </p:grpSpPr>
        <p:sp>
          <p:nvSpPr>
            <p:cNvPr id="157" name="Rectangle 5"/>
            <p:cNvSpPr/>
            <p:nvPr/>
          </p:nvSpPr>
          <p:spPr>
            <a:xfrm>
              <a:off x="741240" y="1055520"/>
              <a:ext cx="147960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lass Interval (Hemoglobin level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2357280" y="1055520"/>
              <a:ext cx="1281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(no. of me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3792240" y="1112760"/>
              <a:ext cx="10764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e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4987800" y="1135800"/>
              <a:ext cx="1173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umu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6297480" y="1055520"/>
              <a:ext cx="1173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umu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e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0"/>
            <p:cNvSpPr/>
            <p:nvPr/>
          </p:nvSpPr>
          <p:spPr>
            <a:xfrm>
              <a:off x="741240" y="2009880"/>
              <a:ext cx="147960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3.0 - 13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4.0 - 14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5.0 - 15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6.0 - 16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7.0 - 17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8.0 - 18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Rectangle 23"/>
            <p:cNvSpPr/>
            <p:nvPr/>
          </p:nvSpPr>
          <p:spPr>
            <a:xfrm>
              <a:off x="2357280" y="2009880"/>
              <a:ext cx="1281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3774960" y="2009880"/>
              <a:ext cx="107640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2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9"/>
            <p:cNvSpPr/>
            <p:nvPr/>
          </p:nvSpPr>
          <p:spPr>
            <a:xfrm>
              <a:off x="4987800" y="2009880"/>
              <a:ext cx="1173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0 = </a:t>
              </a:r>
              <a:r>
                <a:rPr b="0" i="1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6297480" y="2009880"/>
              <a:ext cx="1173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4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7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9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Rectangle 35"/>
            <p:cNvSpPr/>
            <p:nvPr/>
          </p:nvSpPr>
          <p:spPr>
            <a:xfrm>
              <a:off x="741240" y="3552120"/>
              <a:ext cx="14796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Rectangle 38"/>
            <p:cNvSpPr/>
            <p:nvPr/>
          </p:nvSpPr>
          <p:spPr>
            <a:xfrm>
              <a:off x="2357280" y="3552120"/>
              <a:ext cx="12812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=5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Rectangle 41"/>
            <p:cNvSpPr/>
            <p:nvPr/>
          </p:nvSpPr>
          <p:spPr>
            <a:xfrm>
              <a:off x="3774960" y="3552120"/>
              <a:ext cx="10764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Rectangle 49"/>
            <p:cNvSpPr/>
            <p:nvPr/>
          </p:nvSpPr>
          <p:spPr>
            <a:xfrm>
              <a:off x="668160" y="990720"/>
              <a:ext cx="6875640" cy="3115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668160" y="990720"/>
              <a:ext cx="6858000" cy="311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Line 54"/>
            <p:cNvSpPr/>
            <p:nvPr/>
          </p:nvSpPr>
          <p:spPr>
            <a:xfrm flipH="1">
              <a:off x="685440" y="2028960"/>
              <a:ext cx="68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Line 55"/>
            <p:cNvSpPr/>
            <p:nvPr/>
          </p:nvSpPr>
          <p:spPr>
            <a:xfrm>
              <a:off x="623088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493524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371628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Line 58"/>
            <p:cNvSpPr/>
            <p:nvPr/>
          </p:nvSpPr>
          <p:spPr>
            <a:xfrm>
              <a:off x="2268360" y="1051560"/>
              <a:ext cx="0" cy="299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Line 59"/>
            <p:cNvSpPr/>
            <p:nvPr/>
          </p:nvSpPr>
          <p:spPr>
            <a:xfrm flipH="1">
              <a:off x="668160" y="34948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" name="Object 62"/>
              <p:cNvSpPr txBox="1"/>
              <p:nvPr/>
            </p:nvSpPr>
            <p:spPr>
              <a:xfrm>
                <a:off x="3809880" y="5638680"/>
                <a:ext cx="2171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limit 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wer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Rectangle 63"/>
          <p:cNvSpPr/>
          <p:nvPr/>
        </p:nvSpPr>
        <p:spPr>
          <a:xfrm>
            <a:off x="440280" y="380880"/>
            <a:ext cx="78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0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n</a:t>
            </a:r>
            <a:r>
              <a:rPr b="1" lang="ar-S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ouped frequency distribution for the hemoglobin level of t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1"/>
          <p:cNvSpPr/>
          <p:nvPr/>
        </p:nvSpPr>
        <p:spPr>
          <a:xfrm>
            <a:off x="231840" y="1935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231840" y="2330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231840" y="2330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231840" y="2970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4" name="Object 55"/>
          <p:cNvGraphicFramePr/>
          <p:nvPr/>
        </p:nvGraphicFramePr>
        <p:xfrm>
          <a:off x="1600200" y="2171880"/>
          <a:ext cx="56386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71880"/>
                    <a:ext cx="5638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"/>
          <p:cNvGrpSpPr/>
          <p:nvPr/>
        </p:nvGrpSpPr>
        <p:grpSpPr>
          <a:xfrm>
            <a:off x="1155600" y="843120"/>
            <a:ext cx="1654200" cy="701640"/>
            <a:chOff x="1155600" y="843120"/>
            <a:chExt cx="1654200" cy="701640"/>
          </a:xfrm>
        </p:grpSpPr>
        <p:sp>
          <p:nvSpPr>
            <p:cNvPr id="187" name="Rectangle 5"/>
            <p:cNvSpPr/>
            <p:nvPr/>
          </p:nvSpPr>
          <p:spPr>
            <a:xfrm>
              <a:off x="1224000" y="843120"/>
              <a:ext cx="1517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Class Interv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1155600" y="843120"/>
              <a:ext cx="16542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9" name="Group 7"/>
          <p:cNvGrpSpPr/>
          <p:nvPr/>
        </p:nvGrpSpPr>
        <p:grpSpPr>
          <a:xfrm>
            <a:off x="2809800" y="843120"/>
            <a:ext cx="1654200" cy="701640"/>
            <a:chOff x="2809800" y="843120"/>
            <a:chExt cx="1654200" cy="701640"/>
          </a:xfrm>
        </p:grpSpPr>
        <p:sp>
          <p:nvSpPr>
            <p:cNvPr id="190" name="Rectangle 8"/>
            <p:cNvSpPr/>
            <p:nvPr/>
          </p:nvSpPr>
          <p:spPr>
            <a:xfrm>
              <a:off x="2878200" y="843120"/>
              <a:ext cx="1517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rue C. I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2809800" y="843120"/>
              <a:ext cx="16542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92" name="Group 10"/>
          <p:cNvGrpSpPr/>
          <p:nvPr/>
        </p:nvGrpSpPr>
        <p:grpSpPr>
          <a:xfrm>
            <a:off x="4464000" y="843120"/>
            <a:ext cx="2406600" cy="701640"/>
            <a:chOff x="4464000" y="843120"/>
            <a:chExt cx="2406600" cy="701640"/>
          </a:xfrm>
        </p:grpSpPr>
        <p:sp>
          <p:nvSpPr>
            <p:cNvPr id="193" name="Rectangle 11"/>
            <p:cNvSpPr/>
            <p:nvPr/>
          </p:nvSpPr>
          <p:spPr>
            <a:xfrm>
              <a:off x="4532040" y="843120"/>
              <a:ext cx="2270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Class mid-point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4464000" y="843120"/>
              <a:ext cx="24066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6870600" y="843120"/>
            <a:ext cx="1278000" cy="701640"/>
            <a:chOff x="6870600" y="843120"/>
            <a:chExt cx="1278000" cy="701640"/>
          </a:xfrm>
        </p:grpSpPr>
        <p:sp>
          <p:nvSpPr>
            <p:cNvPr id="196" name="Rectangle 14"/>
            <p:cNvSpPr/>
            <p:nvPr/>
          </p:nvSpPr>
          <p:spPr>
            <a:xfrm>
              <a:off x="6939000" y="843120"/>
              <a:ext cx="1141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7" name="Rectangle 15"/>
            <p:cNvSpPr/>
            <p:nvPr/>
          </p:nvSpPr>
          <p:spPr>
            <a:xfrm>
              <a:off x="6870600" y="843120"/>
              <a:ext cx="12780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224000" y="1544760"/>
            <a:ext cx="15177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3.0 - 13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4.0 - 14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0 - 15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0 - 16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0 - 17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8.0 - 18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2978280" y="1544760"/>
            <a:ext cx="151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2.95 - 13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3.95 - 14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4.95 - 15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95 - 16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95 - 17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95 - 18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4532400" y="1544760"/>
            <a:ext cx="2270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3.0+13.9)/2 = 13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4.9+14.9)/2 = 14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45                            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8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6939000" y="1544760"/>
            <a:ext cx="11412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066680" y="322596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lower     upper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True       Tru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limits     limits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lower      upp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(L.L)     (U.L.)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limits      limits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0"/>
              <p:cNvSpPr txBox="1"/>
              <p:nvPr/>
            </p:nvSpPr>
            <p:spPr>
              <a:xfrm>
                <a:off x="389556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"/>
              <p:cNvSpPr txBox="1"/>
              <p:nvPr/>
            </p:nvSpPr>
            <p:spPr>
              <a:xfrm>
                <a:off x="313380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90512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137160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5"/>
          <p:cNvSpPr/>
          <p:nvPr/>
        </p:nvSpPr>
        <p:spPr>
          <a:xfrm>
            <a:off x="1143000" y="838080"/>
            <a:ext cx="70102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685800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Line 37"/>
          <p:cNvSpPr/>
          <p:nvPr/>
        </p:nvSpPr>
        <p:spPr>
          <a:xfrm>
            <a:off x="449568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Line 38"/>
          <p:cNvSpPr/>
          <p:nvPr/>
        </p:nvSpPr>
        <p:spPr>
          <a:xfrm>
            <a:off x="281952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Line 39"/>
          <p:cNvSpPr/>
          <p:nvPr/>
        </p:nvSpPr>
        <p:spPr>
          <a:xfrm flipH="1">
            <a:off x="1142640" y="15238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752480" y="4343400"/>
          <a:ext cx="509616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343400"/>
                    <a:ext cx="50961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02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8839080" cy="66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pulation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population is the largest group of people or things in which we are interested at a particular time and about which we want to make some statements or conclusions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ampl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From the population, we select various elements (or individuals) on which we collect our information. This part of the population on which we collect data is called the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ample Siz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he number of elements in the sample is called the sample size and is denoted by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ariables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haracteristics to be measured on the elements of the population or sample are called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5181480" cy="5715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5257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41840" y="4680"/>
            <a:ext cx="8962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Displaying grouped frequency distribution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or representing frequency or relative frequency distributions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, we ha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he following graphical presentatio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Histogra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yg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r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Object 2"/>
          <p:cNvGraphicFramePr/>
          <p:nvPr/>
        </p:nvGraphicFramePr>
        <p:xfrm>
          <a:off x="304920" y="228600"/>
          <a:ext cx="380988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38098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3"/>
          <p:cNvGraphicFramePr/>
          <p:nvPr/>
        </p:nvGraphicFramePr>
        <p:xfrm>
          <a:off x="4572000" y="228600"/>
          <a:ext cx="4114800" cy="23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"/>
                    <a:ext cx="41148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4"/>
          <p:cNvGraphicFramePr/>
          <p:nvPr/>
        </p:nvGraphicFramePr>
        <p:xfrm>
          <a:off x="228600" y="2590920"/>
          <a:ext cx="3886200" cy="2914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590920"/>
                    <a:ext cx="388620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5"/>
          <p:cNvGraphicFramePr/>
          <p:nvPr/>
        </p:nvGraphicFramePr>
        <p:xfrm>
          <a:off x="4572000" y="2666880"/>
          <a:ext cx="4114800" cy="29052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666880"/>
                    <a:ext cx="411480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0" y="0"/>
          <a:ext cx="47242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3"/>
          <p:cNvGraphicFramePr/>
          <p:nvPr/>
        </p:nvGraphicFramePr>
        <p:xfrm>
          <a:off x="4648320" y="380880"/>
          <a:ext cx="4495680" cy="556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80880"/>
                    <a:ext cx="44956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3"/>
          <p:cNvSpPr/>
          <p:nvPr/>
        </p:nvSpPr>
        <p:spPr>
          <a:xfrm>
            <a:off x="3240" y="7615080"/>
            <a:ext cx="914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6320" y="22860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representing cumulative frequency or cumulative relative frequency distributio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·       Cumulative Cur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·       Cumulative Polygon (ogiv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0"/>
          <p:cNvGraphicFramePr/>
          <p:nvPr/>
        </p:nvGraphicFramePr>
        <p:xfrm>
          <a:off x="1676520" y="1066680"/>
          <a:ext cx="62481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62481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Line 3"/>
          <p:cNvSpPr/>
          <p:nvPr/>
        </p:nvSpPr>
        <p:spPr>
          <a:xfrm>
            <a:off x="1981080" y="2514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905120" y="29718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905120" y="35053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Line 6"/>
          <p:cNvSpPr/>
          <p:nvPr/>
        </p:nvSpPr>
        <p:spPr>
          <a:xfrm flipV="1">
            <a:off x="1905120" y="3962160"/>
            <a:ext cx="5943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190512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905120" y="49528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WINDOWS\Desktop\Untitled.bmp"/>
          <p:cNvPicPr/>
          <p:nvPr/>
        </p:nvPicPr>
        <p:blipFill>
          <a:blip r:embed="rId1"/>
          <a:stretch/>
        </p:blipFill>
        <p:spPr>
          <a:xfrm>
            <a:off x="2185920" y="0"/>
            <a:ext cx="477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C:\WINDOWS\Desktop\Untitled.bmp"/>
          <p:cNvPicPr/>
          <p:nvPr/>
        </p:nvPicPr>
        <p:blipFill>
          <a:blip r:embed="rId1"/>
          <a:stretch/>
        </p:blipFill>
        <p:spPr>
          <a:xfrm>
            <a:off x="990720" y="1828800"/>
            <a:ext cx="7848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143000" y="685800"/>
            <a:ext cx="723888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ariables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haracteristics to be measured on the elements of the population or sample are called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Example of variables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Heigh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no. of cars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sex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educational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845820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 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Types of Variable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1) Quantitative Variables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values of a quantitative variable   are   numbers indicating how much or how many of something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xamples: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heigh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family siz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age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914400" y="762120"/>
            <a:ext cx="76201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)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litativ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 of a qualitative variable are words or attributes indicating to which catego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lement of the population belong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lood typ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         educational level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         national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762120" y="755640"/>
            <a:ext cx="7772400" cy="35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Types of Quantative Variable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screte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crete variable can have only countable number of valu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 size  (x = 0, 1, 2, 3, … 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ber of patients (x = 0, 1, 2, 3, …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609480"/>
            <a:ext cx="754380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ntinuous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uous variable can have any value within a certain interval of valu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ight  (140 &lt; x &lt; 19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blood sugar level  (10 &lt; x &lt; 15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6"/>
          <p:cNvSpPr/>
          <p:nvPr/>
        </p:nvSpPr>
        <p:spPr>
          <a:xfrm>
            <a:off x="449568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514600" y="1447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371600" y="1600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562720" y="1600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51460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662940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28600" y="2743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2590920" y="2743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4382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1295280" y="2514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38098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12952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657600" y="5335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21:00:43Z</dcterms:created>
  <dc:creator>Dr Alzaid</dc:creator>
  <dc:description/>
  <dc:language>en-US</dc:language>
  <cp:lastModifiedBy>USER</cp:lastModifiedBy>
  <dcterms:modified xsi:type="dcterms:W3CDTF">2012-01-24T13:09:00Z</dcterms:modified>
  <cp:revision>22</cp:revision>
  <dc:subject/>
  <dc:title>عرض تقديمي من PowerPoint</dc:title>
</cp:coreProperties>
</file>