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774-444A-4DF6-AFD2-0AA2659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DFB-6EB0-49CD-ABFD-1F87577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3BF-D1D0-4943-9C1F-8740EFBE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4A8-FEDE-46CC-BD4F-541EDFF8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396-0B4A-4A92-9011-207D9907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8E0-CBAE-4B8B-BB3A-C835184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0F3-404B-4252-8C1C-A6E296B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2A8-35AD-47F5-8E70-FC3AF942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CD8-D243-4725-8E3A-66BA932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8D3-4240-48F4-B247-D7C42FA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428-1B32-4264-AAB1-0055002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4E1-0BB5-4D27-9A73-B2319CA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38F3-C0E5-4D75-8E61-9A04A31D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pc38</cp:lastModifiedBy>
  <dcterms:modified xsi:type="dcterms:W3CDTF">2012-02-05T08:47:12Z</dcterms:modified>
  <cp:revision>4</cp:revision>
  <dc:subject/>
  <dc:title>PowerPoint Presentation</dc:title>
</cp:coreProperties>
</file>