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848-CB03-4A86-8C9F-94F98DB8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470-437B-4E2F-8E00-7D5CCE6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856-075C-41A6-B319-4D1AB781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9E7-6FF1-4FBF-B99A-32FE92A8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12C-2A6D-42E4-8AA8-63253EC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ECB-5C1D-42B0-ACF1-9A3E05A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F27-CDF0-448C-B92A-8835C50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2BB-6EE5-4CC8-80A0-CB089B1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F39-D5A3-48D0-84DF-E7E267A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BB5-2B97-4620-B6F1-9542A0A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322-F93B-4AEB-A6A0-F5B46A5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64B-842F-4B2E-9ADB-8760FB4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4909-D4FB-473C-AF65-1F594616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pc38</cp:lastModifiedBy>
  <dcterms:modified xsi:type="dcterms:W3CDTF">2012-02-05T08:47:12Z</dcterms:modified>
  <cp:revision>4</cp:revision>
  <dc:subject/>
  <dc:title>PowerPoint Presentation</dc:title>
</cp:coreProperties>
</file>