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72C-CEB0-4275-80A8-C4BDEC2B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046-21A1-431B-AD82-E6A89389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E5A-042A-4868-AE69-6A4F77B4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6AF-6A8C-46BB-AF39-B5519419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4BB-0CD7-44C8-9C21-B8A06263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F36-2B57-428F-8D94-AE167E5E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D8D-AC19-4CC0-B0FB-6DC7A4F3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2C4-B938-4E7B-BA01-2E3670F5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BDD-023C-4C07-A5F3-F004A4A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BE5-B6F6-4BC9-A4A3-44EE3EB4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5D3-5D44-4505-80D4-5A2BBF76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E94-02FD-4AF4-9BEB-D655030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841A-BCD0-45B2-87A6-4750CE3E9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PTER 2: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sic Summary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4920" y="9144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Central Tendency (or 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an – mode – 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Dispersion (or Var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ariance – standard deviation – 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36576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2.1.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Int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43434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the population of interest, there is a population of values of the variable of interes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320" y="641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 10, 35, 41, 16, 20,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609480" y="1905120"/>
            <a:ext cx="4876920" cy="1922760"/>
            <a:chOff x="609480" y="1905120"/>
            <a:chExt cx="4876920" cy="1922760"/>
          </a:xfrm>
        </p:grpSpPr>
        <p:sp>
          <p:nvSpPr>
            <p:cNvPr id="176" name="Rectangle 4"/>
            <p:cNvSpPr/>
            <p:nvPr/>
          </p:nvSpPr>
          <p:spPr>
            <a:xfrm>
              <a:off x="609480" y="1905120"/>
              <a:ext cx="4876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.n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= 6  (even 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rank of the middle value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= 6 / 2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3"/>
                <p:cNvSpPr txBox="1"/>
                <p:nvPr/>
              </p:nvSpPr>
              <p:spPr>
                <a:xfrm>
                  <a:off x="671400" y="2895480"/>
                  <a:ext cx="2458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7"/>
          <p:cNvGrpSpPr/>
          <p:nvPr/>
        </p:nvGrpSpPr>
        <p:grpSpPr>
          <a:xfrm>
            <a:off x="685800" y="3657600"/>
            <a:ext cx="3271680" cy="901440"/>
            <a:chOff x="685800" y="3657600"/>
            <a:chExt cx="3271680" cy="901440"/>
          </a:xfrm>
        </p:grpSpPr>
        <p:sp>
          <p:nvSpPr>
            <p:cNvPr id="179" name="Rectangle 8"/>
            <p:cNvSpPr/>
            <p:nvPr/>
          </p:nvSpPr>
          <p:spPr>
            <a:xfrm>
              <a:off x="1214280" y="373356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(6 / 2) + 1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9"/>
                <p:cNvSpPr txBox="1"/>
                <p:nvPr/>
              </p:nvSpPr>
              <p:spPr>
                <a:xfrm>
                  <a:off x="685800" y="3657600"/>
                  <a:ext cx="5284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4"/>
          <p:cNvGrpSpPr/>
          <p:nvPr/>
        </p:nvGrpSpPr>
        <p:grpSpPr>
          <a:xfrm>
            <a:off x="2724120" y="1171440"/>
            <a:ext cx="5429160" cy="657360"/>
            <a:chOff x="2724120" y="1171440"/>
            <a:chExt cx="5429160" cy="657360"/>
          </a:xfrm>
        </p:grpSpPr>
        <p:graphicFrame>
          <p:nvGraphicFramePr>
            <p:cNvPr id="182" name="Object 4"/>
            <p:cNvGraphicFramePr/>
            <p:nvPr/>
          </p:nvGraphicFramePr>
          <p:xfrm>
            <a:off x="2724120" y="1171440"/>
            <a:ext cx="542916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24120" y="1171440"/>
                      <a:ext cx="542916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Line 5"/>
            <p:cNvSpPr/>
            <p:nvPr/>
          </p:nvSpPr>
          <p:spPr>
            <a:xfrm flipH="1">
              <a:off x="2724120" y="11714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2724120" y="170496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V="1">
              <a:off x="78296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2724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9"/>
            <p:cNvSpPr/>
            <p:nvPr/>
          </p:nvSpPr>
          <p:spPr>
            <a:xfrm>
              <a:off x="43243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34099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50864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6153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2724120" y="14000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4"/>
          <p:cNvGrpSpPr/>
          <p:nvPr/>
        </p:nvGrpSpPr>
        <p:grpSpPr>
          <a:xfrm>
            <a:off x="304920" y="1066680"/>
            <a:ext cx="2209320" cy="703800"/>
            <a:chOff x="304920" y="1066680"/>
            <a:chExt cx="2209320" cy="703800"/>
          </a:xfrm>
        </p:grpSpPr>
        <p:sp>
          <p:nvSpPr>
            <p:cNvPr id="194" name="Rectangle 16"/>
            <p:cNvSpPr/>
            <p:nvPr/>
          </p:nvSpPr>
          <p:spPr>
            <a:xfrm>
              <a:off x="533160" y="106668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Ordered se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15"/>
                <p:cNvSpPr txBox="1"/>
                <p:nvPr/>
              </p:nvSpPr>
              <p:spPr>
                <a:xfrm>
                  <a:off x="1981080" y="119232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Rectangle 17"/>
            <p:cNvSpPr/>
            <p:nvPr/>
          </p:nvSpPr>
          <p:spPr>
            <a:xfrm>
              <a:off x="304920" y="137160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Rank (or order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8"/>
                <p:cNvSpPr txBox="1"/>
                <p:nvPr/>
              </p:nvSpPr>
              <p:spPr>
                <a:xfrm>
                  <a:off x="1981080" y="149688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1"/>
          <p:cNvGrpSpPr/>
          <p:nvPr/>
        </p:nvGrpSpPr>
        <p:grpSpPr>
          <a:xfrm>
            <a:off x="533520" y="2438280"/>
            <a:ext cx="4419360" cy="858960"/>
            <a:chOff x="533520" y="2438280"/>
            <a:chExt cx="4419360" cy="858960"/>
          </a:xfrm>
        </p:grpSpPr>
        <p:sp>
          <p:nvSpPr>
            <p:cNvPr id="199" name="Rectangle 20"/>
            <p:cNvSpPr/>
            <p:nvPr/>
          </p:nvSpPr>
          <p:spPr>
            <a:xfrm>
              <a:off x="533520" y="2471760"/>
              <a:ext cx="441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median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                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9"/>
                <p:cNvSpPr txBox="1"/>
                <p:nvPr/>
              </p:nvSpPr>
              <p:spPr>
                <a:xfrm>
                  <a:off x="2057040" y="2438280"/>
                  <a:ext cx="19047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Rectangle 22"/>
          <p:cNvSpPr/>
          <p:nvPr/>
        </p:nvSpPr>
        <p:spPr>
          <a:xfrm>
            <a:off x="228600" y="31114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simple to calcu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only one median for given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 median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can only be found for quantitative variabl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33520" y="152280"/>
            <a:ext cx="79246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e mode of a set of values is that value which occurs with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requency.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If all values are different or have the same frequency, ther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 A set of data may have more than on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6320" y="21495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447920" y="2728800"/>
            <a:ext cx="5429160" cy="1400400"/>
            <a:chOff x="1447920" y="2728800"/>
            <a:chExt cx="5429160" cy="1400400"/>
          </a:xfrm>
        </p:grpSpPr>
        <p:graphicFrame>
          <p:nvGraphicFramePr>
            <p:cNvPr id="205" name="Object 4"/>
            <p:cNvGraphicFramePr/>
            <p:nvPr/>
          </p:nvGraphicFramePr>
          <p:xfrm>
            <a:off x="1447920" y="2728800"/>
            <a:ext cx="5429160" cy="14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728800"/>
                      <a:ext cx="5429160" cy="14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Line 5"/>
            <p:cNvSpPr/>
            <p:nvPr/>
          </p:nvSpPr>
          <p:spPr>
            <a:xfrm>
              <a:off x="1523880" y="32004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1523880" y="34290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1523880" y="396252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523880" y="27432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15228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ode is simple to calculate but it is not “go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may be found for both quantitative and qualitativ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280" y="92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2.3.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90720" y="17524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variation is small when the values are clos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re is no variation if the value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3551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1600200" y="3200400"/>
          <a:ext cx="624852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62485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3429000"/>
            <a:ext cx="6476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me measures of dispers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4572000"/>
            <a:ext cx="8153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nge: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Max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905120" y="685800"/>
            <a:ext cx="3504960" cy="2438280"/>
            <a:chOff x="1905120" y="685800"/>
            <a:chExt cx="3504960" cy="2438280"/>
          </a:xfrm>
        </p:grpSpPr>
        <p:sp>
          <p:nvSpPr>
            <p:cNvPr id="221" name="Line 5"/>
            <p:cNvSpPr/>
            <p:nvPr/>
          </p:nvSpPr>
          <p:spPr>
            <a:xfrm>
              <a:off x="190512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1905120" y="312408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365760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8"/>
          <p:cNvSpPr/>
          <p:nvPr/>
        </p:nvSpPr>
        <p:spPr>
          <a:xfrm>
            <a:off x="5638680" y="8380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maller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rger var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52280" y="1522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= 35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0880" y="22096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rang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usefu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 a measure of the variation since it only takes into account two of the values. (it is not 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85800" y="358128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a measure that uses the mean as a point of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small when all values are close to the mean.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1219320" y="380880"/>
          <a:ext cx="68580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880"/>
                    <a:ext cx="68580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4"/>
          <p:cNvSpPr/>
          <p:nvPr/>
        </p:nvSpPr>
        <p:spPr>
          <a:xfrm>
            <a:off x="304920" y="320040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variance is defi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1824840" y="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26"/>
          <p:cNvGraphicFramePr/>
          <p:nvPr/>
        </p:nvGraphicFramePr>
        <p:xfrm>
          <a:off x="914400" y="4648320"/>
          <a:ext cx="6986520" cy="89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69865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7"/>
          <p:cNvGrpSpPr/>
          <p:nvPr/>
        </p:nvGrpSpPr>
        <p:grpSpPr>
          <a:xfrm>
            <a:off x="762120" y="5638680"/>
            <a:ext cx="4647960" cy="1054080"/>
            <a:chOff x="762120" y="5638680"/>
            <a:chExt cx="4647960" cy="1054080"/>
          </a:xfrm>
        </p:grpSpPr>
        <p:sp>
          <p:nvSpPr>
            <p:cNvPr id="235" name="Rectangle 28"/>
            <p:cNvSpPr/>
            <p:nvPr/>
          </p:nvSpPr>
          <p:spPr>
            <a:xfrm>
              <a:off x="762120" y="5867280"/>
              <a:ext cx="464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is the population 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29"/>
                <p:cNvSpPr txBox="1"/>
                <p:nvPr/>
              </p:nvSpPr>
              <p:spPr>
                <a:xfrm>
                  <a:off x="1419120" y="5638680"/>
                  <a:ext cx="8661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8"/>
          <p:cNvGraphicFramePr/>
          <p:nvPr/>
        </p:nvGraphicFramePr>
        <p:xfrm>
          <a:off x="533520" y="304920"/>
          <a:ext cx="662940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662940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9"/>
          <p:cNvSpPr/>
          <p:nvPr/>
        </p:nvSpPr>
        <p:spPr>
          <a:xfrm>
            <a:off x="5335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ample Variance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2"/>
          <p:cNvGrpSpPr/>
          <p:nvPr/>
        </p:nvGrpSpPr>
        <p:grpSpPr>
          <a:xfrm>
            <a:off x="838080" y="2590920"/>
            <a:ext cx="5486400" cy="825480"/>
            <a:chOff x="838080" y="2590920"/>
            <a:chExt cx="5486400" cy="825480"/>
          </a:xfrm>
        </p:grpSpPr>
        <p:sp>
          <p:nvSpPr>
            <p:cNvPr id="241" name="Rectangle 11"/>
            <p:cNvSpPr/>
            <p:nvPr/>
          </p:nvSpPr>
          <p:spPr>
            <a:xfrm>
              <a:off x="838080" y="2590920"/>
              <a:ext cx="548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t                      be the sample valu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sample variance is defined b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0"/>
                <p:cNvSpPr txBox="1"/>
                <p:nvPr/>
              </p:nvSpPr>
              <p:spPr>
                <a:xfrm>
                  <a:off x="1400040" y="2603520"/>
                  <a:ext cx="1647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3" name="Object 13"/>
          <p:cNvGraphicFramePr/>
          <p:nvPr/>
        </p:nvGraphicFramePr>
        <p:xfrm>
          <a:off x="1219320" y="3657600"/>
          <a:ext cx="716256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657600"/>
                    <a:ext cx="7162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Group 14"/>
          <p:cNvGrpSpPr/>
          <p:nvPr/>
        </p:nvGrpSpPr>
        <p:grpSpPr>
          <a:xfrm>
            <a:off x="1295280" y="5029200"/>
            <a:ext cx="4876920" cy="1127160"/>
            <a:chOff x="1295280" y="5029200"/>
            <a:chExt cx="4876920" cy="1127160"/>
          </a:xfrm>
        </p:grpSpPr>
        <p:sp>
          <p:nvSpPr>
            <p:cNvPr id="246" name="Rectangle 15"/>
            <p:cNvSpPr/>
            <p:nvPr/>
          </p:nvSpPr>
          <p:spPr>
            <a:xfrm>
              <a:off x="1295280" y="55468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16"/>
                <p:cNvSpPr txBox="1"/>
                <p:nvPr/>
              </p:nvSpPr>
              <p:spPr>
                <a:xfrm>
                  <a:off x="2133360" y="5029200"/>
                  <a:ext cx="1143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5"/>
          <p:cNvGraphicFramePr/>
          <p:nvPr/>
        </p:nvGraphicFramePr>
        <p:xfrm>
          <a:off x="1066680" y="685800"/>
          <a:ext cx="614844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1484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380880" y="23623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Example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2133720" y="3733920"/>
          <a:ext cx="660564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733920"/>
                    <a:ext cx="6605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1905120" y="4648320"/>
          <a:ext cx="64530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48320"/>
                    <a:ext cx="6453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1676520" y="5486400"/>
          <a:ext cx="5919840" cy="121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486400"/>
                    <a:ext cx="591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52280" y="152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other method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49"/>
          <p:cNvGrpSpPr/>
          <p:nvPr/>
        </p:nvGrpSpPr>
        <p:grpSpPr>
          <a:xfrm>
            <a:off x="1523880" y="762120"/>
            <a:ext cx="5581800" cy="2495520"/>
            <a:chOff x="1523880" y="762120"/>
            <a:chExt cx="5581800" cy="2495520"/>
          </a:xfrm>
        </p:grpSpPr>
        <p:graphicFrame>
          <p:nvGraphicFramePr>
            <p:cNvPr id="259" name="Object 44"/>
            <p:cNvGraphicFramePr/>
            <p:nvPr/>
          </p:nvGraphicFramePr>
          <p:xfrm>
            <a:off x="1523880" y="762120"/>
            <a:ext cx="5581800" cy="249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762120"/>
                      <a:ext cx="5581800" cy="24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Line 45"/>
            <p:cNvSpPr/>
            <p:nvPr/>
          </p:nvSpPr>
          <p:spPr>
            <a:xfrm>
              <a:off x="1676520" y="13716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6"/>
            <p:cNvSpPr/>
            <p:nvPr/>
          </p:nvSpPr>
          <p:spPr>
            <a:xfrm>
              <a:off x="167652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7"/>
            <p:cNvSpPr/>
            <p:nvPr/>
          </p:nvSpPr>
          <p:spPr>
            <a:xfrm>
              <a:off x="3733920" y="762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 flipH="1">
              <a:off x="1676520" y="762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50"/>
          <p:cNvSpPr/>
          <p:nvPr/>
        </p:nvSpPr>
        <p:spPr>
          <a:xfrm>
            <a:off x="0" y="32925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53"/>
          <p:cNvGraphicFramePr/>
          <p:nvPr/>
        </p:nvGraphicFramePr>
        <p:xfrm>
          <a:off x="1523880" y="3809880"/>
          <a:ext cx="519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09880"/>
                    <a:ext cx="519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0"/>
          <p:cNvSpPr/>
          <p:nvPr/>
        </p:nvSpPr>
        <p:spPr>
          <a:xfrm>
            <a:off x="304920" y="213372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population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parameters are un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304920" y="3657600"/>
            <a:ext cx="86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tatistic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sample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statistics are 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762120" y="30492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 (in general, they are unknown) of the variable of interest. The population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774360" y="1219320"/>
            <a:ext cx="7804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sample values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sample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5"/>
          <p:cNvGrpSpPr/>
          <p:nvPr/>
        </p:nvGrpSpPr>
        <p:grpSpPr>
          <a:xfrm>
            <a:off x="876240" y="1679400"/>
            <a:ext cx="5372280" cy="2288520"/>
            <a:chOff x="876240" y="1679400"/>
            <a:chExt cx="5372280" cy="2288520"/>
          </a:xfrm>
        </p:grpSpPr>
        <p:sp>
          <p:nvSpPr>
            <p:cNvPr id="269" name="Rectangle 4"/>
            <p:cNvSpPr/>
            <p:nvPr/>
          </p:nvSpPr>
          <p:spPr>
            <a:xfrm>
              <a:off x="1219320" y="1679400"/>
              <a:ext cx="5029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Note: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o calculate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we nee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val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squared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3"/>
                <p:cNvSpPr txBox="1"/>
                <p:nvPr/>
              </p:nvSpPr>
              <p:spPr>
                <a:xfrm>
                  <a:off x="914400" y="2822400"/>
                  <a:ext cx="8380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2"/>
                <p:cNvSpPr txBox="1"/>
                <p:nvPr/>
              </p:nvSpPr>
              <p:spPr>
                <a:xfrm>
                  <a:off x="876240" y="3174840"/>
                  <a:ext cx="8762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2"/>
          <p:cNvSpPr/>
          <p:nvPr/>
        </p:nvSpPr>
        <p:spPr>
          <a:xfrm>
            <a:off x="3240" y="166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0"/>
          <p:cNvGraphicFramePr/>
          <p:nvPr/>
        </p:nvGraphicFramePr>
        <p:xfrm>
          <a:off x="428760" y="1143000"/>
          <a:ext cx="711504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71150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54"/>
          <p:cNvSpPr/>
          <p:nvPr/>
        </p:nvSpPr>
        <p:spPr>
          <a:xfrm>
            <a:off x="75438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5"/>
          <p:cNvSpPr/>
          <p:nvPr/>
        </p:nvSpPr>
        <p:spPr>
          <a:xfrm>
            <a:off x="144792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7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"/>
              <p:cNvSpPr txBox="1"/>
              <p:nvPr/>
            </p:nvSpPr>
            <p:spPr>
              <a:xfrm>
                <a:off x="3110040" y="3181320"/>
                <a:ext cx="2923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58"/>
          <p:cNvSpPr/>
          <p:nvPr/>
        </p:nvSpPr>
        <p:spPr>
          <a:xfrm>
            <a:off x="533520" y="37339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 i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quare roo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vari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0"/>
          <p:cNvSpPr/>
          <p:nvPr/>
        </p:nvSpPr>
        <p:spPr>
          <a:xfrm>
            <a:off x="76212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5334120" y="5334120"/>
                <a:ext cx="838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Rectangle 63"/>
          <p:cNvSpPr/>
          <p:nvPr/>
        </p:nvSpPr>
        <p:spPr>
          <a:xfrm>
            <a:off x="8380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5257800" y="5715000"/>
                <a:ext cx="809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2209680"/>
            <a:ext cx="8001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914400" y="2666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We need a measure of the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914400" y="43434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V. =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e of unit or unit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2368440" y="4218120"/>
                <a:ext cx="11685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2"/>
              <p:cNvSpPr txBox="1"/>
              <p:nvPr/>
            </p:nvSpPr>
            <p:spPr>
              <a:xfrm>
                <a:off x="5029200" y="5486400"/>
                <a:ext cx="434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6248520" y="5562720"/>
                <a:ext cx="372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"/>
              <p:cNvSpPr txBox="1"/>
              <p:nvPr/>
            </p:nvSpPr>
            <p:spPr>
              <a:xfrm>
                <a:off x="7238880" y="5562720"/>
                <a:ext cx="1524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4952880" y="6238800"/>
                <a:ext cx="470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8"/>
              <p:cNvSpPr txBox="1"/>
              <p:nvPr/>
            </p:nvSpPr>
            <p:spPr>
              <a:xfrm>
                <a:off x="6248520" y="632448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7"/>
              <p:cNvSpPr txBox="1"/>
              <p:nvPr/>
            </p:nvSpPr>
            <p:spPr>
              <a:xfrm>
                <a:off x="7467480" y="6391440"/>
                <a:ext cx="1152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43"/>
          <p:cNvGrpSpPr/>
          <p:nvPr/>
        </p:nvGrpSpPr>
        <p:grpSpPr>
          <a:xfrm>
            <a:off x="3429000" y="4743360"/>
            <a:ext cx="5425920" cy="2114640"/>
            <a:chOff x="3429000" y="4743360"/>
            <a:chExt cx="5425920" cy="2114640"/>
          </a:xfrm>
        </p:grpSpPr>
        <p:grpSp>
          <p:nvGrpSpPr>
            <p:cNvPr id="295" name="Group 41"/>
            <p:cNvGrpSpPr/>
            <p:nvPr/>
          </p:nvGrpSpPr>
          <p:grpSpPr>
            <a:xfrm>
              <a:off x="3433680" y="4748040"/>
              <a:ext cx="5416560" cy="2104920"/>
              <a:chOff x="3433680" y="4748040"/>
              <a:chExt cx="5416560" cy="210492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3433680" y="4748040"/>
                <a:ext cx="1393920" cy="701640"/>
                <a:chOff x="3433680" y="4748040"/>
                <a:chExt cx="1393920" cy="70164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3502080" y="474804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9"/>
                <p:cNvSpPr/>
                <p:nvPr/>
              </p:nvSpPr>
              <p:spPr>
                <a:xfrm>
                  <a:off x="3433680" y="474804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32"/>
              <p:cNvGrpSpPr/>
              <p:nvPr/>
            </p:nvGrpSpPr>
            <p:grpSpPr>
              <a:xfrm>
                <a:off x="4827600" y="4748040"/>
                <a:ext cx="4022640" cy="701640"/>
                <a:chOff x="4827600" y="4748040"/>
                <a:chExt cx="4022640" cy="70164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4895640" y="474804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           St.dev.                   C.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31"/>
                <p:cNvSpPr/>
                <p:nvPr/>
              </p:nvSpPr>
              <p:spPr>
                <a:xfrm>
                  <a:off x="4827600" y="474804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34"/>
              <p:cNvGrpSpPr/>
              <p:nvPr/>
            </p:nvGrpSpPr>
            <p:grpSpPr>
              <a:xfrm>
                <a:off x="3433680" y="5449680"/>
                <a:ext cx="1393920" cy="701640"/>
                <a:chOff x="3433680" y="5449680"/>
                <a:chExt cx="1393920" cy="70164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3502080" y="544968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st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33"/>
                <p:cNvSpPr/>
                <p:nvPr/>
              </p:nvSpPr>
              <p:spPr>
                <a:xfrm>
                  <a:off x="3433680" y="544968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36"/>
              <p:cNvGrpSpPr/>
              <p:nvPr/>
            </p:nvGrpSpPr>
            <p:grpSpPr>
              <a:xfrm>
                <a:off x="4827600" y="5449680"/>
                <a:ext cx="4022640" cy="701640"/>
                <a:chOff x="4827600" y="5449680"/>
                <a:chExt cx="4022640" cy="70164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4895640" y="544968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35"/>
                <p:cNvSpPr/>
                <p:nvPr/>
              </p:nvSpPr>
              <p:spPr>
                <a:xfrm>
                  <a:off x="4827600" y="544968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38"/>
              <p:cNvGrpSpPr/>
              <p:nvPr/>
            </p:nvGrpSpPr>
            <p:grpSpPr>
              <a:xfrm>
                <a:off x="3433680" y="6151320"/>
                <a:ext cx="1393920" cy="701640"/>
                <a:chOff x="3433680" y="6151320"/>
                <a:chExt cx="1393920" cy="70164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502080" y="615132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37"/>
                <p:cNvSpPr/>
                <p:nvPr/>
              </p:nvSpPr>
              <p:spPr>
                <a:xfrm>
                  <a:off x="3433680" y="615132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40"/>
              <p:cNvGrpSpPr/>
              <p:nvPr/>
            </p:nvGrpSpPr>
            <p:grpSpPr>
              <a:xfrm>
                <a:off x="4827600" y="6151320"/>
                <a:ext cx="4022640" cy="701640"/>
                <a:chOff x="4827600" y="6151320"/>
                <a:chExt cx="4022640" cy="70164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4895640" y="615132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9"/>
                <p:cNvSpPr/>
                <p:nvPr/>
              </p:nvSpPr>
              <p:spPr>
                <a:xfrm>
                  <a:off x="4827600" y="615132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Rectangle 42"/>
            <p:cNvSpPr/>
            <p:nvPr/>
          </p:nvSpPr>
          <p:spPr>
            <a:xfrm>
              <a:off x="3429000" y="4743360"/>
              <a:ext cx="5425920" cy="2114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9"/>
          <p:cNvSpPr/>
          <p:nvPr/>
        </p:nvSpPr>
        <p:spPr>
          <a:xfrm>
            <a:off x="380880" y="152280"/>
            <a:ext cx="83059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       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3429000" y="1600200"/>
                <a:ext cx="60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52578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6"/>
              <p:cNvSpPr txBox="1"/>
              <p:nvPr/>
            </p:nvSpPr>
            <p:spPr>
              <a:xfrm>
                <a:off x="2522520" y="2335320"/>
                <a:ext cx="2727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2438280" y="2971800"/>
                <a:ext cx="762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4495680" y="3124080"/>
                <a:ext cx="685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2286000" y="3505320"/>
                <a:ext cx="2819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1828800" y="4267080"/>
                <a:ext cx="1295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228600" y="152280"/>
            <a:ext cx="7162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3886200" y="152280"/>
                <a:ext cx="279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0"/>
              <p:cNvSpPr txBox="1"/>
              <p:nvPr/>
            </p:nvSpPr>
            <p:spPr>
              <a:xfrm>
                <a:off x="1143000" y="2743200"/>
                <a:ext cx="22096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9"/>
              <p:cNvSpPr txBox="1"/>
              <p:nvPr/>
            </p:nvSpPr>
            <p:spPr>
              <a:xfrm>
                <a:off x="1143000" y="3200400"/>
                <a:ext cx="20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8"/>
              <p:cNvSpPr txBox="1"/>
              <p:nvPr/>
            </p:nvSpPr>
            <p:spPr>
              <a:xfrm>
                <a:off x="1143000" y="365760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7"/>
              <p:cNvSpPr txBox="1"/>
              <p:nvPr/>
            </p:nvSpPr>
            <p:spPr>
              <a:xfrm>
                <a:off x="1143000" y="426708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6"/>
              <p:cNvSpPr txBox="1"/>
              <p:nvPr/>
            </p:nvSpPr>
            <p:spPr>
              <a:xfrm>
                <a:off x="3962520" y="2666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3886200" y="3124080"/>
                <a:ext cx="4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4"/>
              <p:cNvSpPr txBox="1"/>
              <p:nvPr/>
            </p:nvSpPr>
            <p:spPr>
              <a:xfrm>
                <a:off x="3809880" y="3657600"/>
                <a:ext cx="838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3809880" y="4267080"/>
                <a:ext cx="838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5562720" y="3581280"/>
                <a:ext cx="3348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5562720" y="3143160"/>
                <a:ext cx="457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638680" y="2743200"/>
                <a:ext cx="274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5410080" y="4267080"/>
                <a:ext cx="533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6781680" y="26668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6629400" y="4267080"/>
                <a:ext cx="485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6705720" y="3124080"/>
                <a:ext cx="409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14400" y="1752480"/>
          <a:ext cx="6781680" cy="3200400"/>
        </p:xfrm>
        <a:graphic>
          <a:graphicData uri="http://schemas.openxmlformats.org/drawingml/2006/table">
            <a:tbl>
              <a:tblPr/>
              <a:tblGrid>
                <a:gridCol w="2590920"/>
                <a:gridCol w="1676160"/>
                <a:gridCol w="11430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84"/>
              <p:cNvSpPr txBox="1"/>
              <p:nvPr/>
            </p:nvSpPr>
            <p:spPr>
              <a:xfrm>
                <a:off x="6705720" y="365760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2" name="Rectangle 86"/>
          <p:cNvSpPr/>
          <p:nvPr/>
        </p:nvSpPr>
        <p:spPr>
          <a:xfrm>
            <a:off x="3049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85"/>
              <p:cNvSpPr txBox="1"/>
              <p:nvPr/>
            </p:nvSpPr>
            <p:spPr>
              <a:xfrm>
                <a:off x="1447920" y="56386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04920" y="152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685800" y="685800"/>
            <a:ext cx="5921280" cy="2847960"/>
            <a:chOff x="685800" y="685800"/>
            <a:chExt cx="5921280" cy="2847960"/>
          </a:xfrm>
        </p:grpSpPr>
        <p:grpSp>
          <p:nvGrpSpPr>
            <p:cNvPr id="346" name="Group 48"/>
            <p:cNvGrpSpPr/>
            <p:nvPr/>
          </p:nvGrpSpPr>
          <p:grpSpPr>
            <a:xfrm>
              <a:off x="690480" y="690480"/>
              <a:ext cx="5911920" cy="2838600"/>
              <a:chOff x="690480" y="690480"/>
              <a:chExt cx="5911920" cy="2838600"/>
            </a:xfrm>
          </p:grpSpPr>
          <p:grpSp>
            <p:nvGrpSpPr>
              <p:cNvPr id="347" name="Group 19"/>
              <p:cNvGrpSpPr/>
              <p:nvPr/>
            </p:nvGrpSpPr>
            <p:grpSpPr>
              <a:xfrm>
                <a:off x="690480" y="690480"/>
                <a:ext cx="968400" cy="946080"/>
                <a:chOff x="690480" y="690480"/>
                <a:chExt cx="968400" cy="946080"/>
              </a:xfrm>
            </p:grpSpPr>
            <p:sp>
              <p:nvSpPr>
                <p:cNvPr id="348" name="Rectangle 3"/>
                <p:cNvSpPr/>
                <p:nvPr/>
              </p:nvSpPr>
              <p:spPr>
                <a:xfrm>
                  <a:off x="758880" y="690480"/>
                  <a:ext cx="8316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8"/>
                <p:cNvSpPr/>
                <p:nvPr/>
              </p:nvSpPr>
              <p:spPr>
                <a:xfrm>
                  <a:off x="690480" y="690480"/>
                  <a:ext cx="9684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21"/>
              <p:cNvGrpSpPr/>
              <p:nvPr/>
            </p:nvGrpSpPr>
            <p:grpSpPr>
              <a:xfrm>
                <a:off x="1658880" y="690480"/>
                <a:ext cx="1166760" cy="946080"/>
                <a:chOff x="1658880" y="690480"/>
                <a:chExt cx="1166760" cy="946080"/>
              </a:xfrm>
            </p:grpSpPr>
            <p:sp>
              <p:nvSpPr>
                <p:cNvPr id="351" name="Rectangle 4"/>
                <p:cNvSpPr/>
                <p:nvPr/>
              </p:nvSpPr>
              <p:spPr>
                <a:xfrm>
                  <a:off x="1727280" y="690480"/>
                  <a:ext cx="10299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20"/>
                <p:cNvSpPr/>
                <p:nvPr/>
              </p:nvSpPr>
              <p:spPr>
                <a:xfrm>
                  <a:off x="1658880" y="690480"/>
                  <a:ext cx="11667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23"/>
              <p:cNvGrpSpPr/>
              <p:nvPr/>
            </p:nvGrpSpPr>
            <p:grpSpPr>
              <a:xfrm>
                <a:off x="2825640" y="690480"/>
                <a:ext cx="1289160" cy="946080"/>
                <a:chOff x="2825640" y="690480"/>
                <a:chExt cx="1289160" cy="946080"/>
              </a:xfrm>
            </p:grpSpPr>
            <p:sp>
              <p:nvSpPr>
                <p:cNvPr id="354" name="Rectangle 5"/>
                <p:cNvSpPr/>
                <p:nvPr/>
              </p:nvSpPr>
              <p:spPr>
                <a:xfrm>
                  <a:off x="2894040" y="690480"/>
                  <a:ext cx="1152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22"/>
                <p:cNvSpPr/>
                <p:nvPr/>
              </p:nvSpPr>
              <p:spPr>
                <a:xfrm>
                  <a:off x="2825640" y="690480"/>
                  <a:ext cx="128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25"/>
              <p:cNvGrpSpPr/>
              <p:nvPr/>
            </p:nvGrpSpPr>
            <p:grpSpPr>
              <a:xfrm>
                <a:off x="4114800" y="690480"/>
                <a:ext cx="1290600" cy="946080"/>
                <a:chOff x="4114800" y="690480"/>
                <a:chExt cx="1290600" cy="94608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4182840" y="690480"/>
                  <a:ext cx="1154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..de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24"/>
                <p:cNvSpPr/>
                <p:nvPr/>
              </p:nvSpPr>
              <p:spPr>
                <a:xfrm>
                  <a:off x="4114800" y="690480"/>
                  <a:ext cx="12906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27"/>
              <p:cNvGrpSpPr/>
              <p:nvPr/>
            </p:nvGrpSpPr>
            <p:grpSpPr>
              <a:xfrm>
                <a:off x="5405400" y="690480"/>
                <a:ext cx="1197000" cy="946080"/>
                <a:chOff x="5405400" y="690480"/>
                <a:chExt cx="1197000" cy="946080"/>
              </a:xfrm>
            </p:grpSpPr>
            <p:sp>
              <p:nvSpPr>
                <p:cNvPr id="360" name="Rectangle 7"/>
                <p:cNvSpPr/>
                <p:nvPr/>
              </p:nvSpPr>
              <p:spPr>
                <a:xfrm>
                  <a:off x="5473440" y="690480"/>
                  <a:ext cx="1060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ari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>
                  <a:off x="5405400" y="690480"/>
                  <a:ext cx="11970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29"/>
              <p:cNvGrpSpPr/>
              <p:nvPr/>
            </p:nvGrpSpPr>
            <p:grpSpPr>
              <a:xfrm>
                <a:off x="690480" y="1636560"/>
                <a:ext cx="968400" cy="701640"/>
                <a:chOff x="690480" y="1636560"/>
                <a:chExt cx="968400" cy="701640"/>
              </a:xfrm>
            </p:grpSpPr>
            <p:sp>
              <p:nvSpPr>
                <p:cNvPr id="363" name="Rectangle 8"/>
                <p:cNvSpPr/>
                <p:nvPr/>
              </p:nvSpPr>
              <p:spPr>
                <a:xfrm>
                  <a:off x="758880" y="1636560"/>
                  <a:ext cx="8316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28"/>
                <p:cNvSpPr/>
                <p:nvPr/>
              </p:nvSpPr>
              <p:spPr>
                <a:xfrm>
                  <a:off x="690480" y="1636560"/>
                  <a:ext cx="9684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31"/>
              <p:cNvGrpSpPr/>
              <p:nvPr/>
            </p:nvGrpSpPr>
            <p:grpSpPr>
              <a:xfrm>
                <a:off x="1658880" y="1636560"/>
                <a:ext cx="1166760" cy="701640"/>
                <a:chOff x="1658880" y="1636560"/>
                <a:chExt cx="1166760" cy="701640"/>
              </a:xfrm>
            </p:grpSpPr>
            <p:sp>
              <p:nvSpPr>
                <p:cNvPr id="366" name="Rectangle 9"/>
                <p:cNvSpPr/>
                <p:nvPr/>
              </p:nvSpPr>
              <p:spPr>
                <a:xfrm>
                  <a:off x="1727280" y="1636560"/>
                  <a:ext cx="1029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,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30"/>
                <p:cNvSpPr/>
                <p:nvPr/>
              </p:nvSpPr>
              <p:spPr>
                <a:xfrm>
                  <a:off x="1658880" y="1636560"/>
                  <a:ext cx="11667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33"/>
              <p:cNvGrpSpPr/>
              <p:nvPr/>
            </p:nvGrpSpPr>
            <p:grpSpPr>
              <a:xfrm>
                <a:off x="2825640" y="1636560"/>
                <a:ext cx="1289160" cy="701640"/>
                <a:chOff x="2825640" y="1636560"/>
                <a:chExt cx="1289160" cy="701640"/>
              </a:xfrm>
            </p:grpSpPr>
            <p:sp>
              <p:nvSpPr>
                <p:cNvPr id="369" name="Rectangle 10"/>
                <p:cNvSpPr/>
                <p:nvPr/>
              </p:nvSpPr>
              <p:spPr>
                <a:xfrm>
                  <a:off x="2894040" y="1636560"/>
                  <a:ext cx="11523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32"/>
                <p:cNvSpPr/>
                <p:nvPr/>
              </p:nvSpPr>
              <p:spPr>
                <a:xfrm>
                  <a:off x="2825640" y="1636560"/>
                  <a:ext cx="1289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35"/>
              <p:cNvGrpSpPr/>
              <p:nvPr/>
            </p:nvGrpSpPr>
            <p:grpSpPr>
              <a:xfrm>
                <a:off x="4114800" y="1636560"/>
                <a:ext cx="1290600" cy="701640"/>
                <a:chOff x="4114800" y="1636560"/>
                <a:chExt cx="1290600" cy="701640"/>
              </a:xfrm>
            </p:grpSpPr>
            <p:sp>
              <p:nvSpPr>
                <p:cNvPr id="372" name="Rectangle 11"/>
                <p:cNvSpPr/>
                <p:nvPr/>
              </p:nvSpPr>
              <p:spPr>
                <a:xfrm>
                  <a:off x="4182840" y="1636560"/>
                  <a:ext cx="11541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34"/>
                <p:cNvSpPr/>
                <p:nvPr/>
              </p:nvSpPr>
              <p:spPr>
                <a:xfrm>
                  <a:off x="4114800" y="1636560"/>
                  <a:ext cx="12906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37"/>
              <p:cNvGrpSpPr/>
              <p:nvPr/>
            </p:nvGrpSpPr>
            <p:grpSpPr>
              <a:xfrm>
                <a:off x="5405400" y="1636560"/>
                <a:ext cx="1197000" cy="701640"/>
                <a:chOff x="5405400" y="1636560"/>
                <a:chExt cx="1197000" cy="701640"/>
              </a:xfrm>
            </p:grpSpPr>
            <p:sp>
              <p:nvSpPr>
                <p:cNvPr id="375" name="Rectangle 12"/>
                <p:cNvSpPr/>
                <p:nvPr/>
              </p:nvSpPr>
              <p:spPr>
                <a:xfrm>
                  <a:off x="5473440" y="1636560"/>
                  <a:ext cx="10605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36"/>
                <p:cNvSpPr/>
                <p:nvPr/>
              </p:nvSpPr>
              <p:spPr>
                <a:xfrm>
                  <a:off x="5405400" y="1636560"/>
                  <a:ext cx="11970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39"/>
              <p:cNvGrpSpPr/>
              <p:nvPr/>
            </p:nvGrpSpPr>
            <p:grpSpPr>
              <a:xfrm>
                <a:off x="690480" y="2338200"/>
                <a:ext cx="968400" cy="1190880"/>
                <a:chOff x="690480" y="2338200"/>
                <a:chExt cx="968400" cy="1190880"/>
              </a:xfrm>
            </p:grpSpPr>
            <p:sp>
              <p:nvSpPr>
                <p:cNvPr id="378" name="Rectangle 13"/>
                <p:cNvSpPr/>
                <p:nvPr/>
              </p:nvSpPr>
              <p:spPr>
                <a:xfrm>
                  <a:off x="758880" y="2338200"/>
                  <a:ext cx="83160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38"/>
                <p:cNvSpPr/>
                <p:nvPr/>
              </p:nvSpPr>
              <p:spPr>
                <a:xfrm>
                  <a:off x="690480" y="2338200"/>
                  <a:ext cx="9684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41"/>
              <p:cNvGrpSpPr/>
              <p:nvPr/>
            </p:nvGrpSpPr>
            <p:grpSpPr>
              <a:xfrm>
                <a:off x="1658880" y="2338200"/>
                <a:ext cx="1166760" cy="1190880"/>
                <a:chOff x="1658880" y="2338200"/>
                <a:chExt cx="1166760" cy="1190880"/>
              </a:xfrm>
            </p:grpSpPr>
            <p:sp>
              <p:nvSpPr>
                <p:cNvPr id="381" name="Rectangle 14"/>
                <p:cNvSpPr/>
                <p:nvPr/>
              </p:nvSpPr>
              <p:spPr>
                <a:xfrm>
                  <a:off x="1727280" y="2338200"/>
                  <a:ext cx="10299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, -6, 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1, 13, 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, 4,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40"/>
                <p:cNvSpPr/>
                <p:nvPr/>
              </p:nvSpPr>
              <p:spPr>
                <a:xfrm>
                  <a:off x="1658880" y="2338200"/>
                  <a:ext cx="11667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43"/>
              <p:cNvGrpSpPr/>
              <p:nvPr/>
            </p:nvGrpSpPr>
            <p:grpSpPr>
              <a:xfrm>
                <a:off x="2825640" y="2338200"/>
                <a:ext cx="1289160" cy="1190880"/>
                <a:chOff x="2825640" y="2338200"/>
                <a:chExt cx="1289160" cy="1190880"/>
              </a:xfrm>
            </p:grpSpPr>
            <p:sp>
              <p:nvSpPr>
                <p:cNvPr id="384" name="Rectangle 15"/>
                <p:cNvSpPr/>
                <p:nvPr/>
              </p:nvSpPr>
              <p:spPr>
                <a:xfrm>
                  <a:off x="2894040" y="2338200"/>
                  <a:ext cx="11523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42"/>
                <p:cNvSpPr/>
                <p:nvPr/>
              </p:nvSpPr>
              <p:spPr>
                <a:xfrm>
                  <a:off x="2825640" y="2338200"/>
                  <a:ext cx="12891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45"/>
              <p:cNvGrpSpPr/>
              <p:nvPr/>
            </p:nvGrpSpPr>
            <p:grpSpPr>
              <a:xfrm>
                <a:off x="4114800" y="2338200"/>
                <a:ext cx="1290600" cy="1190880"/>
                <a:chOff x="4114800" y="2338200"/>
                <a:chExt cx="1290600" cy="1190880"/>
              </a:xfrm>
            </p:grpSpPr>
            <p:sp>
              <p:nvSpPr>
                <p:cNvPr id="387" name="Rectangle 16"/>
                <p:cNvSpPr/>
                <p:nvPr/>
              </p:nvSpPr>
              <p:spPr>
                <a:xfrm>
                  <a:off x="4182840" y="2338200"/>
                  <a:ext cx="11541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44"/>
                <p:cNvSpPr/>
                <p:nvPr/>
              </p:nvSpPr>
              <p:spPr>
                <a:xfrm>
                  <a:off x="4114800" y="2338200"/>
                  <a:ext cx="12906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7"/>
              <p:cNvGrpSpPr/>
              <p:nvPr/>
            </p:nvGrpSpPr>
            <p:grpSpPr>
              <a:xfrm>
                <a:off x="5405400" y="2338200"/>
                <a:ext cx="1197000" cy="1190880"/>
                <a:chOff x="5405400" y="2338200"/>
                <a:chExt cx="1197000" cy="1190880"/>
              </a:xfrm>
            </p:grpSpPr>
            <p:sp>
              <p:nvSpPr>
                <p:cNvPr id="390" name="Rectangle 17"/>
                <p:cNvSpPr/>
                <p:nvPr/>
              </p:nvSpPr>
              <p:spPr>
                <a:xfrm>
                  <a:off x="5473440" y="2338200"/>
                  <a:ext cx="10605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6"/>
                <p:cNvSpPr/>
                <p:nvPr/>
              </p:nvSpPr>
              <p:spPr>
                <a:xfrm>
                  <a:off x="5405400" y="2338200"/>
                  <a:ext cx="11970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Rectangle 49"/>
            <p:cNvSpPr/>
            <p:nvPr/>
          </p:nvSpPr>
          <p:spPr>
            <a:xfrm>
              <a:off x="685800" y="685800"/>
              <a:ext cx="5921280" cy="28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Rectangle 54"/>
          <p:cNvSpPr/>
          <p:nvPr/>
        </p:nvSpPr>
        <p:spPr>
          <a:xfrm>
            <a:off x="152280" y="42670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                  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(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53"/>
              <p:cNvSpPr txBox="1"/>
              <p:nvPr/>
            </p:nvSpPr>
            <p:spPr>
              <a:xfrm>
                <a:off x="1905120" y="4343400"/>
                <a:ext cx="1152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2"/>
              <p:cNvSpPr txBox="1"/>
              <p:nvPr/>
            </p:nvSpPr>
            <p:spPr>
              <a:xfrm>
                <a:off x="1981080" y="4800600"/>
                <a:ext cx="15717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51"/>
              <p:cNvSpPr txBox="1"/>
              <p:nvPr/>
            </p:nvSpPr>
            <p:spPr>
              <a:xfrm>
                <a:off x="1905120" y="5334120"/>
                <a:ext cx="2143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3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sures of Central Tendenc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717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values of a variable often tend to be concentrated around the center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1905120"/>
            <a:ext cx="7620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of these measures are: th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od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di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254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se measures are considered as representatives (or typical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12760" y="3505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136440" y="4038480"/>
            <a:ext cx="3216240" cy="459720"/>
            <a:chOff x="136440" y="4038480"/>
            <a:chExt cx="3216240" cy="459720"/>
          </a:xfrm>
        </p:grpSpPr>
        <p:sp>
          <p:nvSpPr>
            <p:cNvPr id="56" name="Text Box 7"/>
            <p:cNvSpPr/>
            <p:nvPr/>
          </p:nvSpPr>
          <p:spPr>
            <a:xfrm>
              <a:off x="136440" y="4038480"/>
              <a:ext cx="32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) Population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8"/>
                <p:cNvSpPr txBox="1"/>
                <p:nvPr/>
              </p:nvSpPr>
              <p:spPr>
                <a:xfrm>
                  <a:off x="2742840" y="4073400"/>
                  <a:ext cx="239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" name="Rectangle 12"/>
          <p:cNvSpPr/>
          <p:nvPr/>
        </p:nvSpPr>
        <p:spPr>
          <a:xfrm>
            <a:off x="457200" y="449568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are the population values of the variable of interest , then the population mea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3764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2394000" y="5442120"/>
                <a:ext cx="3700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Rectangle 16"/>
          <p:cNvSpPr/>
          <p:nvPr/>
        </p:nvSpPr>
        <p:spPr>
          <a:xfrm>
            <a:off x="66294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-7632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mean     is a parameter  (it is usually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3200400" y="2362320"/>
                <a:ext cx="358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Group 9"/>
          <p:cNvGrpSpPr/>
          <p:nvPr/>
        </p:nvGrpSpPr>
        <p:grpSpPr>
          <a:xfrm>
            <a:off x="152280" y="2895480"/>
            <a:ext cx="8991720" cy="914400"/>
            <a:chOff x="152280" y="2895480"/>
            <a:chExt cx="8991720" cy="914400"/>
          </a:xfrm>
        </p:grpSpPr>
        <p:sp>
          <p:nvSpPr>
            <p:cNvPr id="66" name="Rectangle 8"/>
            <p:cNvSpPr/>
            <p:nvPr/>
          </p:nvSpPr>
          <p:spPr>
            <a:xfrm>
              <a:off x="152280" y="29559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2) Sample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f                       are the sample values, then the sample mean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7"/>
                <p:cNvSpPr txBox="1"/>
                <p:nvPr/>
              </p:nvSpPr>
              <p:spPr>
                <a:xfrm>
                  <a:off x="2324880" y="2895480"/>
                  <a:ext cx="27468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6"/>
                <p:cNvSpPr txBox="1"/>
                <p:nvPr/>
              </p:nvSpPr>
              <p:spPr>
                <a:xfrm>
                  <a:off x="526680" y="3349800"/>
                  <a:ext cx="164844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Rectangle 14"/>
          <p:cNvSpPr/>
          <p:nvPr/>
        </p:nvSpPr>
        <p:spPr>
          <a:xfrm>
            <a:off x="35053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3"/>
              <p:cNvSpPr txBox="1"/>
              <p:nvPr/>
            </p:nvSpPr>
            <p:spPr>
              <a:xfrm>
                <a:off x="2664000" y="4340160"/>
                <a:ext cx="2463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15"/>
          <p:cNvSpPr/>
          <p:nvPr/>
        </p:nvSpPr>
        <p:spPr>
          <a:xfrm>
            <a:off x="72388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7"/>
          <p:cNvGrpSpPr/>
          <p:nvPr/>
        </p:nvGrpSpPr>
        <p:grpSpPr>
          <a:xfrm>
            <a:off x="0" y="152280"/>
            <a:ext cx="9144000" cy="1633320"/>
            <a:chOff x="0" y="152280"/>
            <a:chExt cx="9144000" cy="1633320"/>
          </a:xfrm>
        </p:grpSpPr>
        <p:sp>
          <p:nvSpPr>
            <p:cNvPr id="73" name="Rectangle 5"/>
            <p:cNvSpPr/>
            <p:nvPr/>
          </p:nvSpPr>
          <p:spPr>
            <a:xfrm>
              <a:off x="0" y="22860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sample mean     is a statistic (it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 The sample mean     is used to approximate (estimate) the population mean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4"/>
                <p:cNvSpPr txBox="1"/>
                <p:nvPr/>
              </p:nvSpPr>
              <p:spPr>
                <a:xfrm>
                  <a:off x="2286000" y="152280"/>
                  <a:ext cx="27936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Object 3"/>
                <p:cNvSpPr txBox="1"/>
                <p:nvPr/>
              </p:nvSpPr>
              <p:spPr>
                <a:xfrm>
                  <a:off x="2286000" y="533520"/>
                  <a:ext cx="2793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2"/>
                <p:cNvSpPr txBox="1"/>
                <p:nvPr/>
              </p:nvSpPr>
              <p:spPr>
                <a:xfrm>
                  <a:off x="725400" y="1066680"/>
                  <a:ext cx="341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Rectangle 6"/>
          <p:cNvSpPr/>
          <p:nvPr/>
        </p:nvSpPr>
        <p:spPr>
          <a:xfrm>
            <a:off x="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28600" y="2057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the following population valu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52280" y="312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ppose that the sample values obtain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2876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1219320" y="2590920"/>
                <a:ext cx="6248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5"/>
          <p:cNvSpPr/>
          <p:nvPr/>
        </p:nvSpPr>
        <p:spPr>
          <a:xfrm>
            <a:off x="3643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2133720" y="3922560"/>
                <a:ext cx="44193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an is simple to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mean for a given samp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The mean can be distorted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 can only be found for quantitative variabl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4083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dian: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of a finite set of numbers is that value which 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t into two equal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04920" y="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1957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828800" y="318960"/>
                <a:ext cx="3809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4"/>
          <p:cNvSpPr/>
          <p:nvPr/>
        </p:nvSpPr>
        <p:spPr>
          <a:xfrm>
            <a:off x="34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905120" y="1066680"/>
                <a:ext cx="3733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5"/>
          <p:cNvSpPr/>
          <p:nvPr/>
        </p:nvSpPr>
        <p:spPr>
          <a:xfrm>
            <a:off x="57913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9436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80880" y="57913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ample values . We hav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wo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6320" y="9216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If the sample size,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,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od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62532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ddle valu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ser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3"/>
          <p:cNvGrpSpPr/>
          <p:nvPr/>
        </p:nvGrpSpPr>
        <p:grpSpPr>
          <a:xfrm>
            <a:off x="0" y="3198960"/>
            <a:ext cx="8610480" cy="1677960"/>
            <a:chOff x="0" y="3198960"/>
            <a:chExt cx="8610480" cy="1677960"/>
          </a:xfrm>
        </p:grpSpPr>
        <p:grpSp>
          <p:nvGrpSpPr>
            <p:cNvPr id="98" name="Group 32"/>
            <p:cNvGrpSpPr/>
            <p:nvPr/>
          </p:nvGrpSpPr>
          <p:grpSpPr>
            <a:xfrm>
              <a:off x="2666880" y="3198960"/>
              <a:ext cx="5943600" cy="1677960"/>
              <a:chOff x="2666880" y="3198960"/>
              <a:chExt cx="5943600" cy="1677960"/>
            </a:xfrm>
          </p:grpSpPr>
          <p:sp>
            <p:nvSpPr>
              <p:cNvPr id="99" name="Rectangle 11"/>
              <p:cNvSpPr/>
              <p:nvPr/>
            </p:nvSpPr>
            <p:spPr>
              <a:xfrm>
                <a:off x="2666880" y="3200400"/>
                <a:ext cx="586764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>
                <a:off x="2666880" y="4038480"/>
                <a:ext cx="586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 flipV="1">
                <a:off x="335268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 flipV="1">
                <a:off x="41148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51055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V="1">
                <a:off x="66294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 flipV="1">
                <a:off x="78487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28195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35053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28195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35053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43434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43434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5181480" y="3198960"/>
                <a:ext cx="1447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 value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DIAN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Object 25"/>
                  <p:cNvSpPr txBox="1"/>
                  <p:nvPr/>
                </p:nvSpPr>
                <p:spPr>
                  <a:xfrm>
                    <a:off x="5479920" y="4127400"/>
                    <a:ext cx="615960" cy="67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Rectangle 26"/>
              <p:cNvSpPr/>
              <p:nvPr/>
            </p:nvSpPr>
            <p:spPr>
              <a:xfrm>
                <a:off x="70866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086600" y="3276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80010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8001000" y="4191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33"/>
            <p:cNvGrpSpPr/>
            <p:nvPr/>
          </p:nvGrpSpPr>
          <p:grpSpPr>
            <a:xfrm>
              <a:off x="0" y="3200400"/>
              <a:ext cx="2590920" cy="1191240"/>
              <a:chOff x="0" y="3200400"/>
              <a:chExt cx="2590920" cy="1191240"/>
            </a:xfrm>
          </p:grpSpPr>
          <p:sp>
            <p:nvSpPr>
              <p:cNvPr id="119" name="Rectangle 31"/>
              <p:cNvSpPr/>
              <p:nvPr/>
            </p:nvSpPr>
            <p:spPr>
              <a:xfrm>
                <a:off x="0" y="320040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Ordered set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(smallest to largest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Object 30"/>
                  <p:cNvSpPr txBox="1"/>
                  <p:nvPr/>
                </p:nvSpPr>
                <p:spPr>
                  <a:xfrm>
                    <a:off x="1600200" y="3301920"/>
                    <a:ext cx="60948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1" name="Group 42"/>
            <p:cNvGrpSpPr/>
            <p:nvPr/>
          </p:nvGrpSpPr>
          <p:grpSpPr>
            <a:xfrm>
              <a:off x="0" y="4191120"/>
              <a:ext cx="2666880" cy="459720"/>
              <a:chOff x="0" y="4191120"/>
              <a:chExt cx="2666880" cy="459720"/>
            </a:xfrm>
          </p:grpSpPr>
          <p:sp>
            <p:nvSpPr>
              <p:cNvPr id="122" name="Rectangle 41"/>
              <p:cNvSpPr/>
              <p:nvPr/>
            </p:nvSpPr>
            <p:spPr>
              <a:xfrm>
                <a:off x="0" y="41911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Rank (or order)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" name="Object 40"/>
                  <p:cNvSpPr txBox="1"/>
                  <p:nvPr/>
                </p:nvSpPr>
                <p:spPr>
                  <a:xfrm>
                    <a:off x="1981080" y="4305240"/>
                    <a:ext cx="68580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4" name="Rectangle 45"/>
          <p:cNvSpPr/>
          <p:nvPr/>
        </p:nvSpPr>
        <p:spPr>
          <a:xfrm>
            <a:off x="43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5181480" y="1143000"/>
                <a:ext cx="609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46"/>
          <p:cNvSpPr/>
          <p:nvPr/>
        </p:nvSpPr>
        <p:spPr>
          <a:xfrm>
            <a:off x="373320" y="129528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observation is the ordered         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1138680" y="22096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 The             order ob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8"/>
              <p:cNvSpPr txBox="1"/>
              <p:nvPr/>
            </p:nvSpPr>
            <p:spPr>
              <a:xfrm>
                <a:off x="3657600" y="2057400"/>
                <a:ext cx="60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152280" y="4572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, 54, 21, 38, 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(odd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ank of the middle value (median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5+1)/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5257800" y="18288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1" name="Group 59"/>
          <p:cNvGrpSpPr/>
          <p:nvPr/>
        </p:nvGrpSpPr>
        <p:grpSpPr>
          <a:xfrm>
            <a:off x="452520" y="2971800"/>
            <a:ext cx="6024600" cy="1371600"/>
            <a:chOff x="452520" y="2971800"/>
            <a:chExt cx="6024600" cy="1371600"/>
          </a:xfrm>
        </p:grpSpPr>
        <p:sp>
          <p:nvSpPr>
            <p:cNvPr id="132" name="Rectangle 4"/>
            <p:cNvSpPr/>
            <p:nvPr/>
          </p:nvSpPr>
          <p:spPr>
            <a:xfrm>
              <a:off x="2891160" y="2971800"/>
              <a:ext cx="350496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891160" y="342900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342432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39578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48722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563436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2814840" y="2971800"/>
              <a:ext cx="608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384720" y="2971800"/>
              <a:ext cx="649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772080" y="2971800"/>
              <a:ext cx="1176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727880" y="2971800"/>
              <a:ext cx="1058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558040" y="2971800"/>
              <a:ext cx="91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28"/>
                <p:cNvSpPr txBox="1"/>
                <p:nvPr/>
              </p:nvSpPr>
              <p:spPr>
                <a:xfrm>
                  <a:off x="3983400" y="3505320"/>
                  <a:ext cx="507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Rectangle 29"/>
            <p:cNvSpPr/>
            <p:nvPr/>
          </p:nvSpPr>
          <p:spPr>
            <a:xfrm>
              <a:off x="2891160" y="3581640"/>
              <a:ext cx="457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3424320" y="3581640"/>
              <a:ext cx="487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4216680" y="3641760"/>
              <a:ext cx="884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4838760" y="3565800"/>
              <a:ext cx="795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5705640" y="3581640"/>
              <a:ext cx="690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47"/>
                <p:cNvSpPr txBox="1"/>
                <p:nvPr/>
              </p:nvSpPr>
              <p:spPr>
                <a:xfrm>
                  <a:off x="2387880" y="3124440"/>
                  <a:ext cx="4269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Rectangle 48"/>
            <p:cNvSpPr/>
            <p:nvPr/>
          </p:nvSpPr>
          <p:spPr>
            <a:xfrm>
              <a:off x="757440" y="303228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ed 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3"/>
                <p:cNvSpPr txBox="1"/>
                <p:nvPr/>
              </p:nvSpPr>
              <p:spPr>
                <a:xfrm>
                  <a:off x="2463840" y="3657600"/>
                  <a:ext cx="427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Rectangle 54"/>
            <p:cNvSpPr/>
            <p:nvPr/>
          </p:nvSpPr>
          <p:spPr>
            <a:xfrm>
              <a:off x="452520" y="3565800"/>
              <a:ext cx="22892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 (or order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60"/>
          <p:cNvSpPr/>
          <p:nvPr/>
        </p:nvSpPr>
        <p:spPr>
          <a:xfrm>
            <a:off x="228600" y="4419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38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" y="152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ample siz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i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ve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6320" y="1066680"/>
            <a:ext cx="9144000" cy="1617840"/>
            <a:chOff x="76320" y="1066680"/>
            <a:chExt cx="9144000" cy="1617840"/>
          </a:xfrm>
        </p:grpSpPr>
        <p:sp>
          <p:nvSpPr>
            <p:cNvPr id="156" name="Rectangle 5"/>
            <p:cNvSpPr/>
            <p:nvPr/>
          </p:nvSpPr>
          <p:spPr>
            <a:xfrm>
              <a:off x="76320" y="1066680"/>
              <a:ext cx="9144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ff33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median is the mean (average) of the two middle values of the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The middle two values are the ordered    and        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4"/>
                <p:cNvSpPr txBox="1"/>
                <p:nvPr/>
              </p:nvSpPr>
              <p:spPr>
                <a:xfrm>
                  <a:off x="4800600" y="1676520"/>
                  <a:ext cx="27144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3"/>
                <p:cNvSpPr txBox="1"/>
                <p:nvPr/>
              </p:nvSpPr>
              <p:spPr>
                <a:xfrm>
                  <a:off x="5638680" y="1752480"/>
                  <a:ext cx="5079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Rectangle 8"/>
          <p:cNvSpPr/>
          <p:nvPr/>
        </p:nvSpPr>
        <p:spPr>
          <a:xfrm>
            <a:off x="7632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1219320" y="3048120"/>
          <a:ext cx="67579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7579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1981080" y="4476600"/>
                <a:ext cx="3812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2057400" y="4962600"/>
                <a:ext cx="380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6"/>
          <p:cNvSpPr/>
          <p:nvPr/>
        </p:nvSpPr>
        <p:spPr>
          <a:xfrm>
            <a:off x="152280" y="4343400"/>
            <a:ext cx="18320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rdered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4861080"/>
            <a:ext cx="2514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k (or ord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1"/>
          <p:cNvGrpSpPr/>
          <p:nvPr/>
        </p:nvGrpSpPr>
        <p:grpSpPr>
          <a:xfrm>
            <a:off x="2533320" y="4343400"/>
            <a:ext cx="5544000" cy="1104840"/>
            <a:chOff x="2533320" y="4343400"/>
            <a:chExt cx="5544000" cy="1104840"/>
          </a:xfrm>
        </p:grpSpPr>
        <p:graphicFrame>
          <p:nvGraphicFramePr>
            <p:cNvPr id="167" name="Object 25"/>
            <p:cNvGraphicFramePr/>
            <p:nvPr/>
          </p:nvGraphicFramePr>
          <p:xfrm>
            <a:off x="2533680" y="4343400"/>
            <a:ext cx="5543640" cy="110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3680" y="4343400"/>
                      <a:ext cx="554364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Line 26"/>
            <p:cNvSpPr/>
            <p:nvPr/>
          </p:nvSpPr>
          <p:spPr>
            <a:xfrm flipV="1">
              <a:off x="25336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 flipH="1">
              <a:off x="2533320" y="434340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8"/>
            <p:cNvSpPr/>
            <p:nvPr/>
          </p:nvSpPr>
          <p:spPr>
            <a:xfrm>
              <a:off x="73342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291492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51246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23:05:53Z</dcterms:created>
  <dc:creator>alzaid</dc:creator>
  <dc:description/>
  <dc:language>en-US</dc:language>
  <cp:lastModifiedBy>USER</cp:lastModifiedBy>
  <dcterms:modified xsi:type="dcterms:W3CDTF">2012-01-24T13:09:40Z</dcterms:modified>
  <cp:revision>14</cp:revision>
  <dc:subject/>
  <dc:title>PowerPoint Presentation</dc:title>
</cp:coreProperties>
</file>