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E48-9C58-434F-B60C-645881C3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FAC-B7B3-44A1-8F71-0D7B72F8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1BD-8320-4E87-8695-CA2C5FAB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130-D74E-4B5B-A869-E3EAC82B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7A9-2D18-4CD0-BDBF-ED8AA626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198-4285-4E88-B65D-45633DA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613-53D1-46F9-A515-0AA02BC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711-B4F5-4ECF-A933-FF6B4DD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8F6-65CB-45D0-BD2C-657C18E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36E-6BC4-4998-BEC3-C55B73D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3EA-BA78-425C-8DC1-94D6A2F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9CC-B3CE-4799-807A-F0BC5CB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330-840F-4508-8ED3-D6DAA04B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USER</cp:lastModifiedBy>
  <dcterms:modified xsi:type="dcterms:W3CDTF">2012-01-24T13:09:40Z</dcterms:modified>
  <cp:revision>14</cp:revision>
  <dc:subject/>
  <dc:title>PowerPoint Presentation</dc:title>
</cp:coreProperties>
</file>