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EEA-D6EF-48B3-9217-60363533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523-BCCF-4085-92D6-99FA1BE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C20-8135-447B-9D65-C9C56231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A3-4175-43AC-89AF-AD08098F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430-B56B-4BEF-A27B-28A5BE2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942-9BFF-4843-A517-1C9A43A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060-3E50-4C31-9DFE-172E2604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8ED-48F0-497B-9FDC-58A99BD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54C-0B88-4B06-BB42-EFBF3334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AB8-1051-4BF8-AC2B-B5CB500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897-C431-44A7-BA43-65C95FB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E47-6841-4882-A877-7F92D87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BC11-5809-4D46-A510-8503AC82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USER</cp:lastModifiedBy>
  <dcterms:modified xsi:type="dcterms:W3CDTF">2012-01-24T13:09:40Z</dcterms:modified>
  <cp:revision>14</cp:revision>
  <dc:subject/>
  <dc:title>PowerPoint Presentation</dc:title>
</cp:coreProperties>
</file>