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93F-EFBF-429F-AE2C-36BB3C03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5E3-601E-41D8-8CD8-9771F2A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0EA-D183-40AF-A696-7CA37E19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CDC-33E8-4ED8-BBCE-DE70E032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C1D-1DE6-4264-93BD-8225CB6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450-9289-441A-8554-FCBDDF8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DFA-A6C1-41DC-A229-6778573A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E5A-79C6-48AF-8391-5266414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D9A-8686-4875-842B-0986681F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88F-4339-49B8-8065-FFF889E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3B6-165A-4170-B0FC-1322B77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F2C-2A01-4E88-9D17-5FC2438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CDA-0C09-48E9-A00E-1776E0B5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USER</cp:lastModifiedBy>
  <dcterms:modified xsi:type="dcterms:W3CDTF">2012-01-24T13:10:16Z</dcterms:modified>
  <cp:revision>4</cp:revision>
  <dc:subject/>
  <dc:title>PowerPoint Presentation</dc:title>
</cp:coreProperties>
</file>