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357-072B-4341-82E1-AB1B84A8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6F0-453A-48C1-AD57-26A26E6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700-4E11-41A4-B2D6-C4BDFFD1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3E6-9A0D-418B-A0E1-60A91F49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E73-705E-466E-B56A-D7F3084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765-404F-4AE1-82E0-5F94BBDF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DF7-6D39-4F95-B099-A50ED934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18F-C016-4E05-9732-FCF47E8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4AF-9B99-4FB0-8DD5-7DD01A8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12B-4E66-4049-815F-0BE6B19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3A3-D203-4068-8BEF-792557A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F1A-CEF9-4505-A3E0-46BDEBE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C7BA-839A-4ED5-A45A-075584E1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USER</cp:lastModifiedBy>
  <dcterms:modified xsi:type="dcterms:W3CDTF">2012-01-24T13:10:16Z</dcterms:modified>
  <cp:revision>4</cp:revision>
  <dc:subject/>
  <dc:title>PowerPoint Presentation</dc:title>
</cp:coreProperties>
</file>