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408-C276-4E51-A89E-50A8533D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63D-6F9C-4872-A6AF-D7549BD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DAD-4379-46DF-A36A-8873B8CD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C74-8459-4A4C-9B62-C0BD51CF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6FC-B542-451B-B7EF-F000EC0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D5E-0CFA-4584-B077-0D79BE5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5FF-E26C-4E0E-AEDF-512ECD6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97C-2920-420F-98E8-3126248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E0A-24C0-4921-84E9-CB4FBEF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77E-090C-44F9-B655-FAC6B19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583-B7DC-4746-8EAA-129CE44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340-AFE8-4699-B4C7-19073D9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7A7C-4E2D-41D4-A3EF-82E3A033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USER</cp:lastModifiedBy>
  <dcterms:modified xsi:type="dcterms:W3CDTF">2012-01-24T13:10:16Z</dcterms:modified>
  <cp:revision>4</cp:revision>
  <dc:subject/>
  <dc:title>PowerPoint Presentation</dc:title>
</cp:coreProperties>
</file>