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62127-C977-4094-ACD3-FB8E4CFA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1FC42-AF8D-497E-A134-EB8F9C9D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A90DE-267D-4EDB-8668-ACB1AE08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9FA0-F436-4A2F-A370-59B04093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3C47-0725-4702-8861-C808F514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9927-B6F7-43EF-B860-0D75A322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282B-D02E-49DA-B316-A066B77B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62FB-4595-4275-BB64-5040670C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C85A-E20A-4AE3-9FAB-0F4436DA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F7EF-CD5C-4D57-AD5E-97B0755A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233D-31F8-4F43-A8D0-BF6C9826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BDE29-52B0-4C2A-A5D4-31175054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914B-D04A-4B9D-A4A7-ADB913A4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DE71-F80A-44ED-9673-98109707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AE7F-3D20-4208-9B4D-52CD11A1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47CC-338B-4620-912D-A276A731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9F68-55C7-43E8-82BC-C0F2C65E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47578-0E94-4994-A662-A5A01E56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B6C62-39F2-49B9-8C7F-3814A512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389BA-2FAB-4A8F-B419-71B637D4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2F70A-F3B4-4D68-BEC7-0A478E65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83AE9-E812-493A-AB6D-199B9987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312CE-BBA5-4AC0-88E8-F7505C72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1565C-004D-4369-8351-2336829B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832B-016D-482B-A4C4-1926AEE82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779B-5559-4892-BA5A-40B29BBBD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 rtl="1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 rtl="1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0360" y="4840200"/>
            <a:ext cx="782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"/>
              </a:rPr>
              <a:t>Stress manage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"/>
              </a:rPr>
              <a:t>By :    Dr.no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comic"/>
              </a:rPr>
              <a:t>Why some people are affected by stress more than others ??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Simple test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You could be stressed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You are probably stressed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You are almost certainly stressed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You are definitly stressed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99"/>
                </a:solidFill>
                <a:uFillTx/>
                <a:latin typeface="comic"/>
              </a:rPr>
              <a:t>So , what are sings of stress ?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Management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990099"/>
                </a:solidFill>
                <a:latin typeface="comic"/>
              </a:rPr>
              <a:t>1-Decrease or discontinue caffeine 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y 3 week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y 1 drink \ da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75-80% effect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"/>
              </a:rPr>
              <a:t>2- Regular exercise 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hy it is important ?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comic"/>
              </a:rPr>
              <a:t>REMEMBER</a:t>
            </a:r>
            <a:r>
              <a:rPr b="1" lang="en-US" sz="4400" spc="-1" strike="noStrike">
                <a:solidFill>
                  <a:srgbClr val="990099"/>
                </a:solidFill>
                <a:latin typeface="comic"/>
              </a:rPr>
              <a:t> !!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o single remedy applies to all people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Reducing stress susceptibility &amp; removing stressor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Removing it is ONLY part of solution!!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6699"/>
                </a:solidFill>
                <a:uFillTx/>
                <a:latin typeface="comic"/>
              </a:rPr>
              <a:t>TO MASTER STRESS YOU MUST CHANG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ont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"/>
              </a:rPr>
              <a:t>3-Relaxation 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ress reaction is automatic BUT relaxation needs to be brought up by intent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0099"/>
                </a:solidFill>
                <a:uFillTx/>
                <a:latin typeface="comic"/>
              </a:rPr>
              <a:t>SELF HYPNOSI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t least 20 min. \ day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ont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"/>
              </a:rPr>
              <a:t>4- Sleep 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Go to bed 30 _ 60 min . Before your regular time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Day time naps “ if timed “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ont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"/>
              </a:rPr>
              <a:t>5- Leisure &amp; timeou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t beginning its good to function well, but with time or being too often = distress !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comic"/>
              </a:rPr>
              <a:t>((ultradian rhythm)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Leisure Vs Stress ! !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ont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time for each 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work – family – community – self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work &gt;60%   OR self &lt; 10%  becarefull !!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99"/>
                </a:solidFill>
                <a:uFillTx/>
                <a:latin typeface="Garamond"/>
              </a:rPr>
              <a:t>N.B: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 leisure</a:t>
            </a:r>
            <a:r>
              <a:rPr b="1" i="1" lang="ar-SA" sz="28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 is from Latin word {</a:t>
            </a:r>
            <a:r>
              <a:rPr b="1" i="1" lang="en-US" sz="2800" spc="-1" strike="noStrike" u="sng">
                <a:solidFill>
                  <a:srgbClr val="990099"/>
                </a:solidFill>
                <a:uFillTx/>
                <a:latin typeface="comic"/>
              </a:rPr>
              <a:t> LICERE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 }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Permissio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Bernard MT Condensed"/>
              </a:rPr>
              <a:t>People don’t have leisure bec. they are not giving them selves permission to make time to enjoy i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ont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"/>
              </a:rPr>
              <a:t>6- Realistic Expectation 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When realistic = predictable &amp; manageable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Bernard MT Condensed"/>
                <a:ea typeface="Andalus"/>
              </a:rPr>
              <a:t>( expect less from people who cant give you what you want !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Bernard MT Condensed"/>
                <a:ea typeface="Andalus"/>
              </a:rPr>
              <a:t>It makes it easier , not great , just less upsetting )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ont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"/>
              </a:rPr>
              <a:t>7- Reframing</a:t>
            </a: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o change the way you look for thing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any ways to interpret same situa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( glass of water ! 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Bernard MT Condensed"/>
              </a:rPr>
              <a:t>There are more than one meaning to the same reality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r. joel 1986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Points to be covered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What is stress</a:t>
            </a: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Types of stress</a:t>
            </a: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Effects on health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Causes at work</a:t>
            </a: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Simple test</a:t>
            </a: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managemen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ont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e way you feel is the way you think !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Always ask why do people do that 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Most people feel compassion &gt; anger !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Bernard MT Condensed"/>
              </a:rPr>
              <a:t>Reframing doesn’t change external reality , but simply helps people view things differently !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ont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"/>
              </a:rPr>
              <a:t>8-Belief system 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( men shouldn’t show there emotion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Belief &amp; Stress : behavior &amp; conflict 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Bernard MT Condensed"/>
              </a:rPr>
              <a:t>Believes held by others may be just as valid as your own !!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Bernard MT Condensed"/>
              </a:rPr>
              <a:t>They are ONLY opinions !!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ont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omic"/>
              </a:rPr>
              <a:t>9- Ventilation &amp; Support system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Problem shared is a problem halved !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isten attentively &amp; show concern &amp; care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ff"/>
                </a:solidFill>
                <a:uFillTx/>
                <a:latin typeface="comic"/>
              </a:rPr>
              <a:t>WRITING !!!!!!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omic"/>
              </a:rPr>
              <a:t>10- HUMOR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hat is stress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?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n specific response of the body to any demand made upon it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mand : can be threat , challenge or any kind of change which require body to adapt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uld be good = </a:t>
            </a:r>
            <a:r>
              <a:rPr b="1" lang="en-US" sz="3200" spc="-1" strike="noStrike">
                <a:solidFill>
                  <a:srgbClr val="6600ff"/>
                </a:solidFill>
                <a:latin typeface="Garamond"/>
              </a:rPr>
              <a:t>eustres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r bad = </a:t>
            </a:r>
            <a:r>
              <a:rPr b="1" lang="en-US" sz="3200" spc="-1" strike="noStrike">
                <a:solidFill>
                  <a:srgbClr val="6600ff"/>
                </a:solidFill>
                <a:latin typeface="Garamond"/>
              </a:rPr>
              <a:t>distres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Reaction to stress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Physical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Mental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Emotional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Behavioral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auses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xternal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Internal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Or : acute &amp; chronic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Stress effects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C.V.S : HTN , heart diseases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Immune system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Miscarriage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I.B.S  &amp; ulcers 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Garamond"/>
              </a:rPr>
              <a:t>Brain : 50% decrease in cognitive performance &amp;in function such as memory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tress management reduce risk of heart attack by 75% in people with heart disease 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It increases the effectiveness of treatment &amp; after 6 months = effect of ???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auses of stress at work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 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aramond"/>
              </a:rPr>
              <a:t>Bullying or harassment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aramond"/>
              </a:rPr>
              <a:t>Feeling powerles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aramond"/>
              </a:rPr>
              <a:t>Lack of effective communication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aramond"/>
              </a:rPr>
              <a:t>Job security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aramond"/>
              </a:rPr>
              <a:t>Long working hour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aramond"/>
              </a:rPr>
              <a:t>Away from family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aramond"/>
              </a:rPr>
              <a:t>Office politic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aramond"/>
              </a:rPr>
              <a:t>Reward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02:02:24Z</dcterms:created>
  <dc:creator>www.arabswell.com</dc:creator>
  <dc:description/>
  <dc:language>en-US</dc:language>
  <cp:lastModifiedBy>www.arabswell.com</cp:lastModifiedBy>
  <dcterms:modified xsi:type="dcterms:W3CDTF">2006-12-25T03:30:05Z</dcterms:modified>
  <cp:revision>4</cp:revision>
  <dc:subject/>
  <dc:title>الشريحة 1</dc:title>
</cp:coreProperties>
</file>