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49B0-988C-4726-A5F0-4D8CDBA60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7E59-82E9-492A-8C54-29450D916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FB93-0E96-4FD7-8E3E-6037757712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4F71-9206-4975-ACAE-9FE65DDE2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92C9-3EA3-4E97-AFAC-47C00A658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D89F-1405-4F17-8283-41145FEE8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48A8-72C3-4286-80BF-068D2CFE0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EFBA-5393-40A2-9E4F-C1AF81771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E957-A0AF-4DD7-A509-08478A1BD1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9DAD-6146-46B4-AD0F-2B2DCC918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69F3-756F-4A9D-99E5-12F3305CC7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BC8A-74E9-46E8-BFA4-998643058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26E0-87C9-4513-B30D-39FE85DD0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4621-2B9F-4E3C-ADC7-5551D56AD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AA25-2D73-4F74-AC27-4D2632790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C05F-B7C8-4B2F-BE66-CD1C0F2CC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5312-AA98-4D43-8B0D-E00716F500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75FC-B69F-40D2-8116-41832CF41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792B-83D5-4451-BBEA-372920DC55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128A-AAA9-4979-97CD-277C08004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C79A-4A75-49ED-8CA4-01897A747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2688-2CA5-4382-ACB7-69D37B614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B073-306E-42AC-9F3D-30FB893E1F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A4C2-74EC-4C2A-8E45-B67598FF7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E35C-6D87-463B-8816-7CFD6379BA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C92A-DC98-424C-9704-8964C0728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181C-55D1-45C1-86C5-3D14838FD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2D57-5B60-4489-85FC-C26288C8D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F0EB-C044-4EDB-A75F-180953D700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EE64-42CF-46B3-A081-2792ADCD6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33AB-624E-43FF-905F-DF67FA8041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DDA1-1110-4E8D-A4D3-EB6D1E2E1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F428-7094-44E2-A1A6-F464BE6905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2392-B6E2-4997-8397-BC43005C6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53F1-4D1C-44CD-B54A-E099643E9D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2395-21AD-414A-BB82-C3772B9F5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D581-8A6B-4CF2-A2C1-862ACC4281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997F-1510-4D49-88D3-9F2C364C3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69E3-0AB7-40BB-B3FE-20FBA1B9CB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828B-4289-4D88-8BAB-80C7EA9AA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410A-148B-4821-A3C0-E17048533D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04E7-0B29-4605-B6B6-347FE3CB8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C25D-EA7C-4FBA-8271-B4C8D8067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BC03-1040-4173-8813-1156874D6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D081-7CB2-4DA6-9434-F1AF335B7B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6849-93DB-45C1-9AD2-1A5C10A55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CEBB-49CB-4351-9633-E6F1FA5CE6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0B0C-B195-45DD-A052-F103764CD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841B-8031-46F5-BAD3-847F82276D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284B-82D0-4234-83FE-B5F902D92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23C8-1C5E-4565-90B2-F86404A0F6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FED9-CA9A-40D8-B4DF-B2C0B6397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4AAA-8341-403F-950C-7870D63DA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EF9D-EBD1-4C97-97BA-E22B8726C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EE3E-94AD-45C9-95CB-B5DBAAD95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43F7-D051-4327-BEBC-A2F9FA8DA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FF03-01F8-4E04-AB14-46B66CC559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55FE-08DF-4B33-961F-873696FE3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88AD-48C0-4848-AFC3-CD2189F4A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B619-E1AE-45ED-8E40-C0FB8B2AE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97A9-D919-4040-97B8-9EA6D675F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F82C-F38B-4AAC-9D4A-1E9EC8839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867C-90A5-48FA-BC9E-78560B56D4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D91B-CD05-4905-8E3A-8D8D21A8F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F441-C7C7-4A5C-B369-42708BF1E0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0D6A-37CB-427B-A071-FFF60244B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2BD2-FBA3-434C-9FCC-E23A0B3C7E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8B9C-EEFC-4331-97C8-5BAD3C06A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430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256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430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710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39864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256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430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256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430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710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9864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256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1120" y="-4680"/>
                <a:ext cx="987480" cy="6834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3440"/>
                <a:ext cx="987480" cy="5004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20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568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4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400" y="3938760"/>
                <a:ext cx="98712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1760" y="353520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08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1760" y="323064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75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560"/>
                <a:ext cx="1000080" cy="375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84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56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360"/>
                <a:ext cx="987120" cy="429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2120"/>
                <a:ext cx="100008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43000" y="640044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Rectangle 31"/>
          <p:cNvSpPr/>
          <p:nvPr/>
        </p:nvSpPr>
        <p:spPr>
          <a:xfrm>
            <a:off x="6629400" y="640080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B3-d-S</a:t>
            </a:r>
            <a:fld id="{08327FCE-8759-469D-8F09-CFBF021766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Activity Diagr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" name="Picture 32" descr="vrlsoft_logo"/>
          <p:cNvPicPr/>
          <p:nvPr/>
        </p:nvPicPr>
        <p:blipFill>
          <a:blip r:embed="rId2"/>
          <a:stretch/>
        </p:blipFill>
        <p:spPr>
          <a:xfrm>
            <a:off x="6172200" y="228600"/>
            <a:ext cx="2666880" cy="83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7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Picture 35" descr="vrlsoft_logo"/>
          <p:cNvPicPr/>
          <p:nvPr/>
        </p:nvPicPr>
        <p:blipFill>
          <a:blip r:embed="rId2"/>
          <a:stretch/>
        </p:blipFill>
        <p:spPr>
          <a:xfrm>
            <a:off x="6172200" y="228600"/>
            <a:ext cx="2666880" cy="833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3"/>
          </p:nvPr>
        </p:nvSpPr>
        <p:spPr>
          <a:xfrm>
            <a:off x="1143000" y="640044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4"/>
          </p:nvPr>
        </p:nvSpPr>
        <p:spPr>
          <a:xfrm>
            <a:off x="35812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1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1776240"/>
            <a:ext cx="849636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ftware Process and Model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981080" y="3581280"/>
            <a:ext cx="609624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. M.E. Fayad, Pro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ing Department, Room #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and Information Sciences (CCI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O. Box 51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yadh 115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ngr.sjsu.edu/faya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fayad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Date Placeholder 3"/>
          <p:cNvSpPr/>
          <p:nvPr/>
        </p:nvSpPr>
        <p:spPr>
          <a:xfrm>
            <a:off x="1143000" y="6324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065600" y="304920"/>
            <a:ext cx="44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: Business Level Activity Diag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the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"/>
          <p:cNvSpPr/>
          <p:nvPr/>
        </p:nvSpPr>
        <p:spPr>
          <a:xfrm>
            <a:off x="4495680" y="11430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1528200" y="106668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5261400" y="10666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brar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7"/>
          <p:cNvSpPr/>
          <p:nvPr/>
        </p:nvSpPr>
        <p:spPr>
          <a:xfrm>
            <a:off x="1143000" y="9144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990720" y="1600200"/>
            <a:ext cx="609480" cy="304920"/>
          </a:xfrm>
          <a:prstGeom prst="diamond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9"/>
          <p:cNvSpPr/>
          <p:nvPr/>
        </p:nvSpPr>
        <p:spPr>
          <a:xfrm flipV="1">
            <a:off x="1295280" y="1143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1523880" y="17524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1295280" y="19051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528200" y="13716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borrowe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1452960" y="2438280"/>
            <a:ext cx="9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returne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4"/>
          <p:cNvSpPr/>
          <p:nvPr/>
        </p:nvSpPr>
        <p:spPr>
          <a:xfrm>
            <a:off x="2590920" y="14479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2586600" y="160020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 book on she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2590920" y="25909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2742120" y="274320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it in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295280" y="28954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3352680" y="1981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20"/>
          <p:cNvSpPr/>
          <p:nvPr/>
        </p:nvSpPr>
        <p:spPr>
          <a:xfrm>
            <a:off x="5867280" y="5181480"/>
            <a:ext cx="152424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6018120" y="518148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pare for nex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2"/>
          <p:cNvSpPr/>
          <p:nvPr/>
        </p:nvSpPr>
        <p:spPr>
          <a:xfrm>
            <a:off x="6629400" y="5715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3"/>
          <p:cNvSpPr/>
          <p:nvPr/>
        </p:nvSpPr>
        <p:spPr>
          <a:xfrm>
            <a:off x="6019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4"/>
          <p:cNvSpPr/>
          <p:nvPr/>
        </p:nvSpPr>
        <p:spPr>
          <a:xfrm>
            <a:off x="6248520" y="5943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5"/>
          <p:cNvSpPr/>
          <p:nvPr/>
        </p:nvSpPr>
        <p:spPr>
          <a:xfrm>
            <a:off x="7010280" y="5943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26"/>
          <p:cNvSpPr/>
          <p:nvPr/>
        </p:nvSpPr>
        <p:spPr>
          <a:xfrm flipH="1">
            <a:off x="2361960" y="6172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7"/>
          <p:cNvSpPr/>
          <p:nvPr/>
        </p:nvSpPr>
        <p:spPr>
          <a:xfrm>
            <a:off x="7010280" y="6172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8"/>
          <p:cNvSpPr/>
          <p:nvPr/>
        </p:nvSpPr>
        <p:spPr>
          <a:xfrm flipV="1">
            <a:off x="8381880" y="182844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9"/>
          <p:cNvSpPr/>
          <p:nvPr/>
        </p:nvSpPr>
        <p:spPr>
          <a:xfrm flipH="1">
            <a:off x="5409720" y="182880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0"/>
          <p:cNvSpPr/>
          <p:nvPr/>
        </p:nvSpPr>
        <p:spPr>
          <a:xfrm>
            <a:off x="4648320" y="21337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1"/>
          <p:cNvSpPr/>
          <p:nvPr/>
        </p:nvSpPr>
        <p:spPr>
          <a:xfrm>
            <a:off x="4114800" y="2819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2"/>
          <p:cNvSpPr/>
          <p:nvPr/>
        </p:nvSpPr>
        <p:spPr>
          <a:xfrm flipV="1">
            <a:off x="4267080" y="18288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3"/>
          <p:cNvSpPr/>
          <p:nvPr/>
        </p:nvSpPr>
        <p:spPr>
          <a:xfrm>
            <a:off x="4267080" y="1828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4"/>
          <p:cNvSpPr/>
          <p:nvPr/>
        </p:nvSpPr>
        <p:spPr>
          <a:xfrm>
            <a:off x="4724280" y="1828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35"/>
          <p:cNvSpPr/>
          <p:nvPr/>
        </p:nvSpPr>
        <p:spPr>
          <a:xfrm>
            <a:off x="5410080" y="1828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36"/>
          <p:cNvSpPr/>
          <p:nvPr/>
        </p:nvSpPr>
        <p:spPr>
          <a:xfrm>
            <a:off x="4648320" y="44197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4645440" y="45720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 bor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38"/>
          <p:cNvSpPr/>
          <p:nvPr/>
        </p:nvSpPr>
        <p:spPr>
          <a:xfrm>
            <a:off x="5181480" y="3276720"/>
            <a:ext cx="137160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9"/>
          <p:cNvSpPr/>
          <p:nvPr/>
        </p:nvSpPr>
        <p:spPr>
          <a:xfrm>
            <a:off x="5332680" y="335268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 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40"/>
          <p:cNvSpPr/>
          <p:nvPr/>
        </p:nvSpPr>
        <p:spPr>
          <a:xfrm>
            <a:off x="6705720" y="32767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1"/>
          <p:cNvSpPr/>
          <p:nvPr/>
        </p:nvSpPr>
        <p:spPr>
          <a:xfrm>
            <a:off x="6708960" y="3429000"/>
            <a:ext cx="155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book back of sh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42"/>
          <p:cNvSpPr/>
          <p:nvPr/>
        </p:nvSpPr>
        <p:spPr>
          <a:xfrm>
            <a:off x="4724280" y="2362320"/>
            <a:ext cx="609840" cy="304560"/>
          </a:xfrm>
          <a:prstGeom prst="diamond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3"/>
          <p:cNvSpPr/>
          <p:nvPr/>
        </p:nvSpPr>
        <p:spPr>
          <a:xfrm>
            <a:off x="5791320" y="2895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4"/>
          <p:cNvSpPr/>
          <p:nvPr/>
        </p:nvSpPr>
        <p:spPr>
          <a:xfrm>
            <a:off x="5791320" y="4114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5"/>
          <p:cNvSpPr/>
          <p:nvPr/>
        </p:nvSpPr>
        <p:spPr>
          <a:xfrm>
            <a:off x="50292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6"/>
          <p:cNvSpPr/>
          <p:nvPr/>
        </p:nvSpPr>
        <p:spPr>
          <a:xfrm>
            <a:off x="5334120" y="25146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6553080" y="2514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48"/>
          <p:cNvSpPr/>
          <p:nvPr/>
        </p:nvSpPr>
        <p:spPr>
          <a:xfrm>
            <a:off x="5029200" y="26668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49"/>
          <p:cNvSpPr/>
          <p:nvPr/>
        </p:nvSpPr>
        <p:spPr>
          <a:xfrm>
            <a:off x="6553080" y="41148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0"/>
          <p:cNvSpPr/>
          <p:nvPr/>
        </p:nvSpPr>
        <p:spPr>
          <a:xfrm>
            <a:off x="7162920" y="2895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1"/>
          <p:cNvSpPr/>
          <p:nvPr/>
        </p:nvSpPr>
        <p:spPr>
          <a:xfrm>
            <a:off x="6095880" y="2895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2"/>
          <p:cNvSpPr/>
          <p:nvPr/>
        </p:nvSpPr>
        <p:spPr>
          <a:xfrm>
            <a:off x="601992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3"/>
          <p:cNvSpPr/>
          <p:nvPr/>
        </p:nvSpPr>
        <p:spPr>
          <a:xfrm>
            <a:off x="723888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5718960" y="2133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returning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4651200" y="28195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borrowing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56"/>
          <p:cNvSpPr/>
          <p:nvPr/>
        </p:nvSpPr>
        <p:spPr>
          <a:xfrm>
            <a:off x="1981080" y="5867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57"/>
          <p:cNvSpPr/>
          <p:nvPr/>
        </p:nvSpPr>
        <p:spPr>
          <a:xfrm>
            <a:off x="2057400" y="5943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114300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odel the dynamic aspects of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ssentially a flow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ing flow of control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tivity to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business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s (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3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3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73" dur="1" fill="hold"/>
                                  <p:tgtEl>
                                    <p:spTgt spid="3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Date Placeholder 3"/>
          <p:cNvSpPr/>
          <p:nvPr/>
        </p:nvSpPr>
        <p:spPr>
          <a:xfrm>
            <a:off x="114300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4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diagrams commonly co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states and action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s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" dur="1" fill="hold"/>
                                  <p:tgtEl>
                                    <p:spTgt spid="3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93" dur="1" fill="hold"/>
                                  <p:tgtEl>
                                    <p:spTgt spid="3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94" dur="1" fill="hold"/>
                                  <p:tgtEl>
                                    <p:spTgt spid="3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95" dur="1" fill="hold"/>
                                  <p:tgtEl>
                                    <p:spTgt spid="3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Date Placeholder 3"/>
          <p:cNvSpPr/>
          <p:nvPr/>
        </p:nvSpPr>
        <p:spPr>
          <a:xfrm>
            <a:off x="114300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states are atomic and cannot be decom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of the action state is not interru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states can be further decom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activity being represented by other activity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ay be interru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on States and Activity Sta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1" dur="1" fill="hold"/>
                                  <p:tgtEl>
                                    <p:spTgt spid="3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22" dur="1" fill="hold"/>
                                  <p:tgtEl>
                                    <p:spTgt spid="3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23" dur="1" fill="hold"/>
                                  <p:tgtEl>
                                    <p:spTgt spid="3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114300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action or activity of a state completes, flow of control passes immediately to the next action or activit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low of control has to start and end som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state -- a solid 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state -- a solid ball inside a 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ransitions (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46" dur="1" fill="hold"/>
                                  <p:tgtEl>
                                    <p:spTgt spid="3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47" dur="1" fill="hold"/>
                                  <p:tgtEl>
                                    <p:spTgt spid="3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1143000" y="63244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ransitions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7" name="Picture 6" descr="activity-transition-1"/>
          <p:cNvPicPr/>
          <p:nvPr/>
        </p:nvPicPr>
        <p:blipFill>
          <a:blip r:embed="rId1"/>
          <a:stretch/>
        </p:blipFill>
        <p:spPr>
          <a:xfrm>
            <a:off x="2209680" y="2362320"/>
            <a:ext cx="5562720" cy="3211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2" name="Picture 6" descr="12-24"/>
          <p:cNvPicPr/>
          <p:nvPr/>
        </p:nvPicPr>
        <p:blipFill>
          <a:blip r:embed="rId1"/>
          <a:stretch/>
        </p:blipFill>
        <p:spPr>
          <a:xfrm>
            <a:off x="1447920" y="1981080"/>
            <a:ext cx="6324480" cy="4478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ranch specifies alternate paths taken based on some Boolean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ranch may have one incoming transition and two or more outgoing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ranching (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3" dur="1" fill="hold"/>
                                  <p:tgtEl>
                                    <p:spTgt spid="3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ranching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2" name="Picture 6" descr="activity-branching-2"/>
          <p:cNvPicPr/>
          <p:nvPr/>
        </p:nvPicPr>
        <p:blipFill>
          <a:blip r:embed="rId1"/>
          <a:stretch/>
        </p:blipFill>
        <p:spPr>
          <a:xfrm>
            <a:off x="1143000" y="1981080"/>
            <a:ext cx="7315200" cy="4454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7" name="Picture 6" descr="6-8"/>
          <p:cNvPicPr/>
          <p:nvPr/>
        </p:nvPicPr>
        <p:blipFill>
          <a:blip r:embed="rId1"/>
          <a:stretch/>
        </p:blipFill>
        <p:spPr>
          <a:xfrm>
            <a:off x="2514600" y="1905120"/>
            <a:ext cx="4672080" cy="4524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1143000" y="62485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809880" y="63244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569320" y="2590920"/>
            <a:ext cx="49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imes New Roman"/>
              </a:rPr>
              <a:t>Lesson 0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imes New Roman"/>
              </a:rPr>
              <a:t>Activity Diagra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synchronization bar to specify the forking and joining of parallel flows of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ynchronization bar is rendered as a thick horizontal or vertic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rking and Join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1" fill="hold"/>
                                  <p:tgtEl>
                                    <p:spTgt spid="3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k may have one incoming transitions and two or more outgoing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ransition represents an independent flow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ly, the activities of each of outgoing transitions are con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truly concurrent (multiple no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equential yet interleaved (one n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r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3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02" dur="1" fill="hold"/>
                                  <p:tgtEl>
                                    <p:spTgt spid="3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03" dur="1" fill="hold"/>
                                  <p:tgtEl>
                                    <p:spTgt spid="3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04" dur="1" fill="hold"/>
                                  <p:tgtEl>
                                    <p:spTgt spid="3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05" dur="1" fill="hold"/>
                                  <p:tgtEl>
                                    <p:spTgt spid="3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oin may have two or more incoming transitions and one outgoing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the join, the activities associated with each of these paths continues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join, the concurrent flows synchron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waits until all incoming flows have reached the join, at which point one flow of control continues on below the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Joi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25" dur="1" fill="hold"/>
                                  <p:tgtEl>
                                    <p:spTgt spid="3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26" dur="1" fill="hold"/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27" dur="1" fill="hold"/>
                                  <p:tgtEl>
                                    <p:spTgt spid="3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r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7" name="Picture 6" descr="acticity-forking&amp;joining-3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3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2" name="Picture 6" descr="5-20"/>
          <p:cNvPicPr/>
          <p:nvPr/>
        </p:nvPicPr>
        <p:blipFill>
          <a:blip r:embed="rId1"/>
          <a:stretch/>
        </p:blipFill>
        <p:spPr>
          <a:xfrm>
            <a:off x="1143000" y="1752480"/>
            <a:ext cx="7081920" cy="459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ctivity Diagram: Example (4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7" name="Picture 6" descr="FIGURE_19-1"/>
          <p:cNvPicPr/>
          <p:nvPr/>
        </p:nvPicPr>
        <p:blipFill>
          <a:blip r:embed="rId1"/>
          <a:stretch/>
        </p:blipFill>
        <p:spPr>
          <a:xfrm>
            <a:off x="2133720" y="1143000"/>
            <a:ext cx="525780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4876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ctivity Diagram: Example (5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14400" y="1371600"/>
          <a:ext cx="746748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46748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6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838080" y="1828800"/>
          <a:ext cx="723924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239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7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143000" y="1981080"/>
          <a:ext cx="679932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67993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mlane specifies a locus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artition the activity states on an activity diagram into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group representing the business organization responsible for thos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group is called a swim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wimlane is divided from its neighbor by a vertical soli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wimlanes (1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4" dur="1" fill="hold"/>
                                  <p:tgtEl>
                                    <p:spTgt spid="3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1295280" y="6324480"/>
            <a:ext cx="2514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219320" y="12193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esson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5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1295640" cy="1701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8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0"/>
          <p:cNvSpPr/>
          <p:nvPr/>
        </p:nvSpPr>
        <p:spPr>
          <a:xfrm>
            <a:off x="2658960" y="2666880"/>
            <a:ext cx="595656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and understand activity dia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the elements of activity dia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. 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Dia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&amp; Stop Ma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9339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wimlane has a name unique within it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wimlane may represent some real-world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wimlane may be implemented by one or mor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activity belongs to exactly one swimlane, but transitions may cross 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wimlanes (2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4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8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0" name="Picture 6" descr="activitydiagram"/>
          <p:cNvPicPr/>
          <p:nvPr/>
        </p:nvPicPr>
        <p:blipFill>
          <a:blip r:embed="rId1"/>
          <a:stretch/>
        </p:blipFill>
        <p:spPr>
          <a:xfrm>
            <a:off x="1600200" y="1951200"/>
            <a:ext cx="6324480" cy="4384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9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7200" y="1905120"/>
          <a:ext cx="77724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7772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Discussion Ques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1714680" cy="16002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361960" y="2971440"/>
            <a:ext cx="609588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the element of activity diagram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/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 diagram is a behavior mo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 diagram is a control mo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5" dur="1" fill="hold"/>
                                  <p:tgtEl>
                                    <p:spTgt spid="4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326" dur="1" fill="hold"/>
                                  <p:tgtEl>
                                    <p:spTgt spid="4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1143000" y="640080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99840" y="20570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68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how activities are coord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68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particularly useful when you know that an operation has to achieve a number of different things, and you want to model what the essential dependencies between them are, before you decide in what order to do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68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s the dependencies between activities, such as which things can happen in parallel and what must be finished before something else can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68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the workflow of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tivity Diagr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1143000" y="640080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2209680" y="34290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1()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6324480" y="34290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2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809880" y="38862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16440" y="514656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494960" y="220968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9"/>
          <p:cNvSpPr/>
          <p:nvPr/>
        </p:nvSpPr>
        <p:spPr>
          <a:xfrm flipV="1">
            <a:off x="2895480" y="4266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0"/>
          <p:cNvSpPr/>
          <p:nvPr/>
        </p:nvSpPr>
        <p:spPr>
          <a:xfrm flipV="1">
            <a:off x="3048120" y="4343400"/>
            <a:ext cx="3352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5105520" y="2666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1143000" y="63244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 - 2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523880" y="34290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1()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2286000" y="4267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6"/>
          <p:cNvSpPr/>
          <p:nvPr/>
        </p:nvSpPr>
        <p:spPr>
          <a:xfrm flipV="1">
            <a:off x="2286000" y="27428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2286000" y="27432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3124080" y="38862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347560" y="270504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&gt;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278520" y="40384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=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2364120" y="44197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&lt;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6019920" y="3733920"/>
            <a:ext cx="76176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3"/>
          <p:cNvSpPr/>
          <p:nvPr/>
        </p:nvSpPr>
        <p:spPr>
          <a:xfrm flipV="1">
            <a:off x="6400800" y="30477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6400800" y="30481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6462360" y="30099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&gt;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6781680" y="39625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6783840" y="39625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=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6400800" y="41911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6326640" y="44956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&lt;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5334120" y="3962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4099680" y="521964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Decision Diam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121932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 - 3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905120" y="35053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1 Synch. Bar (Jo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2819520" y="23623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981080" y="25146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19810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281952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5943240" y="358128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2 Splitting Bar (F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6324480" y="22860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4864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324480" y="29718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6324480" y="25146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365200" y="51814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AN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2743200" y="4191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1905120" y="43434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1905120" y="48769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2743200" y="45720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4650480" y="5334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O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0"/>
          <p:cNvSpPr/>
          <p:nvPr/>
        </p:nvSpPr>
        <p:spPr>
          <a:xfrm>
            <a:off x="5029200" y="43434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4191120" y="44956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4191120" y="5029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23"/>
          <p:cNvSpPr/>
          <p:nvPr/>
        </p:nvSpPr>
        <p:spPr>
          <a:xfrm>
            <a:off x="5029200" y="47242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6936840" y="5486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XO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5"/>
          <p:cNvSpPr/>
          <p:nvPr/>
        </p:nvSpPr>
        <p:spPr>
          <a:xfrm>
            <a:off x="7315200" y="44956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6"/>
          <p:cNvSpPr/>
          <p:nvPr/>
        </p:nvSpPr>
        <p:spPr>
          <a:xfrm>
            <a:off x="6477120" y="46483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7"/>
          <p:cNvSpPr/>
          <p:nvPr/>
        </p:nvSpPr>
        <p:spPr>
          <a:xfrm>
            <a:off x="6477120" y="51814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8"/>
          <p:cNvSpPr/>
          <p:nvPr/>
        </p:nvSpPr>
        <p:spPr>
          <a:xfrm>
            <a:off x="7315200" y="48769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1143000" y="63244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 - 3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098960" y="521964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Start &amp; Stop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514600" y="28195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6"/>
          <p:cNvSpPr/>
          <p:nvPr/>
        </p:nvSpPr>
        <p:spPr>
          <a:xfrm>
            <a:off x="6248520" y="27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7"/>
          <p:cNvSpPr/>
          <p:nvPr/>
        </p:nvSpPr>
        <p:spPr>
          <a:xfrm>
            <a:off x="6324480" y="2819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057760" y="38098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t Ma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5944680" y="37339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p Ma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1143000" y="6324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026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 - 4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Text Box 1028"/>
          <p:cNvSpPr/>
          <p:nvPr/>
        </p:nvSpPr>
        <p:spPr>
          <a:xfrm>
            <a:off x="2743920" y="5791320"/>
            <a:ext cx="496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/Department/Group/Rol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29"/>
          <p:cNvSpPr/>
          <p:nvPr/>
        </p:nvSpPr>
        <p:spPr>
          <a:xfrm>
            <a:off x="3200400" y="20574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30"/>
          <p:cNvSpPr/>
          <p:nvPr/>
        </p:nvSpPr>
        <p:spPr>
          <a:xfrm>
            <a:off x="5486400" y="2133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31"/>
          <p:cNvSpPr/>
          <p:nvPr/>
        </p:nvSpPr>
        <p:spPr>
          <a:xfrm>
            <a:off x="7848720" y="2133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32"/>
          <p:cNvSpPr/>
          <p:nvPr/>
        </p:nvSpPr>
        <p:spPr>
          <a:xfrm>
            <a:off x="1450440" y="190512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lo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033"/>
          <p:cNvSpPr/>
          <p:nvPr/>
        </p:nvSpPr>
        <p:spPr>
          <a:xfrm>
            <a:off x="3508560" y="19051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034"/>
          <p:cNvSpPr/>
          <p:nvPr/>
        </p:nvSpPr>
        <p:spPr>
          <a:xfrm>
            <a:off x="5795280" y="190512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036"/>
          <p:cNvSpPr/>
          <p:nvPr/>
        </p:nvSpPr>
        <p:spPr>
          <a:xfrm>
            <a:off x="3657600" y="46483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m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6019920" y="46483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m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1523880" y="46483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m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22:43:15Z</dcterms:created>
  <dc:creator>fayad</dc:creator>
  <dc:description/>
  <dc:language>en-US</dc:language>
  <cp:lastModifiedBy>Mohamed Fayad</cp:lastModifiedBy>
  <dcterms:modified xsi:type="dcterms:W3CDTF">2012-02-20T23:07:39Z</dcterms:modified>
  <cp:revision>69</cp:revision>
  <dc:subject/>
  <dc:title>PowerPoint Presentation</dc:title>
</cp:coreProperties>
</file>