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DFB6-E6E7-43DA-B96E-47D1F0327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A9F-AFF9-438D-BE60-D2C04DDA9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A49D-B3AF-4EA4-B6E9-129B59528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999B-44B1-454C-AAB8-1F7F6F5FD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9362-6505-4509-9325-22E272BE5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8660-AB7B-43EF-8B8F-C139CBE4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16E2-296C-4349-A980-EF8105883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FD6A-EE8B-42F1-B51F-5C7904C58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8D8-7458-4906-875F-A771979A4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775B-6AE3-4483-B688-F99B9ACCF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3388-2E33-4327-986D-D9F8E77C2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C77B-3232-4ACA-AFDA-D357266D3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0E9F-6CF9-423E-BFBC-799D44A62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2828-0F80-413C-9DCA-C220EA6A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83F-55FC-4F75-81CB-226006DDB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DA2F-538A-4C78-A20E-63BC8B3D7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1DA4-E95F-46F2-9A97-1B722FFC2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42B6-A0FB-4496-8968-6898461AF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F84C-C475-4BB1-A6E3-BB9B0D058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2D8E-C36E-4803-B9DC-76DF475ED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ECD0-F04C-4D99-B68B-2748A61A7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6C5A-AF32-4935-A7DD-A56196AE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263E-277C-49C0-9FC7-0E42F7FFB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CAC1-3DCC-4297-91EC-505ACD6FF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5AFC-6503-4213-BCEB-254BAE176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2B62-9D83-4DB6-A953-AEEF1BADF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BE48-7AA0-4008-AF97-FC6F1BEE1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04DF-9520-405C-A48F-010FB5B1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3F2-29D8-4A73-BC8E-5B94439CF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2272-271A-44BD-8BA4-778B8128C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C90-4865-4D27-AF6D-731586235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B93-C004-441B-92D3-31C8793BD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EB0C-9404-4BED-9214-BF1D44F8D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E2EC-0096-49B8-AA87-727139371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4558-6693-495D-ABEE-E0DF935C9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7889-3F4A-41B5-A49D-CE639507C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CDC6-770C-41EB-84AE-7959372B9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853C-4BB0-4114-8C0F-D2F2E5675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EEB3-8788-456F-840F-F198B1A41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C918-5D5D-411B-B374-D0D7E2689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6B6C-E640-4E88-B3C8-85AE2C14D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6326-D5A7-422F-98ED-A70363D6F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5AAF-858B-49D9-A399-D797F4728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E5F-A5CD-4704-8988-BD14B3F75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1CF1-3CC9-49B9-865F-A8E0F0384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6E75-C5AD-4719-BA0B-76BED3A19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D3B-D098-456C-B776-14FC2B4E1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9A1E-90D2-4878-A16B-8755170DE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8B1A-0AFF-45E6-ADD8-730574261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7625-10B4-4627-A303-21C32987E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DEEB-3AF2-4718-9B8A-F73AC38B0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809E-DC08-483E-9B31-AEAC00310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9B4F-A596-4F3F-875F-31ADFFB41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5E9D-4E12-4D1F-B908-1750DEE99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4A06-1A59-449E-BA81-8CC85148E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41A7-A275-4107-B93F-0721B3F98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286D-C0F7-45DE-B727-70E564C33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189-9136-4E7F-9476-62913430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5658-6211-4C87-B7AA-DE6A2D56C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7EC5-F7B0-4C22-97FB-5B85849ED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D405-AAA9-44AA-983C-500E68D1D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7993-F635-490B-BE9A-FD350908F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09B9-E8BC-4C0E-9573-F16D6A125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4A7-0F43-46F7-A014-5679C7E58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8A91-A450-4691-849F-CFA92E078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CE48-5A54-4DA4-AF9E-80E728C96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7449-BB84-4B85-B3D9-B1CC2C285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FD2C-22F4-4699-8F28-8DB12FFF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43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71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3986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710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986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256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120" y="-4680"/>
                <a:ext cx="987480" cy="6834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3440"/>
                <a:ext cx="987480" cy="5004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20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568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4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8760"/>
                <a:ext cx="98712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520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08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064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75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560"/>
                <a:ext cx="100008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84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56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360"/>
                <a:ext cx="98712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2120"/>
                <a:ext cx="100008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43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31"/>
          <p:cNvSpPr/>
          <p:nvPr/>
        </p:nvSpPr>
        <p:spPr>
          <a:xfrm>
            <a:off x="6629400" y="64008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B3-d-S</a:t>
            </a:r>
            <a:fld id="{59C65F0D-2D90-46A5-B912-E8122391FE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Activity Diagr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Picture 32" descr="vrlsoft_logo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83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Picture 35" descr="vrlsoft_logo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83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3"/>
          </p:nvPr>
        </p:nvSpPr>
        <p:spPr>
          <a:xfrm>
            <a:off x="1143000" y="640044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4"/>
          </p:nvPr>
        </p:nvSpPr>
        <p:spPr>
          <a:xfrm>
            <a:off x="35812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1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776240"/>
            <a:ext cx="849636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ftware Process and Model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0962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. M.E. Fayad, 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Department, Room #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Computer and Information Sciences (CCI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O. Box 51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yadh 11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gr.sjsu.edu/fay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fayad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1143000" y="6324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065600" y="304920"/>
            <a:ext cx="44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: Business Level Activity Dia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the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528200" y="106668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261400" y="10666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1143000" y="914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990720" y="1600200"/>
            <a:ext cx="609480" cy="30492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1295280" y="1143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523880" y="175248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1295280" y="1905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528200" y="13716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orrow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1452960" y="243828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returne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4"/>
          <p:cNvSpPr/>
          <p:nvPr/>
        </p:nvSpPr>
        <p:spPr>
          <a:xfrm>
            <a:off x="2590920" y="1447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2586600" y="160020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 book on she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2590920" y="25909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2742120" y="274320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it in 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295280" y="2895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35268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0"/>
          <p:cNvSpPr/>
          <p:nvPr/>
        </p:nvSpPr>
        <p:spPr>
          <a:xfrm>
            <a:off x="5867280" y="518148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6018120" y="518148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pare for nex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6629400" y="5715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6019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624852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7010280" y="5943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6"/>
          <p:cNvSpPr/>
          <p:nvPr/>
        </p:nvSpPr>
        <p:spPr>
          <a:xfrm flipH="1">
            <a:off x="2361960" y="617220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7010280" y="6172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8"/>
          <p:cNvSpPr/>
          <p:nvPr/>
        </p:nvSpPr>
        <p:spPr>
          <a:xfrm flipV="1">
            <a:off x="8381880" y="182844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9"/>
          <p:cNvSpPr/>
          <p:nvPr/>
        </p:nvSpPr>
        <p:spPr>
          <a:xfrm flipH="1">
            <a:off x="5409720" y="18288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4648320" y="2133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114800" y="2819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2"/>
          <p:cNvSpPr/>
          <p:nvPr/>
        </p:nvSpPr>
        <p:spPr>
          <a:xfrm flipV="1">
            <a:off x="4267080" y="18288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426708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472428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5410080" y="1828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4648320" y="44197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645440" y="45720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bor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38"/>
          <p:cNvSpPr/>
          <p:nvPr/>
        </p:nvSpPr>
        <p:spPr>
          <a:xfrm>
            <a:off x="5181480" y="3276720"/>
            <a:ext cx="137160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5332680" y="3352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rd 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0"/>
          <p:cNvSpPr/>
          <p:nvPr/>
        </p:nvSpPr>
        <p:spPr>
          <a:xfrm>
            <a:off x="6705720" y="32767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1"/>
          <p:cNvSpPr/>
          <p:nvPr/>
        </p:nvSpPr>
        <p:spPr>
          <a:xfrm>
            <a:off x="6708960" y="3429000"/>
            <a:ext cx="15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book back of sh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2"/>
          <p:cNvSpPr/>
          <p:nvPr/>
        </p:nvSpPr>
        <p:spPr>
          <a:xfrm>
            <a:off x="4724280" y="2362320"/>
            <a:ext cx="609840" cy="30456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57913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5791320" y="4114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50292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5334120" y="2514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655308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5029200" y="26668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9"/>
          <p:cNvSpPr/>
          <p:nvPr/>
        </p:nvSpPr>
        <p:spPr>
          <a:xfrm>
            <a:off x="6553080" y="41148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0"/>
          <p:cNvSpPr/>
          <p:nvPr/>
        </p:nvSpPr>
        <p:spPr>
          <a:xfrm>
            <a:off x="716292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609588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2"/>
          <p:cNvSpPr/>
          <p:nvPr/>
        </p:nvSpPr>
        <p:spPr>
          <a:xfrm>
            <a:off x="601992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3"/>
          <p:cNvSpPr/>
          <p:nvPr/>
        </p:nvSpPr>
        <p:spPr>
          <a:xfrm>
            <a:off x="723888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5718960" y="2133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return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651200" y="28195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orrowing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56"/>
          <p:cNvSpPr/>
          <p:nvPr/>
        </p:nvSpPr>
        <p:spPr>
          <a:xfrm>
            <a:off x="1981080" y="5867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57"/>
          <p:cNvSpPr/>
          <p:nvPr/>
        </p:nvSpPr>
        <p:spPr>
          <a:xfrm>
            <a:off x="2057400" y="5943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11430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odel the dynamic aspect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ssentially a 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ing flow of control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tivity to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business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s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3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3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73" dur="1" fill="hold"/>
                                  <p:tgtEl>
                                    <p:spTgt spid="3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11430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4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s commonly co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tates and action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4" dur="1" fill="hold"/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95" dur="1" fill="hold"/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3"/>
          <p:cNvSpPr/>
          <p:nvPr/>
        </p:nvSpPr>
        <p:spPr>
          <a:xfrm>
            <a:off x="11430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states are atomic and cannot be de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of the action state is not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tates can be further de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activity being represented by other activity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be inter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on States and Activity Sta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1" dur="1" fill="hold"/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22" dur="1" fill="hold"/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23" dur="1" fill="hold"/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11430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ction or activity of a state completes, flow of control passes immediately to the next action or activit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low of control has to start and end som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tate -- a solid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state -- a solid ball inside a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itions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147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itions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7" name="Picture 6" descr="activity-transition-1"/>
          <p:cNvPicPr/>
          <p:nvPr/>
        </p:nvPicPr>
        <p:blipFill>
          <a:blip r:embed="rId1"/>
          <a:stretch/>
        </p:blipFill>
        <p:spPr>
          <a:xfrm>
            <a:off x="2209680" y="2362320"/>
            <a:ext cx="5562720" cy="321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Picture 6" descr="12-24"/>
          <p:cNvPicPr/>
          <p:nvPr/>
        </p:nvPicPr>
        <p:blipFill>
          <a:blip r:embed="rId1"/>
          <a:stretch/>
        </p:blipFill>
        <p:spPr>
          <a:xfrm>
            <a:off x="1447920" y="1981080"/>
            <a:ext cx="6324480" cy="4478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specifies alternate paths taken based on some Boolea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may have one incoming transition and two or more outgoing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ranching (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ranching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Picture 6" descr="activity-branching-2"/>
          <p:cNvPicPr/>
          <p:nvPr/>
        </p:nvPicPr>
        <p:blipFill>
          <a:blip r:embed="rId1"/>
          <a:stretch/>
        </p:blipFill>
        <p:spPr>
          <a:xfrm>
            <a:off x="1143000" y="1981080"/>
            <a:ext cx="7315200" cy="4454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2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7" name="Picture 6" descr="6-8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52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1143000" y="62485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809880" y="63244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569320" y="2590920"/>
            <a:ext cx="49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Lesson 0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Activity Diagra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synchronization bar to specify the forking and joining of parallel flows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nchronization bar is rendered as a thick horizontal or vertic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ing and Joi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k may have one incoming transitions and two or more outgoing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ransition represents an independent flow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ly, the activities of each of outgoing transitions are 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truly concurrent (multiple n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equential yet interleaved (one n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3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2" dur="1" fill="hold"/>
                                  <p:tgtEl>
                                    <p:spTgt spid="3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3" dur="1" fill="hold"/>
                                  <p:tgtEl>
                                    <p:spTgt spid="3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4" dur="1" fill="hold"/>
                                  <p:tgtEl>
                                    <p:spTgt spid="3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05" dur="1" fill="hold"/>
                                  <p:tgtEl>
                                    <p:spTgt spid="3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oin may have two or more incoming transitions and one outgoing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the join, the activities associated with each of these paths continues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join, the concurrent flows synchron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aits until all incoming flows have reached the join, at which point one flow of control continues on below the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Joi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3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6" dur="1" fill="hold"/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27" dur="1" fill="hold"/>
                                  <p:tgtEl>
                                    <p:spTgt spid="3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7" name="Picture 6" descr="acticity-forking&amp;joining-3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3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2" name="Picture 6" descr="5-20"/>
          <p:cNvPicPr/>
          <p:nvPr/>
        </p:nvPicPr>
        <p:blipFill>
          <a:blip r:embed="rId1"/>
          <a:stretch/>
        </p:blipFill>
        <p:spPr>
          <a:xfrm>
            <a:off x="1143000" y="1752480"/>
            <a:ext cx="7081920" cy="459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tivity Diagram: Example (4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7" name="Picture 6" descr="FIGURE_19-1"/>
          <p:cNvPicPr/>
          <p:nvPr/>
        </p:nvPicPr>
        <p:blipFill>
          <a:blip r:embed="rId1"/>
          <a:stretch/>
        </p:blipFill>
        <p:spPr>
          <a:xfrm>
            <a:off x="2133720" y="1143000"/>
            <a:ext cx="525780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4876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tivity Diagram: Example (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14400" y="1371600"/>
          <a:ext cx="746748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46748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6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38080" y="1828800"/>
          <a:ext cx="72392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239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7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143000" y="1981080"/>
          <a:ext cx="67993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7993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mlane specifies a locus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rtition the activity states on an activity diagram int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roup representing the business organization responsible for tho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group is called a swim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is divided from its neighbor by a vertical soli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wimlanes (1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3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1295280" y="6324480"/>
            <a:ext cx="2514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219320" y="12193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es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1295640" cy="1701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8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2658960" y="2666880"/>
            <a:ext cx="59565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and understand activity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the elements of activity dia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.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Dia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&amp; Stop Ma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447560" y="213372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has a name unique within it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may represent some real-worl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wimlane may be implemented by one or mor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ctivity belongs to exactly one swimlane, but transitions may cross 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wimlanes (2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4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8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0" name="Picture 6" descr="activitydiagram"/>
          <p:cNvPicPr/>
          <p:nvPr/>
        </p:nvPicPr>
        <p:blipFill>
          <a:blip r:embed="rId1"/>
          <a:stretch/>
        </p:blipFill>
        <p:spPr>
          <a:xfrm>
            <a:off x="1600200" y="1951200"/>
            <a:ext cx="6324480" cy="438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vity Diagram: Example (9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1905120"/>
          <a:ext cx="777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1143000" y="640080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83077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iscussion Ques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714680" cy="16002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361960" y="297144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element of activity diagram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/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 is a behavior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 is a control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4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  <p:animClr clrSpc="rgb">
                                <p:cBhvr>
                                  <p:cTn id="326" dur="1" fill="hold"/>
                                  <p:tgtEl>
                                    <p:spTgt spid="4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114300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how activities are coord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articularly useful when you know that an operation has to achieve a number of different things, and you want to model what the essential dependencies between them are, before you decide in what order to d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s the dependencies between activities, such as which things can happen in parallel and what must be finished before something else can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68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the workflow of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tivity Diagr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114300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22096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1()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63244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809880" y="3886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6440" y="514656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494960" y="22096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 flipV="1">
            <a:off x="2895480" y="4266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V="1">
            <a:off x="3048120" y="434340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105520" y="2666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2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523880" y="34290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1()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286000" y="4267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2286000" y="2742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286000" y="27432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124080" y="38862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347560" y="27050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g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278520" y="40384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=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364120" y="4419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l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6019920" y="3733920"/>
            <a:ext cx="76176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6400800" y="30477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0481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462360" y="30099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g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6781680" y="39625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6783840" y="39625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=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6400800" y="41911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6326640" y="44956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x&lt;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5334120" y="3962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4099680" y="52196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Decision Dia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121932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905120" y="3505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1 Synch. Bar (Jo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819520" y="23623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981080" y="2514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19810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281952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943240" y="358128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2 Splitting Bar (F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6324480" y="22860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4864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324480" y="29718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6324480" y="25146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365200" y="51814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AN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1905120" y="43434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1905120" y="4876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74320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4650480" y="5334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5029200" y="43434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4191120" y="4495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4191120" y="502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5029200" y="47242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6936840" y="5486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X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7315200" y="44956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6477120" y="46483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477120" y="5181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8"/>
          <p:cNvSpPr/>
          <p:nvPr/>
        </p:nvSpPr>
        <p:spPr>
          <a:xfrm>
            <a:off x="7315200" y="4876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143000" y="6324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3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098960" y="521964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Start &amp; Stop Mar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514600" y="28195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6248520" y="27432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"/>
          <p:cNvSpPr/>
          <p:nvPr/>
        </p:nvSpPr>
        <p:spPr>
          <a:xfrm>
            <a:off x="632448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057760" y="38098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 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944680" y="37339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p 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1143000" y="6324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12  1998-Present Fay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5812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SU – SWE  Process and Model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26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tation - 4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2743920" y="5791320"/>
            <a:ext cx="49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/Department/Group/Rol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29"/>
          <p:cNvSpPr/>
          <p:nvPr/>
        </p:nvSpPr>
        <p:spPr>
          <a:xfrm>
            <a:off x="3200400" y="2057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30"/>
          <p:cNvSpPr/>
          <p:nvPr/>
        </p:nvSpPr>
        <p:spPr>
          <a:xfrm>
            <a:off x="548640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1"/>
          <p:cNvSpPr/>
          <p:nvPr/>
        </p:nvSpPr>
        <p:spPr>
          <a:xfrm>
            <a:off x="7848720" y="2133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32"/>
          <p:cNvSpPr/>
          <p:nvPr/>
        </p:nvSpPr>
        <p:spPr>
          <a:xfrm>
            <a:off x="1450440" y="19051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33"/>
          <p:cNvSpPr/>
          <p:nvPr/>
        </p:nvSpPr>
        <p:spPr>
          <a:xfrm>
            <a:off x="3508560" y="19051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34"/>
          <p:cNvSpPr/>
          <p:nvPr/>
        </p:nvSpPr>
        <p:spPr>
          <a:xfrm>
            <a:off x="5795280" y="190512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36"/>
          <p:cNvSpPr/>
          <p:nvPr/>
        </p:nvSpPr>
        <p:spPr>
          <a:xfrm>
            <a:off x="365760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601992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1523880" y="46483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m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2:43:15Z</dcterms:created>
  <dc:creator>fayad</dc:creator>
  <dc:description/>
  <dc:language>en-US</dc:language>
  <cp:lastModifiedBy>Mohamed Fayad</cp:lastModifiedBy>
  <dcterms:modified xsi:type="dcterms:W3CDTF">2012-02-20T23:07:39Z</dcterms:modified>
  <cp:revision>69</cp:revision>
  <dc:subject/>
  <dc:title>PowerPoint Presentation</dc:title>
</cp:coreProperties>
</file>