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8A41-9CCC-4946-8276-3C31165E9E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B1E-97C3-4408-BCF0-228855D4EA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2D8-F7E8-4484-8BC2-C835B38C4B6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133-CEFE-4044-99A3-35244871CA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C80-F262-4B66-9F6E-7641EC75CF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E184-F8EC-47AB-AB2B-33FB836E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F9A2-5353-4D70-8D7B-4CF0E8D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BECF-F19B-4EC0-8676-22AB73E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FEB9-A78B-45F9-923B-9DE6F7EF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47F4-BDAC-4972-BC36-E7CBE33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179E-7558-49C5-848D-08C3770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66DE-BDF9-4F1A-A47F-1EEB2D52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1E2-8E74-465F-B24B-AF2A4829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172F-CA55-468C-9343-59759BFA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0A17-9C37-4607-87AF-AE4B5FB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152B-983F-48D3-B15A-2C99520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8ADA-8B36-45AD-AD3C-73CDD1E7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624-FA27-461B-A7C0-FF427CE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F1B-4CA6-4CC3-8A07-D0772E5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068-AEC6-4EC8-8D48-D2193B37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7277-7286-4F0B-B8A8-6998FC0D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641F-35CA-4A45-8498-2DB9782F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5270-C0D2-4EC2-AE23-3305B995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3A7C-4B36-450F-8412-BEDCD0DE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DDB9-CE36-45B9-8C11-EB5F1C9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6E0C-25F0-4D8A-A461-F26EE2DF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F130-9778-4FD5-8A66-D432165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2F221-0293-4F67-B48B-21B02D4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E210-DCF1-4C12-AF02-79803E1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4D09-F55C-4AE2-ADCC-BFB91E304E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8F5-C74F-44E4-B16B-5EF0D51FE51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50707"/>
                </a:solidFill>
                <a:latin typeface="Garamond"/>
              </a:rPr>
              <a:t>Unit 1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Hi</a:t>
            </a: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w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you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Garamond"/>
              </a:rPr>
              <a:t>the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you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e from Jap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50707"/>
                </a:solidFill>
                <a:latin typeface="Garamond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y from Japa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4"/>
          <p:cNvSpPr/>
          <p:nvPr/>
        </p:nvSpPr>
        <p:spPr>
          <a:xfrm>
            <a:off x="838080" y="685800"/>
            <a:ext cx="77724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weather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col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the weather cold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on the table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re 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the books on the table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 flipH="1">
            <a:off x="2437920" y="2132640"/>
            <a:ext cx="3201120" cy="10674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4" name="Straight Arrow Connector 9"/>
          <p:cNvCxnSpPr/>
          <p:nvPr/>
        </p:nvCxnSpPr>
        <p:spPr>
          <a:xfrm flipH="1">
            <a:off x="1751760" y="5029200"/>
            <a:ext cx="2515320" cy="9151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600200"/>
          <a:ext cx="8991720" cy="4525920"/>
        </p:xfrm>
        <a:graphic>
          <a:graphicData uri="http://schemas.openxmlformats.org/drawingml/2006/table">
            <a:tbl>
              <a:tblPr/>
              <a:tblGrid>
                <a:gridCol w="6553080"/>
                <a:gridCol w="243864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is a teacher          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she a teach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she i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she 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are at school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 they at schoo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they a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they 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am angry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                     Are you angr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ffcc00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es, I 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No, 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27" name="Straight Arrow Connector 8"/>
          <p:cNvCxnSpPr/>
          <p:nvPr/>
        </p:nvCxnSpPr>
        <p:spPr>
          <a:xfrm>
            <a:off x="2286000" y="4952520"/>
            <a:ext cx="129600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8" name="Straight Arrow Connector 8"/>
          <p:cNvCxnSpPr/>
          <p:nvPr/>
        </p:nvCxnSpPr>
        <p:spPr>
          <a:xfrm>
            <a:off x="2437920" y="1980720"/>
            <a:ext cx="1296360" cy="25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129" name="Straight Arrow Connector 8"/>
          <p:cNvCxnSpPr/>
          <p:nvPr/>
        </p:nvCxnSpPr>
        <p:spPr>
          <a:xfrm>
            <a:off x="3429000" y="3429000"/>
            <a:ext cx="1296000" cy="216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The Indefinite Article 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cc0066"/>
                </a:solidFill>
                <a:latin typeface="Garamond"/>
              </a:rPr>
              <a:t>/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use the indefinite article a/an before a singular noun which is coun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consona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    ,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   ,  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ble   ,  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a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form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s used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bef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word beginning with a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vowe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und (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ple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g  , 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land 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ion  ,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cc0066"/>
                </a:solidFill>
                <a:latin typeface="Arial Black"/>
              </a:rPr>
              <a:t>B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”          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is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re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/ </a:t>
            </a: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am</a:t>
            </a:r>
            <a:r>
              <a:rPr b="1" lang="en-US" sz="4400" spc="-1" strike="noStrike">
                <a:solidFill>
                  <a:srgbClr val="e5e5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ight Arrow 8"/>
          <p:cNvSpPr/>
          <p:nvPr/>
        </p:nvSpPr>
        <p:spPr>
          <a:xfrm>
            <a:off x="2209680" y="2514600"/>
            <a:ext cx="152424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1600200" y="609480"/>
            <a:ext cx="60199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verb “to be”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sent simpl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verb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 b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present simple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br>
              <a:rPr sz="3600"/>
            </a:br>
            <a:r>
              <a:rPr b="1" lang="en-US" sz="36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cc0066"/>
                </a:solidFill>
                <a:latin typeface="Garamond"/>
              </a:rPr>
              <a:t>Affirmitive (Positive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2362320"/>
          <a:ext cx="8153280" cy="37796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62320" y="1447920"/>
          <a:ext cx="3733560" cy="477180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Full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Short for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it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Garamond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w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re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2860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86e0"/>
                </a:solidFill>
                <a:latin typeface="Calibri"/>
              </a:rPr>
              <a:t>Examples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from Saudi Arab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alm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teac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hmed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book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e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the libra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 stu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tudents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at schoo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am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doc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y father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n engine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aha and Noura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sis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1" lang="en-US" sz="2800" spc="-1" strike="noStrike">
                <a:solidFill>
                  <a:srgbClr val="cc0066"/>
                </a:solidFill>
                <a:latin typeface="Calibri"/>
              </a:rPr>
              <a:t>am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happ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Garamond"/>
              </a:rPr>
              <a:t>(present simple)</a:t>
            </a:r>
            <a:br>
              <a:rPr sz="4000"/>
            </a:br>
            <a:r>
              <a:rPr b="1" lang="en-US" sz="20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Garamond"/>
              </a:rPr>
              <a:t>Negativ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2438280"/>
          <a:ext cx="8229600" cy="406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m</a:t>
                      </a:r>
                      <a:r>
                        <a:rPr b="1" lang="ar-SA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m no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is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is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e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You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86e0"/>
                          </a:solidFill>
                          <a:latin typeface="Garamond"/>
                        </a:rPr>
                        <a:t>ar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0066"/>
                          </a:solidFill>
                          <a:latin typeface="Garamond"/>
                        </a:rPr>
                        <a:t>not 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(aren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rom 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990720"/>
            <a:ext cx="82296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Negative.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weather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is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col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books </a:t>
            </a: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aren’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on the tabl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09480"/>
            <a:ext cx="6400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Examples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cc00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om Saudi Arab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lm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hmed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 the libr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book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t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t schoo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doct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y father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is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 engine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ha and Noura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r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ist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am no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happ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he verb 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to be</a:t>
            </a: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”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present simple)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Garamond"/>
              </a:rPr>
              <a:t>Interrogative (question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To write a yes/no question using the verb to be (am, is,are) we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 am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Am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Start with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cc00"/>
                </a:solidFill>
                <a:latin typeface="Garamond"/>
              </a:rPr>
              <a:t>if we use the pronoun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s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he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3399"/>
                </a:solidFill>
                <a:latin typeface="Garamond"/>
              </a:rPr>
              <a:t>it </a:t>
            </a:r>
            <a:r>
              <a:rPr b="1" lang="en-US" sz="2700" spc="-1" strike="noStrike">
                <a:solidFill>
                  <a:srgbClr val="a886e0"/>
                </a:solidFill>
                <a:latin typeface="Garamond"/>
              </a:rPr>
              <a:t>:-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S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s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e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he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it is from Japa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cc00"/>
                </a:solidFill>
                <a:latin typeface="Garamond"/>
              </a:rPr>
              <a:t>Question: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700" spc="-1" strike="noStrike">
                <a:solidFill>
                  <a:srgbClr val="c50707"/>
                </a:solidFill>
                <a:latin typeface="Garamond"/>
              </a:rPr>
              <a:t>is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it from Japan?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0:43:10Z</dcterms:created>
  <dc:creator>sarah</dc:creator>
  <dc:description/>
  <dc:language>en-US</dc:language>
  <cp:lastModifiedBy>AD</cp:lastModifiedBy>
  <dcterms:modified xsi:type="dcterms:W3CDTF">2010-10-26T19:08:19Z</dcterms:modified>
  <cp:revision>13</cp:revision>
  <dc:subject/>
  <dc:title>“Be”           is/are/ 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FB82BD87BAEB946B64C47AE8728B136</vt:lpwstr>
  </property>
</Properties>
</file>