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B590-215A-4191-B3D4-2F0B8DD7845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93BC-10E2-48AB-A3E1-0F137B17B58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9663-4886-4FDB-BA69-489B984E131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3F96-7887-4342-9C25-AA0FEA5545D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2637-2262-4B8C-BB3C-7832CD81FE1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4717-EF98-4A89-96E2-1E9383C7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0023-30B4-4736-A4C2-7C0E0D38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B099-0832-4C1B-B7C9-D4C8AA36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57BE-BE2A-4EB5-90DC-22CB9FC7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2CCA-039E-41E1-89B8-A82DADB1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0505-3333-44C5-AA89-3A049AE1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6E4D-E68E-49BB-917A-20CE6AD1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EED7-012E-45F0-A957-AB04E28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2A05-6C14-41FE-A07C-1FB9BF3B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DD9F-EB00-4DEA-9582-53D19F28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7377-F160-494C-80D6-465687B3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B341-5F77-4C5E-9A56-495C354D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94E9-D59D-4D46-ACAE-A84B3DA8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304A-BE75-4273-9C96-361B0065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79FC-EF66-4573-AC89-F0BE034A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B255-5ACB-4732-822B-8E0E6670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6743-F9F7-4E92-986C-32F58D8D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8F11-90FD-464F-B46B-1DC1CAC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370D-D33E-48FA-9118-34879689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B75E-CF91-4253-9875-EFADCC23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8418-BCFD-42B0-A295-2BB1E77C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A0CE-0152-4C29-9AB9-44CD290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90A4-509F-4A9C-8A20-E68FCCA8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DBDC-F512-4F8D-BF10-4EA45F18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3458-A207-470A-886B-CFA1675CCC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DBE3-76CB-4E28-8A52-13F80B6EBC6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50707"/>
                </a:solidFill>
                <a:latin typeface="Garamond"/>
              </a:rPr>
              <a:t>Unit 1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Hi</a:t>
            </a: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Start with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if we use the pronou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w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you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the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 are from Jap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50707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they from Jap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ou are from Jap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50707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you from Jap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are from Jap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50707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they from Jap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4"/>
          <p:cNvSpPr/>
          <p:nvPr/>
        </p:nvSpPr>
        <p:spPr>
          <a:xfrm>
            <a:off x="838080" y="685800"/>
            <a:ext cx="77724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The weather </a:t>
            </a: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is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col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Is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the weather cold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The books </a:t>
            </a: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re 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on the table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re 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the books on the table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23" name="Straight Arrow Connector 6"/>
          <p:cNvCxnSpPr/>
          <p:nvPr/>
        </p:nvCxnSpPr>
        <p:spPr>
          <a:xfrm flipH="1">
            <a:off x="2437920" y="2132640"/>
            <a:ext cx="3201120" cy="106740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24" name="Straight Arrow Connector 9"/>
          <p:cNvCxnSpPr/>
          <p:nvPr/>
        </p:nvCxnSpPr>
        <p:spPr>
          <a:xfrm flipH="1">
            <a:off x="1751760" y="5029200"/>
            <a:ext cx="2515320" cy="9151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600200"/>
          <a:ext cx="8991720" cy="4525920"/>
        </p:xfrm>
        <a:graphic>
          <a:graphicData uri="http://schemas.openxmlformats.org/drawingml/2006/table">
            <a:tbl>
              <a:tblPr/>
              <a:tblGrid>
                <a:gridCol w="6553080"/>
                <a:gridCol w="243864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 is a teacher                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 she a teach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ffcc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es, she i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, she is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are at school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 they at schoo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es, they ar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, they are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am angry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                     Are you angry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ffcc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es, I a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, I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 n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27" name="Straight Arrow Connector 8"/>
          <p:cNvCxnSpPr/>
          <p:nvPr/>
        </p:nvCxnSpPr>
        <p:spPr>
          <a:xfrm>
            <a:off x="2286000" y="49525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28" name="Straight Arrow Connector 8"/>
          <p:cNvCxnSpPr/>
          <p:nvPr/>
        </p:nvCxnSpPr>
        <p:spPr>
          <a:xfrm>
            <a:off x="2437920" y="1980720"/>
            <a:ext cx="129636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29" name="Straight Arrow Connector 8"/>
          <p:cNvCxnSpPr/>
          <p:nvPr/>
        </p:nvCxnSpPr>
        <p:spPr>
          <a:xfrm>
            <a:off x="3429000" y="34290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Garamond"/>
              </a:rPr>
              <a:t>The Indefinite Article 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4400" spc="-1" strike="noStrike">
                <a:solidFill>
                  <a:srgbClr val="cc0066"/>
                </a:solidFill>
                <a:latin typeface="Garamond"/>
              </a:rPr>
              <a:t>/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 use the indefinite article a/an before a singular noun which is count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form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s used </a:t>
            </a:r>
            <a:r>
              <a:rPr b="1" lang="en-US" sz="3200" spc="-1" strike="noStrike">
                <a:solidFill>
                  <a:srgbClr val="cc0066"/>
                </a:solidFill>
                <a:latin typeface="Garamond"/>
              </a:rPr>
              <a:t>bef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word beginning with a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consona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un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     ,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t    , 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ble   ,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form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s used </a:t>
            </a:r>
            <a:r>
              <a:rPr b="1" lang="en-US" sz="3200" spc="-1" strike="noStrike">
                <a:solidFill>
                  <a:srgbClr val="cc0066"/>
                </a:solidFill>
                <a:latin typeface="Garamond"/>
              </a:rPr>
              <a:t>bef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word beginning with a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vowe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und (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ple ,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g  ,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land  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ion  ,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cc0066"/>
                </a:solidFill>
                <a:latin typeface="Arial Black"/>
              </a:rPr>
              <a:t>Be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”           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is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/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are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/ 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am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ight Arrow 8"/>
          <p:cNvSpPr/>
          <p:nvPr/>
        </p:nvSpPr>
        <p:spPr>
          <a:xfrm>
            <a:off x="2209680" y="2514600"/>
            <a:ext cx="152424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1600200" y="609480"/>
            <a:ext cx="60199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verb “to be”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sent simpl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verb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 b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present simple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)</a:t>
            </a:r>
            <a:br>
              <a:rPr sz="3600"/>
            </a:b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cc0066"/>
                </a:solidFill>
                <a:latin typeface="Garamond"/>
              </a:rPr>
              <a:t>Affirmitive (Positive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2362320"/>
          <a:ext cx="8153280" cy="377964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7432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362320" y="1447920"/>
          <a:ext cx="3733560" cy="4771800"/>
        </p:xfrm>
        <a:graphic>
          <a:graphicData uri="http://schemas.openxmlformats.org/drawingml/2006/table">
            <a:tbl>
              <a:tblPr/>
              <a:tblGrid>
                <a:gridCol w="1866960"/>
                <a:gridCol w="1866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Full f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Short f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h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h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t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w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ou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hey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28600" y="4572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Calibri"/>
              </a:rPr>
              <a:t>Examples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m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from Saudi Arab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alma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 teac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hmed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 doc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book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i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n the t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e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t the libra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 stud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students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t schoo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 am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doc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y father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n engine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ha and Noura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sist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y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sis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m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happ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verb 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o be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”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Garamond"/>
              </a:rPr>
              <a:t>(present simple)</a:t>
            </a:r>
            <a:br>
              <a:rPr sz="4000"/>
            </a:b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Garamond"/>
              </a:rPr>
              <a:t>Negativ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2438280"/>
          <a:ext cx="8229600" cy="406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am</a:t>
                      </a:r>
                      <a:r>
                        <a:rPr b="1" lang="ar-SA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not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I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 no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is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not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is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ar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not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are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09480" y="990720"/>
            <a:ext cx="822960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Calibri"/>
              </a:rPr>
              <a:t>Negative.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weather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is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col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weather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isn’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col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books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are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n the tabl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books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aren’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on the tabl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09480"/>
            <a:ext cx="6400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Examples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m no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om Saudi Arab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lma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teac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hmed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doc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t the libr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book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 the t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tudents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t scho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m no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doc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y father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 engine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ha and Noura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ist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ist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m no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happ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he verb 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o be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(present simple)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To write a yes/no question using the verb to be (am, is,are) we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Start with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am</a:t>
            </a:r>
            <a:r>
              <a:rPr b="1" lang="en-US" sz="27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if we use the pronoun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I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I am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Am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I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Start with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if we use the pronoun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she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he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it </a:t>
            </a:r>
            <a:r>
              <a:rPr b="1" lang="en-US" sz="2700" spc="-1" strike="noStrike">
                <a:solidFill>
                  <a:srgbClr val="a886e0"/>
                </a:solidFill>
                <a:latin typeface="Garamond"/>
              </a:rPr>
              <a:t>:-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She is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she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He is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he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it is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it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20:43:10Z</dcterms:created>
  <dc:creator>sarah</dc:creator>
  <dc:description/>
  <dc:language>en-US</dc:language>
  <cp:lastModifiedBy>AD</cp:lastModifiedBy>
  <dcterms:modified xsi:type="dcterms:W3CDTF">2010-10-26T19:08:19Z</dcterms:modified>
  <cp:revision>13</cp:revision>
  <dc:subject/>
  <dc:title>“Be”           is/are/ 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FB82BD87BAEB946B64C47AE8728B136</vt:lpwstr>
  </property>
</Properties>
</file>