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0494-A916-49E2-A771-A9B30BC816F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F59F-1BD7-4DE5-B240-9DAE0422B7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6AFB-3B48-4FC9-9BA5-6A1AE02029F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715-7DB8-49E3-94B2-38F914B6FA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8036-ACA5-4D06-9091-FD696993C3E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E25C-6E60-4C68-B08F-04504AF4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DFD4-371C-4CCF-9D23-FE682740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0A49-E340-45CC-98D4-C4C98B1D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3E13-047C-4B24-B134-F72B49B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C93-5980-42D7-868C-9644F6C2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732-5ED4-488F-8D42-D7CE7F9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92CD-E05A-40BC-BFA7-C07B104E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A71F-B8B0-405E-BB08-DC6B9949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34C4-2AE9-4CD8-8AC8-9F0D80F2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9860-EF8D-47D1-8241-003ACBA4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86B4-BBDF-49D3-B71F-54F9169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1969-F16E-4302-8F95-ED7C41EA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D840-312C-4C7F-B965-3CF90E8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1A4-D289-4141-BDF3-7BA57138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CA9C-E182-4BE9-8ABA-6420420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1F65-3895-464E-A02F-05790521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A4D0-04F6-4AF3-8C65-AE1CDD2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8F1F-87EB-4FE6-B48D-F540F27D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8FE9-96AB-477C-A677-927DBF2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3D21-B519-427C-BE79-2EA3927E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B100-C70C-4B86-A7EF-77480E0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CA52-084A-4EEA-820D-DE1C208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7D71-8BF8-47D5-ACF9-C1804E1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BE9E-9C6F-4D2F-BE13-1C3F2EC9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DC26-2287-451E-ACA9-1E1238D37E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82D8-DE36-4090-9C0D-B7F9EC11A57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50707"/>
                </a:solidFill>
                <a:latin typeface="Garamond"/>
              </a:rPr>
              <a:t>Unit 1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Hi</a:t>
            </a: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w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the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you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4"/>
          <p:cNvSpPr/>
          <p:nvPr/>
        </p:nvSpPr>
        <p:spPr>
          <a:xfrm>
            <a:off x="838080" y="685800"/>
            <a:ext cx="77724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weather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col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the weather cold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on the tabl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on the table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 flipH="1">
            <a:off x="2437920" y="2132640"/>
            <a:ext cx="3201120" cy="10674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4" name="Straight Arrow Connector 9"/>
          <p:cNvCxnSpPr/>
          <p:nvPr/>
        </p:nvCxnSpPr>
        <p:spPr>
          <a:xfrm flipH="1">
            <a:off x="1751760" y="5029200"/>
            <a:ext cx="2515320" cy="915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600200"/>
          <a:ext cx="8991720" cy="4525920"/>
        </p:xfrm>
        <a:graphic>
          <a:graphicData uri="http://schemas.openxmlformats.org/drawingml/2006/table">
            <a:tbl>
              <a:tblPr/>
              <a:tblGrid>
                <a:gridCol w="6553080"/>
                <a:gridCol w="243864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is a teacher          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she a teach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she i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she 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are at school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 they at schoo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they a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they 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m angry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                     Are you angry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I a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7" name="Straight Arrow Connector 8"/>
          <p:cNvCxnSpPr/>
          <p:nvPr/>
        </p:nvCxnSpPr>
        <p:spPr>
          <a:xfrm>
            <a:off x="2286000" y="49525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8" name="Straight Arrow Connector 8"/>
          <p:cNvCxnSpPr/>
          <p:nvPr/>
        </p:nvCxnSpPr>
        <p:spPr>
          <a:xfrm>
            <a:off x="2437920" y="1980720"/>
            <a:ext cx="129636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9" name="Straight Arrow Connector 8"/>
          <p:cNvCxnSpPr/>
          <p:nvPr/>
        </p:nvCxnSpPr>
        <p:spPr>
          <a:xfrm>
            <a:off x="34290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The Indefinite Article 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/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use the indefinite article a/an before a singular noun which is coun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consona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    ,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   ,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le   ,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vowe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 (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ple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g 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land 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ion  ,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cc0066"/>
                </a:solidFill>
                <a:latin typeface="Arial Black"/>
              </a:rPr>
              <a:t>B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”          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is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r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m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ight Arrow 8"/>
          <p:cNvSpPr/>
          <p:nvPr/>
        </p:nvSpPr>
        <p:spPr>
          <a:xfrm>
            <a:off x="2209680" y="2514600"/>
            <a:ext cx="152424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1600200" y="609480"/>
            <a:ext cx="6019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verb “to be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sent simp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b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present simple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)</a:t>
            </a:r>
            <a:br>
              <a:rPr sz="3600"/>
            </a:b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Garamond"/>
              </a:rPr>
              <a:t>Affirmitive (Positive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2362320"/>
          <a:ext cx="8153280" cy="37796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7432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362320" y="1447920"/>
          <a:ext cx="3733560" cy="477180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Full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Short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w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ou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8600" y="4572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Calibri"/>
              </a:rPr>
              <a:t>Examples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from Saudi Arab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alm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teac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hmed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book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e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the libra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stu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students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scho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am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y father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n engine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ha and Nour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happ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(present simple)</a:t>
            </a:r>
            <a:br>
              <a:rPr sz="4000"/>
            </a:b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Negati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438280"/>
          <a:ext cx="8229600" cy="406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m</a:t>
                      </a:r>
                      <a:r>
                        <a:rPr b="1" lang="ar-SA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is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r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09480" y="990720"/>
            <a:ext cx="82296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Calibri"/>
              </a:rPr>
              <a:t>Negative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09480"/>
            <a:ext cx="6400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xamples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om Saudi Arab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lm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teac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hmed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the libr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book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t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y father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engin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ha and Nour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hap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present simple)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To write a yes/no question using the verb to be (am, is,are) we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 am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s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t 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:-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S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s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t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t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0:43:10Z</dcterms:created>
  <dc:creator>sarah</dc:creator>
  <dc:description/>
  <dc:language>en-US</dc:language>
  <cp:lastModifiedBy>AD</cp:lastModifiedBy>
  <dcterms:modified xsi:type="dcterms:W3CDTF">2010-10-26T19:08:19Z</dcterms:modified>
  <cp:revision>13</cp:revision>
  <dc:subject/>
  <dc:title>“Be”           is/are/ 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FB82BD87BAEB946B64C47AE8728B136</vt:lpwstr>
  </property>
</Properties>
</file>