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F7A2-3D8B-4CEC-84A1-D1C114D0D99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53C7-3B58-4A1D-9830-43BFFC1CE4B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8655-B777-4DE8-8956-39DD6E0947C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2FFF-FCAE-4492-A4A0-BAC4F19F174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2889-C8E3-416A-A0F0-0245787359A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AD68-C05B-43DC-B1BF-6C2D9AAA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1750-5D0A-47DB-AF3F-66B41199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61E27-0328-4761-BFE9-203EC124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35C9A-7415-4A51-9F1C-E5BB1210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952A-B9D4-4974-BE15-7274A8E9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2642-378A-44A9-A21A-BDE9DBEF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D4DF-3585-417A-84C7-F152F6A5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EE9A-D655-4C63-8B63-5D0C407C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046E-9B45-4583-A03E-48CBC8DA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E61E-5567-47A3-A3AA-944813C5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0C2D-CF4A-4B97-9878-71104B16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5E8A-55BF-4D1C-8A96-4A20FCEC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9F30-9088-4E1B-B6FE-98154828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9C1A-1BDE-44C4-9053-521FAD3D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38DA-0B94-46FA-9DDC-13377BCE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6A25-72B7-4A37-A670-A3CFFEAC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2A47-3F8D-4E39-8DD2-AFDFC5E3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01E42-74F9-4221-AF26-DB3760EF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6C4C-2A22-42D0-BBE2-2165A09C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7DE4-7586-4E60-8C8F-C9C5D977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18EC-50D6-4A6D-B131-FFF8F077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23F8-0F2F-4E4C-8055-414F28EC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8425-7AFE-4F40-9658-57A66824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54DC-90A9-4B51-B241-82A61A69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EB96-E5D7-474E-A099-3F63C697DC5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A004-87F9-4A5B-8C7F-C10662CFF63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50707"/>
                </a:solidFill>
                <a:latin typeface="Garamond"/>
              </a:rPr>
              <a:t>Unit 1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Hi</a:t>
            </a: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!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Start with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if we use the pronou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w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you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the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 are from Jap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50707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they from Japa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You are from Jap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50707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you from Japa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are from Jap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50707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they from Japa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4"/>
          <p:cNvSpPr/>
          <p:nvPr/>
        </p:nvSpPr>
        <p:spPr>
          <a:xfrm>
            <a:off x="838080" y="685800"/>
            <a:ext cx="77724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The weather </a:t>
            </a: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is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 col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Is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 the weather cold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The books </a:t>
            </a: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re 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on the table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re 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the books on the table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23" name="Straight Arrow Connector 6"/>
          <p:cNvCxnSpPr/>
          <p:nvPr/>
        </p:nvCxnSpPr>
        <p:spPr>
          <a:xfrm flipH="1">
            <a:off x="2437920" y="2132640"/>
            <a:ext cx="3201120" cy="106740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24" name="Straight Arrow Connector 9"/>
          <p:cNvCxnSpPr/>
          <p:nvPr/>
        </p:nvCxnSpPr>
        <p:spPr>
          <a:xfrm flipH="1">
            <a:off x="1751760" y="5029200"/>
            <a:ext cx="2515320" cy="9151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1600200"/>
          <a:ext cx="8991720" cy="4525920"/>
        </p:xfrm>
        <a:graphic>
          <a:graphicData uri="http://schemas.openxmlformats.org/drawingml/2006/table">
            <a:tbl>
              <a:tblPr/>
              <a:tblGrid>
                <a:gridCol w="6553080"/>
                <a:gridCol w="243864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 is a teacher                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s she a teacher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ffcc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Yes, she i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, she isn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are at school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re they at schoo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Yes, they ar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, they aren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am angry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                     Are you angry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ffcc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Yes, I a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, I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 n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27" name="Straight Arrow Connector 8"/>
          <p:cNvCxnSpPr/>
          <p:nvPr/>
        </p:nvCxnSpPr>
        <p:spPr>
          <a:xfrm>
            <a:off x="2286000" y="4952520"/>
            <a:ext cx="129600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28" name="Straight Arrow Connector 8"/>
          <p:cNvCxnSpPr/>
          <p:nvPr/>
        </p:nvCxnSpPr>
        <p:spPr>
          <a:xfrm>
            <a:off x="2437920" y="1980720"/>
            <a:ext cx="129636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29" name="Straight Arrow Connector 8"/>
          <p:cNvCxnSpPr/>
          <p:nvPr/>
        </p:nvCxnSpPr>
        <p:spPr>
          <a:xfrm>
            <a:off x="3429000" y="34290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Garamond"/>
              </a:rPr>
              <a:t>The Indefinite Article 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4400" spc="-1" strike="noStrike">
                <a:solidFill>
                  <a:srgbClr val="cc0066"/>
                </a:solidFill>
                <a:latin typeface="Garamond"/>
              </a:rPr>
              <a:t>/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 use the indefinite article a/an before a singular noun which is count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form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s used </a:t>
            </a:r>
            <a:r>
              <a:rPr b="1" lang="en-US" sz="3200" spc="-1" strike="noStrike">
                <a:solidFill>
                  <a:srgbClr val="cc0066"/>
                </a:solidFill>
                <a:latin typeface="Garamond"/>
              </a:rPr>
              <a:t>bef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 word beginning with a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consona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un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     , 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t    ,  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ble   ,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form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s used </a:t>
            </a:r>
            <a:r>
              <a:rPr b="1" lang="en-US" sz="3200" spc="-1" strike="noStrike">
                <a:solidFill>
                  <a:srgbClr val="cc0066"/>
                </a:solidFill>
                <a:latin typeface="Garamond"/>
              </a:rPr>
              <a:t>bef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 word beginning with a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vowe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und (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ple ,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g  ,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land  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ion  ,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cc0066"/>
                </a:solidFill>
                <a:latin typeface="Arial Black"/>
              </a:rPr>
              <a:t>Be</a:t>
            </a: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”           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is</a:t>
            </a: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/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are</a:t>
            </a: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/ 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am</a:t>
            </a: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Right Arrow 8"/>
          <p:cNvSpPr/>
          <p:nvPr/>
        </p:nvSpPr>
        <p:spPr>
          <a:xfrm>
            <a:off x="2209680" y="2514600"/>
            <a:ext cx="152424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1600200" y="609480"/>
            <a:ext cx="60199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verb “to be”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esent simpl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verb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 b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present simple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)</a:t>
            </a:r>
            <a:br>
              <a:rPr sz="3600"/>
            </a:b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cc0066"/>
                </a:solidFill>
                <a:latin typeface="Garamond"/>
              </a:rPr>
              <a:t>Affirmitive (Positive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2362320"/>
          <a:ext cx="8153280" cy="3779640"/>
        </p:xfrm>
        <a:graphic>
          <a:graphicData uri="http://schemas.openxmlformats.org/drawingml/2006/table">
            <a:tbl>
              <a:tblPr/>
              <a:tblGrid>
                <a:gridCol w="2666880"/>
                <a:gridCol w="2743200"/>
                <a:gridCol w="27432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362320" y="1447920"/>
          <a:ext cx="3733560" cy="4771800"/>
        </p:xfrm>
        <a:graphic>
          <a:graphicData uri="http://schemas.openxmlformats.org/drawingml/2006/table">
            <a:tbl>
              <a:tblPr/>
              <a:tblGrid>
                <a:gridCol w="1866960"/>
                <a:gridCol w="1866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Full f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Short f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s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s 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h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h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t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w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you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hey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28600" y="4572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86e0"/>
                </a:solidFill>
                <a:latin typeface="Calibri"/>
              </a:rPr>
              <a:t>Examples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m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from Saudi Arab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alma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 teac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hmed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 doct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book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is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n the ta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e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t the libra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 stud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students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t schoo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 am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doct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y father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n engine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ha and Noura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sist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y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sis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m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happ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verb 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o be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”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Garamond"/>
              </a:rPr>
              <a:t>(present simple)</a:t>
            </a:r>
            <a:br>
              <a:rPr sz="4000"/>
            </a:b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Garamond"/>
              </a:rPr>
              <a:t>Negativ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2438280"/>
          <a:ext cx="8229600" cy="406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am</a:t>
                      </a:r>
                      <a:r>
                        <a:rPr b="1" lang="ar-SA" sz="2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not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I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 no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is </a:t>
                      </a: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not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isn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ar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not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aren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609480" y="990720"/>
            <a:ext cx="822960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Calibri"/>
              </a:rPr>
              <a:t>Negative.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weather </a:t>
            </a: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is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col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weather </a:t>
            </a: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isn’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col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books </a:t>
            </a: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are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n the tabl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books </a:t>
            </a: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aren’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on the tabl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609480"/>
            <a:ext cx="6400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Examples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m no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om Saudi Arab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lma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 teac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hmed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 doct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t the libr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book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n the t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tudents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t schoo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m no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doct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y father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 engine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ha and Noura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ist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ist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m no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happ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The verb 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to be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”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(present simple)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Garamond"/>
              </a:rPr>
              <a:t>Interrogative (question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To write a yes/no question using the verb to be (am, is,are) we: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Start with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am</a:t>
            </a:r>
            <a:r>
              <a:rPr b="1" lang="en-US" sz="27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if we use the pronoun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I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I am from Japa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700" spc="-1" strike="noStrike">
                <a:solidFill>
                  <a:srgbClr val="c50707"/>
                </a:solidFill>
                <a:latin typeface="Garamond"/>
              </a:rPr>
              <a:t>Am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I from Japan?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Start with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is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if we use the pronoun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she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he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it </a:t>
            </a:r>
            <a:r>
              <a:rPr b="1" lang="en-US" sz="2700" spc="-1" strike="noStrike">
                <a:solidFill>
                  <a:srgbClr val="a886e0"/>
                </a:solidFill>
                <a:latin typeface="Garamond"/>
              </a:rPr>
              <a:t>:-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She is from Japa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c50707"/>
                </a:solidFill>
                <a:latin typeface="Garamond"/>
              </a:rPr>
              <a:t>is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she from Japan?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He is from Japa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c50707"/>
                </a:solidFill>
                <a:latin typeface="Garamond"/>
              </a:rPr>
              <a:t>is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he from Japan?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it is from Japa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c50707"/>
                </a:solidFill>
                <a:latin typeface="Garamond"/>
              </a:rPr>
              <a:t>is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it from Japan?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20:43:10Z</dcterms:created>
  <dc:creator>sarah</dc:creator>
  <dc:description/>
  <dc:language>en-US</dc:language>
  <cp:lastModifiedBy>AD</cp:lastModifiedBy>
  <dcterms:modified xsi:type="dcterms:W3CDTF">2010-10-26T19:08:19Z</dcterms:modified>
  <cp:revision>13</cp:revision>
  <dc:subject/>
  <dc:title>“Be”           is/are/ 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FB82BD87BAEB946B64C47AE8728B136</vt:lpwstr>
  </property>
</Properties>
</file>