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03A5-5EF0-4700-84FA-4F1E9E134410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3EA5-DC7B-4D95-8D89-2F56623D8A0E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2B69-CB84-4AA0-B011-919BBCDE3830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210F-6950-42B5-AFE5-F36E060A70FD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31D0-B7AE-4FF6-80FA-FBB6E8A84774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04F8-F4F3-4492-95ED-94F62E77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5DE4-5A78-4F13-BF53-013F5B08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FB50-FDCB-4A6A-8928-27AFFD60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6D4B-E1AF-458F-9C22-E085000A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D829-E31F-4E34-B0E0-57DDCB31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531B-D1FA-4A87-8339-8FE424DD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A940-E083-4025-B47B-E1B3AE8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B90C-BDB7-429F-9C59-6B1DBA16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B650-F841-4860-AD55-C38B7552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AD50-1639-4019-AE8E-5DCC3A03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43E6-9185-4353-80C3-8E0C1B84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5D46-A80E-467F-8C2A-201DC8CE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E799-E9DE-406B-92CA-9C64BA5B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3E19-1F4E-48BF-B35C-791452BB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7101-995A-4A6F-B6ED-F76CFCFA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F139-8431-4877-A3E9-CFCEDBF2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A49E-66B9-43BD-8FCD-C2BFC303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96A2-7AE7-4205-BD2E-4F20ACEB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F1A7-91C0-4586-A9D3-918B99F4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2B382-6C5C-41DB-AC75-F3CAF01E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DEA5-5C6B-4C3D-BB96-1A7C338F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06D9-457D-4F34-A859-C2C0369C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B42A-4434-451B-A7EC-E0358C45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B742-8603-4EC5-99C6-5314974A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50E0-ECA8-4FE2-B92F-9F7FF4EE841A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0265-6FA1-493B-9906-CF6E83AAC577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Unit 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144f"/>
                </a:solidFill>
                <a:latin typeface="Garamond"/>
              </a:rPr>
              <a:t>A Friend in Need …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he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as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lue e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990360"/>
            <a:ext cx="4038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Ha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s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lue eye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es, she ha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, she hasn’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28" name="Straight Arrow Connector 8"/>
          <p:cNvCxnSpPr/>
          <p:nvPr/>
        </p:nvCxnSpPr>
        <p:spPr>
          <a:xfrm>
            <a:off x="3352320" y="121932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29" name=""/>
          <p:cNvSpPr/>
          <p:nvPr/>
        </p:nvSpPr>
        <p:spPr>
          <a:xfrm>
            <a:off x="0" y="2286000"/>
            <a:ext cx="4191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He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  <a:ea typeface="Arial"/>
              </a:rPr>
              <a:t>has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blue ey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286000"/>
            <a:ext cx="3886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Ha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blue eyes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Yes, he ha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, he hasn’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1" name="Straight Arrow Connector 8"/>
          <p:cNvCxnSpPr/>
          <p:nvPr/>
        </p:nvCxnSpPr>
        <p:spPr>
          <a:xfrm>
            <a:off x="3429000" y="25146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32" name=""/>
          <p:cNvSpPr/>
          <p:nvPr/>
        </p:nvSpPr>
        <p:spPr>
          <a:xfrm>
            <a:off x="0" y="3809880"/>
            <a:ext cx="32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ave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new c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3" name="Straight Arrow Connector 8"/>
          <p:cNvCxnSpPr/>
          <p:nvPr/>
        </p:nvCxnSpPr>
        <p:spPr>
          <a:xfrm>
            <a:off x="3200400" y="41148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34" name=""/>
          <p:cNvSpPr/>
          <p:nvPr/>
        </p:nvSpPr>
        <p:spPr>
          <a:xfrm>
            <a:off x="4495680" y="3809880"/>
            <a:ext cx="4038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Ha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you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 new car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Yes, I hav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, I haven'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105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ave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new c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181480"/>
            <a:ext cx="4648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Ha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they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 new car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Yes, they hav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, they haven'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7" name="Straight Arrow Connector 8"/>
          <p:cNvCxnSpPr/>
          <p:nvPr/>
        </p:nvCxnSpPr>
        <p:spPr>
          <a:xfrm>
            <a:off x="3505320" y="54097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38" name="Text Placeholder 2"/>
          <p:cNvSpPr/>
          <p:nvPr/>
        </p:nvSpPr>
        <p:spPr>
          <a:xfrm>
            <a:off x="152280" y="152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c965e"/>
                </a:solidFill>
                <a:uFillTx/>
                <a:latin typeface="Garamond"/>
                <a:ea typeface="Arial"/>
              </a:rPr>
              <a:t>Examples</a:t>
            </a:r>
            <a:r>
              <a:rPr b="1" i="1" lang="en-US" sz="3200" spc="-1" strike="noStrike" u="sng">
                <a:solidFill>
                  <a:srgbClr val="fc965e"/>
                </a:solidFill>
                <a:uFillTx/>
                <a:latin typeface="Garamond"/>
                <a:ea typeface="Arial"/>
              </a:rPr>
              <a:t> 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Can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Garamond"/>
              </a:rPr>
              <a:t>E</a:t>
            </a:r>
            <a:r>
              <a:rPr b="1" lang="en-US" sz="4400" spc="-1" strike="noStrike" u="sng">
                <a:solidFill>
                  <a:srgbClr val="ff3399"/>
                </a:solidFill>
                <a:uFillTx/>
                <a:latin typeface="Garamond"/>
              </a:rPr>
              <a:t>xpress ability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Subjec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+ 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can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base form of the verb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1883"/>
                </a:solidFill>
                <a:latin typeface="Garamond"/>
              </a:rPr>
              <a:t>Can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(Express ability)</a:t>
            </a:r>
            <a:br>
              <a:rPr sz="4000"/>
            </a:b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a144f"/>
                </a:solidFill>
                <a:latin typeface="Garamond"/>
              </a:rPr>
              <a:t>Affirm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(</a:t>
            </a:r>
            <a:r>
              <a:rPr b="1" lang="en-US" sz="4000" spc="-1" strike="noStrike">
                <a:solidFill>
                  <a:srgbClr val="33cc33"/>
                </a:solidFill>
                <a:latin typeface="Garamond"/>
              </a:rPr>
              <a:t>pos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320" y="1600200"/>
          <a:ext cx="9067680" cy="4916520"/>
        </p:xfrm>
        <a:graphic>
          <a:graphicData uri="http://schemas.openxmlformats.org/drawingml/2006/table">
            <a:tbl>
              <a:tblPr/>
              <a:tblGrid>
                <a:gridCol w="3289320"/>
                <a:gridCol w="1434960"/>
                <a:gridCol w="4343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ooc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1883"/>
                </a:solidFill>
                <a:latin typeface="Garamond"/>
              </a:rPr>
              <a:t>Can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(Express ability)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Negati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229600" cy="485604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4343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 n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bcb03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 n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ooc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Can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(Express ability)</a:t>
            </a:r>
            <a:br>
              <a:rPr sz="4000"/>
            </a:br>
            <a:r>
              <a:rPr b="1" lang="en-US" sz="40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1806480"/>
          <a:ext cx="8534520" cy="5013360"/>
        </p:xfrm>
        <a:graphic>
          <a:graphicData uri="http://schemas.openxmlformats.org/drawingml/2006/table">
            <a:tbl>
              <a:tblPr/>
              <a:tblGrid>
                <a:gridCol w="1143000"/>
                <a:gridCol w="2286000"/>
                <a:gridCol w="4419720"/>
                <a:gridCol w="685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33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33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33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h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sh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ooc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Garamond"/>
              </a:rPr>
              <a:t>xpress abilit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752480"/>
          <a:ext cx="9186840" cy="5029200"/>
        </p:xfrm>
        <a:graphic>
          <a:graphicData uri="http://schemas.openxmlformats.org/drawingml/2006/table">
            <a:tbl>
              <a:tblPr/>
              <a:tblGrid>
                <a:gridCol w="2819520"/>
                <a:gridCol w="3014640"/>
                <a:gridCol w="335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 </a:t>
                      </a: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speak French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cc"/>
                          </a:solidFill>
                          <a:latin typeface="Garamond"/>
                          <a:ea typeface="Arial"/>
                        </a:rPr>
                        <a:t>I </a:t>
                      </a: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can’t</a:t>
                      </a:r>
                      <a:r>
                        <a:rPr b="1" lang="en-US" sz="2500" spc="-1" strike="noStrike">
                          <a:solidFill>
                            <a:srgbClr val="ffffcc"/>
                          </a:solidFill>
                          <a:latin typeface="Garamond"/>
                          <a:ea typeface="Arial"/>
                        </a:rPr>
                        <a:t> speak French</a:t>
                      </a:r>
                      <a:r>
                        <a:rPr b="1" lang="en-US" sz="2500" spc="-1" strike="noStrike">
                          <a:solidFill>
                            <a:srgbClr val="003399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2500" spc="-1" strike="noStrike">
                          <a:solidFill>
                            <a:srgbClr val="ba144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 </a:t>
                      </a: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speak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French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200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es, I 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, I can’t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 </a:t>
                      </a: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run fas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’t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run fas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 </a:t>
                      </a: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ru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fast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es, he 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, he can’t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49" name="Rectangle 15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3352680" cy="1152360"/>
          </a:xfrm>
          <a:prstGeom prst="rect">
            <a:avLst/>
          </a:prstGeom>
          <a:ln w="0">
            <a:noFill/>
          </a:ln>
        </p:spPr>
      </p:pic>
      <p:cxnSp>
        <p:nvCxnSpPr>
          <p:cNvPr id="150" name="Straight Arrow Connector 17"/>
          <p:cNvCxnSpPr/>
          <p:nvPr/>
        </p:nvCxnSpPr>
        <p:spPr>
          <a:xfrm flipV="1">
            <a:off x="4191120" y="2818800"/>
            <a:ext cx="3600" cy="610200"/>
          </a:xfrm>
          <a:prstGeom prst="straightConnector1">
            <a:avLst/>
          </a:prstGeom>
          <a:ln w="1908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1" name="Straight Arrow Connector 19"/>
          <p:cNvCxnSpPr/>
          <p:nvPr/>
        </p:nvCxnSpPr>
        <p:spPr>
          <a:xfrm flipH="1" flipV="1">
            <a:off x="1409040" y="2957040"/>
            <a:ext cx="1562760" cy="78192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2" name="Straight Arrow Connector 21"/>
          <p:cNvCxnSpPr/>
          <p:nvPr/>
        </p:nvCxnSpPr>
        <p:spPr>
          <a:xfrm flipV="1">
            <a:off x="4952880" y="2894760"/>
            <a:ext cx="1021680" cy="69156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3" name="Straight Arrow Connector 23"/>
          <p:cNvCxnSpPr/>
          <p:nvPr/>
        </p:nvCxnSpPr>
        <p:spPr>
          <a:xfrm flipH="1">
            <a:off x="4114080" y="4419360"/>
            <a:ext cx="3960" cy="53388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4" name="Straight Arrow Connector 25"/>
          <p:cNvCxnSpPr/>
          <p:nvPr/>
        </p:nvCxnSpPr>
        <p:spPr>
          <a:xfrm flipH="1">
            <a:off x="1675800" y="4342320"/>
            <a:ext cx="1524600" cy="68652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4952520" y="4343040"/>
            <a:ext cx="1143720" cy="61020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sp>
        <p:nvSpPr>
          <p:cNvPr id="156" name="Horizontal Scroll 28"/>
          <p:cNvSpPr/>
          <p:nvPr/>
        </p:nvSpPr>
        <p:spPr>
          <a:xfrm>
            <a:off x="2438280" y="0"/>
            <a:ext cx="3733920" cy="9907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Calibri"/>
              </a:rPr>
              <a:t>-can-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Down Arrow Callout 3"/>
          <p:cNvSpPr/>
          <p:nvPr/>
        </p:nvSpPr>
        <p:spPr>
          <a:xfrm>
            <a:off x="380880" y="457200"/>
            <a:ext cx="8534520" cy="1523880"/>
          </a:xfrm>
          <a:prstGeom prst="downArrowCallout">
            <a:avLst>
              <a:gd name="adj1" fmla="val -26141"/>
              <a:gd name="adj2" fmla="val 32177"/>
              <a:gd name="adj3" fmla="val 25000"/>
              <a:gd name="adj4" fmla="val 649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Garamond"/>
              </a:rPr>
              <a:t>Can </a:t>
            </a: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(Polite Request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2743200"/>
          <a:ext cx="9144000" cy="2378160"/>
        </p:xfrm>
        <a:graphic>
          <a:graphicData uri="http://schemas.openxmlformats.org/drawingml/2006/table">
            <a:tbl>
              <a:tblPr/>
              <a:tblGrid>
                <a:gridCol w="1341360"/>
                <a:gridCol w="1677960"/>
                <a:gridCol w="3021120"/>
                <a:gridCol w="2709720"/>
                <a:gridCol w="393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66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Object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op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 window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e1883"/>
                </a:solidFill>
                <a:latin typeface="Garamond"/>
              </a:rPr>
              <a:t>Ca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(Polite Request)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990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Examples 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819520"/>
            <a:ext cx="8610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open the door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362320"/>
            <a:ext cx="731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open the door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04812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 give this to Nada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7924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give this to Nada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26708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 read this for me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4800600"/>
            <a:ext cx="822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read this for me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533412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 sign here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5867280"/>
            <a:ext cx="7619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sign here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5e5ff"/>
                </a:solidFill>
                <a:uFillTx/>
                <a:latin typeface="Garamond"/>
              </a:rPr>
              <a:t>Express possessi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1231920" y="554040"/>
            <a:ext cx="6924600" cy="11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505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6561"/>
                </a:solidFill>
                <a:latin typeface="Garamond"/>
                <a:ea typeface="Arial"/>
              </a:rPr>
              <a:t>Subject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  <a:ea typeface="Arial"/>
              </a:rPr>
              <a:t>+ </a:t>
            </a:r>
            <a:r>
              <a:rPr b="1" lang="en-US" sz="4000" spc="-1" strike="noStrike">
                <a:solidFill>
                  <a:srgbClr val="ba144f"/>
                </a:solidFill>
                <a:latin typeface="Garamond"/>
                <a:ea typeface="Arial"/>
              </a:rPr>
              <a:t>have/h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  <a:ea typeface="Arial"/>
              </a:rPr>
              <a:t>+ </a:t>
            </a:r>
            <a:r>
              <a:rPr b="1" lang="en-US" sz="4000" spc="-1" strike="noStrike">
                <a:solidFill>
                  <a:srgbClr val="33cc33"/>
                </a:solidFill>
                <a:latin typeface="Garamond"/>
                <a:ea typeface="Arial"/>
              </a:rPr>
              <a:t>got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  <a:ea typeface="Arial"/>
              </a:rPr>
              <a:t>+</a:t>
            </a:r>
            <a:r>
              <a:rPr b="1" lang="ar-SA" sz="4000" spc="-1" strike="noStrike">
                <a:solidFill>
                  <a:srgbClr val="ffcc00"/>
                </a:solidFill>
                <a:latin typeface="Garamond"/>
                <a:ea typeface="Arial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  <a:ea typeface="Arial"/>
              </a:rPr>
              <a:t>objec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ba144f"/>
                </a:solidFill>
                <a:latin typeface="Garamond"/>
              </a:rPr>
              <a:t>Affirm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(</a:t>
            </a:r>
            <a:r>
              <a:rPr b="1" lang="en-US" sz="4000" spc="-1" strike="noStrike">
                <a:solidFill>
                  <a:srgbClr val="33cc33"/>
                </a:solidFill>
                <a:latin typeface="Garamond"/>
              </a:rPr>
              <a:t>pos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1676520"/>
          <a:ext cx="8229600" cy="4991040"/>
        </p:xfrm>
        <a:graphic>
          <a:graphicData uri="http://schemas.openxmlformats.org/drawingml/2006/table">
            <a:tbl>
              <a:tblPr/>
              <a:tblGrid>
                <a:gridCol w="2692440"/>
                <a:gridCol w="3327480"/>
                <a:gridCol w="22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65e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65e"/>
                          </a:solidFill>
                          <a:latin typeface="Garamond"/>
                          <a:ea typeface="Arial"/>
                        </a:rPr>
                        <a:t>Have/has g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65e"/>
                          </a:solidFill>
                          <a:latin typeface="Garamond"/>
                          <a:ea typeface="Arial"/>
                        </a:rPr>
                        <a:t>O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ve g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long ha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s g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Long ha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Garamond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I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a do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we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a new c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You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long hai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Ahmed and Omar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light brown ski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Nada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s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fair ha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Sh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s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blue ey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H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s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a new c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80880" y="1828800"/>
          <a:ext cx="8305560" cy="4343040"/>
        </p:xfrm>
        <a:graphic>
          <a:graphicData uri="http://schemas.openxmlformats.org/drawingml/2006/table">
            <a:tbl>
              <a:tblPr/>
              <a:tblGrid>
                <a:gridCol w="2717280"/>
                <a:gridCol w="2793960"/>
                <a:gridCol w="2794320"/>
              </a:tblGrid>
              <a:tr h="22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W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You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have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Malgun Gothic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green ey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S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I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has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Malgun Gothic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green ey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  <a:ea typeface="Arial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ba144f"/>
                </a:solidFill>
                <a:latin typeface="Garamond"/>
                <a:ea typeface="Arial"/>
              </a:rPr>
              <a:t>Negativ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457200" y="1066680"/>
          <a:ext cx="8229600" cy="5340600"/>
        </p:xfrm>
        <a:graphic>
          <a:graphicData uri="http://schemas.openxmlformats.org/drawingml/2006/table">
            <a:tbl>
              <a:tblPr/>
              <a:tblGrid>
                <a:gridCol w="2692440"/>
                <a:gridCol w="2768400"/>
                <a:gridCol w="2768760"/>
              </a:tblGrid>
              <a:tr h="113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Full 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Short 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ve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Garamond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33cc33"/>
                          </a:solidFill>
                          <a:latin typeface="Garamond"/>
                          <a:ea typeface="Arial"/>
                        </a:rPr>
                        <a:t>haven’t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s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Garamond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cc33"/>
                          </a:solidFill>
                          <a:latin typeface="Garamond"/>
                          <a:ea typeface="Arial"/>
                        </a:rPr>
                        <a:t>hasn’t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 have got a car.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I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ven’t got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You have got brown eyes.         You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ven’t go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brown ey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 has got a beard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He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sn’t got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bear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he has got a cat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She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sn’t got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a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eft-Right Arrow 5"/>
          <p:cNvSpPr/>
          <p:nvPr/>
        </p:nvSpPr>
        <p:spPr>
          <a:xfrm>
            <a:off x="4724280" y="4267080"/>
            <a:ext cx="1219320" cy="228600"/>
          </a:xfrm>
          <a:prstGeom prst="leftRightArrow">
            <a:avLst>
              <a:gd name="adj1" fmla="val 50000"/>
              <a:gd name="adj2" fmla="val 106282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Left-Right Arrow 5"/>
          <p:cNvSpPr/>
          <p:nvPr/>
        </p:nvSpPr>
        <p:spPr>
          <a:xfrm>
            <a:off x="3886200" y="1828800"/>
            <a:ext cx="1219320" cy="228600"/>
          </a:xfrm>
          <a:prstGeom prst="leftRightArrow">
            <a:avLst>
              <a:gd name="adj1" fmla="val 50000"/>
              <a:gd name="adj2" fmla="val 106282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eft-Right Arrow 5"/>
          <p:cNvSpPr/>
          <p:nvPr/>
        </p:nvSpPr>
        <p:spPr>
          <a:xfrm>
            <a:off x="5715000" y="3124080"/>
            <a:ext cx="990720" cy="152640"/>
          </a:xfrm>
          <a:prstGeom prst="leftRightArrow">
            <a:avLst>
              <a:gd name="adj1" fmla="val 50000"/>
              <a:gd name="adj2" fmla="val 12933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Left-Right Arrow 5"/>
          <p:cNvSpPr/>
          <p:nvPr/>
        </p:nvSpPr>
        <p:spPr>
          <a:xfrm>
            <a:off x="4191120" y="5486400"/>
            <a:ext cx="1218960" cy="228600"/>
          </a:xfrm>
          <a:prstGeom prst="leftRightArrow">
            <a:avLst>
              <a:gd name="adj1" fmla="val 50000"/>
              <a:gd name="adj2" fmla="val 106251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 write a </a:t>
            </a: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Yes/No Questio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e use the rul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ve/ H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subject</a:t>
            </a:r>
            <a:r>
              <a:rPr b="1" lang="en-US" sz="36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got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3600" spc="-1" strike="noStrike">
                <a:solidFill>
                  <a:srgbClr val="fc965e"/>
                </a:solidFill>
                <a:latin typeface="Garamond"/>
              </a:rPr>
              <a:t>object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  <a:ea typeface="Arial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Arial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Garamond"/>
                <a:ea typeface="Arial"/>
              </a:rPr>
              <a:t>Interrogative (Question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3520" y="1523880"/>
          <a:ext cx="8076960" cy="5193000"/>
        </p:xfrm>
        <a:graphic>
          <a:graphicData uri="http://schemas.openxmlformats.org/drawingml/2006/table">
            <a:tbl>
              <a:tblPr/>
              <a:tblGrid>
                <a:gridCol w="2189160"/>
                <a:gridCol w="1887480"/>
                <a:gridCol w="1282680"/>
                <a:gridCol w="2038320"/>
                <a:gridCol w="67932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Have/ h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Objec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h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a new c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H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sh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a new c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a144f"/>
                </a:solidFill>
                <a:latin typeface="Garamond"/>
              </a:rPr>
              <a:t>Yes/No Question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9:22:40Z</dcterms:created>
  <dc:creator>sarah</dc:creator>
  <dc:description/>
  <dc:language>en-US</dc:language>
  <cp:lastModifiedBy>AD</cp:lastModifiedBy>
  <dcterms:modified xsi:type="dcterms:W3CDTF">2010-10-26T19:39:19Z</dcterms:modified>
  <cp:revision>16</cp:revision>
  <dc:subject/>
  <dc:title>Express possession</dc:title>
</cp:coreProperties>
</file>