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F36-3C04-42A7-AA5D-F5BB822CB65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876-6469-4722-B2A7-69D35AF749B0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46C-8A11-43E3-8120-99D933A6F984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82A8-E259-40D4-AFC1-0CA0632B098C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75A-F74F-483C-BC30-46C9D09BEB35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12A4-0030-4FEE-9CA9-CE78EAF9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B64A-52CB-452A-A05D-57F26E9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4DBC-0B9D-4F48-930A-B15F2560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FAEC-955C-4969-ABFB-26BF6A2D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45EE-1C7B-44C9-858E-EFF7157F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B84B-4FCA-4B13-A7D8-9953135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9CF5-EB1A-45BB-97E0-46AB35A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CC86-94D4-4709-A50A-7D53D60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6E8A-BD51-4FDD-8E5F-D54150F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6F1-72B4-4596-97D3-02E04AA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89F-179F-4C9A-BD03-EA65FDE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6930-03A2-4086-93EA-99E8F391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0EC-FA31-4ED0-96D5-B84D782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7C93-2815-4DF4-ABEE-2A59318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B87-63BB-4B7A-80F5-75AC045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ADE1-33A3-415E-BDD8-20BEBB81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C18-3BD9-4A10-8618-EBCFB115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24AE-9648-49D7-9D68-49AAAE36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224E-2536-47EB-9CCB-1DBABC4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CDB1-FF97-4FCC-9224-23995E92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9D16-2161-413C-A83B-56F99798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C75B-3F43-4205-9B00-7A5D39F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CBE5-0851-4EDC-8B6B-B6F675F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CC88-1CC8-46A3-81D6-39DE931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978-49B4-4EF8-990E-3C18ACBE2DB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FC32-AF9F-41FD-83E1-17E43E41FB1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Unit 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144f"/>
                </a:solidFill>
                <a:latin typeface="Garamond"/>
              </a:rPr>
              <a:t>A Friend in Need …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es, she h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, she hasn’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8" name="Straight Arrow Connector 8"/>
          <p:cNvCxnSpPr/>
          <p:nvPr/>
        </p:nvCxnSpPr>
        <p:spPr>
          <a:xfrm>
            <a:off x="3352320" y="12193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29" name=""/>
          <p:cNvSpPr/>
          <p:nvPr/>
        </p:nvSpPr>
        <p:spPr>
          <a:xfrm>
            <a:off x="0" y="22860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  <a:ea typeface="Arial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860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he ha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he hasn’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1" name="Straight Arrow Connector 8"/>
          <p:cNvCxnSpPr/>
          <p:nvPr/>
        </p:nvCxnSpPr>
        <p:spPr>
          <a:xfrm>
            <a:off x="3429000" y="25146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2" name=""/>
          <p:cNvSpPr/>
          <p:nvPr/>
        </p:nvSpPr>
        <p:spPr>
          <a:xfrm>
            <a:off x="0" y="3809880"/>
            <a:ext cx="32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3" name="Straight Arrow Connector 8"/>
          <p:cNvCxnSpPr/>
          <p:nvPr/>
        </p:nvCxnSpPr>
        <p:spPr>
          <a:xfrm>
            <a:off x="3200400" y="4114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4495680" y="38098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I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I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y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they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they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7" name="Straight Arrow Connector 8"/>
          <p:cNvCxnSpPr/>
          <p:nvPr/>
        </p:nvCxnSpPr>
        <p:spPr>
          <a:xfrm>
            <a:off x="3505320" y="5409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8" name="Text Placeholder 2"/>
          <p:cNvSpPr/>
          <p:nvPr/>
        </p:nvSpPr>
        <p:spPr>
          <a:xfrm>
            <a:off x="152280" y="15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Examples</a:t>
            </a: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an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Garamond"/>
              </a:rPr>
              <a:t>E</a:t>
            </a:r>
            <a:r>
              <a:rPr b="1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xpress ability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Subjec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+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an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ase form of the verb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20" y="1600200"/>
          <a:ext cx="9067680" cy="4916520"/>
        </p:xfrm>
        <a:graphic>
          <a:graphicData uri="http://schemas.openxmlformats.org/drawingml/2006/table">
            <a:tbl>
              <a:tblPr/>
              <a:tblGrid>
                <a:gridCol w="3289320"/>
                <a:gridCol w="143496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bcb0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806480"/>
          <a:ext cx="8534520" cy="501336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4419720"/>
                <a:gridCol w="685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Garamond"/>
              </a:rPr>
              <a:t>xpress abil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752480"/>
          <a:ext cx="9186840" cy="5029200"/>
        </p:xfrm>
        <a:graphic>
          <a:graphicData uri="http://schemas.openxmlformats.org/drawingml/2006/table">
            <a:tbl>
              <a:tblPr/>
              <a:tblGrid>
                <a:gridCol w="2819520"/>
                <a:gridCol w="301464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can’t</a:t>
                      </a: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peak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rench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200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I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I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’t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ru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as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he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he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9" name="Rectangle 15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3526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150" name="Straight Arrow Connector 17"/>
          <p:cNvCxnSpPr/>
          <p:nvPr/>
        </p:nvCxnSpPr>
        <p:spPr>
          <a:xfrm flipV="1">
            <a:off x="4191120" y="2818800"/>
            <a:ext cx="3600" cy="610200"/>
          </a:xfrm>
          <a:prstGeom prst="straightConnector1">
            <a:avLst/>
          </a:prstGeom>
          <a:ln w="1908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1" name="Straight Arrow Connector 19"/>
          <p:cNvCxnSpPr/>
          <p:nvPr/>
        </p:nvCxnSpPr>
        <p:spPr>
          <a:xfrm flipH="1" flipV="1">
            <a:off x="1409040" y="2957040"/>
            <a:ext cx="1562760" cy="7819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2" name="Straight Arrow Connector 21"/>
          <p:cNvCxnSpPr/>
          <p:nvPr/>
        </p:nvCxnSpPr>
        <p:spPr>
          <a:xfrm flipV="1">
            <a:off x="4952880" y="2894760"/>
            <a:ext cx="1021680" cy="69156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3" name="Straight Arrow Connector 23"/>
          <p:cNvCxnSpPr/>
          <p:nvPr/>
        </p:nvCxnSpPr>
        <p:spPr>
          <a:xfrm flipH="1">
            <a:off x="4114080" y="4419360"/>
            <a:ext cx="3960" cy="53388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4" name="Straight Arrow Connector 25"/>
          <p:cNvCxnSpPr/>
          <p:nvPr/>
        </p:nvCxnSpPr>
        <p:spPr>
          <a:xfrm flipH="1">
            <a:off x="1675800" y="4342320"/>
            <a:ext cx="1524600" cy="6865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4952520" y="4343040"/>
            <a:ext cx="1143720" cy="61020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sp>
        <p:nvSpPr>
          <p:cNvPr id="156" name="Horizontal Scroll 28"/>
          <p:cNvSpPr/>
          <p:nvPr/>
        </p:nvSpPr>
        <p:spPr>
          <a:xfrm>
            <a:off x="2438280" y="0"/>
            <a:ext cx="3733920" cy="99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"/>
              </a:rPr>
              <a:t>-can-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Down Arrow Callout 3"/>
          <p:cNvSpPr/>
          <p:nvPr/>
        </p:nvSpPr>
        <p:spPr>
          <a:xfrm>
            <a:off x="380880" y="457200"/>
            <a:ext cx="8534520" cy="1523880"/>
          </a:xfrm>
          <a:prstGeom prst="downArrowCallout">
            <a:avLst>
              <a:gd name="adj1" fmla="val -26141"/>
              <a:gd name="adj2" fmla="val 32177"/>
              <a:gd name="adj3" fmla="val 25000"/>
              <a:gd name="adj4" fmla="val 649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Can </a:t>
            </a: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(Polite Request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2743200"/>
          <a:ext cx="9144000" cy="2378160"/>
        </p:xfrm>
        <a:graphic>
          <a:graphicData uri="http://schemas.openxmlformats.org/drawingml/2006/table">
            <a:tbl>
              <a:tblPr/>
              <a:tblGrid>
                <a:gridCol w="1341360"/>
                <a:gridCol w="1677960"/>
                <a:gridCol w="3021120"/>
                <a:gridCol w="2709720"/>
                <a:gridCol w="393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66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op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 windo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(Polite Request)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90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861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open the door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36232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open the door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8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give this to Nada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give this to Nada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26708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read this for m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822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read this for m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334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sign her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867280"/>
            <a:ext cx="761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sign her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Express possess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231920" y="554040"/>
            <a:ext cx="6924600" cy="11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5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6561"/>
                </a:solidFill>
                <a:latin typeface="Garamond"/>
                <a:ea typeface="Arial"/>
              </a:rPr>
              <a:t>Subjec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  <a:ea typeface="Arial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o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8229600" cy="4991040"/>
        </p:xfrm>
        <a:graphic>
          <a:graphicData uri="http://schemas.openxmlformats.org/drawingml/2006/table">
            <a:tbl>
              <a:tblPr/>
              <a:tblGrid>
                <a:gridCol w="2692440"/>
                <a:gridCol w="3327480"/>
                <a:gridCol w="22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Have/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O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we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You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ong hai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Ahmed and Omar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ight brown sk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Nada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fair ha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S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blue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828800"/>
          <a:ext cx="8305560" cy="4343040"/>
        </p:xfrm>
        <a:graphic>
          <a:graphicData uri="http://schemas.openxmlformats.org/drawingml/2006/table">
            <a:tbl>
              <a:tblPr/>
              <a:tblGrid>
                <a:gridCol w="2717280"/>
                <a:gridCol w="2793960"/>
                <a:gridCol w="2794320"/>
              </a:tblGrid>
              <a:tr h="22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Nega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1066680"/>
          <a:ext cx="8229600" cy="5340600"/>
        </p:xfrm>
        <a:graphic>
          <a:graphicData uri="http://schemas.openxmlformats.org/drawingml/2006/table">
            <a:tbl>
              <a:tblPr/>
              <a:tblGrid>
                <a:gridCol w="2692440"/>
                <a:gridCol w="2768400"/>
                <a:gridCol w="2768760"/>
              </a:tblGrid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Full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hort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ve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s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 have got a car.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I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got brown eyes.         You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rown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 has got a beard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bear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he has got a cat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S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eft-Right Arrow 5"/>
          <p:cNvSpPr/>
          <p:nvPr/>
        </p:nvSpPr>
        <p:spPr>
          <a:xfrm>
            <a:off x="4724280" y="426708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eft-Right Arrow 5"/>
          <p:cNvSpPr/>
          <p:nvPr/>
        </p:nvSpPr>
        <p:spPr>
          <a:xfrm>
            <a:off x="3886200" y="182880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eft-Right Arrow 5"/>
          <p:cNvSpPr/>
          <p:nvPr/>
        </p:nvSpPr>
        <p:spPr>
          <a:xfrm>
            <a:off x="5715000" y="3124080"/>
            <a:ext cx="990720" cy="152640"/>
          </a:xfrm>
          <a:prstGeom prst="leftRightArrow">
            <a:avLst>
              <a:gd name="adj1" fmla="val 50000"/>
              <a:gd name="adj2" fmla="val 12933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eft-Right Arrow 5"/>
          <p:cNvSpPr/>
          <p:nvPr/>
        </p:nvSpPr>
        <p:spPr>
          <a:xfrm>
            <a:off x="4191120" y="5486400"/>
            <a:ext cx="1218960" cy="228600"/>
          </a:xfrm>
          <a:prstGeom prst="leftRightArrow">
            <a:avLst>
              <a:gd name="adj1" fmla="val 50000"/>
              <a:gd name="adj2" fmla="val 106251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write a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Yes/No Ques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use the ru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/ H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subject</a:t>
            </a:r>
            <a:r>
              <a:rPr b="1" lang="en-US" sz="3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got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c965e"/>
                </a:solidFill>
                <a:latin typeface="Garamond"/>
              </a:rPr>
              <a:t>object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Garamond"/>
                <a:ea typeface="Arial"/>
              </a:rPr>
              <a:t>Interrogative (Questio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1523880"/>
          <a:ext cx="8076960" cy="5193000"/>
        </p:xfrm>
        <a:graphic>
          <a:graphicData uri="http://schemas.openxmlformats.org/drawingml/2006/table">
            <a:tbl>
              <a:tblPr/>
              <a:tblGrid>
                <a:gridCol w="2189160"/>
                <a:gridCol w="1887480"/>
                <a:gridCol w="1282680"/>
                <a:gridCol w="2038320"/>
                <a:gridCol w="6793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Have/ 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Yes/No Question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22:40Z</dcterms:created>
  <dc:creator>sarah</dc:creator>
  <dc:description/>
  <dc:language>en-US</dc:language>
  <cp:lastModifiedBy>AD</cp:lastModifiedBy>
  <dcterms:modified xsi:type="dcterms:W3CDTF">2010-10-26T19:39:19Z</dcterms:modified>
  <cp:revision>16</cp:revision>
  <dc:subject/>
  <dc:title>Express possession</dc:title>
</cp:coreProperties>
</file>