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0A4E-E5B8-4AD0-B42D-EAFDE3BF394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A81-7B46-4551-AB73-8786EC4843EC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EC9-9B1D-4F7F-8E59-FEA4533A0A9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2174-288D-4B6D-9ABC-554645128CB1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140A-D08E-497A-A5D7-D812B149479E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11DA-A3BE-4A0F-8DF8-121CFF84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C7E6-F9A6-43F3-96E1-FC19E6E3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332E-0CD6-49C5-A32B-4B8768F1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9FC7-13BD-4468-8BA7-FEED9615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7685-C643-45D9-8127-5553CCE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42D-519C-4035-9768-268AB6D9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6854-9BB3-4F2B-8E59-CC5A608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F1B4-6419-4794-920A-7B6C66EA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F711-F221-44C1-91B9-CCF35AE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751-CD2A-4AAE-BA28-93E9222E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D27E-1A85-4BF8-99E8-A2579DE3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AE6E-221E-4B7C-9E39-635AFE3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42D-C08D-458A-8DE6-4B84320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DAC-2DDE-4177-9DCF-90352FD8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CD10-FB31-43C9-A628-79C7D0B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1263-568C-4805-A305-133F7CAB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DCD3-6ECC-4977-8EB9-B0D541EA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AC08-CC40-43E1-8010-6183EF03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02B7-373A-4169-8E0D-DCF25C0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302D-52C7-4F9F-810D-05E3238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DA3B-0DA3-42D6-849E-8E1201A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104B-3AF8-4404-AC52-3A76DE2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CE46-2222-4BD1-A0CF-1E03342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9B9D-B0FA-4A7B-8743-FB76AF9B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93F7-C7BA-40DC-867C-16D02474491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829-DB0E-467D-BDA1-DF2967D9C99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Unit 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144f"/>
                </a:solidFill>
                <a:latin typeface="Garamond"/>
              </a:rPr>
              <a:t>A Friend in Need …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es, she h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, she hasn’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8" name="Straight Arrow Connector 8"/>
          <p:cNvCxnSpPr/>
          <p:nvPr/>
        </p:nvCxnSpPr>
        <p:spPr>
          <a:xfrm>
            <a:off x="3352320" y="12193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29" name=""/>
          <p:cNvSpPr/>
          <p:nvPr/>
        </p:nvSpPr>
        <p:spPr>
          <a:xfrm>
            <a:off x="0" y="22860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  <a:ea typeface="Arial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860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he ha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he hasn’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1" name="Straight Arrow Connector 8"/>
          <p:cNvCxnSpPr/>
          <p:nvPr/>
        </p:nvCxnSpPr>
        <p:spPr>
          <a:xfrm>
            <a:off x="3429000" y="25146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2" name=""/>
          <p:cNvSpPr/>
          <p:nvPr/>
        </p:nvSpPr>
        <p:spPr>
          <a:xfrm>
            <a:off x="0" y="3809880"/>
            <a:ext cx="32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3" name="Straight Arrow Connector 8"/>
          <p:cNvCxnSpPr/>
          <p:nvPr/>
        </p:nvCxnSpPr>
        <p:spPr>
          <a:xfrm>
            <a:off x="3200400" y="4114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4495680" y="38098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I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I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y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they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they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7" name="Straight Arrow Connector 8"/>
          <p:cNvCxnSpPr/>
          <p:nvPr/>
        </p:nvCxnSpPr>
        <p:spPr>
          <a:xfrm>
            <a:off x="3505320" y="5409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8" name="Text Placeholder 2"/>
          <p:cNvSpPr/>
          <p:nvPr/>
        </p:nvSpPr>
        <p:spPr>
          <a:xfrm>
            <a:off x="152280" y="15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Examples</a:t>
            </a: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an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Garamond"/>
              </a:rPr>
              <a:t>E</a:t>
            </a:r>
            <a:r>
              <a:rPr b="1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xpress ability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Subjec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+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an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ase form of the verb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20" y="1600200"/>
          <a:ext cx="9067680" cy="4916520"/>
        </p:xfrm>
        <a:graphic>
          <a:graphicData uri="http://schemas.openxmlformats.org/drawingml/2006/table">
            <a:tbl>
              <a:tblPr/>
              <a:tblGrid>
                <a:gridCol w="3289320"/>
                <a:gridCol w="143496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bcb0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806480"/>
          <a:ext cx="8534520" cy="501336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4419720"/>
                <a:gridCol w="685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Garamond"/>
              </a:rPr>
              <a:t>xpress abil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752480"/>
          <a:ext cx="9186840" cy="5029200"/>
        </p:xfrm>
        <a:graphic>
          <a:graphicData uri="http://schemas.openxmlformats.org/drawingml/2006/table">
            <a:tbl>
              <a:tblPr/>
              <a:tblGrid>
                <a:gridCol w="2819520"/>
                <a:gridCol w="301464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can’t</a:t>
                      </a: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peak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rench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200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I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I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’t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ru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as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he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he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9" name="Rectangle 15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3526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150" name="Straight Arrow Connector 17"/>
          <p:cNvCxnSpPr/>
          <p:nvPr/>
        </p:nvCxnSpPr>
        <p:spPr>
          <a:xfrm flipV="1">
            <a:off x="4191120" y="2818800"/>
            <a:ext cx="3600" cy="610200"/>
          </a:xfrm>
          <a:prstGeom prst="straightConnector1">
            <a:avLst/>
          </a:prstGeom>
          <a:ln w="1908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1" name="Straight Arrow Connector 19"/>
          <p:cNvCxnSpPr/>
          <p:nvPr/>
        </p:nvCxnSpPr>
        <p:spPr>
          <a:xfrm flipH="1" flipV="1">
            <a:off x="1409040" y="2957040"/>
            <a:ext cx="1562760" cy="7819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2" name="Straight Arrow Connector 21"/>
          <p:cNvCxnSpPr/>
          <p:nvPr/>
        </p:nvCxnSpPr>
        <p:spPr>
          <a:xfrm flipV="1">
            <a:off x="4952880" y="2894760"/>
            <a:ext cx="1021680" cy="69156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3" name="Straight Arrow Connector 23"/>
          <p:cNvCxnSpPr/>
          <p:nvPr/>
        </p:nvCxnSpPr>
        <p:spPr>
          <a:xfrm flipH="1">
            <a:off x="4114080" y="4419360"/>
            <a:ext cx="3960" cy="53388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4" name="Straight Arrow Connector 25"/>
          <p:cNvCxnSpPr/>
          <p:nvPr/>
        </p:nvCxnSpPr>
        <p:spPr>
          <a:xfrm flipH="1">
            <a:off x="1675800" y="4342320"/>
            <a:ext cx="1524600" cy="6865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4952520" y="4343040"/>
            <a:ext cx="1143720" cy="61020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sp>
        <p:nvSpPr>
          <p:cNvPr id="156" name="Horizontal Scroll 28"/>
          <p:cNvSpPr/>
          <p:nvPr/>
        </p:nvSpPr>
        <p:spPr>
          <a:xfrm>
            <a:off x="2438280" y="0"/>
            <a:ext cx="3733920" cy="99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"/>
              </a:rPr>
              <a:t>-can-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Down Arrow Callout 3"/>
          <p:cNvSpPr/>
          <p:nvPr/>
        </p:nvSpPr>
        <p:spPr>
          <a:xfrm>
            <a:off x="380880" y="457200"/>
            <a:ext cx="8534520" cy="1523880"/>
          </a:xfrm>
          <a:prstGeom prst="downArrowCallout">
            <a:avLst>
              <a:gd name="adj1" fmla="val -26141"/>
              <a:gd name="adj2" fmla="val 32177"/>
              <a:gd name="adj3" fmla="val 25000"/>
              <a:gd name="adj4" fmla="val 649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Can </a:t>
            </a: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(Polite Request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2743200"/>
          <a:ext cx="9144000" cy="2378160"/>
        </p:xfrm>
        <a:graphic>
          <a:graphicData uri="http://schemas.openxmlformats.org/drawingml/2006/table">
            <a:tbl>
              <a:tblPr/>
              <a:tblGrid>
                <a:gridCol w="1341360"/>
                <a:gridCol w="1677960"/>
                <a:gridCol w="3021120"/>
                <a:gridCol w="2709720"/>
                <a:gridCol w="393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66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op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 windo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(Polite Request)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90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861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open the door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36232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open the door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8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give this to Nada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give this to Nada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26708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read this for m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822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read this for m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334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sign her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867280"/>
            <a:ext cx="761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sign her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Express possess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231920" y="554040"/>
            <a:ext cx="6924600" cy="11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5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6561"/>
                </a:solidFill>
                <a:latin typeface="Garamond"/>
                <a:ea typeface="Arial"/>
              </a:rPr>
              <a:t>Subjec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  <a:ea typeface="Arial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o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8229600" cy="4991040"/>
        </p:xfrm>
        <a:graphic>
          <a:graphicData uri="http://schemas.openxmlformats.org/drawingml/2006/table">
            <a:tbl>
              <a:tblPr/>
              <a:tblGrid>
                <a:gridCol w="2692440"/>
                <a:gridCol w="3327480"/>
                <a:gridCol w="22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Have/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O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we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You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ong hai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Ahmed and Omar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ight brown sk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Nada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fair ha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S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blue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828800"/>
          <a:ext cx="8305560" cy="4343040"/>
        </p:xfrm>
        <a:graphic>
          <a:graphicData uri="http://schemas.openxmlformats.org/drawingml/2006/table">
            <a:tbl>
              <a:tblPr/>
              <a:tblGrid>
                <a:gridCol w="2717280"/>
                <a:gridCol w="2793960"/>
                <a:gridCol w="2794320"/>
              </a:tblGrid>
              <a:tr h="22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Nega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1066680"/>
          <a:ext cx="8229600" cy="5340600"/>
        </p:xfrm>
        <a:graphic>
          <a:graphicData uri="http://schemas.openxmlformats.org/drawingml/2006/table">
            <a:tbl>
              <a:tblPr/>
              <a:tblGrid>
                <a:gridCol w="2692440"/>
                <a:gridCol w="2768400"/>
                <a:gridCol w="2768760"/>
              </a:tblGrid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Full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hort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ve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s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 have got a car.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I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got brown eyes.         You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rown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 has got a beard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bear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he has got a cat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S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eft-Right Arrow 5"/>
          <p:cNvSpPr/>
          <p:nvPr/>
        </p:nvSpPr>
        <p:spPr>
          <a:xfrm>
            <a:off x="4724280" y="426708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eft-Right Arrow 5"/>
          <p:cNvSpPr/>
          <p:nvPr/>
        </p:nvSpPr>
        <p:spPr>
          <a:xfrm>
            <a:off x="3886200" y="182880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eft-Right Arrow 5"/>
          <p:cNvSpPr/>
          <p:nvPr/>
        </p:nvSpPr>
        <p:spPr>
          <a:xfrm>
            <a:off x="5715000" y="3124080"/>
            <a:ext cx="990720" cy="152640"/>
          </a:xfrm>
          <a:prstGeom prst="leftRightArrow">
            <a:avLst>
              <a:gd name="adj1" fmla="val 50000"/>
              <a:gd name="adj2" fmla="val 12933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eft-Right Arrow 5"/>
          <p:cNvSpPr/>
          <p:nvPr/>
        </p:nvSpPr>
        <p:spPr>
          <a:xfrm>
            <a:off x="4191120" y="5486400"/>
            <a:ext cx="1218960" cy="228600"/>
          </a:xfrm>
          <a:prstGeom prst="leftRightArrow">
            <a:avLst>
              <a:gd name="adj1" fmla="val 50000"/>
              <a:gd name="adj2" fmla="val 106251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write a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Yes/No Ques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use the ru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/ H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subject</a:t>
            </a:r>
            <a:r>
              <a:rPr b="1" lang="en-US" sz="3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got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c965e"/>
                </a:solidFill>
                <a:latin typeface="Garamond"/>
              </a:rPr>
              <a:t>object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Garamond"/>
                <a:ea typeface="Arial"/>
              </a:rPr>
              <a:t>Interrogative (Questio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1523880"/>
          <a:ext cx="8076960" cy="5193000"/>
        </p:xfrm>
        <a:graphic>
          <a:graphicData uri="http://schemas.openxmlformats.org/drawingml/2006/table">
            <a:tbl>
              <a:tblPr/>
              <a:tblGrid>
                <a:gridCol w="2189160"/>
                <a:gridCol w="1887480"/>
                <a:gridCol w="1282680"/>
                <a:gridCol w="2038320"/>
                <a:gridCol w="6793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Have/ 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Yes/No Question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22:40Z</dcterms:created>
  <dc:creator>sarah</dc:creator>
  <dc:description/>
  <dc:language>en-US</dc:language>
  <cp:lastModifiedBy>AD</cp:lastModifiedBy>
  <dcterms:modified xsi:type="dcterms:W3CDTF">2010-10-26T19:39:19Z</dcterms:modified>
  <cp:revision>16</cp:revision>
  <dc:subject/>
  <dc:title>Express possession</dc:title>
</cp:coreProperties>
</file>