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264D-E2FE-4754-A590-B22D0CD9F81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342-F17C-43BD-B71A-B85E88A45AF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6CB-D69F-42F5-B318-FF372D8207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B71-67A8-44F4-B9B9-ECF37D84F63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551C-C095-4F85-A3C4-65505BA8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582E-0DC9-49AC-836A-BD6E83E6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D8C43-D6AC-4E47-9091-C0F7A4D8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FF03-170B-4114-929B-7F633963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DE8-0BB7-4FCD-9F6D-35897144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A105-D5DD-4C32-BCF5-C9781077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ADB5-982D-4C90-98A2-0BDD7DE2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D914-A105-4859-90B5-B3C6402F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3A08-6407-40C1-B9C3-28FBA818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7A5-1BA1-484A-B2CF-55A9469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FEA5-4513-41B7-9DA7-E792A77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14F7-167A-40BF-BB38-50EA92F5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0D7C-A47E-43AA-95CB-052F5514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9927-1C6C-41E1-A639-1C15C2E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3C61-30E3-4156-8B3F-68F55D5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A2F4-BFE8-4D56-AB96-EBBBF891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7A55-A709-4E6E-AF7B-91B9BF6B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2E42-435B-40BF-B688-5156EBF2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248A-FAC2-4214-B6BC-09ECB75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01AA8-AD4A-4F0F-A60E-3BD66031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258A-403E-4DD2-9EAA-087102C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C93A-4B76-4030-95D8-06A157D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3E8F-C2EC-4AB3-A3ED-77E3F76B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6E5D-9C82-43B1-89C4-AFBC67B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EDAA-4724-4F9B-AB4D-28F83AE7BF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896-C8F5-47A4-8276-E526A7F3C6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00"/>
                </a:solidFill>
                <a:latin typeface="Garamond"/>
              </a:rPr>
              <a:t>Unit 3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aramond"/>
              </a:rPr>
              <a:t>Home Sweet Hom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00200"/>
          <a:ext cx="8699400" cy="43639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  <a:gridCol w="984240"/>
                <a:gridCol w="4357800"/>
                <a:gridCol w="38556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1440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144792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 in the living room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Straight Arrow Connector 8"/>
          <p:cNvCxnSpPr/>
          <p:nvPr/>
        </p:nvCxnSpPr>
        <p:spPr>
          <a:xfrm>
            <a:off x="3276720" y="19807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0" y="29718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/>
          <p:nvPr/>
        </p:nvCxnSpPr>
        <p:spPr>
          <a:xfrm>
            <a:off x="32004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5029200" y="2895480"/>
            <a:ext cx="4114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ook on the tabl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is./ No,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1911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267080"/>
            <a:ext cx="41148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Straight Arrow Connector 8"/>
          <p:cNvCxnSpPr/>
          <p:nvPr/>
        </p:nvCxnSpPr>
        <p:spPr>
          <a:xfrm>
            <a:off x="3352320" y="48006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0" y="5638680"/>
            <a:ext cx="372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Straight Arrow Connector 8"/>
          <p:cNvCxnSpPr/>
          <p:nvPr/>
        </p:nvCxnSpPr>
        <p:spPr>
          <a:xfrm>
            <a:off x="3505320" y="63241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029200" y="5581800"/>
            <a:ext cx="4114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re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there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6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apples on the tabl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es, there are./ No, there are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13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Plur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8842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make most nou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plural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Ex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rd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rd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 </a:t>
            </a:r>
            <a:r>
              <a:rPr b="1" lang="ar-SA" sz="3200" spc="-1" strike="noStrike">
                <a:solidFill>
                  <a:srgbClr val="ff0066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treet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Room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Chair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We add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–es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to noun ending in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–s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ch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ss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-x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ru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n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ddre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s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ar-SA" sz="3200" spc="-1" strike="noStrike">
                <a:solidFill>
                  <a:srgbClr val="cc0000"/>
                </a:solidFill>
                <a:latin typeface="Garamond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o</a:t>
            </a:r>
            <a:r>
              <a:rPr b="1" lang="en-US" sz="3200" spc="-1" strike="noStrike">
                <a:solidFill>
                  <a:srgbClr val="cc0000"/>
                </a:solidFill>
                <a:latin typeface="Garamond"/>
              </a:rPr>
              <a:t>x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>
            <a:off x="2057400" y="15235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0" name="Straight Arrow Connector 8"/>
          <p:cNvCxnSpPr/>
          <p:nvPr/>
        </p:nvCxnSpPr>
        <p:spPr>
          <a:xfrm>
            <a:off x="2057400" y="20574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2057400" y="31237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2" name="Straight Arrow Connector 8"/>
          <p:cNvCxnSpPr/>
          <p:nvPr/>
        </p:nvCxnSpPr>
        <p:spPr>
          <a:xfrm>
            <a:off x="2133720" y="25909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3" name="Straight Arrow Connector 8"/>
          <p:cNvCxnSpPr/>
          <p:nvPr/>
        </p:nvCxnSpPr>
        <p:spPr>
          <a:xfrm>
            <a:off x="1905120" y="419112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4" name="Straight Arrow Connector 8"/>
          <p:cNvCxnSpPr/>
          <p:nvPr/>
        </p:nvCxnSpPr>
        <p:spPr>
          <a:xfrm>
            <a:off x="2057400" y="4723920"/>
            <a:ext cx="129600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5" name="Straight Arrow Connector 8"/>
          <p:cNvCxnSpPr/>
          <p:nvPr/>
        </p:nvCxnSpPr>
        <p:spPr>
          <a:xfrm>
            <a:off x="2057400" y="5257800"/>
            <a:ext cx="129600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6" name="Straight Arrow Connector 8"/>
          <p:cNvCxnSpPr/>
          <p:nvPr/>
        </p:nvCxnSpPr>
        <p:spPr>
          <a:xfrm>
            <a:off x="2209320" y="5791320"/>
            <a:ext cx="1296360" cy="216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1980720" y="6324120"/>
            <a:ext cx="1296360" cy="252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There is/ There 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520" y="232560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a flow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There 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 flower</a:t>
            </a: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85800" y="373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69343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086600" y="49528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634000" y="455148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7" name="Curved Left Arrow 12"/>
          <p:cNvSpPr/>
          <p:nvPr/>
        </p:nvSpPr>
        <p:spPr>
          <a:xfrm>
            <a:off x="3124080" y="3048120"/>
            <a:ext cx="1067040" cy="198108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395280 h 1981080"/>
              <a:gd name="textAreaBottom" fmla="*/ 1452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3425749"/>
                <a:lnTo>
                  <a:pt x="5400" y="21326"/>
                </a:lnTo>
                <a:lnTo>
                  <a:pt x="0" y="18693"/>
                </a:lnTo>
                <a:lnTo>
                  <a:pt x="5400" y="15511"/>
                </a:lnTo>
                <a:lnTo>
                  <a:pt x="5400" y="16965"/>
                </a:lnTo>
                <a:arcTo wR="21600" hR="8620" stAng="3425749" swAng="-3191420"/>
                <a:lnTo>
                  <a:pt x="21291" y="10073"/>
                </a:lnTo>
                <a:arcTo wR="21600" hR="8620" stAng="-234329" swAng="-5165671"/>
                <a:close/>
              </a:path>
              <a:path fill="darkenLess"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-234329"/>
                <a:lnTo>
                  <a:pt x="21291" y="10073"/>
                </a:lnTo>
                <a:arcTo wR="21600" hR="8620" stAng="-234329" swAng="-5165671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urved Right Arrow 14"/>
          <p:cNvSpPr/>
          <p:nvPr/>
        </p:nvSpPr>
        <p:spPr>
          <a:xfrm>
            <a:off x="5562720" y="2743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42720 h 1828800"/>
              <a:gd name="textAreaBottom" fmla="*/ 13334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838080" y="380520"/>
            <a:ext cx="6324480" cy="148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is is/that is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(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singular</a:t>
            </a: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280" y="2174400"/>
            <a:ext cx="38102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 algn="r" rtl="1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That </a:t>
            </a:r>
            <a:r>
              <a:rPr b="1" i="1" lang="en-US" sz="3200" spc="-1" strike="noStrike">
                <a:solidFill>
                  <a:srgbClr val="00b050"/>
                </a:solidFill>
                <a:latin typeface="Garamond"/>
              </a:rPr>
              <a:t>is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a fl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1120" y="-360"/>
            <a:ext cx="4952880" cy="17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Garamond"/>
              </a:rPr>
              <a:t>These are/ those are (plural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se </a:t>
            </a:r>
            <a:r>
              <a:rPr b="1" lang="en-US" sz="3200" spc="-1" strike="noStrike">
                <a:solidFill>
                  <a:srgbClr val="00b050"/>
                </a:solidFill>
                <a:latin typeface="Garamond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low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676920" y="2709720"/>
            <a:ext cx="1019160" cy="94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162920" y="33526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7848720" y="2743200"/>
            <a:ext cx="882360" cy="1014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590920" y="27432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2666880" y="55627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0120" y="594360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sarah\AppData\Local\Microsoft\Windows\Temporary Internet Files\Content.IE5\SF9W12BQ\MCj04368690000[1].png"/>
          <p:cNvPicPr/>
          <p:nvPr/>
        </p:nvPicPr>
        <p:blipFill>
          <a:blip r:embed="rId7"/>
          <a:stretch/>
        </p:blipFill>
        <p:spPr>
          <a:xfrm>
            <a:off x="7086600" y="541008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arah\AppData\Local\Microsoft\Windows\Temporary Internet Files\Content.IE5\SF9W12BQ\MCj04368690000[1].png"/>
          <p:cNvPicPr/>
          <p:nvPr/>
        </p:nvPicPr>
        <p:blipFill>
          <a:blip r:embed="rId8"/>
          <a:stretch/>
        </p:blipFill>
        <p:spPr>
          <a:xfrm>
            <a:off x="8010360" y="53341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14"/>
          <p:cNvSpPr/>
          <p:nvPr/>
        </p:nvSpPr>
        <p:spPr>
          <a:xfrm>
            <a:off x="1676520" y="297180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iped Right Arrow 15"/>
          <p:cNvSpPr/>
          <p:nvPr/>
        </p:nvSpPr>
        <p:spPr>
          <a:xfrm>
            <a:off x="304920" y="5943600"/>
            <a:ext cx="1066680" cy="304920"/>
          </a:xfrm>
          <a:prstGeom prst="pie">
            <a:avLst/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ight Arrow 16"/>
          <p:cNvSpPr/>
          <p:nvPr/>
        </p:nvSpPr>
        <p:spPr>
          <a:xfrm>
            <a:off x="5791320" y="33526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ight Arrow 17"/>
          <p:cNvSpPr/>
          <p:nvPr/>
        </p:nvSpPr>
        <p:spPr>
          <a:xfrm>
            <a:off x="5257800" y="60199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76520"/>
          <a:ext cx="838224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1447920"/>
                <a:gridCol w="4114800"/>
              </a:tblGrid>
              <a:tr h="175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o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1520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324480" y="4724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257800" y="4800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00"/>
                </a:solidFill>
                <a:uFillTx/>
                <a:latin typeface="Garamond"/>
              </a:rPr>
              <a:t>Affirmitive (positive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ingul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i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Garamond"/>
              </a:rPr>
              <a:t>a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mchair 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Plu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om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rmchair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in the living roo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676520"/>
          <a:ext cx="8382240" cy="486072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2057400"/>
                <a:gridCol w="3505320"/>
              </a:tblGrid>
              <a:tr h="19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i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flower i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r>
                        <a:rPr b="1" lang="en-US" sz="36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9900"/>
                          </a:solidFill>
                          <a:latin typeface="Garamond"/>
                        </a:rPr>
                        <a:t>ar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t an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ower</a:t>
                      </a:r>
                      <a:r>
                        <a:rPr b="1" lang="en-US" sz="3600" spc="-1" strike="noStrike">
                          <a:solidFill>
                            <a:srgbClr val="cc00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on the vase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2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6324480" y="2819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739152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400800" y="5562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5410080" y="556272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H="1">
            <a:off x="6248520" y="26668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315200" y="5486400"/>
            <a:ext cx="838080" cy="7621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24480" y="5410080"/>
            <a:ext cx="914400" cy="9144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54864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7432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5627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09720" y="54100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Neg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00200"/>
            <a:ext cx="571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438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28600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 in the living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5812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724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80060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 </a:t>
            </a:r>
            <a:r>
              <a:rPr b="1" i="1" lang="en-US" sz="2800" spc="-1" strike="noStrike">
                <a:solidFill>
                  <a:srgbClr val="009900"/>
                </a:solidFill>
                <a:latin typeface="Garamond"/>
              </a:rPr>
              <a:t>an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chairs in the living 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8"/>
          <p:cNvCxnSpPr/>
          <p:nvPr/>
        </p:nvCxnSpPr>
        <p:spPr>
          <a:xfrm>
            <a:off x="3429000" y="29718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3352320" y="411480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422440" y="545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5053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35812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s </a:t>
            </a: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ook on the t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8"/>
          <p:cNvCxnSpPr/>
          <p:nvPr/>
        </p:nvCxnSpPr>
        <p:spPr>
          <a:xfrm>
            <a:off x="3505320" y="533412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0" y="58672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867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are </a:t>
            </a:r>
            <a:r>
              <a:rPr b="1" i="1" lang="en-US" sz="2800" spc="-1" strike="noStrike">
                <a:solidFill>
                  <a:srgbClr val="cc0000"/>
                </a:solidFill>
                <a:latin typeface="Garamond"/>
              </a:rPr>
              <a:t>not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92d050"/>
                </a:solidFill>
                <a:latin typeface="Garamond"/>
              </a:rPr>
              <a:t>any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pples on the 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8"/>
          <p:cNvCxnSpPr/>
          <p:nvPr/>
        </p:nvCxnSpPr>
        <p:spPr>
          <a:xfrm>
            <a:off x="3580920" y="6477120"/>
            <a:ext cx="129636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:\Users\sarah\AppData\Local\Microsoft\Windows\Temporary Internet Files\Content.IE5\SF9W12BQ\MCj04368690000[1].png"/>
          <p:cNvPicPr/>
          <p:nvPr/>
        </p:nvPicPr>
        <p:blipFill>
          <a:blip r:embed="rId1"/>
          <a:stretch/>
        </p:blipFill>
        <p:spPr>
          <a:xfrm>
            <a:off x="731520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sarah\AppData\Local\Microsoft\Windows\Temporary Internet Files\Content.IE5\SF9W12BQ\MCj04368690000[1].png"/>
          <p:cNvPicPr/>
          <p:nvPr/>
        </p:nvPicPr>
        <p:blipFill>
          <a:blip r:embed="rId2"/>
          <a:stretch/>
        </p:blipFill>
        <p:spPr>
          <a:xfrm>
            <a:off x="5105520" y="373392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sarah\AppData\Local\Microsoft\Windows\Temporary Internet Files\Content.IE5\SF9W12BQ\MCj04368690000[1].png"/>
          <p:cNvPicPr/>
          <p:nvPr/>
        </p:nvPicPr>
        <p:blipFill>
          <a:blip r:embed="rId3"/>
          <a:stretch/>
        </p:blipFill>
        <p:spPr>
          <a:xfrm>
            <a:off x="6172200" y="3733920"/>
            <a:ext cx="113364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Some ( affirm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om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6560" y="1534680"/>
            <a:ext cx="3809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aramond"/>
              </a:rPr>
              <a:t>Any ( 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3280" y="2174760"/>
            <a:ext cx="4043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n’t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Horizontal Scroll 6"/>
          <p:cNvSpPr/>
          <p:nvPr/>
        </p:nvSpPr>
        <p:spPr>
          <a:xfrm>
            <a:off x="2057400" y="0"/>
            <a:ext cx="4572000" cy="1523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Aharoni"/>
                <a:ea typeface="Aharoni"/>
              </a:rPr>
              <a:t>Some/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 Arrow 7"/>
          <p:cNvSpPr/>
          <p:nvPr/>
        </p:nvSpPr>
        <p:spPr>
          <a:xfrm>
            <a:off x="1828800" y="2286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8"/>
          <p:cNvSpPr/>
          <p:nvPr/>
        </p:nvSpPr>
        <p:spPr>
          <a:xfrm>
            <a:off x="6553080" y="2209680"/>
            <a:ext cx="304920" cy="7621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C:\Users\sarah\AppData\Local\Microsoft\Windows\Temporary Internet Files\Content.IE5\SF9W12BQ\MCj04368690000[1].png"/>
          <p:cNvPicPr/>
          <p:nvPr/>
        </p:nvPicPr>
        <p:blipFill>
          <a:blip r:embed="rId4"/>
          <a:stretch/>
        </p:blipFill>
        <p:spPr>
          <a:xfrm>
            <a:off x="2895480" y="373392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Users\sarah\AppData\Local\Microsoft\Windows\Temporary Internet Files\Content.IE5\SF9W12BQ\MCj04368690000[1].png"/>
          <p:cNvPicPr/>
          <p:nvPr/>
        </p:nvPicPr>
        <p:blipFill>
          <a:blip r:embed="rId5"/>
          <a:stretch/>
        </p:blipFill>
        <p:spPr>
          <a:xfrm>
            <a:off x="1828800" y="3657600"/>
            <a:ext cx="113364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arah\AppData\Local\Microsoft\Windows\Temporary Internet Files\Content.IE5\SF9W12BQ\MCj04368690000[1].png"/>
          <p:cNvPicPr/>
          <p:nvPr/>
        </p:nvPicPr>
        <p:blipFill>
          <a:blip r:embed="rId6"/>
          <a:stretch/>
        </p:blipFill>
        <p:spPr>
          <a:xfrm>
            <a:off x="762120" y="3657600"/>
            <a:ext cx="113328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6748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65760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733920"/>
            <a:ext cx="914400" cy="6858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120" y="3657600"/>
            <a:ext cx="83844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67120" y="3581280"/>
            <a:ext cx="838440" cy="83844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10:52Z</dcterms:created>
  <dc:creator>sarah</dc:creator>
  <dc:description/>
  <dc:language>en-US</dc:language>
  <cp:lastModifiedBy>AD</cp:lastModifiedBy>
  <dcterms:modified xsi:type="dcterms:W3CDTF">2010-11-02T00:22:18Z</dcterms:modified>
  <cp:revision>13</cp:revision>
  <dc:subject/>
  <dc:title>Slide 1</dc:title>
</cp:coreProperties>
</file>