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2A1C-E06A-426A-8CD4-FFA4DE3A966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1C5B-035A-45D7-BF9C-6AC33561F75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9759-AEC5-42DA-AF86-5C9F8866D9A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A211-A417-4C0B-9398-1DB009C324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5EB5-D788-48A4-8D4B-709D8973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B8E99-C0FD-46EA-AE62-A8154DA1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13DA-FB43-4879-80E0-A8E18FC6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2428-7454-4242-A1AF-0D18609D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F8B1-6F83-4C6A-99B6-82B493C4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98AE-248B-4DF7-BFBF-0755F001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65D6-F3D1-4EFA-A322-82887DE9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CABE-6E19-444C-870B-12E7BD9C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ACC5-14BC-409D-944B-EE89B5D8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B28C-DE0D-4815-9366-FBD0E17F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6D7-1916-46DC-8697-3CD0553F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C3FB-E702-4950-9258-D570AAFF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CEC4-C551-459B-968F-D4557A85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FF6E-D6C8-4F5A-91F1-9FAC42E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4915-89CC-4C4E-943F-2A620E1B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5433-5D65-43B9-8D55-71AFD2AD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ABDA-C016-4A8F-A53D-BC80F220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FD79-5C40-4D37-8773-B56BBEDE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B2AE-7978-469A-9B69-F74FD247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7DF7-7293-4FA1-9A5F-76C524FC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1BF1-536F-4733-8777-77AFB534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1543-8723-4D5F-9496-5CB709F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1D79-1E8C-436B-889D-45830660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6695-14E1-44DB-BFB1-9C691E7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4933-21EC-47F4-9C7B-3DDB810D05E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BF35-4C6F-4C18-9662-ECF14AE100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Garamond"/>
              </a:rPr>
              <a:t>Unit 3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Home Sweet Hom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1600200"/>
          <a:ext cx="8699400" cy="4363920"/>
        </p:xfrm>
        <a:graphic>
          <a:graphicData uri="http://schemas.openxmlformats.org/drawingml/2006/table">
            <a:tbl>
              <a:tblPr/>
              <a:tblGrid>
                <a:gridCol w="1143000"/>
                <a:gridCol w="1828800"/>
                <a:gridCol w="984240"/>
                <a:gridCol w="4357800"/>
                <a:gridCol w="385560"/>
              </a:tblGrid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91440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144792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 in the living room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is./ No,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Straight Arrow Connector 8"/>
          <p:cNvCxnSpPr/>
          <p:nvPr/>
        </p:nvCxnSpPr>
        <p:spPr>
          <a:xfrm>
            <a:off x="3276720" y="19807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0" y="297180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Straight Arrow Connector 8"/>
          <p:cNvCxnSpPr/>
          <p:nvPr/>
        </p:nvCxnSpPr>
        <p:spPr>
          <a:xfrm>
            <a:off x="3200400" y="34290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5029200" y="2895480"/>
            <a:ext cx="41148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Is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ook on the tabl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is./ No,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191120"/>
            <a:ext cx="3809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4267080"/>
            <a:ext cx="41148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are./ No, there aren’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Straight Arrow Connector 8"/>
          <p:cNvCxnSpPr/>
          <p:nvPr/>
        </p:nvCxnSpPr>
        <p:spPr>
          <a:xfrm>
            <a:off x="3352320" y="480060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0" y="5638680"/>
            <a:ext cx="372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Straight Arrow Connector 8"/>
          <p:cNvCxnSpPr/>
          <p:nvPr/>
        </p:nvCxnSpPr>
        <p:spPr>
          <a:xfrm>
            <a:off x="3505320" y="63241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029200" y="5581800"/>
            <a:ext cx="4114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pples on the tab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are./ No, there are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1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ur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842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o make most nou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plural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we ad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–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Ex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rd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r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treet </a:t>
            </a:r>
            <a:r>
              <a:rPr b="1" lang="ar-SA" sz="3200" spc="-1" strike="noStrike">
                <a:solidFill>
                  <a:srgbClr val="ff0066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treet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Room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Room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air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ai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We add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–es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o noun ending in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–s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–sh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ch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ss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x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r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r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h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n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n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ddre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s</a:t>
            </a:r>
            <a:r>
              <a:rPr b="1" lang="ar-SA" sz="3200" spc="-1" strike="noStrike">
                <a:solidFill>
                  <a:srgbClr val="cc0000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ddre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o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x</a:t>
            </a:r>
            <a:r>
              <a:rPr b="1" lang="ar-SA" sz="3200" spc="-1" strike="noStrike">
                <a:solidFill>
                  <a:srgbClr val="cc0000"/>
                </a:solidFill>
                <a:latin typeface="Garamond"/>
              </a:rPr>
              <a:t>     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o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09" name="Straight Arrow Connector 8"/>
          <p:cNvCxnSpPr/>
          <p:nvPr/>
        </p:nvCxnSpPr>
        <p:spPr>
          <a:xfrm>
            <a:off x="2057400" y="15235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0" name="Straight Arrow Connector 8"/>
          <p:cNvCxnSpPr/>
          <p:nvPr/>
        </p:nvCxnSpPr>
        <p:spPr>
          <a:xfrm>
            <a:off x="2057400" y="205740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1" name="Straight Arrow Connector 8"/>
          <p:cNvCxnSpPr/>
          <p:nvPr/>
        </p:nvCxnSpPr>
        <p:spPr>
          <a:xfrm>
            <a:off x="2057400" y="31237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2" name="Straight Arrow Connector 8"/>
          <p:cNvCxnSpPr/>
          <p:nvPr/>
        </p:nvCxnSpPr>
        <p:spPr>
          <a:xfrm>
            <a:off x="2133720" y="259092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3" name="Straight Arrow Connector 8"/>
          <p:cNvCxnSpPr/>
          <p:nvPr/>
        </p:nvCxnSpPr>
        <p:spPr>
          <a:xfrm>
            <a:off x="1905120" y="419112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4" name="Straight Arrow Connector 8"/>
          <p:cNvCxnSpPr/>
          <p:nvPr/>
        </p:nvCxnSpPr>
        <p:spPr>
          <a:xfrm>
            <a:off x="2057400" y="47239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5" name="Straight Arrow Connector 8"/>
          <p:cNvCxnSpPr/>
          <p:nvPr/>
        </p:nvCxnSpPr>
        <p:spPr>
          <a:xfrm>
            <a:off x="2057400" y="525780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6" name="Straight Arrow Connector 8"/>
          <p:cNvCxnSpPr/>
          <p:nvPr/>
        </p:nvCxnSpPr>
        <p:spPr>
          <a:xfrm>
            <a:off x="2209320" y="5791320"/>
            <a:ext cx="129636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1980720" y="6324120"/>
            <a:ext cx="129636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There is/ There 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ingul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520" y="23256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re 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 a flow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Plur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re 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 flower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8580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693432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70866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634000" y="455148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7" name="Curved Left Arrow 12"/>
          <p:cNvSpPr/>
          <p:nvPr/>
        </p:nvSpPr>
        <p:spPr>
          <a:xfrm>
            <a:off x="3124080" y="3048120"/>
            <a:ext cx="1067040" cy="198108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395280 h 1981080"/>
              <a:gd name="textAreaBottom" fmla="*/ 1452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3425749"/>
                <a:lnTo>
                  <a:pt x="5400" y="21326"/>
                </a:lnTo>
                <a:lnTo>
                  <a:pt x="0" y="18693"/>
                </a:lnTo>
                <a:lnTo>
                  <a:pt x="5400" y="15511"/>
                </a:lnTo>
                <a:lnTo>
                  <a:pt x="5400" y="16965"/>
                </a:lnTo>
                <a:arcTo wR="21600" hR="8620" stAng="3425749" swAng="-3191420"/>
                <a:lnTo>
                  <a:pt x="21291" y="10073"/>
                </a:lnTo>
                <a:arcTo wR="21600" hR="8620" stAng="-234329" swAng="-5165671"/>
                <a:close/>
              </a:path>
              <a:path fill="darkenLess"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-234329"/>
                <a:lnTo>
                  <a:pt x="21291" y="10073"/>
                </a:lnTo>
                <a:arcTo wR="21600" hR="8620" stAng="-234329" swAng="-5165671"/>
                <a:close/>
              </a:path>
            </a:pathLst>
          </a:cu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urved Right Arrow 14"/>
          <p:cNvSpPr/>
          <p:nvPr/>
        </p:nvSpPr>
        <p:spPr>
          <a:xfrm>
            <a:off x="5562720" y="2743200"/>
            <a:ext cx="1218960" cy="18288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342720 h 1828800"/>
              <a:gd name="textAreaBottom" fmla="*/ 13334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838080" y="380520"/>
            <a:ext cx="6324480" cy="148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This is/that is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(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singular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2280" y="2174400"/>
            <a:ext cx="38102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is </a:t>
            </a:r>
            <a:r>
              <a:rPr b="1" i="1" lang="en-US" sz="3200" spc="-1" strike="noStrike">
                <a:solidFill>
                  <a:srgbClr val="00b050"/>
                </a:solidFill>
                <a:latin typeface="Garamond"/>
              </a:rPr>
              <a:t>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 f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at </a:t>
            </a:r>
            <a:r>
              <a:rPr b="1" i="1" lang="en-US" sz="3200" spc="-1" strike="noStrike">
                <a:solidFill>
                  <a:srgbClr val="00b050"/>
                </a:solidFill>
                <a:latin typeface="Garamond"/>
              </a:rPr>
              <a:t>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 f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1120" y="-360"/>
            <a:ext cx="495288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These are/ those are (plural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se </a:t>
            </a:r>
            <a:r>
              <a:rPr b="1" lang="en-US" sz="3200" spc="-1" strike="noStrike">
                <a:solidFill>
                  <a:srgbClr val="00b050"/>
                </a:solidFill>
                <a:latin typeface="Garamond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lo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se </a:t>
            </a:r>
            <a:r>
              <a:rPr b="1" lang="en-US" sz="3200" spc="-1" strike="noStrike">
                <a:solidFill>
                  <a:srgbClr val="00b050"/>
                </a:solidFill>
                <a:latin typeface="Garamond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lo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676920" y="2709720"/>
            <a:ext cx="1019160" cy="947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162920" y="3352680"/>
            <a:ext cx="10666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7848720" y="2743200"/>
            <a:ext cx="882360" cy="1014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2590920" y="274320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sarah\AppData\Local\Microsoft\Windows\Temporary Internet Files\Content.IE5\SF9W12BQ\MCj04368690000[1].png"/>
          <p:cNvPicPr/>
          <p:nvPr/>
        </p:nvPicPr>
        <p:blipFill>
          <a:blip r:embed="rId5"/>
          <a:stretch/>
        </p:blipFill>
        <p:spPr>
          <a:xfrm>
            <a:off x="2666880" y="55627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sarah\AppData\Local\Microsoft\Windows\Temporary Internet Files\Content.IE5\SF9W12BQ\MCj04368690000[1].png"/>
          <p:cNvPicPr/>
          <p:nvPr/>
        </p:nvPicPr>
        <p:blipFill>
          <a:blip r:embed="rId6"/>
          <a:stretch/>
        </p:blipFill>
        <p:spPr>
          <a:xfrm>
            <a:off x="7620120" y="594360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sarah\AppData\Local\Microsoft\Windows\Temporary Internet Files\Content.IE5\SF9W12BQ\MCj04368690000[1].png"/>
          <p:cNvPicPr/>
          <p:nvPr/>
        </p:nvPicPr>
        <p:blipFill>
          <a:blip r:embed="rId7"/>
          <a:stretch/>
        </p:blipFill>
        <p:spPr>
          <a:xfrm>
            <a:off x="7086600" y="541008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sarah\AppData\Local\Microsoft\Windows\Temporary Internet Files\Content.IE5\SF9W12BQ\MCj04368690000[1].png"/>
          <p:cNvPicPr/>
          <p:nvPr/>
        </p:nvPicPr>
        <p:blipFill>
          <a:blip r:embed="rId8"/>
          <a:stretch/>
        </p:blipFill>
        <p:spPr>
          <a:xfrm>
            <a:off x="8010360" y="5334120"/>
            <a:ext cx="113364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Right Arrow 14"/>
          <p:cNvSpPr/>
          <p:nvPr/>
        </p:nvSpPr>
        <p:spPr>
          <a:xfrm>
            <a:off x="1676520" y="297180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iped Right Arrow 15"/>
          <p:cNvSpPr/>
          <p:nvPr/>
        </p:nvSpPr>
        <p:spPr>
          <a:xfrm>
            <a:off x="304920" y="5943600"/>
            <a:ext cx="1066680" cy="304920"/>
          </a:xfrm>
          <a:prstGeom prst="pie">
            <a:avLst/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ight Arrow 16"/>
          <p:cNvSpPr/>
          <p:nvPr/>
        </p:nvSpPr>
        <p:spPr>
          <a:xfrm>
            <a:off x="5791320" y="33526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ight Arrow 17"/>
          <p:cNvSpPr/>
          <p:nvPr/>
        </p:nvSpPr>
        <p:spPr>
          <a:xfrm>
            <a:off x="5257800" y="60199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Garamond"/>
              </a:rPr>
              <a:t>Affirmitive (positiv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676520"/>
          <a:ext cx="838224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447920"/>
                <a:gridCol w="1447920"/>
                <a:gridCol w="4114800"/>
              </a:tblGrid>
              <a:tr h="175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o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324480" y="2819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315200" y="4724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324480" y="4724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257800" y="4800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00"/>
                </a:solidFill>
                <a:uFillTx/>
                <a:latin typeface="Garamond"/>
              </a:rPr>
              <a:t>Affirmitive (positive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ingul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a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mchair  in the living ro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Plur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om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air</a:t>
            </a: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n the living roo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om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rmchair</a:t>
            </a: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n the living ro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Garamond"/>
              </a:rPr>
              <a:t>Neg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1676520"/>
          <a:ext cx="8382240" cy="4860720"/>
        </p:xfrm>
        <a:graphic>
          <a:graphicData uri="http://schemas.openxmlformats.org/drawingml/2006/table">
            <a:tbl>
              <a:tblPr/>
              <a:tblGrid>
                <a:gridCol w="1371600"/>
                <a:gridCol w="1447920"/>
                <a:gridCol w="2057400"/>
                <a:gridCol w="3505320"/>
              </a:tblGrid>
              <a:tr h="196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t 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t 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324480" y="2819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391520" y="55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400800" y="55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410080" y="556272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6248520" y="2666880"/>
            <a:ext cx="914400" cy="9144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315200" y="5486400"/>
            <a:ext cx="838080" cy="7621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324480" y="5410080"/>
            <a:ext cx="914400" cy="9144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54864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7432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55627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5627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09720" y="5410080"/>
            <a:ext cx="838440" cy="838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Neg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00200"/>
            <a:ext cx="571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iv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2438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228600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5812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724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8006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not </a:t>
            </a:r>
            <a:r>
              <a:rPr b="1" i="1" lang="en-US" sz="28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chairs in the living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Straight Arrow Connector 8"/>
          <p:cNvCxnSpPr/>
          <p:nvPr/>
        </p:nvCxnSpPr>
        <p:spPr>
          <a:xfrm>
            <a:off x="3429000" y="29718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cxnSp>
        <p:nvCxnSpPr>
          <p:cNvPr id="176" name="Straight Arrow Connector 8"/>
          <p:cNvCxnSpPr/>
          <p:nvPr/>
        </p:nvCxnSpPr>
        <p:spPr>
          <a:xfrm>
            <a:off x="3352320" y="411480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422440" y="54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5053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35812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s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Straight Arrow Connector 8"/>
          <p:cNvCxnSpPr/>
          <p:nvPr/>
        </p:nvCxnSpPr>
        <p:spPr>
          <a:xfrm>
            <a:off x="3505320" y="533412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0" y="58672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58672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are </a:t>
            </a: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any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Straight Arrow Connector 8"/>
          <p:cNvCxnSpPr/>
          <p:nvPr/>
        </p:nvCxnSpPr>
        <p:spPr>
          <a:xfrm>
            <a:off x="3580920" y="647712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7315200" y="37339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5105520" y="373392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172200" y="3733920"/>
            <a:ext cx="113364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Some ( affirm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om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76560" y="1534680"/>
            <a:ext cx="3809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Any ( 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n’t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Horizontal Scroll 6"/>
          <p:cNvSpPr/>
          <p:nvPr/>
        </p:nvSpPr>
        <p:spPr>
          <a:xfrm>
            <a:off x="2057400" y="0"/>
            <a:ext cx="4572000" cy="15238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0253f"/>
                </a:solidFill>
                <a:latin typeface="Aharoni"/>
                <a:ea typeface="Aharoni"/>
              </a:rPr>
              <a:t>Some/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Down Arrow 7"/>
          <p:cNvSpPr/>
          <p:nvPr/>
        </p:nvSpPr>
        <p:spPr>
          <a:xfrm>
            <a:off x="1828800" y="2286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Down Arrow 8"/>
          <p:cNvSpPr/>
          <p:nvPr/>
        </p:nvSpPr>
        <p:spPr>
          <a:xfrm>
            <a:off x="6553080" y="22096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2895480" y="37339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:\Users\sarah\AppData\Local\Microsoft\Windows\Temporary Internet Files\Content.IE5\SF9W12BQ\MCj04368690000[1].png"/>
          <p:cNvPicPr/>
          <p:nvPr/>
        </p:nvPicPr>
        <p:blipFill>
          <a:blip r:embed="rId5"/>
          <a:stretch/>
        </p:blipFill>
        <p:spPr>
          <a:xfrm>
            <a:off x="1828800" y="365760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arah\AppData\Local\Microsoft\Windows\Temporary Internet Files\Content.IE5\SF9W12BQ\MCj04368690000[1].png"/>
          <p:cNvPicPr/>
          <p:nvPr/>
        </p:nvPicPr>
        <p:blipFill>
          <a:blip r:embed="rId6"/>
          <a:stretch/>
        </p:blipFill>
        <p:spPr>
          <a:xfrm>
            <a:off x="762120" y="3657600"/>
            <a:ext cx="113328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467480" y="37339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36576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7339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181120" y="3657600"/>
            <a:ext cx="838440" cy="838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467120" y="3581280"/>
            <a:ext cx="838440" cy="838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1:10:52Z</dcterms:created>
  <dc:creator>sarah</dc:creator>
  <dc:description/>
  <dc:language>en-US</dc:language>
  <cp:lastModifiedBy>AD</cp:lastModifiedBy>
  <dcterms:modified xsi:type="dcterms:W3CDTF">2010-11-02T00:22:18Z</dcterms:modified>
  <cp:revision>13</cp:revision>
  <dc:subject/>
  <dc:title>Slide 1</dc:title>
</cp:coreProperties>
</file>