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55AE-52A2-48F0-ACCA-C4D0471DE5C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24BB-DF7B-4411-B286-44A219AB6FD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65BE-5001-4AD6-B206-99B374017D3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97B9-F16B-4D27-96BA-A3C648DED3F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3D31-053D-4D74-BBB2-ABFAF2EB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C1B5-0900-404E-905F-7FEF11A9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C9F33-2E33-46E7-8E93-3E5922FF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69B7-7FB2-453B-8699-796BCD00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AE45-2F2F-4821-8C8A-B9DA934F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C18D-18A4-4B59-8831-36C4E801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3C48-6CCF-4E2F-9CB1-2554A471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9972-EFD1-45B6-8A4D-660B22B6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0213-52C7-45D9-94C5-4BD1D0BE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19A8-F315-41B0-B4EF-AA13BA92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FA1F-3A85-407A-AEE3-52D2FC11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7B04F-233E-45A6-AEA1-466C2EB0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8CA3-D3E3-4E04-9AB9-F064F926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C1D7-F4B7-4E48-8E5F-BE7A5F3B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94BA-9C48-4372-BBB8-8DF4D207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C44A-6F8C-4C00-B849-F9413F8B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3948-789C-407F-9A24-AE36D8B2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7E6C9-703A-4D2E-A318-56EDC6DB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BFD2D-BC09-4C33-A7FB-582575B5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155F-E3AE-4E88-B5CF-E567A861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55D3-5191-497C-B9E7-B6C827FE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7D88-34B2-4D60-9248-07518246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6A8E-64EC-4CE1-89C1-54D42265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739E-E517-47BF-A194-F81A608D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8A1D-58CF-43E6-9AAC-28517358264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0BA4-AE94-45B4-B884-B94706D16BC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Garamond"/>
              </a:rPr>
              <a:t>Unit 3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aramond"/>
              </a:rPr>
              <a:t>Home Sweet Hom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Garamond"/>
              </a:rPr>
              <a:t>Interrogative (Question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" y="1600200"/>
          <a:ext cx="8699400" cy="4363920"/>
        </p:xfrm>
        <a:graphic>
          <a:graphicData uri="http://schemas.openxmlformats.org/drawingml/2006/table">
            <a:tbl>
              <a:tblPr/>
              <a:tblGrid>
                <a:gridCol w="1143000"/>
                <a:gridCol w="1828800"/>
                <a:gridCol w="984240"/>
                <a:gridCol w="4357800"/>
                <a:gridCol w="385560"/>
              </a:tblGrid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flower in the vase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ower</a:t>
                      </a:r>
                      <a:r>
                        <a:rPr b="1" lang="en-US" sz="3600" spc="-1" strike="noStrike">
                          <a:solidFill>
                            <a:srgbClr val="cc00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on the vase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91440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is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chair in the living roo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Garamond"/>
              </a:rPr>
              <a:t>Interrogative (Questio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144792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Is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there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chair in the living room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, there is./ No, there isn’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Straight Arrow Connector 8"/>
          <p:cNvCxnSpPr/>
          <p:nvPr/>
        </p:nvCxnSpPr>
        <p:spPr>
          <a:xfrm>
            <a:off x="3276720" y="1980720"/>
            <a:ext cx="129600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0" y="2971800"/>
            <a:ext cx="3505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600" spc="-1" strike="noStrike">
                <a:solidFill>
                  <a:srgbClr val="ffcc00"/>
                </a:solidFill>
                <a:latin typeface="Garamond"/>
              </a:rPr>
              <a:t>is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book on the tabl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Straight Arrow Connector 8"/>
          <p:cNvCxnSpPr/>
          <p:nvPr/>
        </p:nvCxnSpPr>
        <p:spPr>
          <a:xfrm>
            <a:off x="3200400" y="34290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5029200" y="2895480"/>
            <a:ext cx="41148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Garamond"/>
              </a:rPr>
              <a:t>Is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book on the tabl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, there is./ No, there isn’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191120"/>
            <a:ext cx="3809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600" spc="-1" strike="noStrike">
                <a:solidFill>
                  <a:srgbClr val="92d050"/>
                </a:solidFill>
                <a:latin typeface="Garamond"/>
              </a:rPr>
              <a:t>som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chairs in the living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4267080"/>
            <a:ext cx="411480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r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ther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ny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chairs in the living room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, there are./ No, there aren’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5" name="Straight Arrow Connector 8"/>
          <p:cNvCxnSpPr/>
          <p:nvPr/>
        </p:nvCxnSpPr>
        <p:spPr>
          <a:xfrm>
            <a:off x="3352320" y="4800600"/>
            <a:ext cx="129636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0" y="5638680"/>
            <a:ext cx="372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600" spc="-1" strike="noStrike">
                <a:solidFill>
                  <a:srgbClr val="92d050"/>
                </a:solidFill>
                <a:latin typeface="Garamond"/>
              </a:rPr>
              <a:t>som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pples on the ta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Straight Arrow Connector 8"/>
          <p:cNvCxnSpPr/>
          <p:nvPr/>
        </p:nvCxnSpPr>
        <p:spPr>
          <a:xfrm>
            <a:off x="3505320" y="6324120"/>
            <a:ext cx="129600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029200" y="5581800"/>
            <a:ext cx="4114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r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ther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600" spc="-1" strike="noStrike">
                <a:solidFill>
                  <a:srgbClr val="009900"/>
                </a:solidFill>
                <a:latin typeface="Garamond"/>
              </a:rPr>
              <a:t>any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pples on the tabl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, there are./ No, there aren’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13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lur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842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To make most nou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plural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we ad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–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Ex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8000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ird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rd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treet </a:t>
            </a:r>
            <a:r>
              <a:rPr b="1" lang="ar-SA" sz="3200" spc="-1" strike="noStrike">
                <a:solidFill>
                  <a:srgbClr val="ff0066"/>
                </a:solidFill>
                <a:latin typeface="Garamond"/>
              </a:rPr>
              <a:t> 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treet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Room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Room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Chair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Chair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We add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–es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to noun ending in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–s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–sh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-ch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-ss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-x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u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u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ru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ru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h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en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c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en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ch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ddre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s</a:t>
            </a:r>
            <a:r>
              <a:rPr b="1" lang="ar-SA" sz="3200" spc="-1" strike="noStrike">
                <a:solidFill>
                  <a:srgbClr val="cc0000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ddre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o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x</a:t>
            </a:r>
            <a:r>
              <a:rPr b="1" lang="ar-SA" sz="3200" spc="-1" strike="noStrike">
                <a:solidFill>
                  <a:srgbClr val="cc0000"/>
                </a:solidFill>
                <a:latin typeface="Garamond"/>
              </a:rPr>
              <a:t>     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o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x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09" name="Straight Arrow Connector 8"/>
          <p:cNvCxnSpPr/>
          <p:nvPr/>
        </p:nvCxnSpPr>
        <p:spPr>
          <a:xfrm>
            <a:off x="2057400" y="1523520"/>
            <a:ext cx="1296000" cy="252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0" name="Straight Arrow Connector 8"/>
          <p:cNvCxnSpPr/>
          <p:nvPr/>
        </p:nvCxnSpPr>
        <p:spPr>
          <a:xfrm>
            <a:off x="2057400" y="2057400"/>
            <a:ext cx="129600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1" name="Straight Arrow Connector 8"/>
          <p:cNvCxnSpPr/>
          <p:nvPr/>
        </p:nvCxnSpPr>
        <p:spPr>
          <a:xfrm>
            <a:off x="2057400" y="3123720"/>
            <a:ext cx="1296000" cy="252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2" name="Straight Arrow Connector 8"/>
          <p:cNvCxnSpPr/>
          <p:nvPr/>
        </p:nvCxnSpPr>
        <p:spPr>
          <a:xfrm>
            <a:off x="2133720" y="2590920"/>
            <a:ext cx="129600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3" name="Straight Arrow Connector 8"/>
          <p:cNvCxnSpPr/>
          <p:nvPr/>
        </p:nvCxnSpPr>
        <p:spPr>
          <a:xfrm>
            <a:off x="1905120" y="4191120"/>
            <a:ext cx="129600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4" name="Straight Arrow Connector 8"/>
          <p:cNvCxnSpPr/>
          <p:nvPr/>
        </p:nvCxnSpPr>
        <p:spPr>
          <a:xfrm>
            <a:off x="2057400" y="4723920"/>
            <a:ext cx="1296000" cy="252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5" name="Straight Arrow Connector 8"/>
          <p:cNvCxnSpPr/>
          <p:nvPr/>
        </p:nvCxnSpPr>
        <p:spPr>
          <a:xfrm>
            <a:off x="2057400" y="5257800"/>
            <a:ext cx="129600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6" name="Straight Arrow Connector 8"/>
          <p:cNvCxnSpPr/>
          <p:nvPr/>
        </p:nvCxnSpPr>
        <p:spPr>
          <a:xfrm>
            <a:off x="2209320" y="5791320"/>
            <a:ext cx="129636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1980720" y="6324120"/>
            <a:ext cx="1296360" cy="252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Garamond"/>
              </a:rPr>
              <a:t>There is/ There 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Singul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520" y="232560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There </a:t>
            </a: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is</a:t>
            </a: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 a flow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Plur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3280" y="2174760"/>
            <a:ext cx="4043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There </a:t>
            </a: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 flower</a:t>
            </a: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2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685800" y="3733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6934320" y="3276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7086600" y="4952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5634000" y="455148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27" name="Curved Left Arrow 12"/>
          <p:cNvSpPr/>
          <p:nvPr/>
        </p:nvSpPr>
        <p:spPr>
          <a:xfrm>
            <a:off x="3124080" y="3048120"/>
            <a:ext cx="1067040" cy="198108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395280 h 1981080"/>
              <a:gd name="textAreaBottom" fmla="*/ 1452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20" stAng="-5400000" swAng="5400000"/>
                <a:lnTo>
                  <a:pt x="21600" y="11527"/>
                </a:lnTo>
                <a:arcTo wR="21600" hR="8620" stAng="0" swAng="3425749"/>
                <a:lnTo>
                  <a:pt x="5400" y="21326"/>
                </a:lnTo>
                <a:lnTo>
                  <a:pt x="0" y="18693"/>
                </a:lnTo>
                <a:lnTo>
                  <a:pt x="5400" y="15511"/>
                </a:lnTo>
                <a:lnTo>
                  <a:pt x="5400" y="16965"/>
                </a:lnTo>
                <a:arcTo wR="21600" hR="8620" stAng="3425749" swAng="-3191420"/>
                <a:lnTo>
                  <a:pt x="21291" y="10073"/>
                </a:lnTo>
                <a:arcTo wR="21600" hR="8620" stAng="-234329" swAng="-5165671"/>
                <a:close/>
              </a:path>
              <a:path fill="darkenLess" w="21600" h="21600">
                <a:moveTo>
                  <a:pt x="0" y="0"/>
                </a:moveTo>
                <a:arcTo wR="21600" hR="8620" stAng="-5400000" swAng="5400000"/>
                <a:lnTo>
                  <a:pt x="21600" y="11527"/>
                </a:lnTo>
                <a:arcTo wR="21600" hR="8620" stAng="0" swAng="-234329"/>
                <a:lnTo>
                  <a:pt x="21291" y="10073"/>
                </a:lnTo>
                <a:arcTo wR="21600" hR="8620" stAng="-234329" swAng="-5165671"/>
                <a:close/>
              </a:path>
            </a:pathLst>
          </a:cu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Curved Right Arrow 14"/>
          <p:cNvSpPr/>
          <p:nvPr/>
        </p:nvSpPr>
        <p:spPr>
          <a:xfrm>
            <a:off x="5562720" y="2743200"/>
            <a:ext cx="1218960" cy="18288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342720 h 1828800"/>
              <a:gd name="textAreaBottom" fmla="*/ 133344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838080" y="380520"/>
            <a:ext cx="6324480" cy="148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This is/that is</a:t>
            </a: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(</a:t>
            </a: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singular</a:t>
            </a: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52280" y="2174400"/>
            <a:ext cx="38102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This </a:t>
            </a:r>
            <a:r>
              <a:rPr b="1" i="1" lang="en-US" sz="3200" spc="-1" strike="noStrike">
                <a:solidFill>
                  <a:srgbClr val="00b050"/>
                </a:solidFill>
                <a:latin typeface="Garamond"/>
              </a:rPr>
              <a:t>is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a fl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That </a:t>
            </a:r>
            <a:r>
              <a:rPr b="1" i="1" lang="en-US" sz="3200" spc="-1" strike="noStrike">
                <a:solidFill>
                  <a:srgbClr val="00b050"/>
                </a:solidFill>
                <a:latin typeface="Garamond"/>
              </a:rPr>
              <a:t>is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a fl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91120" y="-360"/>
            <a:ext cx="4952880" cy="17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These are/ those are (plural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3280" y="2174760"/>
            <a:ext cx="4043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se </a:t>
            </a:r>
            <a:r>
              <a:rPr b="1" lang="en-US" sz="3200" spc="-1" strike="noStrike">
                <a:solidFill>
                  <a:srgbClr val="00b050"/>
                </a:solidFill>
                <a:latin typeface="Garamond"/>
              </a:rPr>
              <a:t>a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low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ose </a:t>
            </a:r>
            <a:r>
              <a:rPr b="1" lang="en-US" sz="3200" spc="-1" strike="noStrike">
                <a:solidFill>
                  <a:srgbClr val="00b050"/>
                </a:solidFill>
                <a:latin typeface="Garamond"/>
              </a:rPr>
              <a:t>a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low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2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6676920" y="2709720"/>
            <a:ext cx="1019160" cy="947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7162920" y="3352680"/>
            <a:ext cx="106668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7848720" y="2743200"/>
            <a:ext cx="882360" cy="1014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2590920" y="2743200"/>
            <a:ext cx="113328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sarah\AppData\Local\Microsoft\Windows\Temporary Internet Files\Content.IE5\SF9W12BQ\MCj04368690000[1].png"/>
          <p:cNvPicPr/>
          <p:nvPr/>
        </p:nvPicPr>
        <p:blipFill>
          <a:blip r:embed="rId5"/>
          <a:stretch/>
        </p:blipFill>
        <p:spPr>
          <a:xfrm>
            <a:off x="2666880" y="556272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Users\sarah\AppData\Local\Microsoft\Windows\Temporary Internet Files\Content.IE5\SF9W12BQ\MCj04368690000[1].png"/>
          <p:cNvPicPr/>
          <p:nvPr/>
        </p:nvPicPr>
        <p:blipFill>
          <a:blip r:embed="rId6"/>
          <a:stretch/>
        </p:blipFill>
        <p:spPr>
          <a:xfrm>
            <a:off x="7620120" y="5943600"/>
            <a:ext cx="1133280" cy="685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Users\sarah\AppData\Local\Microsoft\Windows\Temporary Internet Files\Content.IE5\SF9W12BQ\MCj04368690000[1].png"/>
          <p:cNvPicPr/>
          <p:nvPr/>
        </p:nvPicPr>
        <p:blipFill>
          <a:blip r:embed="rId7"/>
          <a:stretch/>
        </p:blipFill>
        <p:spPr>
          <a:xfrm>
            <a:off x="7086600" y="541008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sarah\AppData\Local\Microsoft\Windows\Temporary Internet Files\Content.IE5\SF9W12BQ\MCj04368690000[1].png"/>
          <p:cNvPicPr/>
          <p:nvPr/>
        </p:nvPicPr>
        <p:blipFill>
          <a:blip r:embed="rId8"/>
          <a:stretch/>
        </p:blipFill>
        <p:spPr>
          <a:xfrm>
            <a:off x="8010360" y="5334120"/>
            <a:ext cx="113364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Right Arrow 14"/>
          <p:cNvSpPr/>
          <p:nvPr/>
        </p:nvSpPr>
        <p:spPr>
          <a:xfrm>
            <a:off x="1676520" y="297180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triped Right Arrow 15"/>
          <p:cNvSpPr/>
          <p:nvPr/>
        </p:nvSpPr>
        <p:spPr>
          <a:xfrm>
            <a:off x="304920" y="5943600"/>
            <a:ext cx="1066680" cy="304920"/>
          </a:xfrm>
          <a:prstGeom prst="pie">
            <a:avLst/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ight Arrow 16"/>
          <p:cNvSpPr/>
          <p:nvPr/>
        </p:nvSpPr>
        <p:spPr>
          <a:xfrm>
            <a:off x="5791320" y="33526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ight Arrow 17"/>
          <p:cNvSpPr/>
          <p:nvPr/>
        </p:nvSpPr>
        <p:spPr>
          <a:xfrm>
            <a:off x="5257800" y="60199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Garamond"/>
              </a:rPr>
              <a:t>Affirmitive (positive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0880" y="1676520"/>
          <a:ext cx="838224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447920"/>
                <a:gridCol w="1447920"/>
                <a:gridCol w="4114800"/>
              </a:tblGrid>
              <a:tr h="175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flower in the vase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a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o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ower</a:t>
                      </a:r>
                      <a:r>
                        <a:rPr b="1" lang="en-US" sz="3200" spc="-1" strike="noStrike">
                          <a:solidFill>
                            <a:srgbClr val="cc00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on the vase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2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6324480" y="2819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7315200" y="47242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6324480" y="47242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5257800" y="4800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cc00"/>
                </a:solidFill>
                <a:uFillTx/>
                <a:latin typeface="Garamond"/>
              </a:rPr>
              <a:t>Affirmitive (positive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Singul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i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chair in the living roo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i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a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mchair  in the living ro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Plur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om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air</a:t>
            </a: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in the living roo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om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rmchair</a:t>
            </a: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in the living ro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Garamond"/>
              </a:rPr>
              <a:t>Nega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80880" y="1676520"/>
          <a:ext cx="8382240" cy="4860720"/>
        </p:xfrm>
        <a:graphic>
          <a:graphicData uri="http://schemas.openxmlformats.org/drawingml/2006/table">
            <a:tbl>
              <a:tblPr/>
              <a:tblGrid>
                <a:gridCol w="1371600"/>
                <a:gridCol w="1447920"/>
                <a:gridCol w="2057400"/>
                <a:gridCol w="3505320"/>
              </a:tblGrid>
              <a:tr h="196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t 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flower in the vase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t 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ower</a:t>
                      </a:r>
                      <a:r>
                        <a:rPr b="1" lang="en-US" sz="3600" spc="-1" strike="noStrike">
                          <a:solidFill>
                            <a:srgbClr val="cc00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on the vase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2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6324480" y="2819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7391520" y="55627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6400800" y="55627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5410080" y="5562720"/>
            <a:ext cx="723960" cy="723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6248520" y="2666880"/>
            <a:ext cx="914400" cy="9144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315200" y="5486400"/>
            <a:ext cx="838080" cy="7621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324480" y="5410080"/>
            <a:ext cx="914400" cy="9144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548640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274320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556272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56272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409720" y="5410080"/>
            <a:ext cx="838440" cy="838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Nega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00200"/>
            <a:ext cx="571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chair i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iving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43800" y="24382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228600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chair in the living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35812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72428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92d050"/>
                </a:solidFill>
                <a:latin typeface="Garamond"/>
              </a:rPr>
              <a:t>som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chairs in the living 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8006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not </a:t>
            </a:r>
            <a:r>
              <a:rPr b="1" i="1" lang="en-US" sz="2800" spc="-1" strike="noStrike">
                <a:solidFill>
                  <a:srgbClr val="009900"/>
                </a:solidFill>
                <a:latin typeface="Garamond"/>
              </a:rPr>
              <a:t>an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chairs in the living 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Straight Arrow Connector 8"/>
          <p:cNvCxnSpPr/>
          <p:nvPr/>
        </p:nvCxnSpPr>
        <p:spPr>
          <a:xfrm>
            <a:off x="3429000" y="29718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cxnSp>
        <p:nvCxnSpPr>
          <p:cNvPr id="176" name="Straight Arrow Connector 8"/>
          <p:cNvCxnSpPr/>
          <p:nvPr/>
        </p:nvCxnSpPr>
        <p:spPr>
          <a:xfrm>
            <a:off x="3352320" y="4114800"/>
            <a:ext cx="129636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2422440" y="545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50532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 on the t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35812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is 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 on the t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0" name="Straight Arrow Connector 8"/>
          <p:cNvCxnSpPr/>
          <p:nvPr/>
        </p:nvCxnSpPr>
        <p:spPr>
          <a:xfrm>
            <a:off x="3505320" y="533412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0" y="58672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92d050"/>
                </a:solidFill>
                <a:latin typeface="Garamond"/>
              </a:rPr>
              <a:t>som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pples on the 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586728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are </a:t>
            </a: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not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92d050"/>
                </a:solidFill>
                <a:latin typeface="Garamond"/>
              </a:rPr>
              <a:t>any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pples on the 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3" name="Straight Arrow Connector 8"/>
          <p:cNvCxnSpPr/>
          <p:nvPr/>
        </p:nvCxnSpPr>
        <p:spPr>
          <a:xfrm>
            <a:off x="3580920" y="6477120"/>
            <a:ext cx="129636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7315200" y="373392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5105520" y="3733920"/>
            <a:ext cx="1133280" cy="685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6172200" y="3733920"/>
            <a:ext cx="113364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Some ( affirm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som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76560" y="1534680"/>
            <a:ext cx="3809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Any ( 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3280" y="2174760"/>
            <a:ext cx="4043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n’t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n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Horizontal Scroll 6"/>
          <p:cNvSpPr/>
          <p:nvPr/>
        </p:nvSpPr>
        <p:spPr>
          <a:xfrm>
            <a:off x="2057400" y="0"/>
            <a:ext cx="4572000" cy="152388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0253f"/>
                </a:solidFill>
                <a:latin typeface="Aharoni"/>
                <a:ea typeface="Aharoni"/>
              </a:rPr>
              <a:t>Some/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Down Arrow 7"/>
          <p:cNvSpPr/>
          <p:nvPr/>
        </p:nvSpPr>
        <p:spPr>
          <a:xfrm>
            <a:off x="1828800" y="22860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Down Arrow 8"/>
          <p:cNvSpPr/>
          <p:nvPr/>
        </p:nvSpPr>
        <p:spPr>
          <a:xfrm>
            <a:off x="6553080" y="220968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2895480" y="373392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C:\Users\sarah\AppData\Local\Microsoft\Windows\Temporary Internet Files\Content.IE5\SF9W12BQ\MCj04368690000[1].png"/>
          <p:cNvPicPr/>
          <p:nvPr/>
        </p:nvPicPr>
        <p:blipFill>
          <a:blip r:embed="rId5"/>
          <a:stretch/>
        </p:blipFill>
        <p:spPr>
          <a:xfrm>
            <a:off x="1828800" y="365760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arah\AppData\Local\Microsoft\Windows\Temporary Internet Files\Content.IE5\SF9W12BQ\MCj04368690000[1].png"/>
          <p:cNvPicPr/>
          <p:nvPr/>
        </p:nvPicPr>
        <p:blipFill>
          <a:blip r:embed="rId6"/>
          <a:stretch/>
        </p:blipFill>
        <p:spPr>
          <a:xfrm>
            <a:off x="762120" y="3657600"/>
            <a:ext cx="113328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467480" y="373392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365760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373392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181120" y="3657600"/>
            <a:ext cx="838440" cy="8380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248520" y="3657600"/>
            <a:ext cx="838080" cy="8380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467120" y="3581280"/>
            <a:ext cx="838440" cy="838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1:10:52Z</dcterms:created>
  <dc:creator>sarah</dc:creator>
  <dc:description/>
  <dc:language>en-US</dc:language>
  <cp:lastModifiedBy>AD</cp:lastModifiedBy>
  <dcterms:modified xsi:type="dcterms:W3CDTF">2010-11-02T00:22:18Z</dcterms:modified>
  <cp:revision>13</cp:revision>
  <dc:subject/>
  <dc:title>Slide 1</dc:title>
</cp:coreProperties>
</file>