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F0A1-9276-44A8-9A02-822D30B2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0D2D-61C6-4B84-9BB2-C23A967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750A-0CF5-4484-976D-093141BC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FFDA-E8B4-4512-9417-9F8A7587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B96D-FBCB-4BB7-9505-F357DE5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C07-EB59-4AAC-9F2E-E2FE0027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D98-AF15-4DA3-85FF-3C4F169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924-3FB3-404B-9C5B-421DBAD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668-260A-4C61-A6D2-B206821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500-40DD-4E7F-A700-85564BF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C3B-C5D8-41E5-988D-C2297C1C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6F73-B3BF-4283-AC89-6E7EE946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3F9-E8EE-49B2-B836-E2ABC95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46F2-422D-435B-9F57-0909791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1A3-8CF1-4940-BDBC-50D62BC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00E-FFB4-4481-BBB1-A601801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FBD9-B307-4F27-B40A-752AC773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9AF1-E4C2-4764-A35E-DBD830C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0643-16C9-4560-9C83-BFE61338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A9E5-94F1-4BE0-8B29-0A5E970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B7E6-DF52-4A38-BBB9-C7E160F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87E8-C530-4AF5-B699-AE70B191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7FB7-FFE6-49B9-A3D6-59DEFD0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C08B-6C50-4DA3-AD94-C8609B7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021-6974-4FC5-9A3D-8693CBDC76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25F-E73C-489F-A5D7-2E057585D0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1043"/>
                </a:solidFill>
                <a:latin typeface="Garamond"/>
              </a:rPr>
              <a:t>Unit 4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Like Father, Like S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Who’s/Whose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is Ann”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She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my/mine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 sister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’s                                        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Is this bag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/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s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“No, it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Sheila’s/Sheila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rs                                                Sheila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Who/Whose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dog is that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it’s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their/their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                                         thei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Are those balls</a:t>
            </a:r>
            <a:r>
              <a:rPr b="1" lang="en-US" sz="3200" spc="-1" strike="noStrike">
                <a:solidFill>
                  <a:srgbClr val="3bc5b5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your/yours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yes, they’re 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our/our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ours                                  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Who’s he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”</a:t>
            </a:r>
            <a:r>
              <a:rPr b="1" lang="en-US" sz="3200" spc="-1" strike="noStrike">
                <a:solidFill>
                  <a:srgbClr val="e97251"/>
                </a:solidFill>
                <a:latin typeface="Garamond"/>
              </a:rPr>
              <a:t>Tom’s and Julie’s/Tom and Julie’s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 fa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om and Julie’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ossessive Adjective  &amp; Possessive Pronou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413000"/>
          <a:ext cx="9144000" cy="5576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prono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This 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ho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t’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i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Garamond"/>
              </a:rPr>
              <a:t>Affirmative (Positive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Present Simple tense is used to express Permanent states , repeated actions and daily routi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c5b5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 live in Riyadh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ermanent Sta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he goes to the park every Frida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repeated ac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He Smok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aily routi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Garamond"/>
              </a:rPr>
              <a:t>Most verbs take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–s</a:t>
            </a:r>
            <a:r>
              <a:rPr b="1" lang="en-US" sz="33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with (he, she, it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He sing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   ,      She play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   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It speak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loud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With (he, she, it) We add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ed09cc"/>
                </a:solidFill>
                <a:latin typeface="Garamond"/>
              </a:rPr>
              <a:t>–es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to verbs ending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in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sh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-x </a:t>
            </a:r>
            <a:r>
              <a:rPr b="1" lang="en-US" sz="33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300" spc="-1" strike="noStrike">
                <a:solidFill>
                  <a:srgbClr val="cc0000"/>
                </a:solidFill>
                <a:latin typeface="Garamond"/>
              </a:rPr>
              <a:t> -o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 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He tea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ch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English        ,     She ki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ss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the baby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Ahmed Fi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x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es</a:t>
            </a:r>
            <a:r>
              <a:rPr b="1" lang="en-US" sz="3300" spc="-1" strike="noStrike">
                <a:solidFill>
                  <a:srgbClr val="e5e5ff"/>
                </a:solidFill>
                <a:latin typeface="Garamond"/>
              </a:rPr>
              <a:t> the car       ,     Nada does the job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cc33"/>
                </a:solidFill>
                <a:latin typeface="Garamond"/>
              </a:rPr>
              <a:t>With (he, she, it) if the verb ends with a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consonant +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,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we drop the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y </a:t>
            </a:r>
            <a:r>
              <a:rPr b="1" lang="en-US" sz="3300" spc="-1" strike="noStrike">
                <a:solidFill>
                  <a:srgbClr val="00cc00"/>
                </a:solidFill>
                <a:latin typeface="Garamond"/>
              </a:rPr>
              <a:t>and add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–i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Stud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He stud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ies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 English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fl</a:t>
            </a:r>
            <a:r>
              <a:rPr b="1" lang="en-US" sz="3300" spc="-1" strike="noStrike">
                <a:solidFill>
                  <a:srgbClr val="ff0000"/>
                </a:solidFill>
                <a:latin typeface="Garamond"/>
              </a:rPr>
              <a:t>y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3399"/>
                </a:solidFill>
                <a:latin typeface="Garamond"/>
              </a:rPr>
              <a:t>----&gt;</a:t>
            </a:r>
            <a:r>
              <a:rPr b="1" lang="en-US" sz="33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He fl</a:t>
            </a:r>
            <a:r>
              <a:rPr b="1" lang="en-US" sz="3300" spc="-1" strike="noStrike">
                <a:solidFill>
                  <a:srgbClr val="ffcc00"/>
                </a:solidFill>
                <a:latin typeface="Garamond"/>
              </a:rPr>
              <a:t>ies</a:t>
            </a:r>
            <a:r>
              <a:rPr b="1" lang="en-US" sz="3300" spc="-1" strike="noStrike">
                <a:solidFill>
                  <a:srgbClr val="ffffcc"/>
                </a:solidFill>
                <a:latin typeface="Garamond"/>
              </a:rPr>
              <a:t> to London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600200"/>
          <a:ext cx="8785440" cy="517032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4200"/>
                <a:gridCol w="219708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 no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(don’t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es no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(doesn't)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eat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hocolat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I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eat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hocolat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hey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football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They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football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W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travel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W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travel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Sh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drinks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offe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Sh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drink</a:t>
            </a:r>
            <a:r>
              <a:rPr b="1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coffe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He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plays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enni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He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play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tennis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t 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rains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n Riyad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97251"/>
                </a:solidFill>
                <a:latin typeface="Aharoni"/>
                <a:ea typeface="Aharoni"/>
              </a:rPr>
              <a:t>Negative :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 It </a:t>
            </a:r>
            <a:r>
              <a:rPr b="1" lang="en-US" sz="2700" spc="-1" strike="noStrike">
                <a:solidFill>
                  <a:srgbClr val="ffcc00"/>
                </a:solidFill>
                <a:latin typeface="Aharoni"/>
                <a:ea typeface="Aharoni"/>
              </a:rPr>
              <a:t>doesn’t</a:t>
            </a:r>
            <a:r>
              <a:rPr b="1" lang="en-US" sz="2700" spc="-1" strike="noStrike">
                <a:solidFill>
                  <a:srgbClr val="ff0000"/>
                </a:solidFill>
                <a:latin typeface="Aharoni"/>
                <a:ea typeface="Aharoni"/>
              </a:rPr>
              <a:t> rain </a:t>
            </a:r>
            <a:r>
              <a:rPr b="0" lang="en-US" sz="2700" spc="-1" strike="noStrike">
                <a:solidFill>
                  <a:srgbClr val="ffffff"/>
                </a:solidFill>
                <a:latin typeface="Aharoni"/>
                <a:ea typeface="Aharoni"/>
              </a:rPr>
              <a:t>in Riyadh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7251"/>
                </a:solidFill>
                <a:latin typeface="Garamond"/>
              </a:rPr>
              <a:t>Interrogative (Questio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413000"/>
          <a:ext cx="8785440" cy="4937040"/>
        </p:xfrm>
        <a:graphic>
          <a:graphicData uri="http://schemas.openxmlformats.org/drawingml/2006/table">
            <a:tbl>
              <a:tblPr/>
              <a:tblGrid>
                <a:gridCol w="1625760"/>
                <a:gridCol w="1471680"/>
                <a:gridCol w="1942920"/>
                <a:gridCol w="2737080"/>
                <a:gridCol w="1008000"/>
              </a:tblGrid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ubjec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Simple presen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W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You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They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live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 Riyadh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Does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She</a:t>
                      </a:r>
                      <a:br>
                        <a:rPr sz="3300"/>
                      </a:br>
                      <a:r>
                        <a:rPr b="1" lang="en-US" sz="3300" spc="-1" strike="noStrike">
                          <a:solidFill>
                            <a:srgbClr val="33cc33"/>
                          </a:solidFill>
                          <a:latin typeface="Garamond"/>
                        </a:rPr>
                        <a:t>It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I Sleep ear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you sleep earl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I do. / no, I don’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They Play Tennis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they play tenni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they do./ no, they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She speak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</a:t>
            </a: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 Engli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es 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she speak English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she does. / no, she does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He travel</a:t>
            </a: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s</a:t>
            </a:r>
            <a:r>
              <a:rPr b="0" lang="en-US" sz="3200" spc="-1" strike="noStrike">
                <a:solidFill>
                  <a:srgbClr val="ffcc00"/>
                </a:solidFill>
                <a:latin typeface="Aharoni"/>
                <a:ea typeface="Aharoni"/>
              </a:rPr>
              <a:t> every mon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 he travel every month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haroni"/>
                <a:ea typeface="Aharoni"/>
              </a:rPr>
              <a:t>Yes, he does. / no, he does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aramond"/>
              </a:rPr>
              <a:t>Possessive Ca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‘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singular noun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man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job           A child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vo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simple apostrophe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(‘)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s used with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lural nouns ending in 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girls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chool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students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las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add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‘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the 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last nou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of phrase to show possess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hme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li</a:t>
            </a:r>
            <a:r>
              <a:rPr b="1" lang="en-US" sz="3600" spc="-1" strike="noStrike">
                <a:solidFill>
                  <a:srgbClr val="e61043"/>
                </a:solidFill>
                <a:latin typeface="Garamond"/>
              </a:rPr>
              <a:t>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fath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18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my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on’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son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icyc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son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Jenny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Jenny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des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Jenny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at is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Tony and Pam'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Tony's and P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hous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Tony and Pam'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ose are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b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b’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sho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Bob’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95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se are the 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y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/</a:t>
            </a:r>
            <a:r>
              <a:rPr b="1" lang="en-US" sz="3600" spc="-1" strike="noStrike">
                <a:solidFill>
                  <a:srgbClr val="ff6600"/>
                </a:solidFill>
                <a:latin typeface="Garamond"/>
              </a:rPr>
              <a:t>boys’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icyc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1717"/>
                </a:solidFill>
                <a:latin typeface="Garamond"/>
              </a:rPr>
              <a:t>boys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ersonal Pronouns &amp; Possessive Ad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360440"/>
          <a:ext cx="9252000" cy="5497560"/>
        </p:xfrm>
        <a:graphic>
          <a:graphicData uri="http://schemas.openxmlformats.org/drawingml/2006/table">
            <a:tbl>
              <a:tblPr/>
              <a:tblGrid>
                <a:gridCol w="2890800"/>
                <a:gridCol w="2801880"/>
                <a:gridCol w="355932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Subject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Object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d1717"/>
                          </a:solidFill>
                          <a:latin typeface="Garamond"/>
                        </a:rPr>
                        <a:t>Possessive Pronoun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m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s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m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ir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27000"/>
            <a:ext cx="4027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lp peop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m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Yo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your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i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h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Sh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h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s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i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W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u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 </a:t>
            </a:r>
            <a:r>
              <a:rPr b="1" lang="en-US" sz="2800" spc="-1" strike="noStrike">
                <a:solidFill>
                  <a:srgbClr val="46de54"/>
                </a:solidFill>
                <a:latin typeface="Garamond"/>
              </a:rPr>
              <a:t>ou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1717"/>
                </a:solidFill>
                <a:latin typeface="Garamond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The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help peop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da helps 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the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s is</a:t>
            </a:r>
            <a:r>
              <a:rPr b="1" lang="en-US" sz="2800" spc="-1" strike="noStrike">
                <a:solidFill>
                  <a:srgbClr val="ff6600"/>
                </a:solidFill>
                <a:latin typeface="Garamond"/>
              </a:rPr>
              <a:t> thei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Who’s/Who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d17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6de54"/>
                </a:solidFill>
                <a:latin typeface="Garamond"/>
              </a:rPr>
              <a:t>Who’s = Who i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Garamond"/>
              </a:rPr>
              <a:t>Who’s is used to ask about a person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’s Ahmed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He is my brother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’s your teacher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Sahar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d17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6de54"/>
                </a:solidFill>
                <a:latin typeface="Garamond"/>
              </a:rPr>
              <a:t>Whose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Garamond"/>
              </a:rPr>
              <a:t>Whose is used to ask about an entity possessor (Owner)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se book is this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“Maha’s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“</a:t>
            </a:r>
            <a:r>
              <a:rPr b="1" lang="en-US" sz="3800" spc="-1" strike="noStrike">
                <a:solidFill>
                  <a:srgbClr val="3bc5b5"/>
                </a:solidFill>
                <a:latin typeface="Garamond"/>
              </a:rPr>
              <a:t>Whose brother is Ahmed?”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ff66cc"/>
                </a:solidFill>
                <a:latin typeface="Garamond"/>
              </a:rPr>
              <a:t>”Ali’s”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d1717"/>
                </a:solidFill>
                <a:uFillTx/>
                <a:latin typeface="Garamond"/>
              </a:rPr>
              <a:t>Excersis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mother is Nourah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Hala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sheet is this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“Sarah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 Nourah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she is Hala’s mothe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Sarah’s sister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Am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bag is this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Nada’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6de5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--------- your father?”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” Oma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 is (who’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ossessive Adjective  &amp; Possessive Pronou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413000"/>
          <a:ext cx="8353440" cy="52704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ive adject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ed09cc"/>
                          </a:solidFill>
                          <a:latin typeface="Garamond"/>
                        </a:rPr>
                        <a:t>Possessive prono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m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y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h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h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i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66cc"/>
                          </a:solidFill>
                          <a:latin typeface="Garamond"/>
                        </a:rPr>
                        <a:t>-----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bc5b5"/>
                          </a:solidFill>
                          <a:latin typeface="Garamond"/>
                        </a:rPr>
                        <a:t>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9933"/>
                          </a:solidFill>
                          <a:latin typeface="Garamond"/>
                        </a:rPr>
                        <a:t>you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thei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1717"/>
                </a:solidFill>
                <a:latin typeface="Garamond"/>
              </a:rPr>
              <a:t>Possessive Pronou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Possessive adjectives come before a no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         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u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h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og.                           It’s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Possessive Pronouns don’t take a noun after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min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                    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ou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hi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is dog is </a:t>
            </a:r>
            <a:r>
              <a:rPr b="1" lang="en-US" sz="3200" spc="-1" strike="noStrike">
                <a:solidFill>
                  <a:srgbClr val="ff9933"/>
                </a:solidFill>
                <a:latin typeface="Garamond"/>
              </a:rPr>
              <a:t>their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38:05Z</dcterms:created>
  <dc:creator>AD</dc:creator>
  <dc:description/>
  <dc:language>en-US</dc:language>
  <cp:lastModifiedBy>AD</cp:lastModifiedBy>
  <dcterms:modified xsi:type="dcterms:W3CDTF">2010-11-09T18:48:04Z</dcterms:modified>
  <cp:revision>9</cp:revision>
  <dc:subject/>
  <dc:title>Unit 4 Like Father, Like Son</dc:title>
</cp:coreProperties>
</file>