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87FE-11ED-414A-BAD6-35C0EAE8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12E7-C2C0-4DF8-AE48-AA82504B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47A2E-9C7A-4859-A903-B8FC4DD2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E2C4-C4BC-4A05-9EA4-03ADA4D9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1434-F881-4C42-B61E-9D51A352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5E4A-29EF-48AF-8D07-B4E8471A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61EA-4354-4B0D-BAA7-EB4120E6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5E98-F5F9-47CE-804B-E53F7DAF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B3FE-B18B-4D0A-9311-25A64D55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F470-DC0D-48D6-9B33-E8B2CC1F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68DC-AB38-4F75-AE76-18061B40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3080-1644-444A-BD8F-9CB86FD4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9EE3-6863-4419-B2E9-3A429EC2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28C8-1B18-4C08-9D85-47037F23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D667-9D6F-4935-85EA-FD3F7B09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90D7-32A3-4166-97B7-F72001E7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50CB-A359-40FF-B0C5-5194B600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812D7-1F64-4A32-BE96-FBEE3C45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0CAD-6AAE-44C0-BFA9-D9A42336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47E4-8E10-4B84-8852-55A6B379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FEBA-2945-4C29-AFAC-B52F1FBC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D071-6886-45FE-8156-DDFB0F30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6FD9-6C76-4EC9-BA96-1228E1EF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C1A0-0F9B-4B4E-8D42-95AFC16D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44B7-39B4-4E26-9B49-C7F740A57A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DB2E-7484-4516-83E7-F73D154472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cb0b26"/>
                </a:solidFill>
                <a:latin typeface="Garamond"/>
              </a:rPr>
              <a:t>Unit 5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An Early Bird or a Night Owl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0b26"/>
                </a:solidFill>
                <a:latin typeface="Garamond"/>
              </a:rPr>
              <a:t>Adverbs of Frequ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erbs of frequency are (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never, rarely, sometimes, often, usually, alway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erbs of frequency tell us how often something happ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erbs of frequency usually come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before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the main verb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but</a:t>
            </a: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after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d60093"/>
                </a:solidFill>
                <a:latin typeface="Garamond"/>
              </a:rPr>
              <a:t>the verb “to be”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0b26"/>
                </a:solidFill>
                <a:latin typeface="Garamond"/>
              </a:rPr>
              <a:t>Adverbs of Freque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060640"/>
            <a:ext cx="7848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341360"/>
          <a:ext cx="8496360" cy="5261040"/>
        </p:xfrm>
        <a:graphic>
          <a:graphicData uri="http://schemas.openxmlformats.org/drawingml/2006/table">
            <a:tbl>
              <a:tblPr/>
              <a:tblGrid>
                <a:gridCol w="1150920"/>
                <a:gridCol w="2160720"/>
                <a:gridCol w="2663640"/>
                <a:gridCol w="936720"/>
                <a:gridCol w="1584360"/>
              </a:tblGrid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ubject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dverbs of frequency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ain verb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sually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et up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t half past seven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lways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ads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 book</a:t>
                      </a: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ubject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Verb “to be</a:t>
                      </a: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”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dverbs of frequency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m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ver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te for school</a:t>
                      </a: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9647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0b26"/>
                </a:solidFill>
                <a:latin typeface="Garamond"/>
              </a:rPr>
              <a:t>Days</a:t>
            </a:r>
            <a:r>
              <a:rPr b="1" lang="en-US" sz="3600" spc="-1" strike="noStrike">
                <a:solidFill>
                  <a:srgbClr val="cb0b26"/>
                </a:solidFill>
                <a:latin typeface="Garamond"/>
              </a:rPr>
              <a:t>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Saturday, Sunday, Monday, Tuesday, Wednesday, Thursday, Frid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0b26"/>
                </a:solidFill>
                <a:latin typeface="Garamond"/>
              </a:rPr>
              <a:t>Months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January, February, March, April, May, June, July, August, September, October, November, Decemb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0b26"/>
                </a:solidFill>
                <a:latin typeface="Garamond"/>
              </a:rPr>
              <a:t>Seasons: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Summer, Autumn, Winter, Sprin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0b26"/>
                </a:solidFill>
                <a:latin typeface="Garamond"/>
              </a:rPr>
              <a:t>Preposition of Time 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(At, On, I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At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s used with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the time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and with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the weekend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night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no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I wake up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at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seven o’clock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 ,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at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the weekend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I stud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at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noon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  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, 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 I sleep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at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night</a:t>
            </a:r>
            <a:r>
              <a:rPr b="1" lang="en-US" sz="3000" spc="-1" strike="noStrike">
                <a:solidFill>
                  <a:srgbClr val="ffffcc"/>
                </a:solidFill>
                <a:latin typeface="Garamond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O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is used with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days of the week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ar-SA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parts of a particular day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dates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o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Sunday 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,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o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Monday evening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o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3 May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,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o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11 November, 2001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is used with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 months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seasons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,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years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and with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the morning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the evening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, the afterno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 play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 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June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,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Spring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 ,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2001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the morning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000" spc="-1" strike="noStrike">
                <a:solidFill>
                  <a:srgbClr val="33cc33"/>
                </a:solidFill>
                <a:latin typeface="Garamond"/>
              </a:rPr>
              <a:t>,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the evening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 play </a:t>
            </a:r>
            <a:r>
              <a:rPr b="1" lang="en-US" sz="3000" spc="-1" strike="noStrike">
                <a:solidFill>
                  <a:srgbClr val="d60093"/>
                </a:solidFill>
                <a:latin typeface="Garamond"/>
              </a:rPr>
              <a:t>in</a:t>
            </a: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the afternoon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7:29:09Z</dcterms:created>
  <dc:creator>AD</dc:creator>
  <dc:description/>
  <dc:language>en-US</dc:language>
  <cp:lastModifiedBy>AD</cp:lastModifiedBy>
  <dcterms:modified xsi:type="dcterms:W3CDTF">2010-11-26T19:27:24Z</dcterms:modified>
  <cp:revision>5</cp:revision>
  <dc:subject/>
  <dc:title>الشريحة 1</dc:title>
</cp:coreProperties>
</file>