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ADDF-6295-447F-8A51-8FB0183B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A97E-A569-4F7A-8502-5E695C7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A31D-E63F-4EB3-B80E-5C84C9B1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E07A-495D-4A63-AA1D-6C313D0C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A2C3-0A5C-46BA-89CE-5F949134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46C-FE9A-42D7-B5BA-958B1D3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30A-BBB9-4281-A246-9C93F29D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A28-F814-4385-BB24-669AF36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1E0-38E7-4BBB-B316-653FC7E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FC93-5F20-4D76-AF4F-3132AC87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9976-78A8-400C-B93A-CAD79C3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3A55-A7F4-4B39-8C8A-ACD19EB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39D-30D8-4CFE-AB41-F4D46189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559-8603-42EE-89A3-C9D02E1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B497-3AFA-4DAF-9B9C-FEE9C2D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1AA1-3DA5-4D7B-9AC3-43DA5CB8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F5AB-726E-4BED-B268-841800FE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FAE7-54D4-49D5-9D21-9229CCA9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D1C9-7DA2-444D-81E2-D9C205D7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1F1B-38DE-4CFA-A77C-87954A60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0A95-1A34-4CA4-BF0D-0C8634E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827B-74A3-4240-8D05-9C4C0F0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F3B2-098F-4216-9471-779469F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76A9-7605-4082-B4DC-45559CA4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CA42-E40F-4A12-87DE-CFF97745B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3793-1DEE-431B-8862-D1840ACEB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cb0b26"/>
                </a:solidFill>
                <a:latin typeface="Garamond"/>
              </a:rPr>
              <a:t>Unit 5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An Early Bird or a Night Ow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Adverbs of Frequ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are (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never, rarely, sometimes, often, usually, alway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tell us how often something happ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usually come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the main ver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fter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the verb “to be”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Adverbs of Frequ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060640"/>
            <a:ext cx="7848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341360"/>
          <a:ext cx="8496360" cy="5261040"/>
        </p:xfrm>
        <a:graphic>
          <a:graphicData uri="http://schemas.openxmlformats.org/drawingml/2006/table">
            <a:tbl>
              <a:tblPr/>
              <a:tblGrid>
                <a:gridCol w="1150920"/>
                <a:gridCol w="2160720"/>
                <a:gridCol w="2663640"/>
                <a:gridCol w="936720"/>
                <a:gridCol w="158436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ubject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dverbs of frequenc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ain verb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suall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t up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 half past seven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way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book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ubject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Verb “to be</a:t>
                      </a: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”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dverbs of frequenc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ver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for school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964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Days</a:t>
            </a: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aturday, Sunday, Monday, Tuesday, Wednesday, Thursday, Frid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Months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January, February, March, April, May, June, July, August, September, October, November, Decemb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Seasons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ummer, Autumn, Winter, Sprin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Preposition of Tim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(At, On, I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s use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time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an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weekend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night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I wake up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even o’clock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weekend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I stud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noon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I sleep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nigh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days of the week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ar-SA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parts of a particular day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date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unday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Monday evenin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3 May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11 November, 2001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s used with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month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season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year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an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mor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eve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the after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 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June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pring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2001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mor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eve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after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7:29:09Z</dcterms:created>
  <dc:creator>AD</dc:creator>
  <dc:description/>
  <dc:language>en-US</dc:language>
  <cp:lastModifiedBy>AD</cp:lastModifiedBy>
  <dcterms:modified xsi:type="dcterms:W3CDTF">2010-11-26T19:27:24Z</dcterms:modified>
  <cp:revision>5</cp:revision>
  <dc:subject/>
  <dc:title>الشريحة 1</dc:title>
</cp:coreProperties>
</file>