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C8D5-993B-431A-93A0-27F69B946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AD15-883A-4516-84CA-23007985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59DA-D941-47FE-BC8C-9239D72E5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9ED4-3BEE-4B42-B240-FBA39C253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D233-AF81-45CE-A1EB-3D05E471E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EF91-2E7D-412A-B22B-EE438122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95EA-1F16-4FF4-9F18-777FC65F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EEA1-966B-49C0-87D6-1BE567AC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E436-FD91-4D1A-ADAB-0A8D339E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3958-4A8D-4889-BF46-C236D6D6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F04C-8502-4153-B38D-3DDAEE1B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1EDE-115A-4798-BCF9-DA0A21C4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F377-9434-4EB2-8454-220E93E1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4FAD-1543-48B3-9F0F-553E1B28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6CE0-E372-453F-AE4C-719ECF6A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4045-C32E-40D5-A4C4-B02DF03B0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37C1-A9DA-4022-B824-897DA4059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8B2B77-A33E-4507-B165-38C572E79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B1A626-E069-4955-9869-25BC4F29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6EC83A-B376-4A0F-93EB-766DD0FC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0D965D-59A7-4265-BCBF-D4174568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A98B05-562F-49C4-BE80-7A5EF7B9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8476-B493-47D9-AB63-7715F589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D0B2F2-5EF9-4AEF-A01A-0B08F01A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21F40B-3658-4B7B-939E-E7DFEF78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FAD8BA-0DEA-4261-8459-A5F58670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49D48B-02FA-473F-BAD7-A40D5036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2EC025-12CD-4B59-8D53-D378B172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D4B23F-7FCB-433D-8721-131F8763B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B888DE-3584-4C85-979E-23D3B191A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2436A5-88D4-4D5C-815C-FD042565E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B2C805-9E48-41E3-A0B9-A0DB827B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DB8504-75C2-4501-938C-C36FC64D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86BB-5583-4CF6-AED6-C7455F8F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F02CC8-874F-4991-AF1D-B7AA8C61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BB2F22-5FC5-46D5-AF17-D8D3C9DA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2210C7-E9C7-445B-875B-C21D553D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982198-CC27-4B08-9C0F-8A527F42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7EB6DB-99F8-4DFA-956E-5A5C0D14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C31286-4CBE-464B-9E70-30AFF2F4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2818BB-376F-4ADE-ACEB-6A22A85A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F55383-1BB9-4B19-8335-0D824A2C4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4C4931-DB3F-48E5-89C1-FF4FBA761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30D6CC-8255-4DEF-AF6B-4A27A8D0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3471-5AB9-42BD-BC58-46AF346E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2B049C-17DB-439B-BE5A-70793CB7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2AF8E2-87A0-43CF-A589-2FF2FEF0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8A8A9F-287F-4AA4-964B-A5DD2EA6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E8303A-4E87-4F62-A095-4DE8E774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240117-2C1B-4076-A4CE-84B260D3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E75247-AEFB-4D85-B566-DFAB7C35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8C6F3C-4B54-4C41-9AD6-2C02E6AD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6F8AD9-8E9B-4948-B466-2804942A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5D192C-283B-4359-A012-6DE0D26E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4A0015-8AF4-4ACB-8C4C-115F039AD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3BEE-78DF-4DAD-BF34-96CD6F80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7CCA5E-F4CF-44AA-A5F1-8024F43FB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BD9DF-3746-4DFC-875F-F0DE711C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304DD-BB79-45E7-97C9-3A9B5F51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1ED87-C79A-4631-B13C-A15FAB40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B6981-AD01-4CEE-94A7-78A2EFC4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48BC6-3115-47F2-939E-5156620D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58A6C-C53C-4650-9AA5-A05CA9C2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DB4D7-45E3-4DDD-A1CF-3078570D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5B2AB-D933-4F44-944D-484194BB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CAB68-8DA0-48B0-BB67-2152BA0C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9D4D-8DB3-4C79-B9DB-B49C150C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3EACA-6401-432C-A211-4817409D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3385E-D874-458B-B8F6-4F06BB484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E77FD-38AD-407E-80F0-A77F3E19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290A78-0F1D-4EFE-BFA1-B0B422B5B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98D5BA-F3BA-49A5-B966-C78F9D6B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F0E1D3-BAD7-41DA-860E-EC176C42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082864-E88D-4C2A-9760-739AFAC5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7B090F-C4F2-4B17-8B29-F860B34B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4A57CA-CF59-4787-B58A-A62D7079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818AB2-6D15-42F0-8E9B-86BEC8AA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785D-8293-4D44-A9EB-E09C1F62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088691-AB79-4837-B228-DC722AAA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1DE7D7-DCC8-438B-B9E7-F29F65D0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3866E6-20C4-4920-8C4D-3224E132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BD431F-DF8B-44AD-9E3B-321705EC3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A4046B-5DB6-448E-AF34-76FE91F30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113A1-C8FA-47AD-A629-3F1CD3DA7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DAC62-6D53-47DA-AE42-16D50A81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B9C07-996A-4FD9-ABB2-E1FC6576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990E6-F4DA-43EF-BECE-AD62DF1E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33D5E-77E2-458C-BCE3-755B15BC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925E-3EF8-4503-A925-C9A1DC78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B2C90-8381-46DC-BCDC-BC606AF0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08EB4-68A9-45FC-8232-A0567C82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9334B-5AE4-4479-8334-E0604032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14B99-EE7D-40E6-952E-A96C1621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4A430-601C-446D-ADE0-AEF382A2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98340-6F74-498D-B2EB-7C363D9F9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47853-F828-45C0-94D4-C06C14FF9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244a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2751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b4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9213b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9213b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244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2c7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91870B-D68E-4BFC-92D2-C04B25B66FC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21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244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2c7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5edf4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5edf4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244a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2751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b4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d5edf4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EA57EB-E071-4210-81E0-F249BC278161}" type="slidenum">
              <a:rPr b="1" lang="en-US" sz="1400" spc="-1" strike="noStrike">
                <a:solidFill>
                  <a:srgbClr val="d5edf4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244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2c7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244a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2751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b4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9213b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9213b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58C3A8-28BB-47DD-A87F-06CCCAD725E2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244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2c7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244a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2751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b4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9213b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9213b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EE0AED-534C-4B50-AE05-0498D29CA3D0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244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2c7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244a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2751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b4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9213b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9213b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D2DE3B-83BD-4229-A483-7545283861F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244a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2751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b4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9213b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9213b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09213b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662677-5119-45C2-A2E9-D4978CA7C601}" type="slidenum">
              <a:rPr b="1" lang="en-US" sz="1400" spc="-1" strike="noStrike">
                <a:solidFill>
                  <a:srgbClr val="09213b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244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2c7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244a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2751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b4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9213b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9213b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E7C30D-C35C-402D-8595-B841B52E6B46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2c7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244a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244a5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e2751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ffb4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9213b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9213b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71C4FA-3E2B-443D-A4FD-FA9CFB8B492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5edf4"/>
                </a:solidFill>
                <a:latin typeface="Tw Cen MT"/>
              </a:rPr>
              <a:t>TUTORIAL 7</a:t>
            </a:r>
            <a:br>
              <a:rPr sz="4000"/>
            </a:br>
            <a:r>
              <a:rPr b="0" lang="en-US" sz="4000" spc="-1" strike="noStrike">
                <a:solidFill>
                  <a:srgbClr val="d5edf4"/>
                </a:solidFill>
                <a:latin typeface="Tw Cen MT"/>
              </a:rPr>
              <a:t>SAMPLE SIZE CALCULATION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d5edf4"/>
                </a:solidFill>
                <a:latin typeface="Tw Cen MT"/>
              </a:rPr>
              <a:t>DR. SHAIK SHAFFI</a:t>
            </a:r>
            <a:endParaRPr b="0" lang="en-US" sz="4000" spc="-1" strike="noStrike">
              <a:solidFill>
                <a:srgbClr val="d5edf4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Dr. Rufaidah Dabbagh            Dr. Nurah Al Amro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213b"/>
                </a:solidFill>
                <a:latin typeface="Tw Cen MT"/>
              </a:rPr>
              <a:t>Choose population survey by pressing “P”</a:t>
            </a:r>
            <a:endParaRPr b="0" lang="en-US" sz="4000" spc="-1" strike="noStrike">
              <a:solidFill>
                <a:srgbClr val="09213b"/>
              </a:solidFill>
              <a:latin typeface="Tw Cen MT"/>
            </a:endParaRPr>
          </a:p>
        </p:txBody>
      </p:sp>
      <p:pic>
        <p:nvPicPr>
          <p:cNvPr id="370" name="Picture 4" descr=""/>
          <p:cNvPicPr/>
          <p:nvPr/>
        </p:nvPicPr>
        <p:blipFill>
          <a:blip r:embed="rId1"/>
          <a:stretch/>
        </p:blipFill>
        <p:spPr>
          <a:xfrm>
            <a:off x="428760" y="2071800"/>
            <a:ext cx="74498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213b"/>
                </a:solidFill>
                <a:latin typeface="Tw Cen MT"/>
              </a:rPr>
              <a:t>Fill in the information as given in the problem, then press “F4”</a:t>
            </a:r>
            <a:endParaRPr b="0" lang="en-US" sz="4000" spc="-1" strike="noStrike">
              <a:solidFill>
                <a:srgbClr val="09213b"/>
              </a:solidFill>
              <a:latin typeface="Tw Cen MT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228600" y="1643040"/>
            <a:ext cx="8526600" cy="3786120"/>
          </a:xfrm>
          <a:prstGeom prst="rect">
            <a:avLst/>
          </a:prstGeom>
          <a:ln w="0">
            <a:noFill/>
          </a:ln>
        </p:spPr>
      </p:pic>
      <p:sp>
        <p:nvSpPr>
          <p:cNvPr id="373" name="TextBox 4"/>
          <p:cNvSpPr/>
          <p:nvPr/>
        </p:nvSpPr>
        <p:spPr>
          <a:xfrm>
            <a:off x="612720" y="5643720"/>
            <a:ext cx="767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From the stem of the ques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Expected frequency of outcome is 30%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worst acceptable result within a 5% of true value is 30% + 5% = 3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2 continued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8783640" cy="4214520"/>
          </a:xfrm>
          <a:prstGeom prst="rect">
            <a:avLst/>
          </a:prstGeom>
          <a:ln w="0">
            <a:noFill/>
          </a:ln>
        </p:spPr>
      </p:pic>
      <p:sp>
        <p:nvSpPr>
          <p:cNvPr id="376" name="Oval 4"/>
          <p:cNvSpPr/>
          <p:nvPr/>
        </p:nvSpPr>
        <p:spPr>
          <a:xfrm>
            <a:off x="5572080" y="4357800"/>
            <a:ext cx="785880" cy="142920"/>
          </a:xfrm>
          <a:prstGeom prst="ellipse">
            <a:avLst/>
          </a:prstGeom>
          <a:noFill/>
          <a:ln w="10080">
            <a:solidFill>
              <a:srgbClr val="ffff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Q(3) Calculate Sample Size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lnSpc>
                <a:spcPct val="80000"/>
              </a:lnSpc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A new antihypertensive drug is to be tested against current treatment practice in people with systolic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Tw Cen MT"/>
              </a:rPr>
              <a:t>blood pressure &gt; 160 mmHg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and/or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Tw Cen MT"/>
              </a:rPr>
              <a:t>diastolic blood pressure &gt;95 mmHg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80000"/>
              </a:lnSpc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It is felt that if the new drug can achieve blood pressure levels  that ar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Tw Cen MT"/>
              </a:rPr>
              <a:t>on the average 10 mmHg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lower than those achieved using current treatment then it would be accepted  by the medical community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80000"/>
              </a:lnSpc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e investigators would lik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Tw Cen MT"/>
              </a:rPr>
              <a:t>at least 90% power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and have chose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Tw Cen MT"/>
              </a:rPr>
              <a:t>α = 0.01 (two-sided)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as the current therapy is quite acceptable and they want to be sure that the new therapy is superior before switching over. Blood pressure measurements have a standard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Tw Cen MT"/>
              </a:rPr>
              <a:t>deviation of 20 mmHg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80000"/>
              </a:lnSpc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3 (using formula)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ample size  n =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2 σ</a:t>
            </a:r>
            <a:r>
              <a:rPr b="0" lang="en-US" sz="2900" spc="-1" strike="noStrike" u="sng" baseline="30000">
                <a:solidFill>
                  <a:srgbClr val="000000"/>
                </a:solidFill>
                <a:uFillTx/>
                <a:latin typeface="Tw Cen MT"/>
              </a:rPr>
              <a:t>2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 (Z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(1-α)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+ Z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(1-β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)</a:t>
            </a:r>
            <a:r>
              <a:rPr b="0" lang="en-US" sz="2900" spc="-1" strike="noStrike" u="sng" baseline="30000">
                <a:solidFill>
                  <a:srgbClr val="000000"/>
                </a:solidFill>
                <a:uFillTx/>
                <a:latin typeface="Tw Cen MT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er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Tw Cen MT"/>
              </a:rPr>
              <a:t>d</a:t>
            </a:r>
            <a:r>
              <a:rPr b="0" lang="el-GR" sz="2600" spc="-1" strike="noStrike">
                <a:solidFill>
                  <a:srgbClr val="ff0000"/>
                </a:solidFill>
                <a:latin typeface="Calibri"/>
              </a:rPr>
              <a:t>=10</a:t>
            </a:r>
            <a:r>
              <a:rPr b="0" lang="en-US" sz="2600" spc="-1" strike="noStrike">
                <a:solidFill>
                  <a:srgbClr val="ff0000"/>
                </a:solidFill>
                <a:latin typeface="Tw Cen MT"/>
              </a:rPr>
              <a:t>      </a:t>
            </a:r>
            <a:r>
              <a:rPr b="0" lang="el-GR" sz="2600" spc="-1" strike="noStrike">
                <a:solidFill>
                  <a:srgbClr val="ff0000"/>
                </a:solidFill>
                <a:latin typeface="Calibri"/>
              </a:rPr>
              <a:t>σ=20</a:t>
            </a:r>
            <a:r>
              <a:rPr b="0" lang="en-US" sz="2600" spc="-1" strike="noStrike">
                <a:solidFill>
                  <a:srgbClr val="ff0000"/>
                </a:solidFill>
                <a:latin typeface="Tw Cen MT"/>
              </a:rPr>
              <a:t>  </a:t>
            </a:r>
            <a:r>
              <a:rPr b="0" lang="el-GR" sz="2600" spc="-1" strike="noStrike">
                <a:solidFill>
                  <a:srgbClr val="000000"/>
                </a:solidFill>
                <a:latin typeface="Calibri"/>
              </a:rPr>
              <a:t>α=0.01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       Z</a:t>
            </a:r>
            <a:r>
              <a:rPr b="0" lang="el-GR" sz="2600" spc="-1" strike="noStrike" baseline="-25000">
                <a:solidFill>
                  <a:srgbClr val="000000"/>
                </a:solidFill>
                <a:latin typeface="Calibri"/>
              </a:rPr>
              <a:t>(1-α)</a:t>
            </a:r>
            <a:r>
              <a:rPr b="0" lang="el-GR" sz="2600" spc="-1" strike="noStrike">
                <a:solidFill>
                  <a:srgbClr val="000000"/>
                </a:solidFill>
                <a:latin typeface="Calibri"/>
              </a:rPr>
              <a:t>  = 2.58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                  β=</a:t>
            </a:r>
            <a:r>
              <a:rPr b="0" i="1" lang="en-US" sz="2600" spc="-1" strike="noStrike">
                <a:solidFill>
                  <a:srgbClr val="000000"/>
                </a:solidFill>
                <a:latin typeface="Tw Cen MT"/>
              </a:rPr>
              <a:t>(1-power)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= </a:t>
            </a:r>
            <a:r>
              <a:rPr b="0" i="1" lang="en-US" sz="2600" spc="-1" strike="noStrike">
                <a:solidFill>
                  <a:srgbClr val="000000"/>
                </a:solidFill>
                <a:latin typeface="Tw Cen MT"/>
              </a:rPr>
              <a:t>1-0.9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0.10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        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w Cen MT"/>
              </a:rPr>
              <a:t>(1-β)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= 1.28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Plug into formula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 = 2 x2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(2.58+1.28)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/(10)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= 119.2</a:t>
            </a:r>
            <a:r>
              <a:rPr b="1" i="1" lang="en-US" sz="2900" spc="-1" strike="noStrike">
                <a:solidFill>
                  <a:srgbClr val="ff0000"/>
                </a:solidFill>
                <a:latin typeface="Tw Cen MT"/>
              </a:rPr>
              <a:t>≈ 120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3 (using tables)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ferring to table 3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ook at row for sd = 20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ook at column for d= 10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sample size should be the number that intersects the tw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Question 4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standard regimen has an efficacy of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80%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and a new regimen has been claimed to be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90% effectiv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is the sample size required to test whether the new treatment is really effective at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5% level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ith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90% power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4 (using formula)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ample size calculation for proporti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 =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(Z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(1-α)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+Z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(1-β)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)</a:t>
            </a:r>
            <a:r>
              <a:rPr b="0" lang="en-US" sz="2900" spc="-1" strike="noStrike" u="sng" baseline="30000">
                <a:solidFill>
                  <a:srgbClr val="000000"/>
                </a:solidFill>
                <a:uFillTx/>
                <a:latin typeface="Tw Cen MT"/>
              </a:rPr>
              <a:t>2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[p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(1-p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)+ p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(1-p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)]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(p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p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)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1=80%        p2=90%     α=0.05       (1-α)=0.95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w Cen MT"/>
              </a:rPr>
              <a:t>(1-α)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= 1.96  for  95% confidence level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(Power=1-β)=0.90       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w Cen MT"/>
              </a:rPr>
              <a:t>(1-β)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= 1.282 for 90% pow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n= (1.96+1.282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((0.8x0.2)+(0.9x0.1)) 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(0.8-0.9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=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263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patients for each treat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tal sample size: 263x2=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526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4 (using tables)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ferring to table 4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ook at row for P1 = 90%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ook at column for P2= 80%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sample size should be the number that intersects those two lin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Question 5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 find whether contaminated food  had caused diarrhea  in an area, a study is planned   in that area where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30% individuals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te contaminated food but had no diarrhe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want to detect an </a:t>
            </a:r>
            <a:r>
              <a:rPr b="0" lang="en-US" sz="2900" spc="-1" strike="noStrike">
                <a:solidFill>
                  <a:srgbClr val="800000"/>
                </a:solidFill>
                <a:latin typeface="Tw Cen MT"/>
              </a:rPr>
              <a:t>odds ratio of  3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 individuals who ate contaminated food and  had diarrhea  as compared to control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w large sample ion each group  is required to have an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80% chance of getting this odds ratio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at the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5% level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9213b"/>
                </a:solidFill>
                <a:latin typeface="Tw Cen MT"/>
              </a:rPr>
              <a:t>Q1) </a:t>
            </a:r>
            <a:r>
              <a:rPr b="1" lang="en-US" sz="4000" spc="-1" strike="noStrike" u="sng">
                <a:solidFill>
                  <a:srgbClr val="09213b"/>
                </a:solidFill>
                <a:uFillTx/>
                <a:latin typeface="Tw Cen MT"/>
              </a:rPr>
              <a:t>Sample size estimation for a descriptive study (single mean):</a:t>
            </a:r>
            <a:endParaRPr b="0" lang="en-US" sz="40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want to estimate the mean systolic blood pressure of  Saudi  femal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standard deviation is around 20 mmH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wish to estimate the true mean to within 10 mmHg with 95% confidenc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is the required sample size 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5 using Epi info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pic>
        <p:nvPicPr>
          <p:cNvPr id="392" name="Picture 4" descr=""/>
          <p:cNvPicPr/>
          <p:nvPr/>
        </p:nvPicPr>
        <p:blipFill>
          <a:blip r:embed="rId1"/>
          <a:stretch/>
        </p:blipFill>
        <p:spPr>
          <a:xfrm>
            <a:off x="785880" y="1857240"/>
            <a:ext cx="7450200" cy="2857680"/>
          </a:xfrm>
          <a:prstGeom prst="rect">
            <a:avLst/>
          </a:prstGeom>
          <a:ln w="0">
            <a:noFill/>
          </a:ln>
        </p:spPr>
      </p:pic>
      <p:sp>
        <p:nvSpPr>
          <p:cNvPr id="393" name="TextBox 4"/>
          <p:cNvSpPr/>
          <p:nvPr/>
        </p:nvSpPr>
        <p:spPr>
          <a:xfrm>
            <a:off x="785880" y="5143680"/>
            <a:ext cx="692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Choose “unmatched cohort and cross sectional stud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5 cont.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86504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5 cont.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285840" y="1785960"/>
            <a:ext cx="8539200" cy="435780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4"/>
          <p:cNvSpPr/>
          <p:nvPr/>
        </p:nvSpPr>
        <p:spPr>
          <a:xfrm>
            <a:off x="378000" y="2857680"/>
            <a:ext cx="8388000" cy="571320"/>
          </a:xfrm>
          <a:prstGeom prst="rect">
            <a:avLst/>
          </a:prstGeom>
          <a:noFill/>
          <a:ln w="10080">
            <a:solidFill>
              <a:srgbClr val="ffff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Question 6 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wo competing therapies for a particular cancer are to be evaluated by the cohort study strategy in a multi center clinical trial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atients are randomized to either treatment A or B and are followed for recurrence of disease for 5 years following treatment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w many patients should be studied in each of two arms of the trial in order to be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90%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of rejecting Ho: RR=1 in favor of the alternative Ha: RR±1,if the test is to be performed at the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α=0.05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level and if it is assumed that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p2=0.35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and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RR=1.5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6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28760" y="5572080"/>
            <a:ext cx="815328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hoose unmatched case control stud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3" name="Picture 4" descr=""/>
          <p:cNvPicPr/>
          <p:nvPr/>
        </p:nvPicPr>
        <p:blipFill>
          <a:blip r:embed="rId1"/>
          <a:stretch/>
        </p:blipFill>
        <p:spPr>
          <a:xfrm>
            <a:off x="785880" y="1857240"/>
            <a:ext cx="74502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6 cont.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357120" y="1714680"/>
            <a:ext cx="830124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6 cont.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8510760" cy="435780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4"/>
          <p:cNvSpPr/>
          <p:nvPr/>
        </p:nvSpPr>
        <p:spPr>
          <a:xfrm>
            <a:off x="214200" y="2928960"/>
            <a:ext cx="8510760" cy="571320"/>
          </a:xfrm>
          <a:prstGeom prst="rect">
            <a:avLst/>
          </a:prstGeom>
          <a:noFill/>
          <a:ln w="10080">
            <a:solidFill>
              <a:srgbClr val="ffff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2720" y="228564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w Cen MT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1  (using formula)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ample size n = Z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(1-α)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σ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/d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=20   d=10      (1- α) =0.95     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w Cen MT"/>
              </a:rPr>
              <a:t>(1-α)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1.96    for  95% confidenc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 = (1.96)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x(20)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/(10)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= 15.37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nce we cannot take 0.37 of a person, we round up to 16 women as our sample siz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1 (using table)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ferring to table 1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ook at the row for the sd = 20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ook at the column for d= 10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sample size will be the number that intersects those two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571320"/>
            <a:ext cx="8153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9213b"/>
                </a:solidFill>
                <a:uFillTx/>
                <a:latin typeface="Tw Cen MT"/>
              </a:rPr>
              <a:t>Q2) Sample size estimation for a descriptive study (single proportion):</a:t>
            </a:r>
            <a:br>
              <a:rPr sz="4000"/>
            </a:br>
            <a:endParaRPr b="0" lang="en-US" sz="40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wish to estimate the proportion of Saudi males who smok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 sample size do we require to achieve a 95% confidence interval of </a:t>
            </a:r>
            <a:r>
              <a:rPr b="0" lang="en-US" sz="2900" spc="-1" strike="noStrike" u="sng">
                <a:solidFill>
                  <a:srgbClr val="800000"/>
                </a:solidFill>
                <a:uFillTx/>
                <a:latin typeface="Tw Cen MT"/>
              </a:rPr>
              <a:t>width ± 5%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( that is to be within 5% of the true value) ? In a study some years ago that found approximately 30% were smoker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2 (using formula) 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ing the formula for sample size for a single proporti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ample size n = Z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(1-α)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(1-p)/d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=0.3 d=.05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(1-α)=0.95   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w Cen MT"/>
              </a:rPr>
              <a:t>(1-α)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= 1.96   for  95% confidence level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n n = (1.96)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(0.3)(0.7)/(0.05)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= </a:t>
            </a:r>
            <a:r>
              <a:rPr b="1" lang="en-US" sz="2900" spc="-1" strike="noStrike">
                <a:solidFill>
                  <a:srgbClr val="0f3661"/>
                </a:solidFill>
                <a:latin typeface="Tw Cen MT"/>
              </a:rPr>
              <a:t>322.7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w Cen MT"/>
              </a:rPr>
              <a:t>≈ </a:t>
            </a:r>
            <a:r>
              <a:rPr b="0" i="1" lang="en-US" sz="2900" spc="-1" strike="noStrike">
                <a:solidFill>
                  <a:srgbClr val="ff0000"/>
                </a:solidFill>
                <a:latin typeface="Tw Cen MT"/>
              </a:rPr>
              <a:t>323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2 (using Tables)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ferring to table 2 (estimating  a population proportion)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Go to the row for the d= 0.05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Go to the column for p= 30%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sample size should be the number that intersects those two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244a5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2c7c9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Solution 2 (using Epi Info)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228600" y="1681200"/>
            <a:ext cx="7888320" cy="4462560"/>
          </a:xfrm>
          <a:prstGeom prst="rect">
            <a:avLst/>
          </a:prstGeom>
          <a:ln w="0">
            <a:noFill/>
          </a:ln>
        </p:spPr>
      </p:pic>
      <p:sp>
        <p:nvSpPr>
          <p:cNvPr id="366" name="Oval 5"/>
          <p:cNvSpPr/>
          <p:nvPr/>
        </p:nvSpPr>
        <p:spPr>
          <a:xfrm>
            <a:off x="2214720" y="1681200"/>
            <a:ext cx="714240" cy="318960"/>
          </a:xfrm>
          <a:prstGeom prst="ellipse">
            <a:avLst/>
          </a:prstGeom>
          <a:noFill/>
          <a:ln w="10080">
            <a:solidFill>
              <a:srgbClr val="c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213b"/>
                </a:solidFill>
                <a:latin typeface="Tw Cen MT"/>
              </a:rPr>
              <a:t>Press the “S” key for sample size</a:t>
            </a:r>
            <a:endParaRPr b="0" lang="en-US" sz="4400" spc="-1" strike="noStrike">
              <a:solidFill>
                <a:srgbClr val="09213b"/>
              </a:solidFill>
              <a:latin typeface="Tw Cen MT"/>
            </a:endParaRPr>
          </a:p>
        </p:txBody>
      </p:sp>
      <p:pic>
        <p:nvPicPr>
          <p:cNvPr id="368" name="Picture 3" descr=""/>
          <p:cNvPicPr/>
          <p:nvPr/>
        </p:nvPicPr>
        <p:blipFill>
          <a:blip r:embed="rId1"/>
          <a:stretch/>
        </p:blipFill>
        <p:spPr>
          <a:xfrm>
            <a:off x="1143000" y="2214720"/>
            <a:ext cx="73087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3:40:20Z</dcterms:created>
  <dc:creator>Rufaidah Dabbagh</dc:creator>
  <dc:description/>
  <dc:language>en-US</dc:language>
  <cp:lastModifiedBy>Rufaidah</cp:lastModifiedBy>
  <dcterms:modified xsi:type="dcterms:W3CDTF">2011-11-30T06:36:11Z</dcterms:modified>
  <cp:revision>21</cp:revision>
  <dc:subject/>
  <dc:title>Tutorial 7 Sample Size Calculation</dc:title>
</cp:coreProperties>
</file>