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D13-2DDE-4578-A3EE-CD423BB1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A75-5112-4B90-A4CA-31558C14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6FF-00C1-4AD1-9300-EF2E00FF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6A0-58C8-4C4C-B30D-CB2F4D8F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4C0A-65F3-48C5-A874-FB3C8906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51C5-C98B-4D62-B79F-D94F849C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A0A1-B66B-4DFE-B39E-69B4B03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B71B-190E-4E8A-B3CA-FC65C21C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0512-4EDE-484D-B2D5-9468C6D2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908E-87F3-44C2-B2F4-776DF708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CCF2-93EB-4258-91CE-BA4ED3A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D62-0FF0-4E2A-8BBB-F29C4B9E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E164-EF22-4AB9-8EBD-72B9406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D823-0AF1-4B5D-8A2C-5007F7EE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6548-6AD3-49F7-9E3E-E593270E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168D-70BD-4967-8360-E926F6ED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F708-AE98-4834-8897-AEA18CB8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0D28C-EF46-480B-B3DD-73E640C4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A2682-0007-4CD3-82DB-67BF49B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8043A-42C6-44F4-82B2-9F407706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9B292-A31F-43FE-BB62-104FB1B8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291EA-B11C-446F-A444-9369D1F9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38E-EB2D-4234-A8FF-8400DA92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3BA74-3818-46D6-8DE3-744745CB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61567-7D5F-4972-82F0-1EFD996A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D57DB-0509-4CC2-996D-9E1C8FB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48948-A99C-45D4-AF38-AE702386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EA0CD-E684-49DC-9C5B-9843CC16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7A638-7E68-47B2-B220-FAA8540F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FB073-1D97-4F37-BAAA-6EC3C02E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3B599-AF2E-4D70-976B-9E3CEF6A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48008-DA90-4113-8BF8-F08C1702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B8846-1CE9-4240-82FE-52FD4D5D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89B-F2F8-4796-9A7D-76D77DEF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4C204-4BDD-4908-9057-9377996C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AE171-D489-4296-88BF-01896E01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2090E-7DD7-46FF-8900-0C0ED002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0AF7A-41C4-478C-A310-1E21D6F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E6FA6-8F99-42C6-8DC8-78831772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B175F-5F62-48B8-A479-216D274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FEA73-C818-4674-A64E-7D74E3EA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875C9-F29E-4185-9FD4-A57E2B29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9C9D0-5ABB-42B4-B59F-A80C9CB8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EF7BB-C136-4B49-8D5F-FF1D3FDF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DA4-9521-4E81-93D3-70DBBC19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F61AA-7C88-4FEF-84F4-456D099B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1A5A5-C719-4541-9FBF-FD42CEC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5ED38-1420-43FF-9898-115331AD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67877-AA47-4D6F-99A0-87B28DC5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44C12-B2AA-4BB7-99F9-E716526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728A8-ECD4-448C-8515-3189F99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9A490-FA8A-42FA-8F63-E5745824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A07DD-E3ED-41FE-8893-180A78E2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8CC7C-3178-48F5-A8D9-4C54D19C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18AC3-A8A7-4BC1-82D0-CC994F59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5D6-DDB1-4D02-9A72-839C588B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CD4E1-0A29-4F43-9F43-B76ADD2E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7EFF-BC2C-46A9-9074-0B6D430C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EADE5-617C-46E7-B313-2BFDBF59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72BF-B091-4C3C-954B-55B81425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EF39-41B8-428B-A8F8-13B78D53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C0D58-BFD2-480A-9918-BE9E5104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00EA-4FB5-45E4-9C1A-258E6DB9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496B-5162-4FCD-AD88-42AFD9DD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8BF4D-C91B-4577-B9F5-2DE54F08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D687B-4EF4-4C0C-A8CC-885E94A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FDE-90B4-428C-9701-1E3A252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AADC9-A5F7-430A-88C3-BC1BC5D0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8EC59-E643-4FBF-BDF0-C6C12EF9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CA04-E1C5-41ED-AD7C-6612A802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9DC4A-2C01-4B15-819A-9F2E3A7B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5C99F-A139-4027-9FDE-155117E7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F495F-2CE6-4486-BED0-F024EFB0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5477E-FE80-4411-8DC4-3C8468D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9C85E-ED77-4AE7-A1FE-3BBCE35C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2DB08-A477-42E9-AC55-1A9B6E7F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8293D-29FF-4247-A11A-0CBE0091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44A-3EA5-47EE-8323-0E94AAA3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401BC-7861-4CC5-AD9A-DE5D8B68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E4EFE-4102-4306-B9B5-FC81A64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E939B-4CA8-491E-8AAB-13A27D6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538F4-BFA3-4CE2-BCED-3A962DA7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1A3B8-38A9-4F85-812D-49E495D9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B87B9-2591-47FA-9C82-E14AD58D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E79F5-ED9D-443E-9189-60B7B98C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50367-DE0C-4C4A-9005-58640C6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F7123-DAD6-462A-B922-05B7AD65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4A593-CB3F-4CE2-9975-41EB9296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976-C702-415E-B051-B63C91C2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1106-5FE6-4A72-B676-C9FE3FF3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FF7B0-55E0-4D07-ACC3-E0E62DE0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EEBAE-10A1-40EC-9556-8FD4EA5F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14F2C-24CE-4EA7-8875-0B18719A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52B1B-81C9-4C11-A41C-A7F00034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FBF58-1CD9-4879-A720-F8AE0336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856AC-A019-49DD-820D-3C14E8B9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9E401-E952-447D-8659-5054437D6E6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edf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d5edf4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ABF58-A67D-4745-9F90-D4DC89BF024A}" type="slidenum">
              <a:rPr b="1" lang="en-US" sz="1400" spc="-1" strike="noStrike">
                <a:solidFill>
                  <a:srgbClr val="d5edf4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85D5D-EB79-4390-BDFE-FB4EE46D7F5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E89D4-4F0D-4E43-A069-9062F2DD100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4E4DB-915A-4B7E-8C9B-251E33B3A1B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896F8-8602-41F5-AAA9-D3EFCC3A2759}" type="slidenum">
              <a:rPr b="1" lang="en-US" sz="1400" spc="-1" strike="noStrike">
                <a:solidFill>
                  <a:srgbClr val="09213b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9D683-39A9-4ED2-944B-4DAAB84622E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BE31F-D708-4B9C-8759-DDC70AB004A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TUTORIAL 7</a:t>
            </a:r>
            <a:br>
              <a:rPr sz="4000"/>
            </a:b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SAMPLE SIZE CALC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DR. SHAIK SHAFFI</a:t>
            </a:r>
            <a:endParaRPr b="0" lang="en-US" sz="40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Rufaidah Dabbagh            Dr. Nurah Al Amr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213b"/>
                </a:solidFill>
                <a:latin typeface="Tw Cen MT"/>
              </a:rPr>
              <a:t>Choose population survey by pressing “P”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7449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213b"/>
                </a:solidFill>
                <a:latin typeface="Tw Cen MT"/>
              </a:rPr>
              <a:t>Fill in the information as given in the problem, then press “F4”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28600" y="1643040"/>
            <a:ext cx="8526600" cy="3786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12720" y="5643720"/>
            <a:ext cx="76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rom the stem of the ques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ected frequency of outcome is 30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orst acceptable result within a 5% of true value is 30% + 5% = 3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continued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783640" cy="421452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5572080" y="4357800"/>
            <a:ext cx="785880" cy="142920"/>
          </a:xfrm>
          <a:prstGeom prst="ellipse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(3) Calculate Sample Siz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 new antihypertensive drug is to be tested against current treatment practice in people with systolic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blood pressure &gt; 160 mmHg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d/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diastolic blood pressure &gt;95 mmHg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felt that if the new drug can achieve blood pressure levels  that ar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on the average 10 mmHg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wer than those achieved using current treatment then it would be accepted  by the medical community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investigators would lik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at least 90% power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d have chos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α = 0.01 (two-sided)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 the current therapy is quite acceptable and they want to be sure that the new therapy is superior before switching over. Blood pressure measurements have a standar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deviation of 20 mmHg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3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 n =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2 σ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 (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+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β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d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=10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σ=20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=0.01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Z</a:t>
            </a:r>
            <a:r>
              <a:rPr b="0" lang="el-GR" sz="2600" spc="-1" strike="noStrike" baseline="-25000">
                <a:solidFill>
                  <a:srgbClr val="000000"/>
                </a:solidFill>
                <a:latin typeface="Calibri"/>
              </a:rPr>
              <a:t>(1-α)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 = 2.58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           β=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(1-power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1-0.9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0.10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β)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28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lug into formula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2 x2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2.58+1.28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(1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= 119.2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</a:rPr>
              <a:t>≈ 12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3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3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row for sd = 2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column for d= 1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e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4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tandard regimen has an efficacy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80%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a new regimen has been claimed to b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 effect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sample size required to test whether the new treatment is really effective at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5% lev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 power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4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calculation for propor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+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β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[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1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+ 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1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1=80%        p2=90%     α=0.05       (1-α)=0.95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96  for  95% confidence level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Power=1-β)=0.90    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β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282 for 90% pow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= (1.96+1.28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(0.8x0.2)+(0.9x0.1))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0.8-0.9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26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atients for each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sample size: 263x2=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52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4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4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row for P1 = 9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column for P2= 8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ose two li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5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find whether contaminated food  had caused diarrhea  in an area, a study is planned   in that area wher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30% individua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e contaminated food but had no diarrh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to detect an </a:t>
            </a:r>
            <a:r>
              <a:rPr b="0" lang="en-US" sz="2900" spc="-1" strike="noStrike">
                <a:solidFill>
                  <a:srgbClr val="800000"/>
                </a:solidFill>
                <a:latin typeface="Tw Cen MT"/>
              </a:rPr>
              <a:t>odds ratio of  3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individuals who ate contaminated food and  had diarrhea  as compared to contro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large sample ion each group  is required to have a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80% chance of getting this odds ratio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5% lev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13b"/>
                </a:solidFill>
                <a:latin typeface="Tw Cen MT"/>
              </a:rPr>
              <a:t>Q1) </a:t>
            </a:r>
            <a:r>
              <a:rPr b="1" lang="en-US" sz="4000" spc="-1" strike="noStrike" u="sng">
                <a:solidFill>
                  <a:srgbClr val="09213b"/>
                </a:solidFill>
                <a:uFillTx/>
                <a:latin typeface="Tw Cen MT"/>
              </a:rPr>
              <a:t>Sample size estimation for a descriptive study (single mean):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to estimate the mean systolic blood pressure of  Saudi  fem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 deviation is around 20 mmH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sh to estimate the true mean to within 10 mmHg with 95% confide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required sample size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using Epi info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450200" cy="28576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785880" y="514368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hoose “unmatched cohort and cross sectional stud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650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539200" cy="43578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78000" y="2857680"/>
            <a:ext cx="8388000" cy="571320"/>
          </a:xfrm>
          <a:prstGeom prst="rect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6 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competing therapies for a particular cancer are to be evaluated by the cohort study strategy in a multi center clinical tria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are randomized to either treatment A or B and are followed for recurrence of disease for 5 years following treat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patients should be studied in each of two arms of the trial in order to b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of rejecting Ho: RR=1 in favor of the alternative Ha: RR±1,if the test is to be performed a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α=0.0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level and if it is assumed that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2=0.3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RR=1.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760" y="557208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oose unmatched case control stud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450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3012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851076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214200" y="2928960"/>
            <a:ext cx="8510760" cy="571320"/>
          </a:xfrm>
          <a:prstGeom prst="rect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22856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1 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n = Z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σ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20   d=10      (1- α) =0.95    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.96    for  95% confidenc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(1.96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x(2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(1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= 15.3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nce we cannot take 0.37 of a person, we round up to 16 women as our sample siz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1 (using table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1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the row for the sd = 2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the column for d= 1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will be the number that intersects those two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571320"/>
            <a:ext cx="8153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9213b"/>
                </a:solidFill>
                <a:uFillTx/>
                <a:latin typeface="Tw Cen MT"/>
              </a:rPr>
              <a:t>Q2) Sample size estimation for a descriptive study (single proportion):</a:t>
            </a:r>
            <a:br>
              <a:rPr sz="4000"/>
            </a:b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sh to estimate the proportion of Saudi males who smok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 sample size do we require to achieve a 95% confidence interval of </a:t>
            </a:r>
            <a:r>
              <a:rPr b="0" lang="en-US" sz="2900" spc="-1" strike="noStrike" u="sng">
                <a:solidFill>
                  <a:srgbClr val="800000"/>
                </a:solidFill>
                <a:uFillTx/>
                <a:latin typeface="Tw Cen MT"/>
              </a:rPr>
              <a:t>width ± 5%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 that is to be within 5% of the true value) ? In a study some years ago that found approximately 30% were smoke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formula) 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ing the formula for sample size for a single propor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n = Z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(1-p)/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=0.3 d=.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1-α)=0.95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96   for  95% confidenc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n = (1.96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0.3)(0.7)/(0.05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= </a:t>
            </a:r>
            <a:r>
              <a:rPr b="1" lang="en-US" sz="2900" spc="-1" strike="noStrike">
                <a:solidFill>
                  <a:srgbClr val="0f3661"/>
                </a:solidFill>
                <a:latin typeface="Tw Cen MT"/>
              </a:rPr>
              <a:t>322.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w Cen MT"/>
              </a:rPr>
              <a:t>≈ </a:t>
            </a:r>
            <a:r>
              <a:rPr b="0" i="1" lang="en-US" sz="2900" spc="-1" strike="noStrike">
                <a:solidFill>
                  <a:srgbClr val="ff0000"/>
                </a:solidFill>
                <a:latin typeface="Tw Cen MT"/>
              </a:rPr>
              <a:t>32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2 (estimating  a population proportion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 to the row for the d= 0.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 to the column for p= 3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ose tw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Epi Info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28600" y="1681200"/>
            <a:ext cx="7888320" cy="4462560"/>
          </a:xfrm>
          <a:prstGeom prst="rect">
            <a:avLst/>
          </a:prstGeom>
          <a:ln w="0">
            <a:noFill/>
          </a:ln>
        </p:spPr>
      </p:pic>
      <p:sp>
        <p:nvSpPr>
          <p:cNvPr id="366" name="Oval 5"/>
          <p:cNvSpPr/>
          <p:nvPr/>
        </p:nvSpPr>
        <p:spPr>
          <a:xfrm>
            <a:off x="2214720" y="1681200"/>
            <a:ext cx="714240" cy="318960"/>
          </a:xfrm>
          <a:prstGeom prst="ellipse">
            <a:avLst/>
          </a:prstGeom>
          <a:noFill/>
          <a:ln w="10080">
            <a:solidFill>
              <a:srgbClr val="c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Press the “S” key for sample siz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7308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40:20Z</dcterms:created>
  <dc:creator>Rufaidah Dabbagh</dc:creator>
  <dc:description/>
  <dc:language>en-US</dc:language>
  <cp:lastModifiedBy>Rufaidah</cp:lastModifiedBy>
  <dcterms:modified xsi:type="dcterms:W3CDTF">2011-11-30T06:36:11Z</dcterms:modified>
  <cp:revision>21</cp:revision>
  <dc:subject/>
  <dc:title>Tutorial 7 Sample Size Calculation</dc:title>
</cp:coreProperties>
</file>