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03A-05E6-4B60-A734-E8D01F1D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27B-7F37-4A12-90B9-C8DAF049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F2D-11F5-4EA8-8471-D557F715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56E-5A7F-46F2-A8B7-801617A0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8ED-77CC-4150-9146-E632AE7B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E2D-D638-4FAB-B5F0-CFDF0B85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131-3E42-4846-9F2D-7F5596C0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0B7-021A-4DC4-9620-3A9DEE6E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868-1E14-4A91-8F11-73236791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A70-3106-4D35-BB8E-C7454D39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E25-BF05-434D-AEF0-851572D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803-3852-460D-ACD9-E353758E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37CA-0177-4C7A-BC2B-3F6B4613395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Schizophrenia &amp; Other Psychotic Disorders</a:t>
            </a:r>
            <a:br>
              <a:rPr sz="4000"/>
            </a:b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atima Alhaid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fessor of Psychiatr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 and Adolescent Psychiatri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lege of Medicine, KS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- Social / Occupation dysfun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- Duration of at least 6 month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- Schizoaffective &amp; mood disorder exclus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- Substance / General medicine condition exclus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- Relationship to pervasive developmental disorder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# 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Subtypes of Schizophrenia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ranoid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organized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tatonic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differentiated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idual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nical Featur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rtl="1">
              <a:spcBef>
                <a:spcPts val="7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clinical sign or symptom is pathognomonic for schizophrenia                                                   - Patient's history &amp; mental status examination are essential for diagno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morbid history includes schizoid or schizotypal personalities, few friends &amp; exclusion of social activiti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dromal features include obsessive compulsive behavior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icture of schizophrenia includes positive and negative symptom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sitive symptoms like: delusions &amp; hallucination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gative symptoms like: affective flattening or blunting, poverty of speech, poor grooming, lack of motivation, and social withdraw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ntal status examina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earance &amp; behavior ( variable presentation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od, feelings &amp; affect ( reduced emotional   responsiveness, inappropriate emoti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ceptual disturbances ( hallucinations, illusions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ought:    Thought content ( delusion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m of thought ( looseness of associati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ought process ( thought blocking, poverty of thought content, poor abstraction, perseveration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ulsiveness, violence, suicide &amp; homic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gnitive function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or insight and judg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urse and progn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Differential Diagnosi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npsychiatric disorders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stance-induced disor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pilepsy ( TL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NS dis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ychiatric disorders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hizophreniform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ef psychotic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usional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fective disor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sonality disorders ( schizoid, schizotypal &amp; borderline persona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lingering &amp; Factitious disor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eatmen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are the indications for hospitaliz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agnostic purpo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atient &amp; other's safe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itiating or stabilizing medic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an effective association between patient &amp; community supportive system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iological therap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tipsychotic medications are the mainstay of the treatment of schizophreni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erally, they are remarkably saf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wo major class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pamine receptor antagonists ( haloperidol, chlorpromazine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rotonin-dopamine receptor antagonists ( Risperidone, clozapine, olanzapine 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ther drug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ticonvulsa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thiu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nzodiazepin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pot forms of antipsychotics eg. Risperidone Consta is indicated for poorly compliant pat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ectroconvulsive therapy (ECT) for catatonic or poorly responding patients to medic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sychosocial therapies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ocial skills train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amily oriented therap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roup therap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dividual psychotherap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rtive community treatm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ocational therap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chizophrenia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t is not a single disease but a group of disorders with heterogeneous etiologi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nd in all societies and countries with equal prevalence &amp; incidence worldwid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life prevalence of 0.6 – 1.9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nual incidence of 0.5 – 5.0 per 10,00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eak age of onset are 10-25 years for ♂ &amp; 25-35 years fo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Other Psychotic Disorder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chizophreniform Disord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chizoaffective Disord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lusional Disorder &amp; Shared Psychot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rief Psychotic Disord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sychotic Disorders Due To A General         Medical Condition &amp; Substance-Induced    Psychotic Disord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ulture-Bound Syndrom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Etiology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ct etiology is unknow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ress-Diathesis Model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ates biological, psychosocial and environmental factors in the etiology of schizophreni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mptoms of schizophrenia develop when a person has  a specific vulnerability that is acted on by  a stressful infl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urobi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rtain areas of the brain are involved in the pathophysiology of schizophrenia: the limbic system, the frontal cortex, cerebellum, and the basal gangli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- Dopamine Hypothe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much dopaminergic activity ( whether it i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↑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ease of dopamine, ↑ dopamine receptors, hypersensitivity of dopamine receptors to dopamine, or combinations is not known 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- Other Neurotransmitt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otonin, Norepinephrine, GABA, Glutamate &amp; Neuropeptid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- Neuropath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uropathological and neurochemical abnormalities have been reported in the brain particularly in the limbic system, basal ganglia and cerebellum. Either in structures or connection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- Psychoneuroimmun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↓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-cell interlukeukin-2 lymphocytes, abnormal cellular and humoral reactivity to neurons and presence of antibrain antibodi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se changes are due to neurotoxic virus ? or endogenous autoimmune disorde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- Psychoneuroendocrin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bnormal dexamethasone-suppression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↓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H/FS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blunted release of prolactin and growth hormone on stimulatio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Genetic Factors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wide range of genetic studies strongly suggest a  genetic component to the inheritance of schizophrenia that outweights the environmental infl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se include: family studies, twin studies and chromosomal studi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sychosocial Factors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sychoanalytic theories  postulate that schizophrenia result from ego defect and abnormal object rel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ccording to learning theories, schizophrenic patients learn irrational reactions and ways of thinking by imitating parents who have their own emotional problem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family dynamics studies, no well-controlled evidence indicates specific family pattern plays a causative role in the development of schizophreni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Bi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hism &amp; Skewed Famil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seudomutual &amp; Pseudohostile Famil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ressed Emo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ocial Theor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Diagnosis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#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SM-IV-TR Diagnostic Criteria for Schizophreni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- ≥ two characteristic sympto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organized spee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gative symptom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0:23:52Z</dcterms:created>
  <dc:creator>www.arabswell.com</dc:creator>
  <dc:description/>
  <dc:language>en-US</dc:language>
  <cp:lastModifiedBy>www.arabswell.com</cp:lastModifiedBy>
  <dcterms:modified xsi:type="dcterms:W3CDTF">2008-07-14T11:19:40Z</dcterms:modified>
  <cp:revision>3</cp:revision>
  <dc:subject/>
  <dc:title>Schizophrenia &amp; Other Psychotic Disorders </dc:title>
</cp:coreProperties>
</file>