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EF5B-6084-4C46-B2C1-1B6FEABFA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7140-D972-4E22-A290-8192C88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AB2-B87F-4828-96AA-4FCC3609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118A-3F87-4B71-B258-CA9E9C8B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0BD-6630-4D5A-ABF7-28CEE7E7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966-89A3-4123-8D3E-103A9E13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C4B1-6BBD-4A72-8DAB-C2ACD34E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0674-80FB-4E93-9E08-B671700A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8F5-D473-4083-8D1A-CD5621DB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79B3-FA71-419A-8036-72137002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2661-11A5-490E-BA45-78823210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E634-6833-4E9E-8D35-D3C8985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EFB-A79C-4C9D-8F7E-02906997545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Schizophrenia &amp; Other Psychotic Disorders</a:t>
            </a:r>
            <a:br>
              <a:rPr sz="4000"/>
            </a:br>
            <a:endParaRPr b="0" lang="en-US" sz="4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atima Alhaida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fessor of Psychiatry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&amp;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hild and Adolescent Psychiatris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llege of Medicine, KSU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- Social / Occupation dysfunct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- Duration of at least 6 month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- Schizoaffective &amp; mood disorder exclus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- Substance / General medicine condition exclusion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- Relationship to pervasive developmental disorder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# 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Subtypes of Schizophrenia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aranoid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organized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tatonic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Undifferentiated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sidual typ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Clinical Feature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rtl="1">
              <a:spcBef>
                <a:spcPts val="7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o clinical sign or symptom is pathognomonic for schizophrenia                                                   - Patient's history &amp; mental status examination are essential for diagnosi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rtl="1">
              <a:spcBef>
                <a:spcPts val="700"/>
              </a:spcBef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emorbid history includes schizoid or schizotypal personalities, few friends &amp; exclusion of social activiti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rodromal features include obsessive compulsive behavior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icture of schizophrenia includes positive and negative symptom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ositive symptoms like: delusions &amp; hallucination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gative symptoms like: affective flattening or blunting, poverty of speech, poor grooming, lack of motivation, and social withdrawal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ental status examination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ppearance &amp; behavior ( variable presentation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od, feelings &amp; affect ( reduced emotional   responsiveness, inappropriate emoti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erceptual disturbances ( hallucinations, illusions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ought:    Thought content ( delusions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rm of thought ( looseness of association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ought process ( thought blocking, poverty of thought content, poor abstraction, perseveration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mpulsiveness, violence, suicide &amp; homicide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gnitive functioning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oor insight and judgm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urse and progn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Differential Diagnosis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Nonpsychiatric disorders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bstance-induced disor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pilepsy ( TL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NS diseas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um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th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Psychiatric disorders</a:t>
            </a:r>
            <a:r>
              <a:rPr b="1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hizophreniform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rief psychotic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lusional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fective disorder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chizoaffective disorde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ersonality disorders ( schizoid, schizotypal &amp; borderline personali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lingering &amp; Factitious disord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Treatment</a:t>
            </a:r>
            <a:endParaRPr b="0" lang="en-US" sz="36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What are the indications for hospitalizatio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agnostic purpos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atient &amp; other's safet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itiating or stabilizing medication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stablishing an effective association between patient &amp; community supportive system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Biological therapies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tipsychotic medications are the mainstay of the treatment of schizophreni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enerally, they are remarkably saf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wo major class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pamine receptor antagonists ( haloperidol, chlorpromazine )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rotonin-dopamine receptor antagonists ( Risperidone, clozapine, olanzapine )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Other drug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nticonvulsa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ithiu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nzodiazepin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epot forms of antipsychotics eg. Risperidone Consta is indicated for poorly compliant patient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lectroconvulsive therapy (ECT) for catatonic or poorly responding patients to medic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sychosocial therapies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ocial skills training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amily oriented therapi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Group therap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dividual psychotherap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ssertive community treatmen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Vocational therapy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Schizophrenia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t is not a single disease but a group of disorders with heterogeneous etiologi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nd in all societies and countries with equal prevalence &amp; incidence worldwid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life prevalence of 0.6 – 1.9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%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nnual incidence of 0.5 – 5.0 per 10,000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eak age of onset are 10-25 years for ♂ &amp; 25-35 years fo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♀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Other Psychotic Disorders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chizophreniform Disord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chizoaffective Disorder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lusional Disorder &amp; Shared Psychot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order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rief Psychotic Disord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sychotic Disorders Due To A General         Medical Condition &amp; Substance-Induced    Psychotic Disorde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ulture-Bound Syndrome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Etiology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Exact etiology is unknown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tress-Diathesis Model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ates biological, psychosocial and environmental factors in the etiology of schizophreni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ymptoms of schizophrenia develop when a person has  a specific vulnerability that is acted on by  a stressful infl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Neurobi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rtain areas of the brain are involved in the pathophysiology of schizophrenia: the limbic system, the frontal cortex, cerebellum, and the basal ganglia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- Dopamine Hypothe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oo much dopaminergic activity ( whether it is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↑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release of dopamine, ↑ dopamine receptors, hypersensitivity of dopamine receptors to dopamine, or combinations is not known )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- Other Neurotransmitter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rotonin, Norepinephrine, GABA, Glutamate &amp; Neuropeptide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- Neuropath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Neuropathological and neurochemical abnormalities have been reported in the brain particularly in the limbic system, basal ganglia and cerebellum. Either in structures or connection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d- Psychoneuroimmun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↓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-cell interlukeukin-2 lymphocytes, abnormal cellular and humoral reactivity to neurons and presence of antibrain antibodie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se changes are due to neurotoxic virus ? or endogenous autoimmune disorder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- Psychoneuroendocrinology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bnormal dexamethasone-suppression tes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↓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H/FSH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 blunted release of prolactin and growth hormone on stimulation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Genetic Factors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wide range of genetic studies strongly suggest a  genetic component to the inheritance of schizophrenia that outweights the environmental influence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ese include: family studies, twin studies and chromosomal studie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- 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Psychosocial Factors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sychoanalytic theories  postulate that schizophrenia result from ego defect and abnormal object relation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ccording to learning theories, schizophrenic patients learn irrational reactions and ways of thinking by imitating parents who have their own emotional problem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 family dynamics studies, no well-controlled evidence indicates specific family pattern plays a causative role in the development of schizophrenia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ouble Bind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chism &amp; Skewed Families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seudomutual &amp; Pseudohostile Famil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xpressed Emotion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ocial Theorie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Diagnosis</a:t>
            </a: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#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SM-IV-TR Diagnostic Criteria for Schizophrenia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- ≥ two characteristic symptoms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lusion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Hallucination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organized speech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organized behavio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egative symptoms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0:23:52Z</dcterms:created>
  <dc:creator>www.arabswell.com</dc:creator>
  <dc:description/>
  <dc:language>en-US</dc:language>
  <cp:lastModifiedBy>www.arabswell.com</cp:lastModifiedBy>
  <dcterms:modified xsi:type="dcterms:W3CDTF">2008-07-14T11:19:40Z</dcterms:modified>
  <cp:revision>3</cp:revision>
  <dc:subject/>
  <dc:title>Schizophrenia &amp; Other Psychotic Disorders </dc:title>
</cp:coreProperties>
</file>