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move the slide</a:t>
            </a:r>
            <a:endParaRPr b="0" lang="en-US" sz="3300" spc="-1" strike="noStrike">
              <a:solidFill>
                <a:srgbClr val="838383"/>
              </a:solidFill>
              <a:latin typeface="Georgia"/>
            </a:endParaRPr>
          </a:p>
        </p:txBody>
      </p:sp>
      <p:sp>
        <p:nvSpPr>
          <p:cNvPr id="6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2"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3"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4B04D-4A8B-4C01-BBEE-E85197B1879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ttp://www.schizophrenia.com/schizpictures.html</a:t>
            </a: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E8CCB-D0AB-4C74-9563-A81E1012CE9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ttp://www.schizophrenia.com/schizpictures.html</a:t>
            </a: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544F-AABA-4F1B-9AA7-BBA271F5B2C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mage Source: UCLA Laboratory of Neuro Imaging, UCLA, Derived from high-resolution magnetic resonance images (MRI scans), the above images were created after repeatedly scanning 12 schizophrenia subjects over five years, and comparing them with matched 12 healthy controls, scanned at the same ages and intervals. Severe loss of gray matter is indicated by red and pink colors, while stable regions are in blue. STG denotes the superior temporal gyrus, and DLPFC denotes the dorsolateral prefrontal cortex. Note: This study was of Childhood onset schizophrenia (defined as schizophrenia diagnosed in children under the age of 13 or so) which occurs in approximately 1 of every 40,000 people and is frequently a significantly more aggressive form of schizophrenia (than regular schizophrenia that typically begins when people are aged 15 to 25 (slightly later for women) - and impacts approximatley 1 of every 100 people).</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94142-B909-487C-B512-4CCCE6A91B1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ttp://www.schizophrenia.com/prevention.h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Before going into the specific risk reduction strategies its important to know the initial risks that a person may face of getting schizophrenia. In the general population, for someone who has no family history of mental illness, the average risk is estimated at approximately 1% (and therefore a 99% probability that the person will not get schizophrenia). If someone who is genetically related to a person in the extended family that does have schizophrenia, then the risk is higher - and the chart below provides a rough estimate of that risk. If, for example, you have an aunt or uncle who developed schizophrenia, then your risk (on average) is estimated at approximately 3% (and therefore there is a 97% probability you won't get schizophrenia). Even for the situation where one parent has schizophrenia the risk is estimated at 13% for a child, which means there is an 87% probability that the person will not develop schizophrenia. If a family has a history of more than one person developing schizophrenia then the risk goes up. People who have a strong history of mental illness in their family may want to consider genetic counseling in addition to the schizophrenia prevention tactics identified below</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4CCAD-308E-4826-A46E-1F14E729260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Its also important to keep in mind as you read about the risk factors, that most of these risk factors are associated with approximately a doubling of risk (also called the "Odds Ratio") - which might sound high, but that means that overall for someone with no family history of schizophrenia, that the risk goes from about 1% to 2% (with risk of not getting schizophrenia declining from 99% to 98%). Therefore, for the average person with no family history of schizophrenia or mental illness most of these risk factors may not make a significant difference in terms of total risk of schizophrenia which remains low. At the same time good healthcare, nutrition and a positive emotional environment for women during pregnancy are always important factors for the health of a baby and always recommended by doctors. Research also suggests that nurturing, sensitive child care is also important for the healthy emotional development of children</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Image: Some of the Schizophrenia Environmental Risk Factors - Source; PLOS Medicine (Note: different studies suggest different risk factors - so you will see some variance in the risk number that we quote below for some environmental factor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The factors listed below matter most significantly for people who have a history of schizophrenia or other mental illness in their family which suggests that a person may have some of the genes that are associated with schizophrenia risk. At this time little is known about exactly how the environmental exposures identified below increase risk in those with some sort of genetic vulnerability - so don't get too worried if you have in the past experienced a given environmental factor, as its impossible to know for sure how that environmental factor might impact you or your child. Focus on the environmental factors that you still have some influence over.</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Calibri"/>
              </a:rPr>
              <a:t>The take home message is that if you have a family history of mental illness it would probably be beneficial to take some reasonable steps to reduce or avoid exposure to the risk factors -- especially those factors involved in pregnancy, prenatal care and early child care. For teens interested in lowering their risk of schizophrenia, the avoidance of street drugs, maintenance of healthy friendships, and early treatment for any depression, sadness and anxiety is likely to be valuable. At the same time, all of the actions below are likely to help the mental health of any child or person - so the more steps you can take, the better your (or your child's) mental health is likely to b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D5D0-75D9-4647-82DA-12C66723E7D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sychosocial treatments with demonstrated efficacy includefamily interven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upported 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assertive community treat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social skills training,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gnitive behaviorally oriented psychothera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419B-3299-41C0-9D3D-3053BF43EEA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20C94-8AB5-49B5-AE08-F670804113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E6859-C969-4661-B2E9-2D6920E3E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49C19D4-3DE7-458F-9260-B0C5C365590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C514B9B-3012-4359-834D-A411210D0EC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41FC6FD-CD7F-42D8-A4D4-F9E9C79BEE9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BC676E4-7D8A-405C-9865-07C49C15622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9B32B43-60D3-4960-A4E0-D00CDE5BAF4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489E97F-8937-4338-B5F3-9B1D062B5E2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EFD6198-05CE-478B-B152-85994DB62C4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2328501-A7FB-4D9C-9EAF-B706ECEEC8F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86872C3-F6CD-4134-B191-6D904138354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B7C74DF-CB7A-459F-9B32-37760ECDE5B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207EB-B88E-4D2E-96D7-4AE6FC71BB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7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20BA51D-9313-405F-991D-9FCF4BD4AF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7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BFB0815-E7BD-4258-B7E0-1EE90C9395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86E2973-9D3D-4442-A5E3-7C129698EC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A85A064-E4FE-4C4F-BD68-270BE3302C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129038A-15D5-4411-95F4-D8257230BC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CBF99AF-B882-4D48-B18A-C12208AEF07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8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CD0D463-0576-4368-9E74-22CA5BE3BC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0F5CB21-CF1D-45E4-81B7-D3A58D7DE5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9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36F7179-F014-4309-B52D-4AA948E6C71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37F7E75-A86F-4DE4-88A3-9B314531FD6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C171A-77E5-4E41-82B2-EDD71EB39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0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9293126-AEAE-4EF8-84CF-CEC0E75CAD7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379AAC5-03DB-4327-BD56-528B7A116B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2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99C765-0313-4E3B-9C5E-084C18109B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2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3DB3D4A-5D27-4076-B02B-D9CA31B369D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E28F84-CD76-4498-B0F7-C4774AF3ED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E87259-CFF0-476E-AF11-8770DD68317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4628F3D-4114-4E85-93CB-68D108B8DA7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04C9DCA-E6EC-474D-97F0-508B26A339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3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6BE8F8-0886-4150-BB6B-7FDA05BE47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009B2C6-136E-4225-BD3D-56792B243F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63C670-E414-421E-A77A-28148A708C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4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8EBC7F-9755-4244-87F4-72FE1F01E12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4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F9AE738-7A22-417E-A8D3-82E8B5D9BB0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5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87F6EE5-94B4-4736-B5DD-A622CB5174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DA0C125-0104-4087-A30A-946E7A5E66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7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BBA09B4-DB93-42D6-907B-E085562BA9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7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3431055-CF36-489A-9C17-D6C5FA4C4A0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7B33BFF-89EF-4993-8156-1ED502C520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5EDEDBC-6122-41DC-82FC-7BAB8135FB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5A1047C-2657-430F-8C97-C62E8D974E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4277216-C570-47D4-9160-AFB0B66C76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B212A-47B0-444A-A2AE-64DC56C38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8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8A4698E-C5CB-4AAC-9F5A-0ED313685C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555E069-F9B5-4C67-B640-B345B6726D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9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F87E0AD-27F6-4206-8029-15818D6D03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5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D40285B-F2A7-42A9-98B1-D35D267469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60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80C0F90-E67A-412F-BCDB-E6CA45B7A9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70269B-F7CC-4E00-91D9-EA2794947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AA230-4B76-4A8F-A0CE-D6DA57ACA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1664A-B19C-4349-A2DD-24AA7D1A4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0CF36-1EA5-4761-BAFA-0242F44E0E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3A952-8D0B-4A51-9D2A-40CEE9C5C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832F5-A1E1-456B-B5D9-176784D8B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6315C-19A7-48DC-9036-1E783C4A7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C3650-6887-4E3E-8787-EAD4AD473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17B83-98FE-4B60-B919-71B54EC8B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FF3F7F-1EC0-4141-A8A4-A3045877B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2A7BF-AD1C-4776-8B40-594648F254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8A518C-25B2-4456-8315-72BA74C732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1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7F18A8-8701-4D11-A14F-FADE37EB37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1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889EC1-FF3B-4586-9C88-B4071F9B0E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346581-0C4A-4CB2-8E5D-0F9979EB0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9FD595-4F9A-4CA4-88A8-7170CCE24C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C289B-F568-4142-A150-64F6C18D7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4CB50A-4734-4F18-A099-FC80B57C54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2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A4808-C6AA-478E-9684-FF32298BD8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135868-61D2-4ED2-83D9-9B554CC6B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3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BEE800-BB1E-4D71-B675-2FE802D39B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3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6713C-C294-456C-B039-89F28731F5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4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54A80F-7E86-4E95-8492-8EDCD1947FE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4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6B6C13-1517-4401-B553-137591D28D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6640159-D30D-455E-B90E-0E7528A3D4A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6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717747F-5C17-4382-A8C9-8D37D9822EE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7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77A2C3D-0383-4F1F-8CC2-CD24D04E66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ECB0C-7A79-4F64-914E-927845013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D79F4CB-09B1-49EB-8D1F-3E504EABA5C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531DA0B-650E-4868-9905-7EB53BF5A05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000D863-ABAC-4D44-B848-7B34A963C8D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AC8D6E3-4ACB-4642-906D-C51B5101834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D64FF08-5EF3-4173-AC1A-6BCC29A1CC3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DA18CAD-6287-4EC6-8721-951216D33A9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8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856BD25-24E4-4DBB-A0F7-1D4A91D9F1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5364DA8-07F0-4B0A-AAFE-EAD7F2A8B75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19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2636E1F9-7BDB-4286-A925-E7EF5D2E905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03AC67-9225-432A-9390-780DBE0CCB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848AC-EC64-4A8B-A2B4-BAD5961D4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06ABEA-181B-473A-BE5D-A9DE8CE43E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4AAD3F-0052-475B-AC3E-DFBE68767E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B4A18E-13D1-4DA3-B988-80ACBB5774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169BF9-02CA-4D89-8B46-47E468112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7C9219-80C3-4BC7-BAAE-4E2C099B40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2A6423-234B-4B54-A8FA-7AABF48FB9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61D7FF-99D5-4FD0-97E2-DA397E48D0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CB3350-6810-4AE5-9C36-AC0ABC3CBE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0FF7F3-FDD5-4E34-B9E2-B6C19E7477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F58841-5029-49D9-B5D3-CF1615A7D7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A759D-B831-406D-8013-BA35C41EC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054457-7F7D-4B3B-B66A-82A0B2B73E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42CAC0-54D4-45F5-A6DE-3438998358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28433D-CDC2-4835-8F41-36DEF5E69F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E74547-EEA1-4B12-BB67-0E21E9A1D6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B84CA9-FA0E-40C4-A078-8D52643584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E16FC45-A0A5-4DFE-A56B-62F886C274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8D8B9F-007F-4304-8709-2E54A5D818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FDDE94-201E-4F4F-9D03-C8B658F544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F60E2E-4B20-4BB9-B736-A984E33C4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11E89C-BDFA-4931-884A-038942CAD9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61CB8-FEE6-4273-96B0-FC2A55018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FA937D-D5EE-41E8-84E2-D8EBE8BF4FF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BD74E9-D893-4AAC-864B-23A0558AB7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2B7FDC-5006-4CBE-B95F-1805B8D198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175573-4F9C-4A31-A83C-62F1D92920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9B57BB-0627-4BCB-9C2B-E92E819548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C86AC4-B287-4A2D-8EED-22C7060E5B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44301E-4F8B-4048-8830-AA688094B6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87607D-CC1E-4034-9B75-00FA74F3BF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7ED90B-02D1-4CB5-8812-F27BF005F4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CA61E-C232-45F6-90E8-F7DC31BAEE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95252-69F7-4842-8521-8EC2B6A6B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CCB819-559B-450B-9EFB-C70C5C0BB4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1713FA-E531-45B4-9CE7-E5D6DF272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F3F728-6460-40F9-B590-6CB1DA92EB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A7A12D-7C90-49A9-88B5-4C9394C983A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44B0D0-DC53-4D1B-B9E6-F08D0D61AC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1C8483-854D-4D7C-AAFE-FDBF311DDA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6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A42FBC-2139-416F-A871-8702DDF606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7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B9FDA8-41BB-47EE-AD5E-329B196FF3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4988118-AA17-4E85-85ED-AFC989C7A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1CB3CC-4602-4D4F-B6CC-C1695988EC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40574-2AC4-43E1-B2AC-58E489A44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CE841A-A9E8-4DE3-A819-33EC5B672C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7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337B31-8247-4F4E-9C11-FCB9821E8B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8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3B74F-01C7-44E1-8DBE-DBA5CE1261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2F6EAE-C927-4922-9DCE-25AD0ACE8F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8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782A7C-A17F-4EEF-8752-DF9C06FA7C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9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6155D7-2F43-4BB6-A3DC-75E49557F88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39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1C47ED-ECF9-4C70-A303-3B6917C610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6B09A9F6-3132-40D9-BD21-8BC9A335D57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CD352D4-AC1D-41DB-8217-C08C3EACFF4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Georgia"/>
            </a:endParaRPr>
          </a:p>
        </p:txBody>
      </p:sp>
      <p:sp>
        <p:nvSpPr>
          <p:cNvPr id="4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4A256C7-F97E-42B5-BD5E-471E1FA1D07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4A17-725D-41A0-B41F-08D5B53C5E3C}"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Straight Connector 19"/>
          <p:cNvSpPr/>
          <p:nvPr/>
        </p:nvSpPr>
        <p:spPr>
          <a:xfrm>
            <a:off x="152280" y="533520"/>
            <a:ext cx="8832960" cy="0"/>
          </a:xfrm>
          <a:prstGeom prst="line">
            <a:avLst/>
          </a:prstGeom>
          <a:ln w="1152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5"/>
          <p:cNvSpPr/>
          <p:nvPr/>
        </p:nvSpPr>
        <p:spPr>
          <a:xfrm>
            <a:off x="152280" y="152280"/>
            <a:ext cx="8832960" cy="30168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6"/>
          <p:cNvSpPr/>
          <p:nvPr/>
        </p:nvSpPr>
        <p:spPr>
          <a:xfrm>
            <a:off x="152280" y="609480"/>
            <a:ext cx="2743200" cy="5867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2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29"/>
          <p:cNvSpPr/>
          <p:nvPr/>
        </p:nvSpPr>
        <p:spPr>
          <a:xfrm>
            <a:off x="1390680" y="324000"/>
            <a:ext cx="419040" cy="4190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30"/>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46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8"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D8064-8F16-4AF3-B424-4833253EFAF4}"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
        <p:nvSpPr>
          <p:cNvPr id="469"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8"/>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Straight Connector 9"/>
          <p:cNvSpPr/>
          <p:nvPr/>
        </p:nvSpPr>
        <p:spPr>
          <a:xfrm>
            <a:off x="152280" y="1276200"/>
            <a:ext cx="8832960" cy="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Oval 14"/>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51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8"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BB1AC-94C6-461B-A380-B8C1DC35CBDE}"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4"/>
          <p:cNvSpPr/>
          <p:nvPr/>
        </p:nvSpPr>
        <p:spPr>
          <a:xfrm>
            <a:off x="146160" y="6391440"/>
            <a:ext cx="8832600" cy="309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25"/>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Straight Connector 26"/>
          <p:cNvSpPr/>
          <p:nvPr/>
        </p:nvSpPr>
        <p:spPr>
          <a:xfrm>
            <a:off x="7143840" y="155520"/>
            <a:ext cx="0" cy="624528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Oval 28"/>
          <p:cNvSpPr/>
          <p:nvPr/>
        </p:nvSpPr>
        <p:spPr>
          <a:xfrm>
            <a:off x="6934320" y="3021120"/>
            <a:ext cx="420480" cy="4190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56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8"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70EE-1040-486A-8634-60BA7E851EC1}"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
        <p:nvSpPr>
          <p:cNvPr id="569"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DF3A-DEE8-4478-9195-4A4DE47AC5D7}"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2" descr="http://t3.gstatic.com/images?q=tbn:ANd9GcSzMFvWZ2Te4FDhZh9DrttYf8TB_T60DWttRKAZPmzwM0AJHNw&amp;t=1&amp;usg=__86Br7EHU-kMgyo5GlkIhvDUBolc="/>
          <p:cNvPicPr/>
          <p:nvPr/>
        </p:nvPicPr>
        <p:blipFill>
          <a:blip r:embed="rId2"/>
          <a:stretch/>
        </p:blipFill>
        <p:spPr>
          <a:xfrm>
            <a:off x="8229600" y="152280"/>
            <a:ext cx="914400" cy="1067040"/>
          </a:xfrm>
          <a:prstGeom prst="rect">
            <a:avLst/>
          </a:prstGeom>
          <a:ln w="0">
            <a:noFill/>
          </a:ln>
        </p:spPr>
      </p:pic>
      <p:sp>
        <p:nvSpPr>
          <p:cNvPr id="1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111"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2"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13ED-4E86-456D-BF68-B4DCCCC885F2}"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5"/>
          <p:cNvSpPr/>
          <p:nvPr/>
        </p:nvSpPr>
        <p:spPr>
          <a:xfrm>
            <a:off x="155520" y="142920"/>
            <a:ext cx="8832960" cy="21398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6"/>
          <p:cNvSpPr/>
          <p:nvPr/>
        </p:nvSpPr>
        <p:spPr>
          <a:xfrm>
            <a:off x="146160" y="6391440"/>
            <a:ext cx="8832600" cy="309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7"/>
          <p:cNvSpPr/>
          <p:nvPr/>
        </p:nvSpPr>
        <p:spPr>
          <a:xfrm>
            <a:off x="152280" y="15228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Straight Connector 28"/>
          <p:cNvSpPr/>
          <p:nvPr/>
        </p:nvSpPr>
        <p:spPr>
          <a:xfrm>
            <a:off x="152280" y="2438280"/>
            <a:ext cx="8832960" cy="0"/>
          </a:xfrm>
          <a:prstGeom prst="line">
            <a:avLst/>
          </a:prstGeom>
          <a:ln w="1152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30"/>
          <p:cNvSpPr/>
          <p:nvPr/>
        </p:nvSpPr>
        <p:spPr>
          <a:xfrm>
            <a:off x="4362480" y="220968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1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4"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FA648-93E5-4131-8979-C25EA7F66FD2}"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8"/>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Straight Connector 9"/>
          <p:cNvSpPr/>
          <p:nvPr/>
        </p:nvSpPr>
        <p:spPr>
          <a:xfrm>
            <a:off x="152280" y="1276200"/>
            <a:ext cx="8832960" cy="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Oval 14"/>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9"/>
          <p:cNvSpPr/>
          <p:nvPr/>
        </p:nvSpPr>
        <p:spPr>
          <a:xfrm flipV="1">
            <a:off x="4562640" y="1576080"/>
            <a:ext cx="9360" cy="481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2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5"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E6703-88C9-40CA-B758-2DA4BD68BC4C}"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4" name="Straight Connector 19"/>
          <p:cNvSpPr/>
          <p:nvPr/>
        </p:nvSpPr>
        <p:spPr>
          <a:xfrm flipV="1">
            <a:off x="4572000" y="2199960"/>
            <a:ext cx="0" cy="418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5"/>
          <p:cNvSpPr/>
          <p:nvPr/>
        </p:nvSpPr>
        <p:spPr>
          <a:xfrm>
            <a:off x="152280" y="1371600"/>
            <a:ext cx="8832960" cy="9144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6"/>
          <p:cNvSpPr/>
          <p:nvPr/>
        </p:nvSpPr>
        <p:spPr>
          <a:xfrm>
            <a:off x="146160" y="6391440"/>
            <a:ext cx="8832600" cy="3110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Straight Connector 27"/>
          <p:cNvSpPr/>
          <p:nvPr/>
        </p:nvSpPr>
        <p:spPr>
          <a:xfrm>
            <a:off x="152280" y="1279440"/>
            <a:ext cx="8832960" cy="0"/>
          </a:xfrm>
          <a:prstGeom prst="line">
            <a:avLst/>
          </a:prstGeom>
          <a:ln w="1152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8"/>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0"/>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2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7"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93537-2248-4ED9-B9ED-17E0DA8A562E}"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8"/>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7"/>
          <p:cNvSpPr/>
          <p:nvPr/>
        </p:nvSpPr>
        <p:spPr>
          <a:xfrm>
            <a:off x="152280" y="15552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Straight Connector 9"/>
          <p:cNvSpPr/>
          <p:nvPr/>
        </p:nvSpPr>
        <p:spPr>
          <a:xfrm>
            <a:off x="152280" y="1276200"/>
            <a:ext cx="8832960" cy="0"/>
          </a:xfrm>
          <a:prstGeom prst="line">
            <a:avLst/>
          </a:prstGeom>
          <a:ln w="936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Oval 14"/>
          <p:cNvSpPr/>
          <p:nvPr/>
        </p:nvSpPr>
        <p:spPr>
          <a:xfrm>
            <a:off x="4362480" y="1050840"/>
            <a:ext cx="419040" cy="4208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3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7"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DE586-C3A6-4A3C-A608-08A3CCCE0CD0}"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4"/>
          <p:cNvSpPr/>
          <p:nvPr/>
        </p:nvSpPr>
        <p:spPr>
          <a:xfrm>
            <a:off x="146160" y="6391440"/>
            <a:ext cx="8832600" cy="30924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5"/>
          <p:cNvSpPr/>
          <p:nvPr/>
        </p:nvSpPr>
        <p:spPr>
          <a:xfrm>
            <a:off x="152280" y="15876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36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4"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4DE3F-F714-4354-886C-FAA97D85C574}"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19"/>
          <p:cNvSpPr/>
          <p:nvPr/>
        </p:nvSpPr>
        <p:spPr>
          <a:xfrm>
            <a:off x="152280" y="152280"/>
            <a:ext cx="8832960" cy="30492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5"/>
          <p:cNvSpPr/>
          <p:nvPr/>
        </p:nvSpPr>
        <p:spPr>
          <a:xfrm>
            <a:off x="152280" y="609480"/>
            <a:ext cx="2743200" cy="5867640"/>
          </a:xfrm>
          <a:prstGeom prst="rect">
            <a:avLst/>
          </a:prstGeom>
          <a:solidFill>
            <a:srgbClr val="dddddd"/>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6"/>
          <p:cNvSpPr/>
          <p:nvPr/>
        </p:nvSpPr>
        <p:spPr>
          <a:xfrm>
            <a:off x="152280" y="152280"/>
            <a:ext cx="8832960" cy="6546960"/>
          </a:xfrm>
          <a:prstGeom prst="rect">
            <a:avLst/>
          </a:prstGeom>
          <a:noFill/>
          <a:ln w="9360">
            <a:solidFill>
              <a:srgbClr val="838383"/>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Straight Connector 27"/>
          <p:cNvSpPr/>
          <p:nvPr/>
        </p:nvSpPr>
        <p:spPr>
          <a:xfrm>
            <a:off x="152280" y="533520"/>
            <a:ext cx="8832960" cy="0"/>
          </a:xfrm>
          <a:prstGeom prst="line">
            <a:avLst/>
          </a:prstGeom>
          <a:ln w="11520">
            <a:solidFill>
              <a:srgbClr val="838383"/>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29"/>
          <p:cNvSpPr/>
          <p:nvPr/>
        </p:nvSpPr>
        <p:spPr>
          <a:xfrm>
            <a:off x="1390680" y="324000"/>
            <a:ext cx="419040" cy="419040"/>
          </a:xfrm>
          <a:prstGeom prst="ellipse">
            <a:avLst/>
          </a:prstGeom>
          <a:solidFill>
            <a:srgbClr val="ffffff"/>
          </a:solidFill>
          <a:ln cap="rnd" w="50760">
            <a:solidFill>
              <a:srgbClr val="8383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30"/>
          <p:cNvSpPr/>
          <p:nvPr/>
        </p:nvSpPr>
        <p:spPr>
          <a:xfrm>
            <a:off x="149400" y="6388200"/>
            <a:ext cx="8832600" cy="309600"/>
          </a:xfrm>
          <a:prstGeom prst="rect">
            <a:avLst/>
          </a:prstGeom>
          <a:solidFill>
            <a:srgbClr val="96969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Georgia"/>
              </a:rPr>
              <a:t>Click to edit the title text format</a:t>
            </a:r>
            <a:endParaRPr b="0" lang="en-US" sz="3300" spc="-1" strike="noStrike">
              <a:solidFill>
                <a:srgbClr val="838383"/>
              </a:solidFill>
              <a:latin typeface="Georgia"/>
            </a:endParaRPr>
          </a:p>
        </p:txBody>
      </p:sp>
      <p:sp>
        <p:nvSpPr>
          <p:cNvPr id="4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b2b2b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6969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0808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5f5f5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6"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83838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395C-9079-455D-B0AE-B1094F8D961B}" type="slidenum">
              <a:rPr b="0" lang="ar-SA" sz="1600" spc="-1" strike="noStrike">
                <a:solidFill>
                  <a:srgbClr val="838383"/>
                </a:solidFill>
                <a:latin typeface="Times New Roman"/>
              </a:rPr>
              <a:t>&lt;number&gt;</a:t>
            </a:fld>
            <a:endParaRPr b="0" lang="en-US" sz="1600" spc="-1" strike="noStrike">
              <a:solidFill>
                <a:srgbClr val="000000"/>
              </a:solidFill>
              <a:latin typeface="Times New Roman"/>
            </a:endParaRPr>
          </a:p>
        </p:txBody>
      </p:sp>
      <p:sp>
        <p:nvSpPr>
          <p:cNvPr id="417"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ubTitle"/>
          </p:nvPr>
        </p:nvSpPr>
        <p:spPr>
          <a:xfrm>
            <a:off x="1371600" y="2819160"/>
            <a:ext cx="6400800" cy="1981080"/>
          </a:xfrm>
          <a:prstGeom prst="rect">
            <a:avLst/>
          </a:prstGeom>
          <a:noFill/>
          <a:ln w="0">
            <a:noFill/>
          </a:ln>
        </p:spPr>
        <p:txBody>
          <a:bodyPr anchor="t">
            <a:noAutofit/>
          </a:bodyPr>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FATIMA ALHAIDAR</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ROFESSOR,</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ILD &amp; ADOLESCENT PSYCHIATRIST</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OLLEGE OF MEDICINE, KSU</a:t>
            </a:r>
            <a:endParaRPr b="0" lang="en-US" sz="2200" spc="-1" strike="noStrike">
              <a:solidFill>
                <a:srgbClr val="000000"/>
              </a:solidFill>
              <a:latin typeface="Georgia"/>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
        <p:nvSpPr>
          <p:cNvPr id="615"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Schizophrenia &amp; Other Psychotic Disorders</a:t>
            </a:r>
            <a:br>
              <a:rPr sz="3600"/>
            </a:br>
            <a:endParaRPr b="0" lang="en-US" sz="4300" spc="-1" strike="noStrike">
              <a:solidFill>
                <a:srgbClr val="838383"/>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38383"/>
                </a:solidFill>
                <a:latin typeface="Arial"/>
              </a:rPr>
              <a:t>Etiology</a:t>
            </a:r>
            <a:endParaRPr b="0" lang="en-US" sz="3300" spc="-1" strike="noStrike">
              <a:solidFill>
                <a:srgbClr val="838383"/>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	</a:t>
            </a:r>
            <a:r>
              <a:rPr b="0" lang="en-US" sz="2700" spc="-1" strike="noStrike">
                <a:solidFill>
                  <a:srgbClr val="000000"/>
                </a:solidFill>
                <a:latin typeface="Arial"/>
                <a:ea typeface="Arial"/>
              </a:rPr>
              <a:t>Exact etiology is unknown.</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1- Stress-Diathesis Model;</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ntegrates biological, psychosocial and environmental factors in the etiology of schizophrenia.</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Symptoms of schizophrenia develop when a person has  a specific vulnerability that is acted on by  a stressful influenc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Neurobiology</a:t>
            </a:r>
            <a:endParaRPr b="0" lang="en-US" sz="3200" spc="-1" strike="noStrike">
              <a:solidFill>
                <a:srgbClr val="838383"/>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ertain areas of the brain are involved in the pathophysiology of schizophrenia: the limbic system, the frontal cortex, cerebellum, and the basal ganglia.</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Dopamine Hypothesis;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o much dopaminergic activity ( whether it is </a:t>
            </a:r>
            <a:r>
              <a:rPr b="1" lang="en-US" sz="2400" spc="-1" strike="noStrike">
                <a:solidFill>
                  <a:srgbClr val="000000"/>
                </a:solidFill>
                <a:latin typeface="Arial"/>
                <a:ea typeface="Arial"/>
              </a:rPr>
              <a:t>↑</a:t>
            </a:r>
            <a:r>
              <a:rPr b="0" lang="en-US" sz="2400" spc="-1" strike="noStrike">
                <a:solidFill>
                  <a:srgbClr val="000000"/>
                </a:solidFill>
                <a:latin typeface="Arial"/>
                <a:ea typeface="Arial"/>
              </a:rPr>
              <a:t> release of dopamine, ↑ dopamine receptors, hypersensitivity of dopamine receptors to dopamine, or combinations is not known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 Other Neurotransmitters; </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rotonin, Norepinephrine, GABA, Glutamate &amp; Neuropeptides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838383"/>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0" name="Picture 2" descr="http://www.schizophrenia.com/images/schizophrenia_brain_large_2.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Neuropathology;</a:t>
            </a:r>
            <a:endParaRPr b="0" lang="en-US" sz="3200" spc="-1" strike="noStrike">
              <a:solidFill>
                <a:srgbClr val="838383"/>
              </a:solidFill>
              <a:latin typeface="Georgia"/>
            </a:endParaRPr>
          </a:p>
        </p:txBody>
      </p:sp>
      <p:sp>
        <p:nvSpPr>
          <p:cNvPr id="64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Arial"/>
              </a:rPr>
              <a:t>Neuropathological and neurochemical abnormalities have been reported in the brain particularly in the limbic system, basal ganglia and cerebellum. Either in structures or connections.</a:t>
            </a:r>
            <a:endParaRPr b="0" lang="en-US" sz="3600" spc="-1" strike="noStrike">
              <a:solidFill>
                <a:srgbClr val="000000"/>
              </a:solidFill>
              <a:latin typeface="Georgia"/>
            </a:endParaRPr>
          </a:p>
          <a:p>
            <a:pPr marL="272880" indent="-2728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838383"/>
              </a:solidFill>
              <a:latin typeface="Arial"/>
            </a:endParaRPr>
          </a:p>
        </p:txBody>
      </p:sp>
      <p:sp>
        <p:nvSpPr>
          <p:cNvPr id="64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5" name="Picture 2" descr="http://www.schizophrenia.com/images/schizophrenia_brain_large.gif"/>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838383"/>
              </a:solidFill>
              <a:latin typeface="Georgia"/>
            </a:endParaRPr>
          </a:p>
        </p:txBody>
      </p:sp>
      <p:sp>
        <p:nvSpPr>
          <p:cNvPr id="64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48" name="Picture 4" descr="http://www.schizophrenia.com/images/COS_map.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0"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d- Psychoneuroimmunology;</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T-cell interlukeukin-2 lymphocytes, abnormal cellular and humoral reactivity to neurons and presence of antibrain antibodies.</a:t>
            </a:r>
            <a:endParaRPr b="0" lang="en-US" sz="2400" spc="-1" strike="noStrike">
              <a:solidFill>
                <a:srgbClr val="000000"/>
              </a:solidFill>
              <a:latin typeface="Georg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changes are due to neurotoxic virus ? or endogenous autoimmune disorder ?</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 Psychoneuroendocrinology;</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normal dexamethasone-suppression test</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H/FSH</a:t>
            </a:r>
            <a:endParaRPr b="0" lang="en-US" sz="2400" spc="-1" strike="noStrike">
              <a:solidFill>
                <a:srgbClr val="000000"/>
              </a:solidFill>
              <a:latin typeface="Georg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blunted release of prolactin and growth hormone on stimulation.</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83"/>
                </a:solidFill>
                <a:latin typeface="Arial"/>
              </a:rPr>
              <a:t>3- Genetic Factors</a:t>
            </a:r>
            <a:endParaRPr b="0" lang="en-US" sz="3200" spc="-1" strike="noStrike">
              <a:solidFill>
                <a:srgbClr val="838383"/>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 wide range of genetic studies strongly suggest a  genetic component to the inheritance of schizophrenia that outweights the environmental influence.</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These include: family studies, twin studies and chromosomal studi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838383"/>
              </a:solidFill>
              <a:latin typeface="Georgia"/>
            </a:endParaRPr>
          </a:p>
        </p:txBody>
      </p:sp>
      <p:sp>
        <p:nvSpPr>
          <p:cNvPr id="654"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55" name="Picture 6" descr="http://www.schizophrenia.com/sz.images/schizophrenia.risk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83"/>
                </a:solidFill>
                <a:latin typeface="Arial"/>
              </a:rPr>
              <a:t>4- Psychosocial Factors;</a:t>
            </a:r>
            <a:endParaRPr b="0" lang="en-US" sz="3200" spc="-1" strike="noStrike">
              <a:solidFill>
                <a:srgbClr val="838383"/>
              </a:solidFill>
              <a:latin typeface="Georgia"/>
            </a:endParaRPr>
          </a:p>
        </p:txBody>
      </p:sp>
      <p:sp>
        <p:nvSpPr>
          <p:cNvPr id="657"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 family dynamics studies, no well-controlled evidence indicates specific family pattern plays a causative role in the development of schizophrenia.</a:t>
            </a:r>
            <a:endParaRPr b="0" lang="en-US" sz="2000" spc="-1" strike="noStrike">
              <a:solidFill>
                <a:srgbClr val="000000"/>
              </a:solidFill>
              <a:latin typeface="Georgia"/>
            </a:endParaRPr>
          </a:p>
          <a:p>
            <a:pPr marL="272880" indent="-272880">
              <a:lnSpc>
                <a:spcPct val="80000"/>
              </a:lnSpc>
              <a:spcBef>
                <a:spcPts val="499"/>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gh Expressed Emotion  family : increase risk of relapse.</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38383"/>
                </a:solidFill>
                <a:latin typeface="Arial"/>
              </a:rPr>
              <a:t>Schizophrenia</a:t>
            </a:r>
            <a:r>
              <a:rPr b="0" lang="en-US" sz="3300" spc="-1" strike="noStrike">
                <a:solidFill>
                  <a:srgbClr val="838383"/>
                </a:solidFill>
                <a:latin typeface="Arial"/>
              </a:rPr>
              <a:t> </a:t>
            </a:r>
            <a:endParaRPr b="0" lang="en-US" sz="3300" spc="-1" strike="noStrike">
              <a:solidFill>
                <a:srgbClr val="838383"/>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It is not a single disease but a group of disorders with heterogeneous etiologie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Found in all societies and countries with equal prevalence &amp; incidence worldwide.</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 life prevalence of 0.6 – 1.9 %</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nnual incidence of 0.5 – 5.0 per 10,000</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Peak age of onset are 10-25 years for ♂ &amp; 25-35 years for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60" y="-360"/>
            <a:ext cx="88362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eorgia"/>
              </a:rPr>
              <a:t>Weight of different RF: Family history comes first</a:t>
            </a:r>
            <a:endParaRPr b="0" lang="en-US" sz="2800" spc="-1" strike="noStrike">
              <a:solidFill>
                <a:srgbClr val="838383"/>
              </a:solidFill>
              <a:latin typeface="Georgia"/>
            </a:endParaRPr>
          </a:p>
        </p:txBody>
      </p:sp>
      <p:sp>
        <p:nvSpPr>
          <p:cNvPr id="659" name=""/>
          <p:cNvSpPr txBox="1"/>
          <p:nvPr/>
        </p:nvSpPr>
        <p:spPr>
          <a:xfrm>
            <a:off x="301320" y="1527120"/>
            <a:ext cx="8504280" cy="487368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60" name="Picture 2" descr="http://www.schizophrenia.com/sz.images/sz.risk.odds.jpg"/>
          <p:cNvPicPr/>
          <p:nvPr/>
        </p:nvPicPr>
        <p:blipFill>
          <a:blip r:embed="rId1"/>
          <a:stretch/>
        </p:blipFill>
        <p:spPr>
          <a:xfrm>
            <a:off x="152280" y="838080"/>
            <a:ext cx="8153640" cy="5181840"/>
          </a:xfrm>
          <a:prstGeom prst="rect">
            <a:avLst/>
          </a:prstGeom>
          <a:ln w="0">
            <a:noFill/>
          </a:ln>
        </p:spPr>
      </p:pic>
      <p:sp>
        <p:nvSpPr>
          <p:cNvPr id="661" name="TextBox 4"/>
          <p:cNvSpPr/>
          <p:nvPr/>
        </p:nvSpPr>
        <p:spPr>
          <a:xfrm>
            <a:off x="7315200" y="5943600"/>
            <a:ext cx="2057400" cy="36828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LOS Medic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38383"/>
                </a:solidFill>
                <a:latin typeface="Arial"/>
              </a:rPr>
              <a:t>Course </a:t>
            </a:r>
            <a:endParaRPr b="0" lang="en-US" sz="3600" spc="-1" strike="noStrike">
              <a:solidFill>
                <a:srgbClr val="838383"/>
              </a:solidFill>
              <a:latin typeface="Georgia"/>
            </a:endParaRPr>
          </a:p>
        </p:txBody>
      </p:sp>
      <p:sp>
        <p:nvSpPr>
          <p:cNvPr id="66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cute exacerbation with increased residual impairment</a:t>
            </a:r>
            <a:endParaRPr b="0" lang="en-US" sz="2700" spc="-1" strike="noStrike">
              <a:solidFill>
                <a:srgbClr val="000000"/>
              </a:solidFill>
              <a:latin typeface="Georgia"/>
            </a:endParaRPr>
          </a:p>
          <a:p>
            <a:pPr marL="272880" indent="-272880">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ull recovery: very rare</a:t>
            </a:r>
            <a:endParaRPr b="0" lang="en-US" sz="2700" spc="-1" strike="noStrike">
              <a:solidFill>
                <a:srgbClr val="000000"/>
              </a:solidFill>
              <a:latin typeface="Georgia"/>
            </a:endParaRPr>
          </a:p>
          <a:p>
            <a:pPr marL="272880" indent="-272880">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ongitudinal course: downhill </a:t>
            </a:r>
            <a:endParaRPr b="0" lang="en-US" sz="2700" spc="-1" strike="noStrike">
              <a:solidFill>
                <a:srgbClr val="000000"/>
              </a:solidFill>
              <a:latin typeface="Georgia"/>
            </a:endParaRPr>
          </a:p>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38383"/>
                </a:solidFill>
                <a:latin typeface="Arial"/>
              </a:rPr>
              <a:t>Prognosis</a:t>
            </a:r>
            <a:endParaRPr b="0" lang="en-US" sz="3200" spc="-1" strike="noStrike">
              <a:solidFill>
                <a:srgbClr val="838383"/>
              </a:solidFill>
              <a:latin typeface="Georgia"/>
            </a:endParaRPr>
          </a:p>
        </p:txBody>
      </p:sp>
      <p:graphicFrame>
        <p:nvGraphicFramePr>
          <p:cNvPr id="665" name=""/>
          <p:cNvGraphicFramePr/>
          <p:nvPr/>
        </p:nvGraphicFramePr>
        <p:xfrm>
          <a:off x="301680" y="1527120"/>
          <a:ext cx="8504280" cy="4910040"/>
        </p:xfrm>
        <a:graphic>
          <a:graphicData uri="http://schemas.openxmlformats.org/drawingml/2006/table">
            <a:tbl>
              <a:tblPr/>
              <a:tblGrid>
                <a:gridCol w="4252680"/>
                <a:gridCol w="4251600"/>
              </a:tblGrid>
              <a:tr h="551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P.F</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or P.F</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4358160">
                <a:tc>
                  <a:txBody>
                    <a:bodyPr lIns="90000" rIns="90000" tIns="46800" bIns="46800" anchor="t">
                      <a:noAutofit/>
                    </a:bodyPr>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te age of onset</a:t>
                      </a: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cute onset</a:t>
                      </a: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PT factor</a:t>
                      </a: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sence of mood component</a:t>
                      </a: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od response to TTT</a:t>
                      </a:r>
                      <a:endParaRPr b="0" lang="en-US" sz="2800" spc="-1" strike="noStrike">
                        <a:solidFill>
                          <a:srgbClr val="000000"/>
                        </a:solidFill>
                        <a:latin typeface="Arial"/>
                      </a:endParaRPr>
                    </a:p>
                    <a:p>
                      <a:pPr lvl="1" marL="914400" indent="-457200">
                        <a:lnSpc>
                          <a:spcPct val="10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ood supportive system</a:t>
                      </a: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ng age of onset</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sidious onset</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ack of P.T.</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ple relapses</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ow IQ</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re-morbid personality</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egative symptom</a:t>
                      </a:r>
                      <a:endParaRPr b="0" lang="en-US" sz="2800" spc="-1" strike="noStrike">
                        <a:solidFill>
                          <a:srgbClr val="000000"/>
                        </a:solidFill>
                        <a:latin typeface="Arial"/>
                      </a:endParaRPr>
                    </a:p>
                    <a:p>
                      <a:pPr lvl="1" marL="914400" indent="-457200">
                        <a:lnSpc>
                          <a:spcPct val="9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Positive family histor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38383"/>
                </a:solidFill>
                <a:latin typeface="Arial"/>
              </a:rPr>
              <a:t>Differential Diagnosis</a:t>
            </a:r>
            <a:endParaRPr b="0" lang="en-US" sz="3600" spc="-1" strike="noStrike">
              <a:solidFill>
                <a:srgbClr val="838383"/>
              </a:solidFill>
              <a:latin typeface="Georgia"/>
            </a:endParaRPr>
          </a:p>
        </p:txBody>
      </p:sp>
      <p:sp>
        <p:nvSpPr>
          <p:cNvPr id="667" name=""/>
          <p:cNvSpPr txBox="1"/>
          <p:nvPr/>
        </p:nvSpPr>
        <p:spPr>
          <a:xfrm>
            <a:off x="301680" y="1371600"/>
            <a:ext cx="4038480" cy="4681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Nonpsychiatric disorders:</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ubstance-induced disorders</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pilepsy ( TLE)</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NS diseases</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uma</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thers </a:t>
            </a:r>
            <a:endParaRPr b="0" lang="en-US" sz="2400" spc="-1" strike="noStrike">
              <a:solidFill>
                <a:srgbClr val="000000"/>
              </a:solidFill>
              <a:latin typeface="Georgia"/>
            </a:endParaRPr>
          </a:p>
        </p:txBody>
      </p:sp>
      <p:sp>
        <p:nvSpPr>
          <p:cNvPr id="668" name=""/>
          <p:cNvSpPr txBox="1"/>
          <p:nvPr/>
        </p:nvSpPr>
        <p:spPr>
          <a:xfrm>
            <a:off x="4800600" y="1371600"/>
            <a:ext cx="4038480" cy="468144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ea typeface="Arial"/>
              </a:rPr>
              <a:t>Psychiatric disorders:</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izophreniform disorder</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rief psychotic disorder</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lusional disorder</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ffective disorders</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chizoaffective disorder</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ality disorders ( schizoid, schizotypal &amp; borderline personality)</a:t>
            </a:r>
            <a:endParaRPr b="0" lang="en-US" sz="2400" spc="-1" strike="noStrike">
              <a:solidFill>
                <a:srgbClr val="000000"/>
              </a:solidFill>
              <a:latin typeface="Georg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lingering &amp; Factitious disorders </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38383"/>
                </a:solidFill>
                <a:latin typeface="Arial"/>
              </a:rPr>
              <a:t>Treatment</a:t>
            </a:r>
            <a:endParaRPr b="0" lang="en-US" sz="3600" spc="-1" strike="noStrike">
              <a:solidFill>
                <a:srgbClr val="838383"/>
              </a:solidFill>
              <a:latin typeface="Georgia"/>
            </a:endParaRPr>
          </a:p>
        </p:txBody>
      </p:sp>
      <p:sp>
        <p:nvSpPr>
          <p:cNvPr id="670"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What are the indications for hospitalization?</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iagnostic purpose</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Patient &amp; other's safety</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Initiating or stabilizing medications</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Establishing an effective association between patient &amp; community supportive system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83"/>
                </a:solidFill>
                <a:latin typeface="Arial"/>
              </a:rPr>
              <a:t>Biological therapies</a:t>
            </a:r>
            <a:endParaRPr b="0" lang="en-US" sz="3200" spc="-1" strike="noStrike">
              <a:solidFill>
                <a:srgbClr val="838383"/>
              </a:solidFill>
              <a:latin typeface="Georgia"/>
            </a:endParaRPr>
          </a:p>
        </p:txBody>
      </p:sp>
      <p:sp>
        <p:nvSpPr>
          <p:cNvPr id="672"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ntipsychotic medications are the mainstay of the treatment of schizophrenia.</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enerally, they are remarkably safe.</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wo major classe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pamine receptor antagonists ( haloperidol, chlorpromazine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rotonin-dopamine receptor antagonists ( Risperidone, clozapine, olanzapine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Other drug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nticonvulsant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Lithium</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nzodiazepine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pot forms of antipsychotics eg. Risperidone Consta is indicated for poorly compliant patient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Electroconvulsive therapy (ECT) for catatonic or poorly responding patients to medications</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3300" spc="-1" strike="noStrike">
              <a:solidFill>
                <a:srgbClr val="838383"/>
              </a:solidFill>
              <a:latin typeface="Georgia"/>
            </a:endParaRPr>
          </a:p>
        </p:txBody>
      </p:sp>
      <p:sp>
        <p:nvSpPr>
          <p:cNvPr id="674" name=""/>
          <p:cNvSpPr txBox="1"/>
          <p:nvPr/>
        </p:nvSpPr>
        <p:spPr>
          <a:xfrm>
            <a:off x="301320" y="1527120"/>
            <a:ext cx="1679400" cy="4572000"/>
          </a:xfrm>
          <a:prstGeom prst="rect">
            <a:avLst/>
          </a:prstGeom>
          <a:noFill/>
          <a:ln w="0">
            <a:noFill/>
          </a:ln>
        </p:spPr>
        <p:txBody>
          <a:bodyPr anchor="t">
            <a:normAutofit/>
          </a:bodyPr>
          <a:p>
            <a:pPr marL="272880" indent="-272880">
              <a:spcBef>
                <a:spcPts val="400"/>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Georgia"/>
              </a:rPr>
              <a:t>Pharmacological Treatment Algorithm Adapted from the Maudsley prescribing Guidelines (Taylor et al, 2005)</a:t>
            </a:r>
            <a:endParaRPr b="0" lang="en-US" sz="1600" spc="-1" strike="noStrike">
              <a:solidFill>
                <a:srgbClr val="000000"/>
              </a:solidFill>
              <a:latin typeface="Georgia"/>
            </a:endParaRPr>
          </a:p>
        </p:txBody>
      </p:sp>
      <p:pic>
        <p:nvPicPr>
          <p:cNvPr id="675" name="Picture 2" descr="http://www.scholarpedia.org/wiki/images/a/a1/Schizophrenia_Treatment_Algorithm.jpg"/>
          <p:cNvPicPr/>
          <p:nvPr/>
        </p:nvPicPr>
        <p:blipFill>
          <a:blip r:embed="rId1"/>
          <a:stretch/>
        </p:blipFill>
        <p:spPr>
          <a:xfrm>
            <a:off x="2057400" y="152280"/>
            <a:ext cx="9829800" cy="6705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301320" y="228600"/>
            <a:ext cx="85345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838383"/>
                </a:solidFill>
                <a:latin typeface="Georgia"/>
              </a:rPr>
              <a:t> </a:t>
            </a:r>
            <a:endParaRPr b="0" lang="en-US" sz="3000" spc="-1" strike="noStrike">
              <a:solidFill>
                <a:srgbClr val="838383"/>
              </a:solidFill>
              <a:latin typeface="Georgia"/>
            </a:endParaRPr>
          </a:p>
        </p:txBody>
      </p:sp>
      <p:sp>
        <p:nvSpPr>
          <p:cNvPr id="67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78" name="Picture 4" descr="http://www.scholarpedia.org/wiki/images/2/2e/Schizophrenia_Sideeffects_AntiPsychotics.gif"/>
          <p:cNvPicPr/>
          <p:nvPr/>
        </p:nvPicPr>
        <p:blipFill>
          <a:blip r:embed="rId1"/>
          <a:stretch/>
        </p:blipFill>
        <p:spPr>
          <a:xfrm>
            <a:off x="0" y="990720"/>
            <a:ext cx="9753480" cy="6657840"/>
          </a:xfrm>
          <a:prstGeom prst="rect">
            <a:avLst/>
          </a:prstGeom>
          <a:ln w="0">
            <a:noFill/>
          </a:ln>
        </p:spPr>
      </p:pic>
      <p:sp>
        <p:nvSpPr>
          <p:cNvPr id="679" name="TextBox 6"/>
          <p:cNvSpPr/>
          <p:nvPr/>
        </p:nvSpPr>
        <p:spPr>
          <a:xfrm>
            <a:off x="-762120" y="228600"/>
            <a:ext cx="8991720" cy="612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Common side effects of antipsychotic medication </a:t>
            </a:r>
            <a:r>
              <a:rPr b="0" lang="en-CA" sz="1400" spc="-1" strike="noStrike">
                <a:solidFill>
                  <a:srgbClr val="000000"/>
                </a:solidFill>
                <a:latin typeface="Arial"/>
              </a:rPr>
              <a:t>(Taylor et al, 2005)</a:t>
            </a:r>
            <a:endParaRPr b="0" lang="en-US" sz="1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38383"/>
                </a:solidFill>
                <a:latin typeface="Arial"/>
              </a:rPr>
              <a:t>Psychosocial therapies</a:t>
            </a:r>
            <a:r>
              <a:rPr b="0" lang="en-US" sz="3300" spc="-1" strike="noStrike">
                <a:solidFill>
                  <a:srgbClr val="838383"/>
                </a:solidFill>
                <a:latin typeface="Arial"/>
              </a:rPr>
              <a:t> </a:t>
            </a:r>
            <a:endParaRPr b="0" lang="en-US" sz="3300" spc="-1" strike="noStrike">
              <a:solidFill>
                <a:srgbClr val="838383"/>
              </a:solidFill>
              <a:latin typeface="Georgia"/>
            </a:endParaRPr>
          </a:p>
        </p:txBody>
      </p:sp>
      <p:sp>
        <p:nvSpPr>
          <p:cNvPr id="68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Social skills training</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Family oriented therapies</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Group therapy</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Individual psychotherapy</a:t>
            </a:r>
            <a:endParaRPr b="0" lang="en-US" sz="2700" spc="-1" strike="noStrike">
              <a:solidFill>
                <a:srgbClr val="000000"/>
              </a:solidFill>
              <a:latin typeface="Georgia"/>
            </a:endParaRPr>
          </a:p>
          <a:p>
            <a:pPr marL="272880" indent="-272880">
              <a:lnSpc>
                <a:spcPct val="100000"/>
              </a:lnSpc>
              <a:spcBef>
                <a:spcPts val="675"/>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Assertive community treatment</a:t>
            </a:r>
            <a:endParaRPr b="0" lang="en-US" sz="2700" spc="-1" strike="noStrike">
              <a:solidFill>
                <a:srgbClr val="000000"/>
              </a:solidFill>
              <a:latin typeface="Georgia"/>
            </a:endParaRPr>
          </a:p>
          <a:p>
            <a:pPr marL="272880" indent="-272880">
              <a:lnSpc>
                <a:spcPct val="10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800" spc="-1" strike="noStrike">
                <a:solidFill>
                  <a:srgbClr val="000000"/>
                </a:solidFill>
                <a:latin typeface="Arial"/>
                <a:ea typeface="Arial"/>
              </a:rPr>
              <a:t>Vocational therapy</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38383"/>
              </a:solidFill>
              <a:latin typeface="Arial"/>
            </a:endParaRPr>
          </a:p>
        </p:txBody>
      </p:sp>
      <p:sp>
        <p:nvSpPr>
          <p:cNvPr id="6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84" name="Rectangle 3" descr=""/>
          <p:cNvPicPr/>
          <p:nvPr/>
        </p:nvPicPr>
        <p:blipFill>
          <a:blip r:embed="rId1"/>
          <a:stretch/>
        </p:blipFill>
        <p:spPr>
          <a:xfrm>
            <a:off x="2451240" y="2792520"/>
            <a:ext cx="4254480" cy="110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38383"/>
                </a:solidFill>
                <a:latin typeface="Arial"/>
              </a:rPr>
              <a:t>Clinical Features</a:t>
            </a:r>
            <a:endParaRPr b="0" lang="en-US" sz="3300" spc="-1" strike="noStrike">
              <a:solidFill>
                <a:srgbClr val="838383"/>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No clinical sign or symptom is pathognomonic for schizophrenia Patient's history &amp; mental status examination are essential for diagnosis.</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remorbid history includes schizoid or schizotypal personalities, few friends &amp; exclusion of social activities. </a:t>
            </a:r>
            <a:endParaRPr b="0" lang="en-US" sz="2800" spc="-1" strike="noStrike">
              <a:solidFill>
                <a:srgbClr val="000000"/>
              </a:solidFill>
              <a:latin typeface="Georg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 Prodromal features include obsessive compulsive behaviors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Arial"/>
            </a:endParaRPr>
          </a:p>
        </p:txBody>
      </p:sp>
      <p:sp>
        <p:nvSpPr>
          <p:cNvPr id="62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Picture of schizophrenia includes positive and negative symptom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Positive symptoms like: delusions &amp; hallucination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Negative symptoms like: affective flattening or blunting, poverty of speech, poor grooming, lack of motivation, and social withdrawal.</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38383"/>
                </a:solidFill>
                <a:latin typeface="Arial"/>
              </a:rPr>
              <a:t>Subtypes of Schizophrenia</a:t>
            </a:r>
            <a:endParaRPr b="0" lang="en-US" sz="3300" spc="-1" strike="noStrike">
              <a:solidFill>
                <a:srgbClr val="838383"/>
              </a:solidFill>
              <a:latin typeface="Georgia"/>
            </a:endParaRPr>
          </a:p>
        </p:txBody>
      </p:sp>
      <p:sp>
        <p:nvSpPr>
          <p:cNvPr id="623"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Paranoid type</a:t>
            </a:r>
            <a:endParaRPr b="0" lang="en-US" sz="2800" spc="-1" strike="noStrike">
              <a:solidFill>
                <a:srgbClr val="000000"/>
              </a:solidFill>
              <a:latin typeface="Georg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Disorganized type</a:t>
            </a: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Catatonic type</a:t>
            </a: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Undifferentiated type</a:t>
            </a: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272880" indent="-272880">
              <a:lnSpc>
                <a:spcPct val="90000"/>
              </a:lnSpc>
              <a:spcBef>
                <a:spcPts val="700"/>
              </a:spcBef>
              <a:buClr>
                <a:srgbClr val="dddddd"/>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Residual typ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300" spc="-1" strike="noStrike">
                <a:solidFill>
                  <a:srgbClr val="838383"/>
                </a:solidFill>
                <a:latin typeface="Georgia"/>
              </a:rPr>
              <a:t>Cognitive deficits in schizophrenia</a:t>
            </a:r>
            <a:endParaRPr b="0" lang="en-US" sz="3300" spc="-1" strike="noStrike">
              <a:solidFill>
                <a:srgbClr val="838383"/>
              </a:solidFill>
              <a:latin typeface="Georgia"/>
            </a:endParaRPr>
          </a:p>
        </p:txBody>
      </p:sp>
      <p:sp>
        <p:nvSpPr>
          <p:cNvPr id="625"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dddd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pic>
        <p:nvPicPr>
          <p:cNvPr id="626" name="Picture 2" descr="slide"/>
          <p:cNvPicPr/>
          <p:nvPr/>
        </p:nvPicPr>
        <p:blipFill>
          <a:blip r:embed="rId1"/>
          <a:stretch/>
        </p:blipFill>
        <p:spPr>
          <a:xfrm>
            <a:off x="228600" y="990720"/>
            <a:ext cx="4057560" cy="5029200"/>
          </a:xfrm>
          <a:prstGeom prst="rect">
            <a:avLst/>
          </a:prstGeom>
          <a:ln w="0">
            <a:noFill/>
          </a:ln>
        </p:spPr>
      </p:pic>
      <p:pic>
        <p:nvPicPr>
          <p:cNvPr id="627" name="Picture 4" descr="slide"/>
          <p:cNvPicPr/>
          <p:nvPr/>
        </p:nvPicPr>
        <p:blipFill>
          <a:blip r:embed="rId2"/>
          <a:stretch/>
        </p:blipFill>
        <p:spPr>
          <a:xfrm>
            <a:off x="4343400" y="990720"/>
            <a:ext cx="4514760" cy="502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38383"/>
                </a:solidFill>
                <a:latin typeface="Arial"/>
              </a:rPr>
              <a:t>Mental status examination</a:t>
            </a:r>
            <a:endParaRPr b="0" lang="en-US" sz="3600" spc="-1" strike="noStrike">
              <a:solidFill>
                <a:srgbClr val="838383"/>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Appearance &amp; behavior ( variable presentation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Mood, feelings &amp; affect ( reduced emotional   responsiveness, inappropriate emotion)</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Perceptual disturbances ( hallucinations, illusions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Thought:    Thought content ( delusions)</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Form of thought ( looseness of association)</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hought process ( thought blocking, poverty of thought content, poor abstraction, perseveration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Impulsiveness, violence, suicide &amp; homicide</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Cognitive functioning</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Poor insight and judgment</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Georg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38383"/>
                </a:solidFill>
                <a:latin typeface="Arial"/>
              </a:rPr>
              <a:t>Diagnosis</a:t>
            </a:r>
            <a:r>
              <a:rPr b="0" lang="en-US" sz="3300" spc="-1" strike="noStrike">
                <a:solidFill>
                  <a:srgbClr val="838383"/>
                </a:solidFill>
                <a:latin typeface="Arial"/>
              </a:rPr>
              <a:t> </a:t>
            </a:r>
            <a:endParaRPr b="0" lang="en-US" sz="3300" spc="-1" strike="noStrike">
              <a:solidFill>
                <a:srgbClr val="838383"/>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DSM-IV-TR Diagnostic Criteria for Schizophrenia:</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A- ≥ two characteristic symptoms</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1- Delusions  </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2- Hallucinations </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3- Disorganized speech</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4- Disorganized behavior</a:t>
            </a:r>
            <a:endParaRPr b="0" lang="en-US" sz="2700" spc="-1" strike="noStrike">
              <a:solidFill>
                <a:srgbClr val="000000"/>
              </a:solidFill>
              <a:latin typeface="Georgia"/>
            </a:endParaRPr>
          </a:p>
          <a:p>
            <a:pPr marL="272880" indent="-2728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700" spc="-1" strike="noStrike">
                <a:solidFill>
                  <a:srgbClr val="000000"/>
                </a:solidFill>
                <a:latin typeface="Arial"/>
                <a:ea typeface="Arial"/>
              </a:rPr>
              <a:t>5- Negative symptom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38383"/>
              </a:solidFill>
              <a:latin typeface="Arial"/>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B- Social / Occupation dysfunction</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C- Duration of at least 6 months</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D- Schizoaffective &amp; mood disorder exclusion</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E- Substance / General medicine condition exclusion</a:t>
            </a:r>
            <a:endParaRPr b="0" lang="en-US" sz="2700" spc="-1" strike="noStrike">
              <a:solidFill>
                <a:srgbClr val="000000"/>
              </a:solidFill>
              <a:latin typeface="Georgia"/>
            </a:endParaRPr>
          </a:p>
          <a:p>
            <a:pPr marL="272880" indent="-2728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F- Relationship to pervasive developmental disorders </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14T10:23:52Z</dcterms:created>
  <dc:creator>www.arabswell.com</dc:creator>
  <dc:description/>
  <dc:language>en-US</dc:language>
  <cp:lastModifiedBy>Mac</cp:lastModifiedBy>
  <dcterms:modified xsi:type="dcterms:W3CDTF">2013-11-09T09:55:34Z</dcterms:modified>
  <cp:revision>15</cp:revision>
  <dc:subject/>
  <dc:title>Schizophrenia &amp; Other Psychotic Disorders </dc:title>
</cp:coreProperties>
</file>