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move the slide</a:t>
            </a:r>
            <a:endParaRPr b="0" lang="en-US" sz="3300" spc="-1" strike="noStrike">
              <a:solidFill>
                <a:srgbClr val="838383"/>
              </a:solidFill>
              <a:latin typeface="Georgia"/>
            </a:endParaRPr>
          </a:p>
        </p:txBody>
      </p:sp>
      <p:sp>
        <p:nvSpPr>
          <p:cNvPr id="6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2E20-F144-4856-9AA4-5170F3B04E1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schizpictures.html</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1B9F-D7E8-42BD-A3A0-55109C4445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schizpictures.html</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5183-C3A9-4970-AE3D-59DB8EBDC4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mage Source: UCLA Laboratory of Neuro Imaging, UCLA, Derived from high-resolution magnetic resonance images (MRI scans), the above images were created after repeatedly scanning 12 schizophrenia subjects over five years, and comparing them with matched 12 healthy controls, scanned at the same ages and intervals. Severe loss of gray matter is indicated by red and pink colors, while stable regions are in blue. STG denotes the superior temporal gyrus, and DLPFC denotes the dorsolateral prefrontal cortex. Note: This study was of Childhood onset schizophrenia (defined as schizophrenia diagnosed in children under the age of 13 or so) which occurs in approximately 1 of every 40,000 people and is frequently a significantly more aggressive form of schizophrenia (than regular schizophrenia that typically begins when people are aged 15 to 25 (slightly later for women) - and impacts approximatley 1 of every 100 people).</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D1BA-8542-455C-A13E-2CC2BD761D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prevention.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fore going into the specific risk reduction strategies its important to know the initial risks that a person may face of getting schizophrenia. In the general population, for someone who has no family history of mental illness, the average risk is estimated at approximately 1% (and therefore a 99% probability that the person will not get schizophrenia). If someone who is genetically related to a person in the extended family that does have schizophrenia, then the risk is higher - and the chart below provides a rough estimate of that risk. If, for example, you have an aunt or uncle who developed schizophrenia, then your risk (on average) is estimated at approximately 3% (and therefore there is a 97% probability you won't get schizophrenia). Even for the situation where one parent has schizophrenia the risk is estimated at 13% for a child, which means there is an 87% probability that the person will not develop schizophrenia. If a family has a history of more than one person developing schizophrenia then the risk goes up. People who have a strong history of mental illness in their family may want to consider genetic counseling in addition to the schizophrenia prevention tactics identified below</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8C9C-D9F6-4AB0-9D3A-C1F8EF66BF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Its also important to keep in mind as you read about the risk factors, that most of these risk factors are associated with approximately a doubling of risk (also called the "Odds Ratio") - which might sound high, but that means that overall for someone with no family history of schizophrenia, that the risk goes from about 1% to 2% (with risk of not getting schizophrenia declining from 99% to 98%). Therefore, for the average person with no family history of schizophrenia or mental illness most of these risk factors may not make a significant difference in terms of total risk of schizophrenia which remains low. At the same time good healthcare, nutrition and a positive emotional environment for women during pregnancy are always important factors for the health of a baby and always recommended by doctors. Research also suggests that nurturing, sensitive child care is also important for the healthy emotional development of childre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Image: Some of the Schizophrenia Environmental Risk Factors - Source; PLOS Medicine (Note: different studies suggest different risk factors - so you will see some variance in the risk number that we quote below for some environmental facto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factors listed below matter most significantly for people who have a history of schizophrenia or other mental illness in their family which suggests that a person may have some of the genes that are associated with schizophrenia risk. At this time little is known about exactly how the environmental exposures identified below increase risk in those with some sort of genetic vulnerability - so don't get too worried if you have in the past experienced a given environmental factor, as its impossible to know for sure how that environmental factor might impact you or your child. Focus on the environmental factors that you still have some influence ove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take home message is that if you have a family history of mental illness it would probably be beneficial to take some reasonable steps to reduce or avoid exposure to the risk factors -- especially those factors involved in pregnancy, prenatal care and early child care. For teens interested in lowering their risk of schizophrenia, the avoidance of street drugs, maintenance of healthy friendships, and early treatment for any depression, sadness and anxiety is likely to be valuable. At the same time, all of the actions below are likely to help the mental health of any child or person - so the more steps you can take, the better your (or your child's) mental health is likely to b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0CBC-E534-461B-AB88-CF5BC6A2A1F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sychosocial treatments with demonstrated efficacy includefamily interven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upported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sertive community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ocial skills training,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gnitive behaviorally oriented psychothera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EE32-1E55-425C-9182-CDF2C9BA9DB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3DEF-C078-415B-8D44-4960D39F1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0C43-130F-4928-84E9-298F0660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B4029FE-432D-4C80-85EE-EC334157E8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295F428-6138-4578-9F24-B86F892A1AF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BB2B140-C91F-4FB8-9E90-CD529F176B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FFD5BA-FA0C-44CE-85C3-975CF56350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65746F-99A0-47D1-B219-6767C8373D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B36013-C4D7-4F88-BC9C-33DDDCFAFE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48DDE7-1487-4A93-BF93-CB40307B60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4AC201D-75AB-4B1A-A11A-38511F14747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7664C53-2D4A-4B47-9AF6-1538E49D0E3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C0DA145-F1E0-4705-A85C-AB1A5B61C3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1AC68-F986-4DEC-A1AF-1B2A54960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B911A64-DC39-491A-BAD4-3D47320F4C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F21CAB1-9CBA-4AF2-822E-E79E316A8D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2F0F992-CEFA-4146-B072-143A8A7804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588C760-B750-4D93-A36E-DD643CA1B4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99A6BFD-94BF-48FB-BA94-4BA5600B3A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EC0800F-E857-40B7-892B-ED0BF5D84C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909326-3CAF-4D3F-B581-1FFEFBE975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EE46D58-A775-404C-A586-487CF7BA79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1C480D-DA1D-4BC4-B4D2-74253B0788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BCBA965-850F-406D-A227-19DEED8B29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C346D-7FEB-4769-836B-61D0FBB39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885F3A0-E2DF-4DD9-8BC9-E98443C196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25F9F5-9BC6-4EF8-AB8A-D5FC146EF5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8612D1-D5AB-46A9-B0E5-679A975BAA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C5528B-4268-49C1-A85A-8AC81691C2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F0ADB8-631F-433B-9D76-AB5DC652C1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CBFF30-5E34-45D1-9BBD-75D95658AE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AA1049-791F-4BAE-A0C2-7DCC81F305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0B800A-EC7C-4350-942C-A67B6FC9D2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7AD48D-EA0E-4CFE-B021-3DA2869BE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A43992-AC54-4A67-A605-5BA5E220FE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72795-B8ED-4507-A5D2-BCA36245C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4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E9BFF0-8D41-4DA4-8425-9F996D6EB8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2CE540-2B81-494B-9DAA-633B5D1EE2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5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B8EB15-813B-4D43-8A38-352DD87DC5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3FF1FF7-9F4F-4B5F-B35D-B36A930B6E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2E00690-740C-4FFB-A803-DB1681281A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522BC90-EA12-4FCE-8249-469A7103CA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B6F50E2-AC6F-4157-8E8B-5828FD9B29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1D51B08-98C1-4E3C-A6F6-C041EA8F0F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CFA597C-6F28-4984-9303-F0CA3296D4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ACF4D16-DCE4-45D3-A992-44C3A39C7E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0DE74-513A-4169-B0AC-9ACA4BAEB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F1A015A-89CB-4833-9B30-ED35BE557B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69F1DA3-A0A3-4A1D-8F91-FACE7CF2B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5F7039F-A13B-4BA9-9FE9-2C136EE42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47131E3-A4B9-4AB8-AB7D-567DD0139F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5A3DC76-3B8A-4740-8D24-10823B00A3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5171C-6F57-4315-8BA1-5CEEC9E4C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B4C69-B72D-465A-965A-AA9B67CD9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6988-B540-45C9-A34C-83A4BF66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45207-7188-4DDA-83EF-159B564B4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9BC0E-D3BC-4789-A704-867C7332C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931C-9128-4F54-919F-A74A3D52B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2610F-934F-4539-B1D2-A6A5D16B2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CF1F6-95C4-4268-9087-28003E6BF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615B7-B282-49D9-BD06-83D1282AD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84DEC-4789-4DF7-AF1F-F7039E7AE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52B9E-BD0F-4730-93D0-EEEAD9E7C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F0BCE-41F4-4933-801E-D3DDE53EA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4686A-40EC-4214-B4CA-E7789205A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D9653-AA72-43BB-A5F3-A1B8692EE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9EDCD-A480-4742-9D63-C65039B71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701A5-263A-4BEC-8191-1068E1C36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400A-6DCB-45FD-82A9-991CE9200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ACD3B-B169-4AFC-8E3C-60BF764F9F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ECCA2-7342-40F8-8433-24AD7D293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EFD25-6E5D-46C6-A3B3-00DA5CDF3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5CC0B-EF4F-4A5D-A8DF-DDAFDF273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3EF74-D9C6-4F63-9FD5-42B27DB85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D6BAD-A77E-4AB6-8563-C2D824F68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024F19-41F3-48A8-B43E-E76F5EB59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4E2E558-0EDF-4DAB-9BBE-9BC9DDE519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2903CBC-C48D-40D9-85A8-8992D74F8D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52DB04F-091A-432E-AEA8-8A6448E9D3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DAC2-B69B-4A8D-88D4-084A78A13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1439EEB-400E-455D-8164-8B99373852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FA0C6D1-BCD3-4D83-9318-F9E5F81CA1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C5974A-165B-4810-A4D2-7AE5711387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FFF0D68-EBC4-47C0-8129-1D4B6E9927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0A1648-EC36-481B-BF61-AA89030C9A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CFAE249-D16D-4318-BFFA-ED63914C7E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B4D6A4-0414-4ADA-B7C2-1B03F864A5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C7C4E7A-8177-4A83-A549-64F20D55586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E07CC71-38B0-4662-B651-836CD7FD499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81F4D-4551-46E3-B5AD-B242D852C7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A7446-5C46-4BE7-B0FC-21BDFE87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ED094A-DB45-4D35-B062-57F1FDA4A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BFAB2-A4E3-488C-9526-F503636EBC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1E2D0-9691-49B2-A68C-8005F182C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08BFF-B506-4A11-9BD8-325610224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3559C-3438-44F2-95FC-61F2AD370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A3A28-107A-4C2C-868A-4335028F4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37817-17F2-4200-9EEA-94744BE47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9A74A-9C9C-44ED-9524-4CC4E7580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52102-DF44-4D43-B975-B76B9FAF0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1E1C07-CE4A-4883-958E-F681C61A04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BDAAF-4DC3-42FE-A565-170A18FBC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0F62E6-2B0F-412D-A525-4E0BA4D9D5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E6B2F3-00B9-4FFC-B8D0-4EA1D9E5DB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A2633-074B-447C-BFC8-EBD7F55462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38015-10CC-4CC7-8EC3-81546E870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47B66-4EA9-4D87-8913-49BDBEEDA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83CB5-01B9-4198-89DC-FD3488957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9B1E68-C28B-4EB8-97D8-6FDBF9D1C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C496B-64BB-432F-A79B-6BA09C152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2ACE9-BCA9-45F9-8295-3FF648B03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7B665-FF05-49EC-8F6C-796E65FA1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43159-BA97-4395-A56E-EC9828BCA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7B656-F0E6-4043-946C-A33445BBF6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9767F8-0615-46F9-A91C-CF50B4F4A8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B2DDF6-1D2C-4B29-B882-24BC772F8E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B079EB-9843-4FC5-A85F-06046CCC1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7490B0-D18A-4957-8BBA-F115D9338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59B5B-3189-49A6-B0EA-522CB767E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5D3B78-7744-4B6A-8A06-74475E9FBA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EA954-3848-42FA-84BE-344DA5E68C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17FC1-7BEA-4C4A-B4E0-39B91B376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90F6A-8E2D-4CA9-ADEC-7AC15D960C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A80AD-E71C-480F-BB05-83F7243E0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36F89-17A4-4D24-866A-8FC6DE864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454A8-71A8-48F1-ABAC-91C307D0D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52CDCA-EF59-4C79-96A8-A5BBA3B03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E2C5F4-11C4-4336-95DD-DA59EFDA31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2B5C3E-09F4-4FD2-A102-A5330D6A58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6F8CE2-04BC-4E8C-8310-CD6F0FE06A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0F8BB5-6009-4DE3-80E4-956F5D4EE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DE5980-7DF6-4AD5-9F75-E02D39537B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5ADC3-2726-4186-A5B8-7B5EC1400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EFFB35-ED6E-4A5F-A842-55DC9F17E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63AD7-6181-43E7-9391-C88D5ECD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CA9FC-6BA2-4E8D-871C-6697BA68B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5A244-A27B-4820-A47B-71CAA9E0D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840144-C303-46C2-8253-77F1097F8E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D938B-3660-4671-969E-91C72F3C4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BA616C-4EEE-4FE6-99F4-ED88509B16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486353-DD17-427F-AF70-BD67FE6A9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928B40-464A-44D0-857D-0333BB005E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03815ED-6A4A-489A-942D-77E73F89059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83074B2-41D0-4610-89CD-931926A7941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CE5820C-ECA8-45B0-8F06-9E5019871B7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279B-CF61-42E0-99A7-27000ACC2141}"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Straight Connector 19"/>
          <p:cNvSpPr/>
          <p:nvPr/>
        </p:nvSpPr>
        <p:spPr>
          <a:xfrm>
            <a:off x="152280" y="53352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5"/>
          <p:cNvSpPr/>
          <p:nvPr/>
        </p:nvSpPr>
        <p:spPr>
          <a:xfrm>
            <a:off x="152280" y="152280"/>
            <a:ext cx="8832960" cy="301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6"/>
          <p:cNvSpPr/>
          <p:nvPr/>
        </p:nvSpPr>
        <p:spPr>
          <a:xfrm>
            <a:off x="152280" y="609480"/>
            <a:ext cx="2743200" cy="5867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9"/>
          <p:cNvSpPr/>
          <p:nvPr/>
        </p:nvSpPr>
        <p:spPr>
          <a:xfrm>
            <a:off x="1390680" y="324000"/>
            <a:ext cx="41904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0"/>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4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8"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50D2-A79B-4BC3-82A1-9EC2EFF0800C}"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469"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5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8"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E96A-66D1-4574-9A2C-87F4808678C1}"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5"/>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traight Connector 26"/>
          <p:cNvSpPr/>
          <p:nvPr/>
        </p:nvSpPr>
        <p:spPr>
          <a:xfrm>
            <a:off x="7143840" y="155520"/>
            <a:ext cx="0" cy="624528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28"/>
          <p:cNvSpPr/>
          <p:nvPr/>
        </p:nvSpPr>
        <p:spPr>
          <a:xfrm>
            <a:off x="6934320" y="3021120"/>
            <a:ext cx="42048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5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8"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CF80-FAEE-4B84-9E87-E1392DAD76EA}"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569"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7C7A-4232-49B9-A807-6CCE46872ABC}"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http://t3.gstatic.com/images?q=tbn:ANd9GcSzMFvWZ2Te4FDhZh9DrttYf8TB_T60DWttRKAZPmzwM0AJHNw&amp;t=1&amp;usg=__86Br7EHU-kMgyo5GlkIhvDUBolc="/>
          <p:cNvPicPr/>
          <p:nvPr/>
        </p:nvPicPr>
        <p:blipFill>
          <a:blip r:embed="rId2"/>
          <a:stretch/>
        </p:blipFill>
        <p:spPr>
          <a:xfrm>
            <a:off x="8229600" y="152280"/>
            <a:ext cx="914400" cy="1067040"/>
          </a:xfrm>
          <a:prstGeom prst="rect">
            <a:avLst/>
          </a:prstGeom>
          <a:ln w="0">
            <a:noFill/>
          </a:ln>
        </p:spPr>
      </p:pic>
      <p:sp>
        <p:nvSpPr>
          <p:cNvPr id="1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AD9B-3CD9-4508-8C85-1167775E6A43}"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5"/>
          <p:cNvSpPr/>
          <p:nvPr/>
        </p:nvSpPr>
        <p:spPr>
          <a:xfrm>
            <a:off x="155520" y="142920"/>
            <a:ext cx="8832960" cy="2139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6"/>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7"/>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8"/>
          <p:cNvSpPr/>
          <p:nvPr/>
        </p:nvSpPr>
        <p:spPr>
          <a:xfrm>
            <a:off x="152280" y="243828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0"/>
          <p:cNvSpPr/>
          <p:nvPr/>
        </p:nvSpPr>
        <p:spPr>
          <a:xfrm>
            <a:off x="4362480" y="220968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D757-7DCE-47E8-B581-2F516372909F}"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2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5"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31E4-3D23-44CC-9EF9-A7DE4387C83C}"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4"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5"/>
          <p:cNvSpPr/>
          <p:nvPr/>
        </p:nvSpPr>
        <p:spPr>
          <a:xfrm>
            <a:off x="152280" y="1371600"/>
            <a:ext cx="8832960" cy="9144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146160" y="6391440"/>
            <a:ext cx="8832600" cy="311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traight Connector 27"/>
          <p:cNvSpPr/>
          <p:nvPr/>
        </p:nvSpPr>
        <p:spPr>
          <a:xfrm>
            <a:off x="152280" y="127944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8"/>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0"/>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2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7"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34C4-52EB-430C-B032-069092E00694}"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3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7"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B9C9-F999-4B10-93BC-03938EE056DF}"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5"/>
          <p:cNvSpPr/>
          <p:nvPr/>
        </p:nvSpPr>
        <p:spPr>
          <a:xfrm>
            <a:off x="152280" y="15876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3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4"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3C63-E913-45D5-9668-451E25F8B0D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19"/>
          <p:cNvSpPr/>
          <p:nvPr/>
        </p:nvSpPr>
        <p:spPr>
          <a:xfrm>
            <a:off x="152280" y="152280"/>
            <a:ext cx="8832960" cy="304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5"/>
          <p:cNvSpPr/>
          <p:nvPr/>
        </p:nvSpPr>
        <p:spPr>
          <a:xfrm>
            <a:off x="152280" y="609480"/>
            <a:ext cx="2743200" cy="5867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traight Connector 27"/>
          <p:cNvSpPr/>
          <p:nvPr/>
        </p:nvSpPr>
        <p:spPr>
          <a:xfrm>
            <a:off x="152280" y="53352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29"/>
          <p:cNvSpPr/>
          <p:nvPr/>
        </p:nvSpPr>
        <p:spPr>
          <a:xfrm>
            <a:off x="1390680" y="324000"/>
            <a:ext cx="41904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30"/>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4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6"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2318-9CB6-43EF-9450-819A2E70CEDD}"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417"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371600" y="2819160"/>
            <a:ext cx="6400800" cy="198108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ATIMA ALHAIDAR</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OFESSOR,</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ILD &amp; ADOLESCENT PSYCHIATRIST</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LEGE OF MEDICINE, KSU</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1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Schizophrenia &amp; Other Psychotic Disorders</a:t>
            </a:r>
            <a:br>
              <a:rPr sz="3600"/>
            </a:br>
            <a:endParaRPr b="0" lang="en-US" sz="4300" spc="-1" strike="noStrike">
              <a:solidFill>
                <a:srgbClr val="838383"/>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Etiology</a:t>
            </a:r>
            <a:endParaRPr b="0" lang="en-US" sz="3300" spc="-1" strike="noStrike">
              <a:solidFill>
                <a:srgbClr val="838383"/>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	</a:t>
            </a:r>
            <a:r>
              <a:rPr b="0" lang="en-US" sz="2700" spc="-1" strike="noStrike">
                <a:solidFill>
                  <a:srgbClr val="000000"/>
                </a:solidFill>
                <a:latin typeface="Arial"/>
                <a:ea typeface="Arial"/>
              </a:rPr>
              <a:t>Exact etiology is unknow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1- Stress-Diathesis Model;</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tegrates biological, psychosocial and environmental factors in the etiology of schizophrenia.</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ymptoms of schizophrenia develop when a person has  a specific vulnerability that is acted on by  a stressful influe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Neurobiology</a:t>
            </a:r>
            <a:endParaRPr b="0" lang="en-US" sz="3200" spc="-1" strike="noStrike">
              <a:solidFill>
                <a:srgbClr val="838383"/>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ertain areas of the brain are involved in the pathophysiology of schizophrenia: the limbic system, the frontal cortex, cerebellum, and the basal ganglia.</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Dopamine Hypothesis;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 much dopaminergic activity ( whether it is </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release of dopamine, ↑ dopamine receptors, hypersensitivity of dopamine receptors to dopamine, or combinations is not known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Other Neurotransmitters;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rotonin, Norepinephrine, GABA, Glutamate &amp; Neuropeptide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0" name="Picture 2" descr="http://www.schizophrenia.com/images/schizophrenia_brain_large_2.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Neuropathology;</a:t>
            </a:r>
            <a:endParaRPr b="0" lang="en-US" sz="3200" spc="-1" strike="noStrike">
              <a:solidFill>
                <a:srgbClr val="838383"/>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europathological and neurochemical abnormalities have been reported in the brain particularly in the limbic system, basal ganglia and cerebellum. Either in structures or connections.</a:t>
            </a:r>
            <a:endParaRPr b="0" lang="en-US" sz="3600" spc="-1" strike="noStrike">
              <a:solidFill>
                <a:srgbClr val="000000"/>
              </a:solidFill>
              <a:latin typeface="Georg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Arial"/>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5" name="Picture 2" descr="http://www.schizophrenia.com/images/schizophrenia_brain_large.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8" name="Picture 4" descr="http://www.schizophrenia.com/images/COS_ma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 Psychoneuroimmunology;</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cell interlukeukin-2 lymphocytes, abnormal cellular and humoral reactivity to neurons and presence of antibrain antibodie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changes are due to neurotoxic virus ? or endogenous autoimmune disorder ?</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 Psychoneuroendocrinology;</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dexamethasone-suppression test</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H/FSH</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blunted release of prolactin and growth hormone on stimul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3- Genetic Factors</a:t>
            </a:r>
            <a:endParaRPr b="0" lang="en-US" sz="3200" spc="-1" strike="noStrike">
              <a:solidFill>
                <a:srgbClr val="838383"/>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 wide range of genetic studies strongly suggest a  genetic component to the inheritance of schizophrenia that outweights the environmental influenc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These include: family studies, twin studies and chromosomal studi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5" name="Picture 6" descr="http://www.schizophrenia.com/sz.images/schizophrenia.risk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4- Psychosocial Factors;</a:t>
            </a:r>
            <a:endParaRPr b="0" lang="en-US" sz="3200" spc="-1" strike="noStrike">
              <a:solidFill>
                <a:srgbClr val="838383"/>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family dynamics studies, no well-controlled evidence indicates specific family pattern plays a causative role in the development of schizophrenia.</a:t>
            </a: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 Expressed Emotion  family : increase risk of relaps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Schizophrenia</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It is not a single disease but a group of disorders with heterogeneous etiologie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Found in all societies and countries with equal prevalence &amp; incidence worldwid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 life prevalence of 0.6 – 1.9 %</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nnual incidence of 0.5 – 5.0 per 10,000</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eak age of onset are 10-25 years for ♂ &amp; 25-35 years for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360"/>
            <a:ext cx="88362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ight of different RF: Family history comes first</a:t>
            </a:r>
            <a:endParaRPr b="0" lang="en-US" sz="2800" spc="-1" strike="noStrike">
              <a:solidFill>
                <a:srgbClr val="838383"/>
              </a:solidFill>
              <a:latin typeface="Georgia"/>
            </a:endParaRPr>
          </a:p>
        </p:txBody>
      </p:sp>
      <p:sp>
        <p:nvSpPr>
          <p:cNvPr id="659" name=""/>
          <p:cNvSpPr txBox="1"/>
          <p:nvPr/>
        </p:nvSpPr>
        <p:spPr>
          <a:xfrm>
            <a:off x="301320" y="1527120"/>
            <a:ext cx="8504280" cy="487368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60" name="Picture 2" descr="http://www.schizophrenia.com/sz.images/sz.risk.odds.jpg"/>
          <p:cNvPicPr/>
          <p:nvPr/>
        </p:nvPicPr>
        <p:blipFill>
          <a:blip r:embed="rId1"/>
          <a:stretch/>
        </p:blipFill>
        <p:spPr>
          <a:xfrm>
            <a:off x="152280" y="838080"/>
            <a:ext cx="8153640" cy="5181840"/>
          </a:xfrm>
          <a:prstGeom prst="rect">
            <a:avLst/>
          </a:prstGeom>
          <a:ln w="0">
            <a:noFill/>
          </a:ln>
        </p:spPr>
      </p:pic>
      <p:sp>
        <p:nvSpPr>
          <p:cNvPr id="661" name="TextBox 4"/>
          <p:cNvSpPr/>
          <p:nvPr/>
        </p:nvSpPr>
        <p:spPr>
          <a:xfrm>
            <a:off x="7315200" y="5943600"/>
            <a:ext cx="2057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LOS Medic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383"/>
                </a:solidFill>
                <a:latin typeface="Arial"/>
              </a:rPr>
              <a:t>Course </a:t>
            </a:r>
            <a:endParaRPr b="0" lang="en-US" sz="3600" spc="-1" strike="noStrike">
              <a:solidFill>
                <a:srgbClr val="838383"/>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exacerbation with increased residual impairment</a:t>
            </a:r>
            <a:endParaRPr b="0" lang="en-US" sz="2700" spc="-1" strike="noStrike">
              <a:solidFill>
                <a:srgbClr val="000000"/>
              </a:solidFill>
              <a:latin typeface="Georgia"/>
            </a:endParaRPr>
          </a:p>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 recovery: very rare</a:t>
            </a:r>
            <a:endParaRPr b="0" lang="en-US" sz="2700" spc="-1" strike="noStrike">
              <a:solidFill>
                <a:srgbClr val="000000"/>
              </a:solidFill>
              <a:latin typeface="Georgia"/>
            </a:endParaRPr>
          </a:p>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itudinal course: downhill </a:t>
            </a:r>
            <a:endParaRPr b="0" lang="en-US" sz="2700" spc="-1" strike="noStrike">
              <a:solidFill>
                <a:srgbClr val="000000"/>
              </a:solidFill>
              <a:latin typeface="Georgia"/>
            </a:endParaRPr>
          </a:p>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83"/>
                </a:solidFill>
                <a:latin typeface="Arial"/>
              </a:rPr>
              <a:t>Prognosis</a:t>
            </a:r>
            <a:endParaRPr b="0" lang="en-US" sz="3200" spc="-1" strike="noStrike">
              <a:solidFill>
                <a:srgbClr val="838383"/>
              </a:solidFill>
              <a:latin typeface="Georgia"/>
            </a:endParaRPr>
          </a:p>
        </p:txBody>
      </p:sp>
      <p:graphicFrame>
        <p:nvGraphicFramePr>
          <p:cNvPr id="665" name=""/>
          <p:cNvGraphicFramePr/>
          <p:nvPr/>
        </p:nvGraphicFramePr>
        <p:xfrm>
          <a:off x="301680" y="1527120"/>
          <a:ext cx="8504280" cy="4910040"/>
        </p:xfrm>
        <a:graphic>
          <a:graphicData uri="http://schemas.openxmlformats.org/drawingml/2006/table">
            <a:tbl>
              <a:tblPr/>
              <a:tblGrid>
                <a:gridCol w="4252680"/>
                <a:gridCol w="4251600"/>
              </a:tblGrid>
              <a:tr h="55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F</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or P.F</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358160">
                <a:tc>
                  <a:txBody>
                    <a:bodyPr lIns="90000" rIns="90000" tIns="46800" bIns="46800" anchor="t">
                      <a:noAutofit/>
                    </a:bodyPr>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te age of onse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ute onse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PT factor</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ence of mood componen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response to TT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upportive syst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ng age of onse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sidious onse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P.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ple relapses</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w IQ</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morbid personality</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gative symptom</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sitive family histo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38383"/>
                </a:solidFill>
                <a:latin typeface="Arial"/>
              </a:rPr>
              <a:t>Differential Diagnosis</a:t>
            </a:r>
            <a:endParaRPr b="0" lang="en-US" sz="3600" spc="-1" strike="noStrike">
              <a:solidFill>
                <a:srgbClr val="838383"/>
              </a:solidFill>
              <a:latin typeface="Georgia"/>
            </a:endParaRPr>
          </a:p>
        </p:txBody>
      </p:sp>
      <p:sp>
        <p:nvSpPr>
          <p:cNvPr id="667"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Nonpsychiatric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ce-induced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pilepsy ( TLE)</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NS disease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uma</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s </a:t>
            </a:r>
            <a:endParaRPr b="0" lang="en-US" sz="2400" spc="-1" strike="noStrike">
              <a:solidFill>
                <a:srgbClr val="000000"/>
              </a:solidFill>
              <a:latin typeface="Georgia"/>
            </a:endParaRPr>
          </a:p>
        </p:txBody>
      </p:sp>
      <p:sp>
        <p:nvSpPr>
          <p:cNvPr id="668"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Psychiatric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izophreniform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ief psychotic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lusional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fective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izoaffective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ality disorders ( schizoid, schizotypal &amp; borderline personality)</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lingering &amp; Factitious disorder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38383"/>
                </a:solidFill>
                <a:latin typeface="Arial"/>
              </a:rPr>
              <a:t>Treatment</a:t>
            </a:r>
            <a:endParaRPr b="0" lang="en-US" sz="3600" spc="-1" strike="noStrike">
              <a:solidFill>
                <a:srgbClr val="838383"/>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are the indications for hospitalization?</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agnostic purpose</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atient &amp; other's safet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itiating or stabilizing medications</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Establishing an effective association between patient &amp; community supportive syste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Biological therapies</a:t>
            </a:r>
            <a:endParaRPr b="0" lang="en-US" sz="3200" spc="-1" strike="noStrike">
              <a:solidFill>
                <a:srgbClr val="838383"/>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ntipsychotic medications are the mainstay of the treatment of schizophrenia.</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ly, they are remarkably safe.</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wo major classe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pamine receptor antagonists ( haloperidol, chlorpromazine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otonin-dopamine receptor antagonists ( Risperidone, clozapine, olanzapine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Other drug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ticonvulsant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ithium</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nzodiazepine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ot forms of antipsychotics eg. Risperidone Consta is indicated for poorly compliant patient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Electroconvulsive therapy (ECT) for catatonic or poorly responding patients to medication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74" name=""/>
          <p:cNvSpPr txBox="1"/>
          <p:nvPr/>
        </p:nvSpPr>
        <p:spPr>
          <a:xfrm>
            <a:off x="301320" y="1527120"/>
            <a:ext cx="1679400" cy="4572000"/>
          </a:xfrm>
          <a:prstGeom prst="rect">
            <a:avLst/>
          </a:prstGeom>
          <a:noFill/>
          <a:ln w="0">
            <a:noFill/>
          </a:ln>
        </p:spPr>
        <p:txBody>
          <a:bodyPr anchor="t">
            <a:normAutofit/>
          </a:bodyPr>
          <a:p>
            <a:pPr marL="272880" indent="-272880">
              <a:spcBef>
                <a:spcPts val="400"/>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Georgia"/>
              </a:rPr>
              <a:t>Pharmacological Treatment Algorithm Adapted from the Maudsley prescribing Guidelines (Taylor et al, 2005)</a:t>
            </a:r>
            <a:endParaRPr b="0" lang="en-US" sz="1600" spc="-1" strike="noStrike">
              <a:solidFill>
                <a:srgbClr val="000000"/>
              </a:solidFill>
              <a:latin typeface="Georgia"/>
            </a:endParaRPr>
          </a:p>
        </p:txBody>
      </p:sp>
      <p:pic>
        <p:nvPicPr>
          <p:cNvPr id="675" name="Picture 2" descr="http://www.scholarpedia.org/wiki/images/a/a1/Schizophrenia_Treatment_Algorithm.jpg"/>
          <p:cNvPicPr/>
          <p:nvPr/>
        </p:nvPicPr>
        <p:blipFill>
          <a:blip r:embed="rId1"/>
          <a:stretch/>
        </p:blipFill>
        <p:spPr>
          <a:xfrm>
            <a:off x="2057400" y="152280"/>
            <a:ext cx="9829800" cy="670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838383"/>
                </a:solidFill>
                <a:latin typeface="Georgia"/>
              </a:rPr>
              <a:t> </a:t>
            </a:r>
            <a:endParaRPr b="0" lang="en-US" sz="3000" spc="-1" strike="noStrike">
              <a:solidFill>
                <a:srgbClr val="838383"/>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78" name="Picture 4" descr="http://www.scholarpedia.org/wiki/images/2/2e/Schizophrenia_Sideeffects_AntiPsychotics.gif"/>
          <p:cNvPicPr/>
          <p:nvPr/>
        </p:nvPicPr>
        <p:blipFill>
          <a:blip r:embed="rId1"/>
          <a:stretch/>
        </p:blipFill>
        <p:spPr>
          <a:xfrm>
            <a:off x="0" y="990720"/>
            <a:ext cx="9753480" cy="6657840"/>
          </a:xfrm>
          <a:prstGeom prst="rect">
            <a:avLst/>
          </a:prstGeom>
          <a:ln w="0">
            <a:noFill/>
          </a:ln>
        </p:spPr>
      </p:pic>
      <p:sp>
        <p:nvSpPr>
          <p:cNvPr id="679" name="TextBox 6"/>
          <p:cNvSpPr/>
          <p:nvPr/>
        </p:nvSpPr>
        <p:spPr>
          <a:xfrm>
            <a:off x="-762120" y="228600"/>
            <a:ext cx="8991720" cy="612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mon side effects of antipsychotic medication </a:t>
            </a:r>
            <a:r>
              <a:rPr b="0" lang="en-CA" sz="1400" spc="-1" strike="noStrike">
                <a:solidFill>
                  <a:srgbClr val="000000"/>
                </a:solidFill>
                <a:latin typeface="Arial"/>
              </a:rPr>
              <a:t>(Taylor et al, 2005)</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Psychosocial therapies</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Social skills training</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Family oriented therapies</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Group therap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Individual psychotherap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Assertive community treatment</a:t>
            </a:r>
            <a:endParaRPr b="0" lang="en-US" sz="2700" spc="-1" strike="noStrike">
              <a:solidFill>
                <a:srgbClr val="000000"/>
              </a:solidFill>
              <a:latin typeface="Georgia"/>
            </a:endParaRPr>
          </a:p>
          <a:p>
            <a:pPr marL="272880" indent="-272880">
              <a:lnSpc>
                <a:spcPct val="10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800" spc="-1" strike="noStrike">
                <a:solidFill>
                  <a:srgbClr val="000000"/>
                </a:solidFill>
                <a:latin typeface="Arial"/>
                <a:ea typeface="Arial"/>
              </a:rPr>
              <a:t>Vocational therap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38383"/>
              </a:solidFill>
              <a:latin typeface="Arial"/>
            </a:endParaRPr>
          </a:p>
        </p:txBody>
      </p:sp>
      <p:sp>
        <p:nvSpPr>
          <p:cNvPr id="6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4" name="Rectangle 3" descr=""/>
          <p:cNvPicPr/>
          <p:nvPr/>
        </p:nvPicPr>
        <p:blipFill>
          <a:blip r:embed="rId1"/>
          <a:stretch/>
        </p:blipFill>
        <p:spPr>
          <a:xfrm>
            <a:off x="2451240" y="2792520"/>
            <a:ext cx="4254480" cy="110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Clinical Features</a:t>
            </a:r>
            <a:endParaRPr b="0" lang="en-US" sz="3300" spc="-1" strike="noStrike">
              <a:solidFill>
                <a:srgbClr val="838383"/>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No clinical sign or symptom is pathognomonic for schizophrenia Patient's history &amp; mental status examination are essential for diagnosis.</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remorbid history includes schizoid or schizotypal personalities, few friends &amp; exclusion of social activities.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rodromal features include obsessive compulsive behavior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Arial"/>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icture of schizophrenia includes positive and negative symptom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ositive symptoms like: delusions &amp; hallucination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Negative symptoms like: affective flattening or blunting, poverty of speech, poor grooming, lack of motivation, and social withdraw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Arial"/>
              </a:rPr>
              <a:t>Subtypes of Schizophrenia</a:t>
            </a:r>
            <a:endParaRPr b="0" lang="en-US" sz="3300" spc="-1" strike="noStrike">
              <a:solidFill>
                <a:srgbClr val="838383"/>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aranoid type</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organized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atatonic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Undifferentiated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sidual typ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838383"/>
                </a:solidFill>
                <a:latin typeface="Georgia"/>
              </a:rPr>
              <a:t>Cognitive deficits in schizophrenia</a:t>
            </a:r>
            <a:endParaRPr b="0" lang="en-US" sz="3300" spc="-1" strike="noStrike">
              <a:solidFill>
                <a:srgbClr val="838383"/>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6" name="Picture 2" descr="slide"/>
          <p:cNvPicPr/>
          <p:nvPr/>
        </p:nvPicPr>
        <p:blipFill>
          <a:blip r:embed="rId1"/>
          <a:stretch/>
        </p:blipFill>
        <p:spPr>
          <a:xfrm>
            <a:off x="228600" y="990720"/>
            <a:ext cx="4057560" cy="5029200"/>
          </a:xfrm>
          <a:prstGeom prst="rect">
            <a:avLst/>
          </a:prstGeom>
          <a:ln w="0">
            <a:noFill/>
          </a:ln>
        </p:spPr>
      </p:pic>
      <p:pic>
        <p:nvPicPr>
          <p:cNvPr id="627" name="Picture 4" descr="slide"/>
          <p:cNvPicPr/>
          <p:nvPr/>
        </p:nvPicPr>
        <p:blipFill>
          <a:blip r:embed="rId2"/>
          <a:stretch/>
        </p:blipFill>
        <p:spPr>
          <a:xfrm>
            <a:off x="4343400" y="990720"/>
            <a:ext cx="45147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383"/>
                </a:solidFill>
                <a:latin typeface="Arial"/>
              </a:rPr>
              <a:t>Mental status examination</a:t>
            </a:r>
            <a:endParaRPr b="0" lang="en-US" sz="3600" spc="-1" strike="noStrike">
              <a:solidFill>
                <a:srgbClr val="838383"/>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ppearance &amp; behavior ( variable presentation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Mood, feelings &amp; affect ( reduced emotional   responsiveness, inappropriate emotion)</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rceptual disturbances ( hallucinations, illusions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ought:    Thought content ( delusion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 of thought ( looseness of association)</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ought process ( thought blocking, poverty of thought content, poor abstraction, perseveration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Impulsiveness, violence, suicide &amp; homicide</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ognitive functioning</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or insight and judgment</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Diagnosis</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DSM-IV-TR Diagnostic Criteria for Schizophrenia:</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A- ≥ two characteristic symptom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1- Delusions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2- Hallucinations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3- Disorganized speech</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4- Disorganized behavior</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5- Negative sympto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Arial"/>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B- Social / Occupation dysfunct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 Duration of at least 6 month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 Schizoaffective &amp; mood disorder exclus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E- Substance / General medicine condition exclus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 Relationship to pervasive developmental disorder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0:23:52Z</dcterms:created>
  <dc:creator>www.arabswell.com</dc:creator>
  <dc:description/>
  <dc:language>en-US</dc:language>
  <cp:lastModifiedBy>Mac</cp:lastModifiedBy>
  <dcterms:modified xsi:type="dcterms:W3CDTF">2013-11-09T09:55:34Z</dcterms:modified>
  <cp:revision>15</cp:revision>
  <dc:subject/>
  <dc:title>Schizophrenia &amp; Other Psychotic Disorders </dc:title>
</cp:coreProperties>
</file>