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CB42-9376-4E26-AA99-271FDBE5C8A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B21C-311B-4C0D-B264-AC8875FAEDCE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FD8-7BF3-4E2A-AF99-FE98E814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49B-CB0D-484F-83DF-6E51420D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0E7-543D-45B1-B12A-C21CC66E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BBE-BCC3-42D9-9D10-49BC36E1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86D-4E16-4D28-86ED-42FBC424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C25-8ECB-48F8-95C0-4A3B4952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642-5C5D-46BB-AC94-21D667F0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03C-61A5-437B-A492-327839ED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A40-5677-4768-B82D-69330BF0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36E-176B-41A4-8931-616F6AB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0871-DF18-4A1B-9884-CF1A4A47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144-234A-4895-8C57-CC0125E4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6D04-8660-479D-966E-D942494B416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DC82-54DF-42DD-9314-46CEEA6B618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A34A-3EAC-47A6-8857-BEC9F45D3CD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B1D1-A906-491A-98BA-5AE15E4B7FA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nd now for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23619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endParaRPr b="0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7F91-400F-4887-894E-F81471F787C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82BA-1457-4748-8A46-23729DBAE24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ometric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do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2394000" y="974880"/>
                <a:ext cx="246384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Rectangle 5"/>
          <p:cNvSpPr/>
          <p:nvPr/>
        </p:nvSpPr>
        <p:spPr>
          <a:xfrm>
            <a:off x="304920" y="22096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serve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 = 1 +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105520" y="1066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??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04920" y="32004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  =  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04920" y="3809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,   (aS - S) = (a - 1)S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-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04920" y="4724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1 +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(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- 1) / (a -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04920" y="5181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mic Sans MS"/>
              </a:rPr>
              <a:t>For example: 1 + 2 + 4 + 8 +… + 1024 = 2047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D22A-3F33-4E09-AC15-D104228EEC4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A9C6-15C8-4844-B7D4-2D5E4016FA5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Useful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888840" y="1828800"/>
                <a:ext cx="24638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914400" y="838080"/>
                <a:ext cx="22226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919080" y="2894040"/>
                <a:ext cx="34243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9"/>
              <p:cNvSpPr txBox="1"/>
              <p:nvPr/>
            </p:nvSpPr>
            <p:spPr>
              <a:xfrm>
                <a:off x="907920" y="3868560"/>
                <a:ext cx="2673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44D5-0CE3-4716-B247-ADD08C0C775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331E-F583-4B1D-9FBA-D0F8732631B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ouble 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rresponding to nested loops in C or Java, there is also double (or triple etc.) summa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457200" y="2514600"/>
                <a:ext cx="1143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457200" y="3505320"/>
                <a:ext cx="17524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457200" y="4572000"/>
                <a:ext cx="10684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457200" y="5638680"/>
                <a:ext cx="3502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6160-25D0-4B2B-BEBF-28D07662219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D445-F130-4A58-877A-734CBC8E747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quenc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pres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rdered lis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efined as a function from a subset of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a set S. We use the notation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denote the image of the integer n. We call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term of the sequen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bset of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       1   2   3   4   5  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80880" y="4724280"/>
            <a:ext cx="8458200" cy="1295640"/>
            <a:chOff x="380880" y="4724280"/>
            <a:chExt cx="8458200" cy="1295640"/>
          </a:xfrm>
        </p:grpSpPr>
        <p:sp>
          <p:nvSpPr>
            <p:cNvPr id="57" name="Rectangle 4"/>
            <p:cNvSpPr/>
            <p:nvPr/>
          </p:nvSpPr>
          <p:spPr>
            <a:xfrm>
              <a:off x="380880" y="5410080"/>
              <a:ext cx="8458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S:                        2   4   6   8   10  …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350496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403848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57164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510516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563868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4305-4789-4427-B475-DCE7F3314B7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D438-5F8D-4679-86CC-4D43327000E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quenc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use the notation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to describe a sequen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ortant: Do not confuse this with the {} used in set nota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convenient to describe a sequence with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ormul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sequence on the previous slide can be specified as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, where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1DC7-163D-4A95-88A9-CB8694CB54A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49F9-C4EB-4F61-9C9E-E3C457E386B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Formula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, 3, 5, 7, 9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952880" y="23623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2n -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09480" y="3124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1, 1, -1, 1, -1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952880" y="3124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(-1)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09480" y="38862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, 5, 10, 17, 26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4952880" y="388620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609480" y="46483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.25, 0.5, 0.75, 1, 1.25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952880" y="46483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0.25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609480" y="541008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, 9, 27, 81, 243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4952880" y="5410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3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60948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are the formulas that describe the following sequences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CD38-394C-463B-A0C1-F5E557D4797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77C6-9488-450D-8306-BB5CD0ED7D5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rin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nite sequences are also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tring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ngt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string S is the number of terms that it consists 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mpty str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tains no terms at all. It has length zer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02E7-FB31-4B00-90BE-A1DC5068B50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377D-38D8-4A9C-A27E-6B3A6B9346A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represents the sum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+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+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variable j is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ex of summ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running from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ower limi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 to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upper limi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. We could as well have used any other letter to denote this index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1066680"/>
            <a:ext cx="8001000" cy="990360"/>
            <a:chOff x="380880" y="1066680"/>
            <a:chExt cx="8001000" cy="990360"/>
          </a:xfrm>
        </p:grpSpPr>
        <mc:AlternateContent>
          <mc:Choice xmlns:a14="http://schemas.microsoft.com/office/drawing/2010/main" Requires="a14">
            <p:sp>
              <p:nvSpPr>
                <p:cNvPr id="90" name="Object 5"/>
                <p:cNvSpPr txBox="1"/>
                <p:nvPr/>
              </p:nvSpPr>
              <p:spPr>
                <a:xfrm>
                  <a:off x="2362320" y="1066680"/>
                  <a:ext cx="84924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1" name="Rectangle 6"/>
            <p:cNvSpPr/>
            <p:nvPr/>
          </p:nvSpPr>
          <p:spPr>
            <a:xfrm>
              <a:off x="380880" y="1295280"/>
              <a:ext cx="8001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does          stand for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E166-CE56-42A4-82F1-5B7FC255E80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777C-6D4F-4EA5-9D57-86BBC7758EA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3886200"/>
            <a:ext cx="5410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1 + 2 + 3 + 4 + 5 + 6 = 2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304920" y="2057400"/>
            <a:ext cx="4038480" cy="984240"/>
            <a:chOff x="304920" y="2057400"/>
            <a:chExt cx="4038480" cy="984240"/>
          </a:xfrm>
        </p:grpSpPr>
        <p:sp>
          <p:nvSpPr>
            <p:cNvPr id="97" name="Rectangle 4"/>
            <p:cNvSpPr/>
            <p:nvPr/>
          </p:nvSpPr>
          <p:spPr>
            <a:xfrm>
              <a:off x="304920" y="2286000"/>
              <a:ext cx="4038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We write it as         .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5"/>
                <p:cNvSpPr txBox="1"/>
                <p:nvPr/>
              </p:nvSpPr>
              <p:spPr>
                <a:xfrm>
                  <a:off x="2895480" y="2057400"/>
                  <a:ext cx="84312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sup>
                        <m:e>
                          <m:sSup>
                            <m:e>
                              <m:r>
                                <m:t xml:space="preserve">j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Group 10"/>
          <p:cNvGrpSpPr/>
          <p:nvPr/>
        </p:nvGrpSpPr>
        <p:grpSpPr>
          <a:xfrm>
            <a:off x="304920" y="2781360"/>
            <a:ext cx="4876560" cy="1060560"/>
            <a:chOff x="304920" y="2781360"/>
            <a:chExt cx="4876560" cy="1060560"/>
          </a:xfrm>
        </p:grpSpPr>
        <p:sp>
          <p:nvSpPr>
            <p:cNvPr id="100" name="Rectangle 7"/>
            <p:cNvSpPr/>
            <p:nvPr/>
          </p:nvSpPr>
          <p:spPr>
            <a:xfrm>
              <a:off x="304920" y="3048120"/>
              <a:ext cx="4876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is the value of         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8"/>
                <p:cNvSpPr txBox="1"/>
                <p:nvPr/>
              </p:nvSpPr>
              <p:spPr>
                <a:xfrm>
                  <a:off x="3886200" y="2781360"/>
                  <a:ext cx="727200" cy="106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r>
                            <m:t xml:space="preserve">j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Rectangle 11"/>
          <p:cNvSpPr/>
          <p:nvPr/>
        </p:nvSpPr>
        <p:spPr>
          <a:xfrm>
            <a:off x="457200" y="552456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so much work to calculate this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80880" y="4419720"/>
            <a:ext cx="4876920" cy="1060200"/>
            <a:chOff x="380880" y="4419720"/>
            <a:chExt cx="4876920" cy="1060200"/>
          </a:xfrm>
        </p:grpSpPr>
        <p:sp>
          <p:nvSpPr>
            <p:cNvPr id="104" name="Rectangle 13"/>
            <p:cNvSpPr/>
            <p:nvPr/>
          </p:nvSpPr>
          <p:spPr>
            <a:xfrm>
              <a:off x="380880" y="4686480"/>
              <a:ext cx="4876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is the value of         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14"/>
                <p:cNvSpPr txBox="1"/>
                <p:nvPr/>
              </p:nvSpPr>
              <p:spPr>
                <a:xfrm>
                  <a:off x="3962520" y="4419720"/>
                  <a:ext cx="72684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p>
                        <m:e>
                          <m:r>
                            <m:t xml:space="preserve">j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Rectangle 16"/>
          <p:cNvSpPr/>
          <p:nvPr/>
        </p:nvSpPr>
        <p:spPr>
          <a:xfrm>
            <a:off x="304920" y="76212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ow can we express the sum of the first 1000 terms of the sequence {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} with 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=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for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 = 1, 2, 3, …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BF7F-811F-46C8-82CF-FCAF3833ED5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6717-976A-4EAE-B415-DE0EF9C0E00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said that Friedrich Gauss came up with the following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457200" y="2133720"/>
                <a:ext cx="22226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Rectangle 5"/>
          <p:cNvSpPr/>
          <p:nvPr/>
        </p:nvSpPr>
        <p:spPr>
          <a:xfrm>
            <a:off x="304920" y="33526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you have such a formula, the result of any summation can be calculated much more easily,   fo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457200" y="4876920"/>
                <a:ext cx="519588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3A26-9661-417C-A318-4FC80F25329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3E2E-FFBD-4076-8265-30E9E62B1E3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ithemetic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do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438280" y="990720"/>
                <a:ext cx="22226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Rectangle 5"/>
          <p:cNvSpPr/>
          <p:nvPr/>
        </p:nvSpPr>
        <p:spPr>
          <a:xfrm>
            <a:off x="304920" y="24382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serve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3 +…+ n/2 + (n/2 + 1) +…+ (n - 2) + (n - 1) + 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105520" y="1066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??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80880" y="36576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[1 + n] + [2 + (n - 1)] + [3 + (n - 2)] +…+ [n/2 + (n/2 + 1)]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04920" y="4343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(n + 1) + (n + 1) + (n + 1) + … + (n + 1)  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(with n/2 terms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5029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n(n + 1)/2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0:40Z</dcterms:modified>
  <cp:revision>57</cp:revision>
  <dc:subject/>
  <dc:title>PowerPoint Presentation</dc:title>
</cp:coreProperties>
</file>