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18D7-BEBA-40B1-84FF-27E344F792A2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C386-E58A-4D49-97D1-644826A1FC23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C839-52AE-40D2-A63B-04DB7126F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EC90-4B7A-4334-85C2-1793EA53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8F8E-DFE4-4642-97B4-FFA38E6D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7F30-54E4-4249-9D81-1C98F825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4F59-A6FB-4477-8304-FF65788E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E9D7-8BCF-493C-9E5C-7192FC31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29A7-315F-446B-B19E-D24FE802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02FF-E8F6-4CF2-A207-C8088771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AEC9-DB88-4C6E-8013-4A877B71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2A02-8F6C-4D68-8E16-3F8E0F68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EA1D-0B59-457E-B7C4-3B89F690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882A-C95E-48DB-9FC4-44CC9D71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c1c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2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3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4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5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6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79E1-572B-4B9A-AC4B-729EA29304A0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CMSC 203 - Discrete Structures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6C14-F22D-407E-8935-8F49FB02C28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E4E6-32E8-4C53-A749-E01B21BA6A8C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C601-F931-4CB2-88C9-91817E20057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…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nd now for…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0720" y="2361960"/>
            <a:ext cx="5257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ffff"/>
                </a:solidFill>
                <a:latin typeface="Comic Sans MS"/>
              </a:rPr>
              <a:t>Sequences</a:t>
            </a:r>
            <a:endParaRPr b="0" lang="en-US" sz="8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FA46-BD01-4296-B698-691A61AE23E0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73B7-A2D5-4201-A0B4-75294442200A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Geometric Seri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doe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2394000" y="974880"/>
                <a:ext cx="2463840" cy="108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9" name="Rectangle 5"/>
          <p:cNvSpPr/>
          <p:nvPr/>
        </p:nvSpPr>
        <p:spPr>
          <a:xfrm>
            <a:off x="304920" y="2209680"/>
            <a:ext cx="8686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bserve that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 = 1 + a +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… +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5105520" y="10666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??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304920" y="320040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S  =   a +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… +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(n+1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304920" y="380988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o,   (aS - S) = (a - 1)S =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(n+1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-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304920" y="47242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1 + a +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… +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(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(n+1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- 1) / (a - 1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304920" y="51814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Comic Sans MS"/>
              </a:rPr>
              <a:t>For example: 1 + 2 + 4 + 8 +… + 1024 = 2047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7EA6-882D-4847-836E-E4BBCFE15F6D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6B10-2F4A-47BD-9CF9-BF30B07841F6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Useful Seri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4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888840" y="1828800"/>
                <a:ext cx="246384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7"/>
              <p:cNvSpPr txBox="1"/>
              <p:nvPr/>
            </p:nvSpPr>
            <p:spPr>
              <a:xfrm>
                <a:off x="914400" y="838080"/>
                <a:ext cx="222264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j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8"/>
              <p:cNvSpPr txBox="1"/>
              <p:nvPr/>
            </p:nvSpPr>
            <p:spPr>
              <a:xfrm>
                <a:off x="919080" y="2894040"/>
                <a:ext cx="342432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9"/>
              <p:cNvSpPr txBox="1"/>
              <p:nvPr/>
            </p:nvSpPr>
            <p:spPr>
              <a:xfrm>
                <a:off x="907920" y="3868560"/>
                <a:ext cx="26733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E37D-0C3C-4533-834C-2D151954FDB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00E6-105A-4D0A-A7FE-73F95DE1777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ouble Summa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rresponding to nested loops in C or Java, there is also double (or triple etc.) summation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6"/>
              <p:cNvSpPr txBox="1"/>
              <p:nvPr/>
            </p:nvSpPr>
            <p:spPr>
              <a:xfrm>
                <a:off x="457200" y="2514600"/>
                <a:ext cx="114300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7"/>
              <p:cNvSpPr txBox="1"/>
              <p:nvPr/>
            </p:nvSpPr>
            <p:spPr>
              <a:xfrm>
                <a:off x="457200" y="3505320"/>
                <a:ext cx="175248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8"/>
              <p:cNvSpPr txBox="1"/>
              <p:nvPr/>
            </p:nvSpPr>
            <p:spPr>
              <a:xfrm>
                <a:off x="457200" y="4572000"/>
                <a:ext cx="10684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457200" y="5638680"/>
                <a:ext cx="35020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71D4-411F-4EC9-9107-577F61A8BBF8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A63F-54E1-4E83-8F46-ED1826B07DD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quenc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6108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equence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represent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ordered list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elemen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equenc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defined as a function from a subset of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o a set S. We use the notation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o denote the image of the integer n. We call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 term of the sequenc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ubset of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        1   2   3   4   5   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56" name="Group 14"/>
          <p:cNvGrpSpPr/>
          <p:nvPr/>
        </p:nvGrpSpPr>
        <p:grpSpPr>
          <a:xfrm>
            <a:off x="380880" y="4724280"/>
            <a:ext cx="8458200" cy="1295640"/>
            <a:chOff x="380880" y="4724280"/>
            <a:chExt cx="8458200" cy="1295640"/>
          </a:xfrm>
        </p:grpSpPr>
        <p:sp>
          <p:nvSpPr>
            <p:cNvPr id="57" name="Rectangle 4"/>
            <p:cNvSpPr/>
            <p:nvPr/>
          </p:nvSpPr>
          <p:spPr>
            <a:xfrm>
              <a:off x="380880" y="5410080"/>
              <a:ext cx="84582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S:                        2   4   6   8   10  …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8" name="Line 5"/>
            <p:cNvSpPr/>
            <p:nvPr/>
          </p:nvSpPr>
          <p:spPr>
            <a:xfrm>
              <a:off x="3504960" y="4724280"/>
              <a:ext cx="0" cy="609840"/>
            </a:xfrm>
            <a:prstGeom prst="line">
              <a:avLst/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9" name="Line 6"/>
            <p:cNvSpPr/>
            <p:nvPr/>
          </p:nvSpPr>
          <p:spPr>
            <a:xfrm>
              <a:off x="4038480" y="4724280"/>
              <a:ext cx="0" cy="609840"/>
            </a:xfrm>
            <a:prstGeom prst="line">
              <a:avLst/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0" name="Line 7"/>
            <p:cNvSpPr/>
            <p:nvPr/>
          </p:nvSpPr>
          <p:spPr>
            <a:xfrm>
              <a:off x="4571640" y="4724280"/>
              <a:ext cx="0" cy="609840"/>
            </a:xfrm>
            <a:prstGeom prst="line">
              <a:avLst/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5105160" y="4724280"/>
              <a:ext cx="0" cy="609840"/>
            </a:xfrm>
            <a:prstGeom prst="line">
              <a:avLst/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2" name="Line 9"/>
            <p:cNvSpPr/>
            <p:nvPr/>
          </p:nvSpPr>
          <p:spPr>
            <a:xfrm>
              <a:off x="5638680" y="4724280"/>
              <a:ext cx="0" cy="609840"/>
            </a:xfrm>
            <a:prstGeom prst="line">
              <a:avLst/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BCB2-F745-461D-8D61-D66BCF79E116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A4DE-9D29-45F9-BBC7-1CF13C0D78E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quenc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use the notation {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} to describe a sequenc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mportant: Do not confuse this with the {} used in set notati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t is convenient to describe a sequence with 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formula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example, the sequence on the previous slide can be specified as {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}, where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2n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A772-2A7F-444E-84A6-DD8BB38FF57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6CE8-43DA-4666-8BFE-AD78BB0CC4D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Formula Gam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, 3, 5, 7, 9, 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952880" y="2362320"/>
            <a:ext cx="3048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= 2n -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609480" y="3124080"/>
            <a:ext cx="3048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-1, 1, -1, 1, -1, 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4952880" y="3124080"/>
            <a:ext cx="3048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= (-1)</a:t>
            </a:r>
            <a:r>
              <a:rPr b="0" lang="en-US" sz="2800" spc="-1" strike="noStrike" baseline="30000">
                <a:solidFill>
                  <a:srgbClr val="00ffff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609480" y="3886200"/>
            <a:ext cx="3276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, 5, 10, 17, 26, 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4952880" y="3886200"/>
            <a:ext cx="3048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= n</a:t>
            </a:r>
            <a:r>
              <a:rPr b="0" lang="en-US" sz="2800" spc="-1" strike="noStrike" baseline="30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+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609480" y="4648320"/>
            <a:ext cx="4419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0.25, 0.5, 0.75, 1, 1.25 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4952880" y="4648320"/>
            <a:ext cx="3048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= 0.25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609480" y="5410080"/>
            <a:ext cx="4419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, 9, 27, 81, 243, 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4952880" y="5410080"/>
            <a:ext cx="3048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= 3</a:t>
            </a:r>
            <a:r>
              <a:rPr b="0" lang="en-US" sz="2800" spc="-1" strike="noStrike" baseline="30000">
                <a:solidFill>
                  <a:srgbClr val="00ffff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609480" y="1143000"/>
            <a:ext cx="7543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are the formulas that describe the following sequences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3AE9-C10C-4807-B45F-4C16E64DBFA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66AD-9128-4EE6-91B8-E9FBD55F7CC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ring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inite sequences are also call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tring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denoted by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…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length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a string S is the number of terms that it consists of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mpty string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ontains no terms at all. It has length zero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37EF-9402-418B-8E3D-B127782249A3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F52A-070E-4A77-B6CE-CFE03BC6237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umma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236196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t represents the sum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+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+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… +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variable j is called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dex of summa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running from its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lower limi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m to its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upper limi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n. We could as well have used any other letter to denote this index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380880" y="1066680"/>
            <a:ext cx="8001000" cy="990360"/>
            <a:chOff x="380880" y="1066680"/>
            <a:chExt cx="8001000" cy="990360"/>
          </a:xfrm>
        </p:grpSpPr>
        <mc:AlternateContent>
          <mc:Choice xmlns:a14="http://schemas.microsoft.com/office/drawing/2010/main" Requires="a14">
            <p:sp>
              <p:nvSpPr>
                <p:cNvPr id="90" name="Object 5"/>
                <p:cNvSpPr txBox="1"/>
                <p:nvPr/>
              </p:nvSpPr>
              <p:spPr>
                <a:xfrm>
                  <a:off x="2362320" y="1066680"/>
                  <a:ext cx="849240" cy="99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r>
                            <m:t xml:space="preserve">m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91" name="Rectangle 6"/>
            <p:cNvSpPr/>
            <p:nvPr/>
          </p:nvSpPr>
          <p:spPr>
            <a:xfrm>
              <a:off x="380880" y="1295280"/>
              <a:ext cx="8001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ff"/>
                  </a:solidFill>
                  <a:latin typeface="Comic Sans MS"/>
                </a:rPr>
                <a:t>What does          stand for?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CF37-9084-4A76-B94A-C527B062A0C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47BE-C1CE-47DE-9461-75DA2D5E235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umma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3886200"/>
            <a:ext cx="54104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t is 1 + 2 + 3 + 4 + 5 + 6 = 21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96" name="Group 9"/>
          <p:cNvGrpSpPr/>
          <p:nvPr/>
        </p:nvGrpSpPr>
        <p:grpSpPr>
          <a:xfrm>
            <a:off x="304920" y="2057400"/>
            <a:ext cx="4038480" cy="984240"/>
            <a:chOff x="304920" y="2057400"/>
            <a:chExt cx="4038480" cy="984240"/>
          </a:xfrm>
        </p:grpSpPr>
        <p:sp>
          <p:nvSpPr>
            <p:cNvPr id="97" name="Rectangle 4"/>
            <p:cNvSpPr/>
            <p:nvPr/>
          </p:nvSpPr>
          <p:spPr>
            <a:xfrm>
              <a:off x="304920" y="2286000"/>
              <a:ext cx="4038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We write it as         .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" name="Object 5"/>
                <p:cNvSpPr txBox="1"/>
                <p:nvPr/>
              </p:nvSpPr>
              <p:spPr>
                <a:xfrm>
                  <a:off x="2895480" y="2057400"/>
                  <a:ext cx="843120" cy="98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1000</m:t>
                          </m:r>
                        </m:sup>
                        <m:e>
                          <m:sSup>
                            <m:e>
                              <m:r>
                                <m:t xml:space="preserve">j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9" name="Group 10"/>
          <p:cNvGrpSpPr/>
          <p:nvPr/>
        </p:nvGrpSpPr>
        <p:grpSpPr>
          <a:xfrm>
            <a:off x="304920" y="2781360"/>
            <a:ext cx="4876560" cy="1060560"/>
            <a:chOff x="304920" y="2781360"/>
            <a:chExt cx="4876560" cy="1060560"/>
          </a:xfrm>
        </p:grpSpPr>
        <p:sp>
          <p:nvSpPr>
            <p:cNvPr id="100" name="Rectangle 7"/>
            <p:cNvSpPr/>
            <p:nvPr/>
          </p:nvSpPr>
          <p:spPr>
            <a:xfrm>
              <a:off x="304920" y="3048120"/>
              <a:ext cx="48765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ff"/>
                  </a:solidFill>
                  <a:latin typeface="Comic Sans MS"/>
                </a:rPr>
                <a:t>What is the value of         ?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Object 8"/>
                <p:cNvSpPr txBox="1"/>
                <p:nvPr/>
              </p:nvSpPr>
              <p:spPr>
                <a:xfrm>
                  <a:off x="3886200" y="2781360"/>
                  <a:ext cx="727200" cy="106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6</m:t>
                          </m:r>
                        </m:sup>
                        <m:e>
                          <m:r>
                            <m:t xml:space="preserve">j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" name="Rectangle 11"/>
          <p:cNvSpPr/>
          <p:nvPr/>
        </p:nvSpPr>
        <p:spPr>
          <a:xfrm>
            <a:off x="457200" y="5524560"/>
            <a:ext cx="754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t is so much work to calculate this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03" name="Group 15"/>
          <p:cNvGrpSpPr/>
          <p:nvPr/>
        </p:nvGrpSpPr>
        <p:grpSpPr>
          <a:xfrm>
            <a:off x="380880" y="4419720"/>
            <a:ext cx="4876920" cy="1060200"/>
            <a:chOff x="380880" y="4419720"/>
            <a:chExt cx="4876920" cy="1060200"/>
          </a:xfrm>
        </p:grpSpPr>
        <p:sp>
          <p:nvSpPr>
            <p:cNvPr id="104" name="Rectangle 13"/>
            <p:cNvSpPr/>
            <p:nvPr/>
          </p:nvSpPr>
          <p:spPr>
            <a:xfrm>
              <a:off x="380880" y="4686480"/>
              <a:ext cx="48769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ff"/>
                  </a:solidFill>
                  <a:latin typeface="Comic Sans MS"/>
                </a:rPr>
                <a:t>What is the value of         ?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" name="Object 14"/>
                <p:cNvSpPr txBox="1"/>
                <p:nvPr/>
              </p:nvSpPr>
              <p:spPr>
                <a:xfrm>
                  <a:off x="3962520" y="4419720"/>
                  <a:ext cx="726840" cy="106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sup>
                        <m:e>
                          <m:r>
                            <m:t xml:space="preserve">j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6" name="Rectangle 16"/>
          <p:cNvSpPr/>
          <p:nvPr/>
        </p:nvSpPr>
        <p:spPr>
          <a:xfrm>
            <a:off x="304920" y="762120"/>
            <a:ext cx="8305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How can we express the sum of the first 1000 terms of the sequence {a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} with a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=n</a:t>
            </a:r>
            <a:r>
              <a:rPr b="0" lang="en-US" sz="2800" spc="-1" strike="noStrike" baseline="30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for 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n = 1, 2, 3, …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93E6-93F1-4BB8-9E35-CF83D5D9795A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65A6-9A01-4349-9D1E-B1109AA21B82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umma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t is said that Friedrich Gauss came up with the following formula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457200" y="2133720"/>
                <a:ext cx="222264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j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2" name="Rectangle 5"/>
          <p:cNvSpPr/>
          <p:nvPr/>
        </p:nvSpPr>
        <p:spPr>
          <a:xfrm>
            <a:off x="304920" y="3352680"/>
            <a:ext cx="8686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en you have such a formula, the result of any summation can be calculated much more easily,   for 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457200" y="4876920"/>
                <a:ext cx="519588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  <m:e>
                        <m:r>
                          <m:t xml:space="preserve">j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10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5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8938-9EF3-4CCF-BB30-4DF4102F8CEB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49A9-AAB5-4B96-9E1B-5E1EF149655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rithemetic Seri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doe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4"/>
              <p:cNvSpPr txBox="1"/>
              <p:nvPr/>
            </p:nvSpPr>
            <p:spPr>
              <a:xfrm>
                <a:off x="2438280" y="990720"/>
                <a:ext cx="222264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j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9" name="Rectangle 5"/>
          <p:cNvSpPr/>
          <p:nvPr/>
        </p:nvSpPr>
        <p:spPr>
          <a:xfrm>
            <a:off x="304920" y="2438280"/>
            <a:ext cx="8686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bserve that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+ 2 + 3 +…+ n/2 + (n/2 + 1) +…+ (n - 2) + (n - 1) + 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5105520" y="10666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??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380880" y="36576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= [1 + n] + [2 + (n - 1)] + [3 + (n - 2)] +…+ [n/2 + (n/2 + 1)]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304920" y="4343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= (n + 1) + (n + 1) + (n + 1) + … + (n + 1)   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(with n/2 terms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304920" y="502920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= n(n + 1)/2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0:16:35Z</dcterms:created>
  <dc:creator>Marc Pomplun</dc:creator>
  <dc:description/>
  <dc:language>en-US</dc:language>
  <cp:lastModifiedBy>OUAHID</cp:lastModifiedBy>
  <dcterms:modified xsi:type="dcterms:W3CDTF">2013-06-22T09:20:40Z</dcterms:modified>
  <cp:revision>57</cp:revision>
  <dc:subject/>
  <dc:title>PowerPoint Presentation</dc:title>
</cp:coreProperties>
</file>