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4AA-075E-4AF5-AD7C-5DDA6B8EFF1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0E52-10C5-4F3E-AB73-1BE3FC1E960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478-9B14-46DC-B621-0265FE4F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31C-09E2-4B18-B500-34430D7F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F80-2EFA-464A-8D35-9A3BA73D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0F7-A863-4D19-AFB2-F826628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1D7-2D07-45C3-99ED-4FEC206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642-3A14-4E97-A9F3-E35D6CA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FEB-EA4D-4E94-AF66-E6C43229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34D-F861-4DDC-9EC3-4F53676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22B-0F13-48FC-9E46-9C91222A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529-ED3F-413E-84F0-5F5103E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C0A-EBE9-4103-9F85-ECCD5E2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0D0-6994-4D86-BA36-41D5A7D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1F6D-A71D-4626-9202-70B90B31720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EAD7-A7C7-4F05-95FE-50035FF17BC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534-4E86-41AF-8D44-19D5AFBA612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999-66C5-4F7A-A2FB-D466503AE40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 something completely different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2514600"/>
            <a:ext cx="4876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9480" y="36576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ctually, you will see that logic and set theory are very closely related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986-8DC0-4A39-BF37-2AE4BFA4283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D34C-3DAE-48B8-9A93-071ACEDBC4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dinality of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set S contains n distinct elements,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ll S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inite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dinality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Mercedes, BMW, Porsche},   |A|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1, {2, 3}, {4, 5}, 6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19920" y="35053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B| 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 = 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0199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C|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57200" y="4572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 = { x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x  7000 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19920" y="4572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D| = 700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7200" y="5181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= { x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x  7000 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019920" y="5181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 is infinite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95E2-1B26-4BE9-B3F7-DCCCD8C5B1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8C3-8575-4839-B649-97C2991A585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Power S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power set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= {B | 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}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contains all subsets of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, y, z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{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{x}, {y}, {z}, {x, y}, {x, z}, {y, z}, {x, y, z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= {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|A| = 0,  |P(A)| =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6F99-AC7C-4CDE-8A7A-43CB9EC27B7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DA6-80C8-4C66-AD66-867F22BBB13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Power S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dinality of power 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P(A) |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|A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each element in A has an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f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” switch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possible switch configuration in A corresponds to one element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685800" y="3429000"/>
            <a:ext cx="5790960" cy="1822320"/>
            <a:chOff x="685800" y="3429000"/>
            <a:chExt cx="5790960" cy="1822320"/>
          </a:xfrm>
        </p:grpSpPr>
        <p:sp>
          <p:nvSpPr>
            <p:cNvPr id="130" name="Rectangle 5"/>
            <p:cNvSpPr/>
            <p:nvPr/>
          </p:nvSpPr>
          <p:spPr>
            <a:xfrm>
              <a:off x="583236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519084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454644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90204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326052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261612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197172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133020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68580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83236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9084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454644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390204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326052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61612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197172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Rectangle 21"/>
            <p:cNvSpPr/>
            <p:nvPr/>
          </p:nvSpPr>
          <p:spPr>
            <a:xfrm>
              <a:off x="133020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" name="Rectangle 22"/>
            <p:cNvSpPr/>
            <p:nvPr/>
          </p:nvSpPr>
          <p:spPr>
            <a:xfrm>
              <a:off x="68580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>
              <a:off x="583236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519084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454644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1" name="Rectangle 26"/>
            <p:cNvSpPr/>
            <p:nvPr/>
          </p:nvSpPr>
          <p:spPr>
            <a:xfrm>
              <a:off x="390204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Rectangle 27"/>
            <p:cNvSpPr/>
            <p:nvPr/>
          </p:nvSpPr>
          <p:spPr>
            <a:xfrm>
              <a:off x="326052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28"/>
            <p:cNvSpPr/>
            <p:nvPr/>
          </p:nvSpPr>
          <p:spPr>
            <a:xfrm>
              <a:off x="261612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29"/>
            <p:cNvSpPr/>
            <p:nvPr/>
          </p:nvSpPr>
          <p:spPr>
            <a:xfrm>
              <a:off x="197172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30"/>
            <p:cNvSpPr/>
            <p:nvPr/>
          </p:nvSpPr>
          <p:spPr>
            <a:xfrm>
              <a:off x="133020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31"/>
            <p:cNvSpPr/>
            <p:nvPr/>
          </p:nvSpPr>
          <p:spPr>
            <a:xfrm>
              <a:off x="68580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583236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33"/>
            <p:cNvSpPr/>
            <p:nvPr/>
          </p:nvSpPr>
          <p:spPr>
            <a:xfrm>
              <a:off x="519084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34"/>
            <p:cNvSpPr/>
            <p:nvPr/>
          </p:nvSpPr>
          <p:spPr>
            <a:xfrm>
              <a:off x="454644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35"/>
            <p:cNvSpPr/>
            <p:nvPr/>
          </p:nvSpPr>
          <p:spPr>
            <a:xfrm>
              <a:off x="390204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36"/>
            <p:cNvSpPr/>
            <p:nvPr/>
          </p:nvSpPr>
          <p:spPr>
            <a:xfrm>
              <a:off x="326052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37"/>
            <p:cNvSpPr/>
            <p:nvPr/>
          </p:nvSpPr>
          <p:spPr>
            <a:xfrm>
              <a:off x="261612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38"/>
            <p:cNvSpPr/>
            <p:nvPr/>
          </p:nvSpPr>
          <p:spPr>
            <a:xfrm>
              <a:off x="197172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39"/>
            <p:cNvSpPr/>
            <p:nvPr/>
          </p:nvSpPr>
          <p:spPr>
            <a:xfrm>
              <a:off x="133020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68580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685800" y="3429000"/>
              <a:ext cx="579096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685800" y="434016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685800" y="479556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Line 44"/>
            <p:cNvSpPr/>
            <p:nvPr/>
          </p:nvSpPr>
          <p:spPr>
            <a:xfrm>
              <a:off x="685800" y="5251320"/>
              <a:ext cx="579096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45"/>
            <p:cNvSpPr/>
            <p:nvPr/>
          </p:nvSpPr>
          <p:spPr>
            <a:xfrm>
              <a:off x="685800" y="3429000"/>
              <a:ext cx="0" cy="182232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Line 46"/>
            <p:cNvSpPr/>
            <p:nvPr/>
          </p:nvSpPr>
          <p:spPr>
            <a:xfrm>
              <a:off x="19717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47"/>
            <p:cNvSpPr/>
            <p:nvPr/>
          </p:nvSpPr>
          <p:spPr>
            <a:xfrm>
              <a:off x="26161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48"/>
            <p:cNvSpPr/>
            <p:nvPr/>
          </p:nvSpPr>
          <p:spPr>
            <a:xfrm>
              <a:off x="32605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49"/>
            <p:cNvSpPr/>
            <p:nvPr/>
          </p:nvSpPr>
          <p:spPr>
            <a:xfrm>
              <a:off x="39020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>
              <a:off x="45464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51"/>
            <p:cNvSpPr/>
            <p:nvPr/>
          </p:nvSpPr>
          <p:spPr>
            <a:xfrm>
              <a:off x="51908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52"/>
            <p:cNvSpPr/>
            <p:nvPr/>
          </p:nvSpPr>
          <p:spPr>
            <a:xfrm>
              <a:off x="583236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53"/>
            <p:cNvSpPr/>
            <p:nvPr/>
          </p:nvSpPr>
          <p:spPr>
            <a:xfrm>
              <a:off x="6476760" y="3429000"/>
              <a:ext cx="0" cy="182232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54"/>
            <p:cNvSpPr/>
            <p:nvPr/>
          </p:nvSpPr>
          <p:spPr>
            <a:xfrm>
              <a:off x="133020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55"/>
            <p:cNvSpPr/>
            <p:nvPr/>
          </p:nvSpPr>
          <p:spPr>
            <a:xfrm>
              <a:off x="685800" y="388440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1" name="Rectangle 56"/>
          <p:cNvSpPr/>
          <p:nvPr/>
        </p:nvSpPr>
        <p:spPr>
          <a:xfrm>
            <a:off x="228600" y="5257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3 elements in A, there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8 elements in P(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C47D-DDEA-4AAB-BD2A-A2563C55A0C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F30-7C36-4081-970A-9C691A6F63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dered n-tu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is a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dered colle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ordered n-tuples 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equal if and only if they contain exactly the same elemen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 the same orde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.e.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tesi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sets is defined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x, y}, B = {a, b, c}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x, a), (x, b), (x, c), (y, a), (y, b), (y, c)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D13-9F89-4328-BC6F-415E1A3BD8C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5CE8-CFF0-478E-8DCB-B7AB00B330F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tesi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sets is defined as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good, bad}, B = {student, prof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1752480" y="3124080"/>
            <a:ext cx="30492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3047760" y="3124080"/>
            <a:ext cx="114300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60020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good, student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05120" y="3124080"/>
            <a:ext cx="198108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4876560" y="3124080"/>
            <a:ext cx="68580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58128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good, prof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590920" y="3124080"/>
            <a:ext cx="281916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4800600" y="3124080"/>
            <a:ext cx="152388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18148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bad, student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2971800" y="3124080"/>
            <a:ext cx="419112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6095880" y="3124080"/>
            <a:ext cx="175284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010280" y="3686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bad, prof)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60020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student, goo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58128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prof, goo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18148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student, ba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020000" y="46004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prof, bad)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80880" y="4648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A = {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E00-B67C-4C30-AD5A-DD7D6DE0045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ECD8-B44E-4435-A049-8B88FC0338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on-empty sets A and B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| = |A|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B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Cartesian product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wo or more 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429-7224-49B4-A959-6974993136A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FAEA-3F7F-441C-AFEB-1347C218A73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ion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a, b}, B = {b, c, d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a, b, c, d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section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a, b}, B = {b, c, d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074-1853-4096-9BE7-4DCF5EB81A8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232F-6DED-414C-9076-BD12F91CE33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sets are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oi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ir intersection is empty, that is, they share no elemen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f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tween two sets A and B contains exactly those elements of A that are not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-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a, b}, B = {b, c, d}, A-B = {a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1BC-BA37-4CFF-8747-E96130198FE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E2C1-57C3-4F14-ACF7-DD94A0C9304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A contains exactly those elements under consideration that are not in A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U-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 =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 B = {250, 251, 252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0, 1, 2, …, 248, 249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EC42-F9C9-40ED-8439-6B4BE5DA891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781C-E459-459F-A781-45A3EA9A034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able 1 in Section 1.5 shows many useful equations.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we prove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 = 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ethod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distributive law for logical expression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EF78-D29A-4B25-990D-F2B290A0C9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0235-122C-46F3-9D07-3A03B866EF5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Theor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: Collection of objects (“elements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“a is an element of A”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       “a is a member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“a is not an element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A contains…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der of elements is meaningle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does not matter how often the same element is list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D02-B441-450F-8FB5-AF97A4C008A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9457-622A-4A55-8CE8-C9EC6B6A8A2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ethod II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mbership tab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means “x is an element of this set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 means “x is not an element of this set”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685800" y="2438280"/>
            <a:ext cx="7467480" cy="3708360"/>
            <a:chOff x="685800" y="2438280"/>
            <a:chExt cx="7467480" cy="3708360"/>
          </a:xfrm>
        </p:grpSpPr>
        <p:sp>
          <p:nvSpPr>
            <p:cNvPr id="232" name="Rectangle 5"/>
            <p:cNvSpPr/>
            <p:nvPr/>
          </p:nvSpPr>
          <p:spPr>
            <a:xfrm>
              <a:off x="6171840" y="5734080"/>
              <a:ext cx="1981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5181480" y="5734080"/>
              <a:ext cx="990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4267080" y="5734080"/>
              <a:ext cx="91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2819160" y="5734080"/>
              <a:ext cx="14475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1841400" y="5734080"/>
              <a:ext cx="9774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685800" y="5734080"/>
              <a:ext cx="11556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1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6171840" y="532296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5181480" y="532296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4267080" y="532296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2819160" y="532296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1841400" y="532296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685800" y="532296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1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6171840" y="491004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491004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4267080" y="491004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2819160" y="491004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1841400" y="491004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685800" y="491004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0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6171840" y="449892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5181480" y="449892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4267080" y="449892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2819160" y="449892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1841400" y="449892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685800" y="449892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0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6171840" y="4086360"/>
              <a:ext cx="1981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5181480" y="4086360"/>
              <a:ext cx="990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4267080" y="4086360"/>
              <a:ext cx="91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2819160" y="4086360"/>
              <a:ext cx="14475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1841400" y="4086360"/>
              <a:ext cx="9774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Rectangle 34"/>
            <p:cNvSpPr/>
            <p:nvPr/>
          </p:nvSpPr>
          <p:spPr>
            <a:xfrm>
              <a:off x="685800" y="4086360"/>
              <a:ext cx="11556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1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6171840" y="367524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5181480" y="367524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4267080" y="367524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2819160" y="367524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39"/>
            <p:cNvSpPr/>
            <p:nvPr/>
          </p:nvSpPr>
          <p:spPr>
            <a:xfrm>
              <a:off x="1841400" y="367524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685800" y="367524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1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41"/>
            <p:cNvSpPr/>
            <p:nvPr/>
          </p:nvSpPr>
          <p:spPr>
            <a:xfrm>
              <a:off x="6171840" y="326232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42"/>
            <p:cNvSpPr/>
            <p:nvPr/>
          </p:nvSpPr>
          <p:spPr>
            <a:xfrm>
              <a:off x="5181480" y="326232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43"/>
            <p:cNvSpPr/>
            <p:nvPr/>
          </p:nvSpPr>
          <p:spPr>
            <a:xfrm>
              <a:off x="4267080" y="326232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44"/>
            <p:cNvSpPr/>
            <p:nvPr/>
          </p:nvSpPr>
          <p:spPr>
            <a:xfrm>
              <a:off x="2819160" y="326232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1841400" y="326232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685800" y="326232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0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6171840" y="285120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48"/>
            <p:cNvSpPr/>
            <p:nvPr/>
          </p:nvSpPr>
          <p:spPr>
            <a:xfrm>
              <a:off x="5181480" y="285120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4267080" y="285120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50"/>
            <p:cNvSpPr/>
            <p:nvPr/>
          </p:nvSpPr>
          <p:spPr>
            <a:xfrm>
              <a:off x="2819160" y="285120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51"/>
            <p:cNvSpPr/>
            <p:nvPr/>
          </p:nvSpPr>
          <p:spPr>
            <a:xfrm>
              <a:off x="1841400" y="285120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685800" y="285120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0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6171840" y="243828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)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5181480" y="243828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Rectangle 55"/>
            <p:cNvSpPr/>
            <p:nvPr/>
          </p:nvSpPr>
          <p:spPr>
            <a:xfrm>
              <a:off x="4267080" y="243828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2819160" y="243828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B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1841400" y="243828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685800" y="243828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   B   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59"/>
            <p:cNvSpPr/>
            <p:nvPr/>
          </p:nvSpPr>
          <p:spPr>
            <a:xfrm>
              <a:off x="685800" y="2438280"/>
              <a:ext cx="746748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60"/>
            <p:cNvSpPr/>
            <p:nvPr/>
          </p:nvSpPr>
          <p:spPr>
            <a:xfrm>
              <a:off x="685800" y="326232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61"/>
            <p:cNvSpPr/>
            <p:nvPr/>
          </p:nvSpPr>
          <p:spPr>
            <a:xfrm>
              <a:off x="685800" y="367524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685800" y="408636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685800" y="449892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Line 64"/>
            <p:cNvSpPr/>
            <p:nvPr/>
          </p:nvSpPr>
          <p:spPr>
            <a:xfrm>
              <a:off x="685800" y="491004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Line 65"/>
            <p:cNvSpPr/>
            <p:nvPr/>
          </p:nvSpPr>
          <p:spPr>
            <a:xfrm>
              <a:off x="685800" y="532296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66"/>
            <p:cNvSpPr/>
            <p:nvPr/>
          </p:nvSpPr>
          <p:spPr>
            <a:xfrm>
              <a:off x="685800" y="573408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67"/>
            <p:cNvSpPr/>
            <p:nvPr/>
          </p:nvSpPr>
          <p:spPr>
            <a:xfrm>
              <a:off x="685800" y="6146640"/>
              <a:ext cx="746748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Line 68"/>
            <p:cNvSpPr/>
            <p:nvPr/>
          </p:nvSpPr>
          <p:spPr>
            <a:xfrm>
              <a:off x="685800" y="2438280"/>
              <a:ext cx="0" cy="370836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Line 69"/>
            <p:cNvSpPr/>
            <p:nvPr/>
          </p:nvSpPr>
          <p:spPr>
            <a:xfrm>
              <a:off x="281916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70"/>
            <p:cNvSpPr/>
            <p:nvPr/>
          </p:nvSpPr>
          <p:spPr>
            <a:xfrm>
              <a:off x="426708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71"/>
            <p:cNvSpPr/>
            <p:nvPr/>
          </p:nvSpPr>
          <p:spPr>
            <a:xfrm>
              <a:off x="518148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72"/>
            <p:cNvSpPr/>
            <p:nvPr/>
          </p:nvSpPr>
          <p:spPr>
            <a:xfrm>
              <a:off x="617184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73"/>
            <p:cNvSpPr/>
            <p:nvPr/>
          </p:nvSpPr>
          <p:spPr>
            <a:xfrm>
              <a:off x="8153280" y="2438280"/>
              <a:ext cx="0" cy="370836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74"/>
            <p:cNvSpPr/>
            <p:nvPr/>
          </p:nvSpPr>
          <p:spPr>
            <a:xfrm>
              <a:off x="184140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>
              <a:off x="685800" y="285120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3410-4912-4813-A7A7-1DB90C1AE7B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A40-4839-403F-91F7-7BC7BBB011B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logical expression can be transformed into an equivalent expression in set theory and vice vers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712-97DE-4A82-806E-B6870732F7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730-7C50-447F-936F-738AB44B466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Eq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s A and B are equal if and only if they contain exactly the same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" y="297180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9, 2, 7, -3}, B = {7, 9, -3, 2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781680" y="2971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57200" y="36576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dog, cat, horse}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 = {cat, horse, squirrel, dog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781680" y="4114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57200" y="47242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dog, cat, horse}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 = {cat, horse, dog, dog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81680" y="51814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2B7-A4C0-47CB-8F89-8168DF5A0A4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0D1-1F7D-4AFB-A9CE-903E4DA79A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ndard” 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atur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0, 1, 2, 3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…, -2, -1, 0, 1, 2, …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itive Integ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1, 2, 3, 4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47.3, -1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ation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1.5, 2.6, -3.8, 15, …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correct definition will follow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27A-8468-468C-9085-403BFE13DD7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E42-74D6-466D-8CB2-CFE810F5839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empty set/null set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z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z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, but z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{z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{b, c}, {c, x, d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{x, y}}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{x, y}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, but {x, y}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{{x, y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 | P(x)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set of all x such that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&gt; 7} = {8, 9, 10, …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set builder notation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EBF4-9050-484D-A506-6F0F2C2CB0C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0EF-0776-4AE4-A889-102E2796F24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e are now able to define the set of rational numbers Q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a/b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a/b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how about the set of real numbers 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r | r is a real number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at is the best we can d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00E7-4A11-4007-AE16-C11B6FF3642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56A2-C211-4C38-BC1D-82DA14B067B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“A is a subset of B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if and only if every element of A is also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an element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e can completely formalize th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3, 9}, B = {5, 9, 1, 3},        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91520" y="4114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7200" y="48006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3, 3, 3, 9}, B = {5, 9, 1, 3},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39152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391520" y="4800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5486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1, 2, 3}, B = {2, 3, 4},        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EC88-6DCA-455D-96A9-A637DE606D4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340B-1EAC-42EF-B742-5B2C25D0968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eful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see Venn Diagra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676520" y="2666880"/>
            <a:ext cx="5638680" cy="3505320"/>
            <a:chOff x="1676520" y="2666880"/>
            <a:chExt cx="5638680" cy="3505320"/>
          </a:xfrm>
        </p:grpSpPr>
        <p:sp>
          <p:nvSpPr>
            <p:cNvPr id="94" name="Rectangle 5"/>
            <p:cNvSpPr/>
            <p:nvPr/>
          </p:nvSpPr>
          <p:spPr>
            <a:xfrm>
              <a:off x="1676520" y="2666880"/>
              <a:ext cx="5638680" cy="3505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662940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3962520" y="3962520"/>
            <a:ext cx="914400" cy="914400"/>
            <a:chOff x="3962520" y="3962520"/>
            <a:chExt cx="914400" cy="914400"/>
          </a:xfrm>
        </p:grpSpPr>
        <p:sp>
          <p:nvSpPr>
            <p:cNvPr id="97" name="Oval 8"/>
            <p:cNvSpPr/>
            <p:nvPr/>
          </p:nvSpPr>
          <p:spPr>
            <a:xfrm>
              <a:off x="3962520" y="3962520"/>
              <a:ext cx="914400" cy="9144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191120" y="4114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3124080" y="3276720"/>
            <a:ext cx="2059200" cy="2052360"/>
            <a:chOff x="3124080" y="3276720"/>
            <a:chExt cx="2059200" cy="2052360"/>
          </a:xfrm>
        </p:grpSpPr>
        <p:sp>
          <p:nvSpPr>
            <p:cNvPr id="100" name="Oval 11"/>
            <p:cNvSpPr/>
            <p:nvPr/>
          </p:nvSpPr>
          <p:spPr>
            <a:xfrm>
              <a:off x="3124080" y="3276720"/>
              <a:ext cx="2059200" cy="2052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42900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33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819520" y="2971800"/>
            <a:ext cx="3429000" cy="2819520"/>
            <a:chOff x="2819520" y="2971800"/>
            <a:chExt cx="3429000" cy="2819520"/>
          </a:xfrm>
        </p:grpSpPr>
        <p:sp>
          <p:nvSpPr>
            <p:cNvPr id="103" name="Oval 14"/>
            <p:cNvSpPr/>
            <p:nvPr/>
          </p:nvSpPr>
          <p:spPr>
            <a:xfrm>
              <a:off x="2819520" y="2971800"/>
              <a:ext cx="3429000" cy="281952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548640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cc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027-1536-44A1-BE26-AE78F697E4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28E-D0BB-428A-AD62-131F22443B9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eful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or any set A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for any set 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er sub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A is a proper subset of B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19:59Z</dcterms:modified>
  <cp:revision>33</cp:revision>
  <dc:subject/>
  <dc:title>PowerPoint Presentation</dc:title>
</cp:coreProperties>
</file>