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C188-171F-4B41-8751-04A4D82385A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90D9-FB51-455F-80DA-2BD03AADBEE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202-9848-400F-B21D-3938864A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1E6-E732-4069-827B-E3F8D49E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A55-64C6-463A-B69A-2A38FDEF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759-281F-44B9-949D-1E7B4ABB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ECBB-140A-4E4E-9156-A897D2DD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E76-F7E0-4579-8D24-A2A5C42D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F8D-5AB8-4A75-8A6A-E16352D4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21D-6676-4DD6-9D2F-1C60B08B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6AE-818B-4424-B678-31219CE1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6FA-CEDF-48E7-BB28-1FEAA14F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5FE-8ED2-4756-B011-DE4A889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EE20-2866-449B-9504-F2E7C749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8EE4-CAE4-4EE7-A64B-CF074E05E24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78CE-F190-4436-97AC-5F682619E68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F111-1FA3-47D5-BFBF-CDE51661134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71D6-896B-46AC-8FE7-013C4B80808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now for something completely different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720" y="2514600"/>
            <a:ext cx="48765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ffff"/>
                </a:solidFill>
                <a:latin typeface="Comic Sans MS"/>
              </a:rPr>
              <a:t>Set Theory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09480" y="3657600"/>
            <a:ext cx="7848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ctually, you will see that logic and set theory are very closely related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D5AC-482B-47B7-A6D0-486D9783692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7B55-F551-4934-B8DC-AE30E54D5CA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rdinality of 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a set S contains n distinct elements,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ll S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inite se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ith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ardinality 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Mercedes, BMW, Porsche},   |A|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35053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1, {2, 3}, {4, 5}, 6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19920" y="35053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B| =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" y="4038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 = 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019920" y="4038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C|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57200" y="4572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 = { x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x  7000 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6019920" y="45720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D| = 700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57200" y="51814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 = { x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x  7000 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6019920" y="5181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 is infinite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C0E7-C7C3-42F6-93E1-06015F37B46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6094-14ED-43BF-92D1-81BCD5708CF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Power S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A)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power set of A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A) = {B | B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}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contains all subsets of 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x, y, z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A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{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{x}, {y}, {z}, {x, y}, {x, z}, {y, z}, {x, y, z}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A) = {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ote: |A| = 0,  |P(A)| = 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5654-53B9-4A00-8E5E-733A993C7C2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1FBC-32E3-4F55-AD71-8D57C1B9816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Power S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ardinality of power set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P(A) |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|A|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agine each element in A has an “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f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” switch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ach possible switch configuration in A corresponds to one element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685800" y="3429000"/>
            <a:ext cx="5790960" cy="1822320"/>
            <a:chOff x="685800" y="3429000"/>
            <a:chExt cx="5790960" cy="1822320"/>
          </a:xfrm>
        </p:grpSpPr>
        <p:sp>
          <p:nvSpPr>
            <p:cNvPr id="130" name="Rectangle 5"/>
            <p:cNvSpPr/>
            <p:nvPr/>
          </p:nvSpPr>
          <p:spPr>
            <a:xfrm>
              <a:off x="583236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5190840" y="479556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454644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Rectangle 8"/>
            <p:cNvSpPr/>
            <p:nvPr/>
          </p:nvSpPr>
          <p:spPr>
            <a:xfrm>
              <a:off x="390204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Rectangle 9"/>
            <p:cNvSpPr/>
            <p:nvPr/>
          </p:nvSpPr>
          <p:spPr>
            <a:xfrm>
              <a:off x="3260520" y="479556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261612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197172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1330200" y="479556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685800" y="479556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" name="Rectangle 14"/>
            <p:cNvSpPr/>
            <p:nvPr/>
          </p:nvSpPr>
          <p:spPr>
            <a:xfrm>
              <a:off x="583236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5190840" y="434016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Rectangle 16"/>
            <p:cNvSpPr/>
            <p:nvPr/>
          </p:nvSpPr>
          <p:spPr>
            <a:xfrm>
              <a:off x="454644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Rectangle 17"/>
            <p:cNvSpPr/>
            <p:nvPr/>
          </p:nvSpPr>
          <p:spPr>
            <a:xfrm>
              <a:off x="390204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3" name="Rectangle 18"/>
            <p:cNvSpPr/>
            <p:nvPr/>
          </p:nvSpPr>
          <p:spPr>
            <a:xfrm>
              <a:off x="3260520" y="434016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4" name="Rectangle 19"/>
            <p:cNvSpPr/>
            <p:nvPr/>
          </p:nvSpPr>
          <p:spPr>
            <a:xfrm>
              <a:off x="261612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5" name="Rectangle 20"/>
            <p:cNvSpPr/>
            <p:nvPr/>
          </p:nvSpPr>
          <p:spPr>
            <a:xfrm>
              <a:off x="197172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Rectangle 21"/>
            <p:cNvSpPr/>
            <p:nvPr/>
          </p:nvSpPr>
          <p:spPr>
            <a:xfrm>
              <a:off x="1330200" y="434016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7" name="Rectangle 22"/>
            <p:cNvSpPr/>
            <p:nvPr/>
          </p:nvSpPr>
          <p:spPr>
            <a:xfrm>
              <a:off x="685800" y="434016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8" name="Rectangle 23"/>
            <p:cNvSpPr/>
            <p:nvPr/>
          </p:nvSpPr>
          <p:spPr>
            <a:xfrm>
              <a:off x="583236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Rectangle 24"/>
            <p:cNvSpPr/>
            <p:nvPr/>
          </p:nvSpPr>
          <p:spPr>
            <a:xfrm>
              <a:off x="5190840" y="388440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454644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1" name="Rectangle 26"/>
            <p:cNvSpPr/>
            <p:nvPr/>
          </p:nvSpPr>
          <p:spPr>
            <a:xfrm>
              <a:off x="390204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Rectangle 27"/>
            <p:cNvSpPr/>
            <p:nvPr/>
          </p:nvSpPr>
          <p:spPr>
            <a:xfrm>
              <a:off x="3260520" y="388440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Rectangle 28"/>
            <p:cNvSpPr/>
            <p:nvPr/>
          </p:nvSpPr>
          <p:spPr>
            <a:xfrm>
              <a:off x="261612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4" name="Rectangle 29"/>
            <p:cNvSpPr/>
            <p:nvPr/>
          </p:nvSpPr>
          <p:spPr>
            <a:xfrm>
              <a:off x="197172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Rectangle 30"/>
            <p:cNvSpPr/>
            <p:nvPr/>
          </p:nvSpPr>
          <p:spPr>
            <a:xfrm>
              <a:off x="1330200" y="3884400"/>
              <a:ext cx="64152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Rectangle 31"/>
            <p:cNvSpPr/>
            <p:nvPr/>
          </p:nvSpPr>
          <p:spPr>
            <a:xfrm>
              <a:off x="685800" y="3884400"/>
              <a:ext cx="644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Rectangle 32"/>
            <p:cNvSpPr/>
            <p:nvPr/>
          </p:nvSpPr>
          <p:spPr>
            <a:xfrm>
              <a:off x="583236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Rectangle 33"/>
            <p:cNvSpPr/>
            <p:nvPr/>
          </p:nvSpPr>
          <p:spPr>
            <a:xfrm>
              <a:off x="5190840" y="342900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9" name="Rectangle 34"/>
            <p:cNvSpPr/>
            <p:nvPr/>
          </p:nvSpPr>
          <p:spPr>
            <a:xfrm>
              <a:off x="454644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0" name="Rectangle 35"/>
            <p:cNvSpPr/>
            <p:nvPr/>
          </p:nvSpPr>
          <p:spPr>
            <a:xfrm>
              <a:off x="390204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Rectangle 36"/>
            <p:cNvSpPr/>
            <p:nvPr/>
          </p:nvSpPr>
          <p:spPr>
            <a:xfrm>
              <a:off x="3260520" y="342900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" name="Rectangle 37"/>
            <p:cNvSpPr/>
            <p:nvPr/>
          </p:nvSpPr>
          <p:spPr>
            <a:xfrm>
              <a:off x="261612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3" name="Rectangle 38"/>
            <p:cNvSpPr/>
            <p:nvPr/>
          </p:nvSpPr>
          <p:spPr>
            <a:xfrm>
              <a:off x="197172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Rectangle 39"/>
            <p:cNvSpPr/>
            <p:nvPr/>
          </p:nvSpPr>
          <p:spPr>
            <a:xfrm>
              <a:off x="1330200" y="3429000"/>
              <a:ext cx="641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Rectangle 40"/>
            <p:cNvSpPr/>
            <p:nvPr/>
          </p:nvSpPr>
          <p:spPr>
            <a:xfrm>
              <a:off x="685800" y="3429000"/>
              <a:ext cx="644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685800" y="3429000"/>
              <a:ext cx="5790960" cy="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685800" y="4340160"/>
              <a:ext cx="57909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685800" y="4795560"/>
              <a:ext cx="57909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" name="Line 44"/>
            <p:cNvSpPr/>
            <p:nvPr/>
          </p:nvSpPr>
          <p:spPr>
            <a:xfrm>
              <a:off x="685800" y="5251320"/>
              <a:ext cx="5790960" cy="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45"/>
            <p:cNvSpPr/>
            <p:nvPr/>
          </p:nvSpPr>
          <p:spPr>
            <a:xfrm>
              <a:off x="685800" y="3429000"/>
              <a:ext cx="0" cy="182232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1" name="Line 46"/>
            <p:cNvSpPr/>
            <p:nvPr/>
          </p:nvSpPr>
          <p:spPr>
            <a:xfrm>
              <a:off x="197172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" name="Line 47"/>
            <p:cNvSpPr/>
            <p:nvPr/>
          </p:nvSpPr>
          <p:spPr>
            <a:xfrm>
              <a:off x="261612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48"/>
            <p:cNvSpPr/>
            <p:nvPr/>
          </p:nvSpPr>
          <p:spPr>
            <a:xfrm>
              <a:off x="326052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49"/>
            <p:cNvSpPr/>
            <p:nvPr/>
          </p:nvSpPr>
          <p:spPr>
            <a:xfrm>
              <a:off x="390204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" name="Line 50"/>
            <p:cNvSpPr/>
            <p:nvPr/>
          </p:nvSpPr>
          <p:spPr>
            <a:xfrm>
              <a:off x="454644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Line 51"/>
            <p:cNvSpPr/>
            <p:nvPr/>
          </p:nvSpPr>
          <p:spPr>
            <a:xfrm>
              <a:off x="519084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52"/>
            <p:cNvSpPr/>
            <p:nvPr/>
          </p:nvSpPr>
          <p:spPr>
            <a:xfrm>
              <a:off x="583236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53"/>
            <p:cNvSpPr/>
            <p:nvPr/>
          </p:nvSpPr>
          <p:spPr>
            <a:xfrm>
              <a:off x="6476760" y="3429000"/>
              <a:ext cx="0" cy="182232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" name="Line 54"/>
            <p:cNvSpPr/>
            <p:nvPr/>
          </p:nvSpPr>
          <p:spPr>
            <a:xfrm>
              <a:off x="1330200" y="3429000"/>
              <a:ext cx="0" cy="1822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0" name="Line 55"/>
            <p:cNvSpPr/>
            <p:nvPr/>
          </p:nvSpPr>
          <p:spPr>
            <a:xfrm>
              <a:off x="685800" y="3884400"/>
              <a:ext cx="57909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1" name="Rectangle 56"/>
          <p:cNvSpPr/>
          <p:nvPr/>
        </p:nvSpPr>
        <p:spPr>
          <a:xfrm>
            <a:off x="228600" y="52578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3 elements in A, there ar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= 8 elements in P(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D6F9-4AB3-41AF-8268-539AE40369E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C483-2887-4044-9549-2E6229DA8C1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rtesian Produ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dered n-tup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is a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dered colle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ordered n-tuples (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and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are equal if and only if they contain exactly the same elements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 the same orde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.e.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artesian 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wo sets is defined a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(a, b)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{x, y}, B = {a, b, c}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(x, a), (x, b), (x, c), (y, a), (y, b), (y, c)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7475-1B59-4094-9AD5-724DBA6C316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9595-4F25-4632-8C51-B83DA1BF657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rtesian Produ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artesian 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wo sets is defined as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(a, b)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good, bad}, B = {student, prof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1752480" y="3124080"/>
            <a:ext cx="30492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3047760" y="3124080"/>
            <a:ext cx="114300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600200" y="3733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good, student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905120" y="3124080"/>
            <a:ext cx="198108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Line 8"/>
          <p:cNvSpPr/>
          <p:nvPr/>
        </p:nvSpPr>
        <p:spPr>
          <a:xfrm flipH="1">
            <a:off x="4876560" y="3124080"/>
            <a:ext cx="68580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581280" y="3733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good, prof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2590920" y="3124080"/>
            <a:ext cx="281916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Line 11"/>
          <p:cNvSpPr/>
          <p:nvPr/>
        </p:nvSpPr>
        <p:spPr>
          <a:xfrm>
            <a:off x="4800600" y="3124080"/>
            <a:ext cx="152388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181480" y="3733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bad, student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Line 13"/>
          <p:cNvSpPr/>
          <p:nvPr/>
        </p:nvSpPr>
        <p:spPr>
          <a:xfrm>
            <a:off x="2971800" y="3124080"/>
            <a:ext cx="419112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6095880" y="3124080"/>
            <a:ext cx="1752840" cy="6098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7010280" y="3686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bad, prof)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}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1600200" y="4648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student, good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581280" y="4648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prof, good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Text Box 18"/>
          <p:cNvSpPr/>
          <p:nvPr/>
        </p:nvSpPr>
        <p:spPr>
          <a:xfrm>
            <a:off x="5181480" y="4648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student, bad)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7020000" y="46004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prof, bad)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}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380880" y="46483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A = {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B411-ECD6-4D5B-A3BB-5FCF5DB00AC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78B0-101D-4536-AE7E-87A11E69A01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rtesian Produ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ot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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on-empty sets A and B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| = |A|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B|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Cartesian product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wo or more se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fined a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(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|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14B8-AD26-4BBC-B2A7-E995C3C0543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30EC-D3CC-470F-AD2F-FCD5B00DADC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ion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x |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{a, b}, B = {b, c, d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a, b, c, d}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rsection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x |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{a, b}, B = {b, c, d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{b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5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0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6A35-3C91-4CE9-84DC-FE83094D366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7B48-3D71-41CE-8BDA-5F93504AEE0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sets are calle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oi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their intersection is empty, that is, they share no element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=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f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tween two sets A and B contains exactly those elements of A that are not in B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-B = {x |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a, b}, B = {b, c, d}, A-B = {a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EC0E-9373-4E1B-B63E-0B7A7D633CF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762B-F435-46E4-8292-9EF93D44E7D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mple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et A contains exactly those elements under consideration that are not in A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U-A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 =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 B = {250, 251, 252, …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0, 1, 2, …, 248, 249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3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C230-6808-43DE-BB19-EF5DBF9DF47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E4FF-CD7C-4373-91C8-5D5800682CA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able 1 in Section 1.5 shows many useful equations.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an we prove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 = 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ethod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distributive law for logical expression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F26B-7E57-4B05-B4DB-B83C0B28C24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EA16-CA5F-44B9-8BCB-294E83E75D4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et Theory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t: Collection of objects (“elements”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           “a is an element of A”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                  “a is a member of A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           “a is not an element of A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A contains…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der of elements is meaningles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does not matter how often the same element is list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2C17-E0FE-4532-9DBB-235B135F767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100-9DF5-4F49-8E8C-DE808DB1D11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ethod II: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embership tabl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means “x is an element of this set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 means “x is not an element of this set”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685800" y="2438280"/>
            <a:ext cx="7467480" cy="3708360"/>
            <a:chOff x="685800" y="2438280"/>
            <a:chExt cx="7467480" cy="3708360"/>
          </a:xfrm>
        </p:grpSpPr>
        <p:sp>
          <p:nvSpPr>
            <p:cNvPr id="232" name="Rectangle 5"/>
            <p:cNvSpPr/>
            <p:nvPr/>
          </p:nvSpPr>
          <p:spPr>
            <a:xfrm>
              <a:off x="6171840" y="5734080"/>
              <a:ext cx="19810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5181480" y="5734080"/>
              <a:ext cx="990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4267080" y="5734080"/>
              <a:ext cx="9140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8"/>
            <p:cNvSpPr/>
            <p:nvPr/>
          </p:nvSpPr>
          <p:spPr>
            <a:xfrm>
              <a:off x="2819160" y="5734080"/>
              <a:ext cx="14475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Rectangle 9"/>
            <p:cNvSpPr/>
            <p:nvPr/>
          </p:nvSpPr>
          <p:spPr>
            <a:xfrm>
              <a:off x="1841400" y="5734080"/>
              <a:ext cx="9774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685800" y="5734080"/>
              <a:ext cx="11556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   1   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6171840" y="5322960"/>
              <a:ext cx="1981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5181480" y="5322960"/>
              <a:ext cx="990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4267080" y="5322960"/>
              <a:ext cx="9140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2819160" y="5322960"/>
              <a:ext cx="1447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1841400" y="5322960"/>
              <a:ext cx="97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685800" y="5322960"/>
              <a:ext cx="1155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   1   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6171840" y="4910040"/>
              <a:ext cx="19810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5" name="Rectangle 18"/>
            <p:cNvSpPr/>
            <p:nvPr/>
          </p:nvSpPr>
          <p:spPr>
            <a:xfrm>
              <a:off x="5181480" y="4910040"/>
              <a:ext cx="9900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4267080" y="4910040"/>
              <a:ext cx="9140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2819160" y="4910040"/>
              <a:ext cx="1447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8" name="Rectangle 21"/>
            <p:cNvSpPr/>
            <p:nvPr/>
          </p:nvSpPr>
          <p:spPr>
            <a:xfrm>
              <a:off x="1841400" y="4910040"/>
              <a:ext cx="9774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685800" y="4910040"/>
              <a:ext cx="11556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   0   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Rectangle 23"/>
            <p:cNvSpPr/>
            <p:nvPr/>
          </p:nvSpPr>
          <p:spPr>
            <a:xfrm>
              <a:off x="6171840" y="4498920"/>
              <a:ext cx="1981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Rectangle 24"/>
            <p:cNvSpPr/>
            <p:nvPr/>
          </p:nvSpPr>
          <p:spPr>
            <a:xfrm>
              <a:off x="5181480" y="4498920"/>
              <a:ext cx="990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4267080" y="4498920"/>
              <a:ext cx="9140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2819160" y="4498920"/>
              <a:ext cx="1447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1841400" y="4498920"/>
              <a:ext cx="97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Rectangle 28"/>
            <p:cNvSpPr/>
            <p:nvPr/>
          </p:nvSpPr>
          <p:spPr>
            <a:xfrm>
              <a:off x="685800" y="4498920"/>
              <a:ext cx="1155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   0   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6171840" y="4086360"/>
              <a:ext cx="19810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5181480" y="4086360"/>
              <a:ext cx="9900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>
              <a:off x="4267080" y="4086360"/>
              <a:ext cx="91404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9" name="Rectangle 32"/>
            <p:cNvSpPr/>
            <p:nvPr/>
          </p:nvSpPr>
          <p:spPr>
            <a:xfrm>
              <a:off x="2819160" y="4086360"/>
              <a:ext cx="14475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>
              <a:off x="1841400" y="4086360"/>
              <a:ext cx="9774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1" name="Rectangle 34"/>
            <p:cNvSpPr/>
            <p:nvPr/>
          </p:nvSpPr>
          <p:spPr>
            <a:xfrm>
              <a:off x="685800" y="4086360"/>
              <a:ext cx="11556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   1   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2" name="Rectangle 35"/>
            <p:cNvSpPr/>
            <p:nvPr/>
          </p:nvSpPr>
          <p:spPr>
            <a:xfrm>
              <a:off x="6171840" y="3675240"/>
              <a:ext cx="1981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Rectangle 36"/>
            <p:cNvSpPr/>
            <p:nvPr/>
          </p:nvSpPr>
          <p:spPr>
            <a:xfrm>
              <a:off x="5181480" y="3675240"/>
              <a:ext cx="990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Rectangle 37"/>
            <p:cNvSpPr/>
            <p:nvPr/>
          </p:nvSpPr>
          <p:spPr>
            <a:xfrm>
              <a:off x="4267080" y="3675240"/>
              <a:ext cx="9140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5" name="Rectangle 38"/>
            <p:cNvSpPr/>
            <p:nvPr/>
          </p:nvSpPr>
          <p:spPr>
            <a:xfrm>
              <a:off x="2819160" y="3675240"/>
              <a:ext cx="1447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6" name="Rectangle 39"/>
            <p:cNvSpPr/>
            <p:nvPr/>
          </p:nvSpPr>
          <p:spPr>
            <a:xfrm>
              <a:off x="1841400" y="3675240"/>
              <a:ext cx="97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Rectangle 40"/>
            <p:cNvSpPr/>
            <p:nvPr/>
          </p:nvSpPr>
          <p:spPr>
            <a:xfrm>
              <a:off x="685800" y="3675240"/>
              <a:ext cx="1155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   1   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Rectangle 41"/>
            <p:cNvSpPr/>
            <p:nvPr/>
          </p:nvSpPr>
          <p:spPr>
            <a:xfrm>
              <a:off x="6171840" y="3262320"/>
              <a:ext cx="19810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Rectangle 42"/>
            <p:cNvSpPr/>
            <p:nvPr/>
          </p:nvSpPr>
          <p:spPr>
            <a:xfrm>
              <a:off x="5181480" y="3262320"/>
              <a:ext cx="9900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0" name="Rectangle 43"/>
            <p:cNvSpPr/>
            <p:nvPr/>
          </p:nvSpPr>
          <p:spPr>
            <a:xfrm>
              <a:off x="4267080" y="3262320"/>
              <a:ext cx="9140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1" name="Rectangle 44"/>
            <p:cNvSpPr/>
            <p:nvPr/>
          </p:nvSpPr>
          <p:spPr>
            <a:xfrm>
              <a:off x="2819160" y="3262320"/>
              <a:ext cx="1447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Rectangle 45"/>
            <p:cNvSpPr/>
            <p:nvPr/>
          </p:nvSpPr>
          <p:spPr>
            <a:xfrm>
              <a:off x="1841400" y="3262320"/>
              <a:ext cx="9774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3" name="Rectangle 46"/>
            <p:cNvSpPr/>
            <p:nvPr/>
          </p:nvSpPr>
          <p:spPr>
            <a:xfrm>
              <a:off x="685800" y="3262320"/>
              <a:ext cx="11556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   0   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Rectangle 47"/>
            <p:cNvSpPr/>
            <p:nvPr/>
          </p:nvSpPr>
          <p:spPr>
            <a:xfrm>
              <a:off x="6171840" y="2851200"/>
              <a:ext cx="19810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Rectangle 48"/>
            <p:cNvSpPr/>
            <p:nvPr/>
          </p:nvSpPr>
          <p:spPr>
            <a:xfrm>
              <a:off x="5181480" y="2851200"/>
              <a:ext cx="990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Rectangle 49"/>
            <p:cNvSpPr/>
            <p:nvPr/>
          </p:nvSpPr>
          <p:spPr>
            <a:xfrm>
              <a:off x="4267080" y="2851200"/>
              <a:ext cx="9140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Rectangle 50"/>
            <p:cNvSpPr/>
            <p:nvPr/>
          </p:nvSpPr>
          <p:spPr>
            <a:xfrm>
              <a:off x="2819160" y="2851200"/>
              <a:ext cx="14475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8" name="Rectangle 51"/>
            <p:cNvSpPr/>
            <p:nvPr/>
          </p:nvSpPr>
          <p:spPr>
            <a:xfrm>
              <a:off x="1841400" y="2851200"/>
              <a:ext cx="9774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Rectangle 52"/>
            <p:cNvSpPr/>
            <p:nvPr/>
          </p:nvSpPr>
          <p:spPr>
            <a:xfrm>
              <a:off x="685800" y="2851200"/>
              <a:ext cx="11556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0   0   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0" name="Rectangle 53"/>
            <p:cNvSpPr/>
            <p:nvPr/>
          </p:nvSpPr>
          <p:spPr>
            <a:xfrm>
              <a:off x="6171840" y="2438280"/>
              <a:ext cx="198108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B) 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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C)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1" name="Rectangle 54"/>
            <p:cNvSpPr/>
            <p:nvPr/>
          </p:nvSpPr>
          <p:spPr>
            <a:xfrm>
              <a:off x="5181480" y="2438280"/>
              <a:ext cx="9900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Rectangle 55"/>
            <p:cNvSpPr/>
            <p:nvPr/>
          </p:nvSpPr>
          <p:spPr>
            <a:xfrm>
              <a:off x="4267080" y="2438280"/>
              <a:ext cx="91404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Rectangle 56"/>
            <p:cNvSpPr/>
            <p:nvPr/>
          </p:nvSpPr>
          <p:spPr>
            <a:xfrm>
              <a:off x="2819160" y="2438280"/>
              <a:ext cx="14475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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(B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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C)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1841400" y="2438280"/>
              <a:ext cx="9774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B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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5" name="Rectangle 58"/>
            <p:cNvSpPr/>
            <p:nvPr/>
          </p:nvSpPr>
          <p:spPr>
            <a:xfrm>
              <a:off x="685800" y="2438280"/>
              <a:ext cx="11556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A   B   C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59"/>
            <p:cNvSpPr/>
            <p:nvPr/>
          </p:nvSpPr>
          <p:spPr>
            <a:xfrm>
              <a:off x="685800" y="2438280"/>
              <a:ext cx="7467480" cy="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60"/>
            <p:cNvSpPr/>
            <p:nvPr/>
          </p:nvSpPr>
          <p:spPr>
            <a:xfrm>
              <a:off x="685800" y="326232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8" name="Line 61"/>
            <p:cNvSpPr/>
            <p:nvPr/>
          </p:nvSpPr>
          <p:spPr>
            <a:xfrm>
              <a:off x="685800" y="367524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9" name="Line 62"/>
            <p:cNvSpPr/>
            <p:nvPr/>
          </p:nvSpPr>
          <p:spPr>
            <a:xfrm>
              <a:off x="685800" y="408636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63"/>
            <p:cNvSpPr/>
            <p:nvPr/>
          </p:nvSpPr>
          <p:spPr>
            <a:xfrm>
              <a:off x="685800" y="449892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1" name="Line 64"/>
            <p:cNvSpPr/>
            <p:nvPr/>
          </p:nvSpPr>
          <p:spPr>
            <a:xfrm>
              <a:off x="685800" y="491004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2" name="Line 65"/>
            <p:cNvSpPr/>
            <p:nvPr/>
          </p:nvSpPr>
          <p:spPr>
            <a:xfrm>
              <a:off x="685800" y="532296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66"/>
            <p:cNvSpPr/>
            <p:nvPr/>
          </p:nvSpPr>
          <p:spPr>
            <a:xfrm>
              <a:off x="685800" y="573408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67"/>
            <p:cNvSpPr/>
            <p:nvPr/>
          </p:nvSpPr>
          <p:spPr>
            <a:xfrm>
              <a:off x="685800" y="6146640"/>
              <a:ext cx="7467480" cy="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5" name="Line 68"/>
            <p:cNvSpPr/>
            <p:nvPr/>
          </p:nvSpPr>
          <p:spPr>
            <a:xfrm>
              <a:off x="685800" y="2438280"/>
              <a:ext cx="0" cy="370836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6" name="Line 69"/>
            <p:cNvSpPr/>
            <p:nvPr/>
          </p:nvSpPr>
          <p:spPr>
            <a:xfrm>
              <a:off x="281916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70"/>
            <p:cNvSpPr/>
            <p:nvPr/>
          </p:nvSpPr>
          <p:spPr>
            <a:xfrm>
              <a:off x="426708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Line 71"/>
            <p:cNvSpPr/>
            <p:nvPr/>
          </p:nvSpPr>
          <p:spPr>
            <a:xfrm>
              <a:off x="518148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Line 72"/>
            <p:cNvSpPr/>
            <p:nvPr/>
          </p:nvSpPr>
          <p:spPr>
            <a:xfrm>
              <a:off x="617184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73"/>
            <p:cNvSpPr/>
            <p:nvPr/>
          </p:nvSpPr>
          <p:spPr>
            <a:xfrm>
              <a:off x="8153280" y="2438280"/>
              <a:ext cx="0" cy="3708360"/>
            </a:xfrm>
            <a:prstGeom prst="line">
              <a:avLst/>
            </a:prstGeom>
            <a:ln cap="sq"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74"/>
            <p:cNvSpPr/>
            <p:nvPr/>
          </p:nvSpPr>
          <p:spPr>
            <a:xfrm>
              <a:off x="1841400" y="2438280"/>
              <a:ext cx="0" cy="3708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2" name="Line 75"/>
            <p:cNvSpPr/>
            <p:nvPr/>
          </p:nvSpPr>
          <p:spPr>
            <a:xfrm>
              <a:off x="685800" y="2851200"/>
              <a:ext cx="74674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D42F-B1CF-4655-8A29-C1A666936C0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048D-3A9C-4192-A553-6963E76162F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et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very logical expression can be transformed into an equivalent expression in set theory and vice vers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1583-1C53-46C8-AA37-0D10341A30B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256B-5189-4983-BD58-9767E86BCBD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t Eq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ts A and B are equal if and only if they contain exactly the same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57200" y="2971800"/>
            <a:ext cx="6019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9, 2, 7, -3}, B = {7, 9, -3, 2} 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781680" y="29718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 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457200" y="365760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dog, cat, horse}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B = {cat, horse, squirrel, dog} 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781680" y="411480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57200" y="472428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dog, cat, horse}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B = {cat, horse, dog, dog} 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81680" y="51814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 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A3B8-C0F7-4978-A0D2-15587C66AED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953C-799E-4C30-864A-15DA7F1A24B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amples for 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andard” Set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atural numb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0, 1, 2, 3, …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teg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…, -2, -1, 0, 1, 2, …}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itive Integ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1, 2, 3, 4, …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al Numb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47.3, -12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ational Number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1.5, 2.6, -3.8, 15, …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correct definition will follow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43CC-566B-40CD-A901-8D21F304D5F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0C13-D167-4EF1-91FE-6E52D0F2767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amples for 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empty set/null set”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z}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ote: z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, but z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{z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{b, c}, {c, x, d}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{x, y}}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ote: {x, y}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, but {x, y}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{{x, y}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x | P(x)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set of all x such that P(x)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82680" indent="-382680"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x |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&gt; 7} = {8, 9, 10, …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set builder notation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8D7E-1C53-4780-B737-E5BF2B06A4F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05F3-61C1-4196-A92A-B56A074C411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xamples for 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e are now able to define the set of rational numbers Q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a/b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a/b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}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d how about the set of real numbers 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{r | r is a real number}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at is the best we can d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EDEA-74E0-4CEE-B599-86006C2C5F6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2B6F-B5AF-4779-AE3E-498A0525DAD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b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       “A is a subset of B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if and only if every element of A is also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an element of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e can completely formalize thi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57200" y="4114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3, 9}, B = {5, 9, 1, 3},          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391520" y="4114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57200" y="48006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3, 3, 3, 9}, B = {5, 9, 1, 3},  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391520" y="5486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391520" y="4800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54864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{1, 2, 3}, B = {2, 3, 4},           A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4C8-5488-4364-A152-09871D81D8B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26A9-12AD-4DC2-85A4-580083836A0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b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eful ru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= 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B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B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see Venn Diagram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1676520" y="2666880"/>
            <a:ext cx="5638680" cy="3505320"/>
            <a:chOff x="1676520" y="2666880"/>
            <a:chExt cx="5638680" cy="3505320"/>
          </a:xfrm>
        </p:grpSpPr>
        <p:sp>
          <p:nvSpPr>
            <p:cNvPr id="94" name="Rectangle 5"/>
            <p:cNvSpPr/>
            <p:nvPr/>
          </p:nvSpPr>
          <p:spPr>
            <a:xfrm>
              <a:off x="1676520" y="2666880"/>
              <a:ext cx="5638680" cy="3505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6629400" y="27432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96" name="Group 7"/>
          <p:cNvGrpSpPr/>
          <p:nvPr/>
        </p:nvGrpSpPr>
        <p:grpSpPr>
          <a:xfrm>
            <a:off x="3962520" y="3962520"/>
            <a:ext cx="914400" cy="914400"/>
            <a:chOff x="3962520" y="3962520"/>
            <a:chExt cx="914400" cy="914400"/>
          </a:xfrm>
        </p:grpSpPr>
        <p:sp>
          <p:nvSpPr>
            <p:cNvPr id="97" name="Oval 8"/>
            <p:cNvSpPr/>
            <p:nvPr/>
          </p:nvSpPr>
          <p:spPr>
            <a:xfrm>
              <a:off x="3962520" y="3962520"/>
              <a:ext cx="914400" cy="91440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8" name="Text Box 9"/>
            <p:cNvSpPr/>
            <p:nvPr/>
          </p:nvSpPr>
          <p:spPr>
            <a:xfrm>
              <a:off x="4191120" y="4114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99" name="Group 10"/>
          <p:cNvGrpSpPr/>
          <p:nvPr/>
        </p:nvGrpSpPr>
        <p:grpSpPr>
          <a:xfrm>
            <a:off x="3124080" y="3276720"/>
            <a:ext cx="2059200" cy="2052360"/>
            <a:chOff x="3124080" y="3276720"/>
            <a:chExt cx="2059200" cy="2052360"/>
          </a:xfrm>
        </p:grpSpPr>
        <p:sp>
          <p:nvSpPr>
            <p:cNvPr id="100" name="Oval 11"/>
            <p:cNvSpPr/>
            <p:nvPr/>
          </p:nvSpPr>
          <p:spPr>
            <a:xfrm>
              <a:off x="3124080" y="3276720"/>
              <a:ext cx="2059200" cy="205236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1" name="Text Box 12"/>
            <p:cNvSpPr/>
            <p:nvPr/>
          </p:nvSpPr>
          <p:spPr>
            <a:xfrm>
              <a:off x="3429000" y="3809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ff33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02" name="Group 13"/>
          <p:cNvGrpSpPr/>
          <p:nvPr/>
        </p:nvGrpSpPr>
        <p:grpSpPr>
          <a:xfrm>
            <a:off x="2819520" y="2971800"/>
            <a:ext cx="3429000" cy="2819520"/>
            <a:chOff x="2819520" y="2971800"/>
            <a:chExt cx="3429000" cy="2819520"/>
          </a:xfrm>
        </p:grpSpPr>
        <p:sp>
          <p:nvSpPr>
            <p:cNvPr id="103" name="Oval 14"/>
            <p:cNvSpPr/>
            <p:nvPr/>
          </p:nvSpPr>
          <p:spPr>
            <a:xfrm>
              <a:off x="2819520" y="2971800"/>
              <a:ext cx="3429000" cy="2819520"/>
            </a:xfrm>
            <a:prstGeom prst="ellipse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4" name="Text Box 15"/>
            <p:cNvSpPr/>
            <p:nvPr/>
          </p:nvSpPr>
          <p:spPr>
            <a:xfrm>
              <a:off x="5486400" y="40384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cc"/>
                  </a:solidFill>
                  <a:latin typeface="Comic Sans MS"/>
                </a:rPr>
                <a:t>C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4F89-8FB1-4676-BFF9-AE51F14CEC2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98BF-F27D-46C8-823D-99F509714C4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bse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eful ru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or any set A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for any set 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oper subset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“A is a proper subset of B”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19:59Z</dcterms:modified>
  <cp:revision>33</cp:revision>
  <dc:subject/>
  <dc:title>PowerPoint Presentation</dc:title>
</cp:coreProperties>
</file>