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A9F2-0A0D-452E-B81D-7717CBF27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A26A-DF6A-4639-9542-8A2CF6667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B18C-3AF6-48C3-9517-9D6B37865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6AD5-35FF-4AEC-ACA8-D7ED4E0EA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B9243D-2C72-4D11-A0FB-CD03AFAEC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17DEE5-1DC6-4DD0-A6FA-0B3B3D461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B6D21F-35FF-4210-A507-C6D034252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F625E4-49B0-4B34-9960-5FE5B0323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A07FD4-2DF3-4CB8-BB1E-F95764B21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35B7E0-F1EF-489D-BCE1-4CE44AD5D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CE0087-C0AF-44C5-B0DC-7C469FD62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5D61-F73F-4C5C-B05B-93B41737E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4CA69C-395A-41D7-A5CE-71CE880AE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FE9F11-A546-4FCE-B0C1-F7EFA5E03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643BAB-C7F6-487F-846B-D2DF16CEF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BBEF6F-651C-48F4-AEFE-1046CCB34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8C38CC-C0CB-4355-AF78-D1D1D4628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15F2-9BDD-463C-82D8-EB48942AB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212D-BD8F-487B-BC90-AE6F65ED0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F458-7728-4CC6-AE65-349E1F582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AEA2-8923-4B8F-9B55-C8FCADC09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535C-7687-43EA-8709-97CBF8A0E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30E2-E72F-4B89-A6CA-8D603D9C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95F7-5747-4309-B501-A2FFA2EE1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8D9F5-F4D9-4955-A291-F4D484162CC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FB868-E650-4A5E-85BC-7D53582E87A6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Shoulder Instabil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28400" y="2857680"/>
            <a:ext cx="8258040" cy="31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ented b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.Abdulrahman Algarn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reatmen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y cases are best treated by physiotherapy. Surgery is indicated with recurrent traumatic or persistent atrumatic instability with no gross joint laxity. Recurrence is upto 50%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se include :                                         -Posterior capsulorraphy.                         -Posterior bone block.                             -Posterior glenoid osteotomy with excessive glenoid retroversio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ultidirectional Insabil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ually atraumatic ,bilateral , associated with ligamentous laxity and sometimes weakness of shoulder muscles.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nical Featur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Difficult to diagnose with certainty , but is suggested when both anterior &amp; posterior drawer , apprehension test and sulcus sign are positive often with joint laxity elsewhere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reatmen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Physiotherapy                                         -Surgical treatment :                               -Arthroscopic thermal capsular shrinkage   -Inferior capsular shift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ٍ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oulder is the most commonly dislocated joint .In 95% the displacement is anterior and the remainder is posterior or multidirection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atomy and biomechanic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Static and Dynamic Restriants .                   Static include glenoid labrum,articular conformity,negative pressure,capsule and capsuloligamentous structures.  The Ant   capsule is tight during Ext Rot &amp; the Post  during Int Rot.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se include CHL and SGHL:limit Inf Trans &amp; Ex Rot(Add),Post Trans(Flex,Add,Int Rot) . MGHL limit Inf Trans(Add,Ex Rot) ,Ex Rot (Add), Ant-Post Trans (45 Abd,Ex Rot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IGHLC is the primary restraint to Ant,Pos,and Inf Trans (45-90 Abd). The Dynamic restraints include joint concavity compression produced by synchronised contraction of Rotator Cuff.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terior Instabil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osterior Instabil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Many cases are atraumatic . Acute post dislocation is rare ,history of epilpsy or severe electric shock +/-  fracture of the proximal humerus or indent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iagnosi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In the acute stage : held in Int Rot  &amp;  resist Ex Rot. AP X-Ray : light-bulb appearance of proximal humerus and Axillary veiw  if abduction is possib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Recurrent instability is almost always a posterior subluxation when the arm is held in Flex &amp; Int Rot.                                    + posterior drawer test                           + posterior apprehension test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4T06:24:46Z</dcterms:created>
  <dc:creator>nec</dc:creator>
  <dc:description/>
  <dc:language>en-US</dc:language>
  <cp:lastModifiedBy>dell</cp:lastModifiedBy>
  <dcterms:modified xsi:type="dcterms:W3CDTF">2009-03-06T15:42:31Z</dcterms:modified>
  <cp:revision>23</cp:revision>
  <dc:subject/>
  <dc:title>الشريحة 1</dc:title>
</cp:coreProperties>
</file>