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1A3C-5B8E-4C36-B703-44EA2B39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EE64-37F4-40CD-A6AD-082376A0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94EC-5C65-42AB-953D-099111BD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48F9-04B5-4D54-A996-B6C93E9B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ADD3B-12C3-4A5F-BCE3-20BC43F9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38942-3294-4944-8478-5D397DB1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9365D-CDEF-46DF-BF7D-BE102C13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D36C1-8A2E-49C5-AC37-0150EB33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58583-458F-46A5-AAF3-584D340C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8A90F-3CF6-4D91-B18E-9652633B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D6E34-A973-4EDC-8B3C-699904D1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922E-E190-45B8-8CDC-01B2D687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B8C0C-44C4-441F-AE7D-620CFB71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14E95-E710-4813-81A0-88584BC8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D9431-1CF5-45F8-A4FC-FC59DE25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9B53E-E787-47E7-B0E8-8D471A53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C1916-5567-4498-AB9A-622373C4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A68A-67CE-433B-8A4A-48E7C696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1D0D-2C13-476F-909C-B1020E9C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7F55-1095-4206-BD28-A3669446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C57E-A7E2-4217-82C8-800F5AA3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7DA1-BD1E-46AF-A671-003F5437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3E57-E708-4F1E-AA85-AE908167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DD87-6740-4AD4-A636-0E0F59FD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D0DC-67D3-4814-A2A2-A84AF8A26F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F9D8-E471-484E-8A3E-A417C0F293E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Shoulder Instabi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28400" y="2857680"/>
            <a:ext cx="8258040" cy="31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ed b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.Abdulrahman Algar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cases are best treated by physiotherapy. Surgery is indicated with recurrent traumatic or persistent atrumatic instability with no gross joint laxity. Recurrence is upto 50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include :                                         -Posterior capsulorraphy.                         -Posterior bone block.                             -Posterior glenoid osteotomy with excessive glenoid retrovers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ultidirectional Insabi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atraumatic ,bilateral , associated with ligamentous laxity and sometimes weakness of shoulder muscles.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nical Featur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Difficult to diagnose with certainty , but is suggested when both anterior &amp; posterior drawer , apprehension test and sulcus sign are positive often with joint laxity elsewhere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Physiotherapy                                         -Surgical treatment :                               -Arthroscopic thermal capsular shrinkage   -Inferior capsular shift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ulder is the most commonly dislocated joint .In 95% the displacement is anterior and the remainder is posterior or multidirectio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atomy and biomechanic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tatic and Dynamic Restriants .                   Static include glenoid labrum,articular conformity,negative pressure,capsule and capsuloligamentous structures.  The Ant   capsule is tight during Ext Rot &amp; the Post  during Int Rot.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include CHL and SGHL:limit Inf Trans &amp; Ex Rot(Add),Post Trans(Flex,Add,Int Rot) . MGHL limit Inf Trans(Add,Ex Rot) ,Ex Rot (Add), Ant-Post Trans (45 Abd,Ex Ro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GHLC is the primary restraint to Ant,Pos,and Inf Trans (45-90 Abd). The Dynamic restraints include joint concavity compression produced by synchronised contraction of Rotator Cuff.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terior Instabi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sterior Instabi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any cases are atraumatic . Acute post dislocation is rare ,history of epilpsy or severe electric shock +/-  fracture of the proximal humerus or indent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agno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In the acute stage : held in Int Rot  &amp;  resist Ex Rot. AP X-Ray : light-bulb appearance of proximal humerus and Axillary veiw  if abduction is possi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ecurrent instability is almost always a posterior subluxation when the arm is held in Flex &amp; Int Rot.                                    + posterior drawer test                           + posterior apprehension test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06:24:46Z</dcterms:created>
  <dc:creator>nec</dc:creator>
  <dc:description/>
  <dc:language>en-US</dc:language>
  <cp:lastModifiedBy>dell</cp:lastModifiedBy>
  <dcterms:modified xsi:type="dcterms:W3CDTF">2009-03-06T15:42:31Z</dcterms:modified>
  <cp:revision>23</cp:revision>
  <dc:subject/>
  <dc:title>الشريحة 1</dc:title>
</cp:coreProperties>
</file>