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wmf" ContentType="image/x-wmf"/>
  <Override PartName="/ppt/media/image27.wmf" ContentType="image/x-wmf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6A8BC-791E-4DEB-92B0-69F9C19B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9842-46BB-4145-BC33-F94A5F85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8AA4-F9FD-45D7-86F6-94C8BDEC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BEAE-DA07-4F76-B1F3-76213956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D3CD-EF8D-4247-9C42-76D63DE5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0223-212D-45E8-A449-F3391E07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F896-95D3-4A1B-BEC7-1D4FE8E8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85BB-6946-4B29-909E-73F7900D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1F1A-9E04-41D0-ADDF-AB70BC82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B0B3-8C28-4D36-889A-F4667F7C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DDE5-9F49-4827-9F3B-15E24D80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4E9E-0F13-473E-ACAC-C1C33A3C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82E3-35ED-4AE0-9212-F76B61D6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A87F-9808-4F9C-B85F-F28D31E4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50FC-BB01-49AC-8C2D-79790377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2EF4-A411-4BC3-A51C-9A92A9C3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EA92-68E8-4AC6-9010-EC5E0AF2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6916A-960A-481E-B95F-F67E326C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ACB3-F2B3-4CA2-80CA-CAD17E7F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040D3-2208-4865-8A85-3F94E130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1EB5-34A7-4A96-ACE9-434BA79C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9486C-35E9-42E0-B110-D1867CB1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3BC8-1100-41F3-8F50-AB477CF7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B283-EAC8-45F9-859E-5047BAAF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44E4-7809-41F3-86FE-B258EFF8A1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ED01-FFD6-4AE0-AB8A-279C30FDB0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houlder physical examination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bdulaziz Alomar, MD, MSc FRCS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stant Professor and consultant Orthopaedic surge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KUH, K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7" descr="ext lag sign a"/>
          <p:cNvPicPr/>
          <p:nvPr/>
        </p:nvPicPr>
        <p:blipFill>
          <a:blip r:embed="rId1"/>
          <a:stretch/>
        </p:blipFill>
        <p:spPr>
          <a:xfrm>
            <a:off x="457200" y="2162160"/>
            <a:ext cx="4038480" cy="340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ext lag sign b"/>
          <p:cNvPicPr/>
          <p:nvPr/>
        </p:nvPicPr>
        <p:blipFill>
          <a:blip r:embed="rId2"/>
          <a:stretch/>
        </p:blipFill>
        <p:spPr>
          <a:xfrm>
            <a:off x="4648320" y="2095560"/>
            <a:ext cx="4038480" cy="3535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2771280" y="57340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xternal Rotation Lag 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552040" y="580536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ft-off Test (Lag Sig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9" descr="Liftoff-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Liftoff-No-Drop-1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0920" y="640080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eer’s impingement sign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8" descr="Neer-Impingement"/>
          <p:cNvPicPr/>
          <p:nvPr/>
        </p:nvPicPr>
        <p:blipFill>
          <a:blip r:embed="rId1"/>
          <a:stretch/>
        </p:blipFill>
        <p:spPr>
          <a:xfrm>
            <a:off x="1042920" y="1052640"/>
            <a:ext cx="7215120" cy="54115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2"/>
          <p:cNvSpPr/>
          <p:nvPr/>
        </p:nvSpPr>
        <p:spPr>
          <a:xfrm rot="18847800">
            <a:off x="3771720" y="34365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Picture 7" descr="internal impengemnt2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2978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internal impengment 1"/>
          <p:cNvPicPr/>
          <p:nvPr/>
        </p:nvPicPr>
        <p:blipFill>
          <a:blip r:embed="rId2"/>
          <a:stretch/>
        </p:blipFill>
        <p:spPr>
          <a:xfrm>
            <a:off x="4648320" y="231300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693440" y="5589720"/>
            <a:ext cx="60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ternal Rotation Resistance Stress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626200" y="587700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awkin’s impingement tes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19" descr="Hawkins-Impingement"/>
          <p:cNvPicPr/>
          <p:nvPr/>
        </p:nvPicPr>
        <p:blipFill>
          <a:blip r:embed="rId1"/>
          <a:stretch/>
        </p:blipFill>
        <p:spPr>
          <a:xfrm>
            <a:off x="1547640" y="126828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0"/>
          <p:cNvSpPr/>
          <p:nvPr/>
        </p:nvSpPr>
        <p:spPr>
          <a:xfrm>
            <a:off x="4284720" y="4869000"/>
            <a:ext cx="257040" cy="609480"/>
          </a:xfrm>
          <a:prstGeom prst="downArrow">
            <a:avLst>
              <a:gd name="adj1" fmla="val 50000"/>
              <a:gd name="adj2" fmla="val 5927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689720" cy="463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3639600" y="60930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mpty Can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LAX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277440" y="6237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ulcus 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10" descr="Sulcus-Sign"/>
          <p:cNvPicPr/>
          <p:nvPr/>
        </p:nvPicPr>
        <p:blipFill>
          <a:blip r:embed="rId1"/>
          <a:stretch/>
        </p:blipFill>
        <p:spPr>
          <a:xfrm>
            <a:off x="1571760" y="137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5219640" y="5300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TRANSLATION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ant-post-laxity"/>
          <p:cNvPicPr/>
          <p:nvPr/>
        </p:nvPicPr>
        <p:blipFill>
          <a:blip r:embed="rId1"/>
          <a:stretch/>
        </p:blipFill>
        <p:spPr>
          <a:xfrm>
            <a:off x="2050920" y="184464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5638680" y="46483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4191120" y="480060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59960" y="61657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Garamond"/>
              </a:rPr>
              <a:t>Anterior and posterior dra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TRANSLATION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111120" y="596736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oad and Shift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278520" y="59500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pprehens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10" descr="Neer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1"/>
          <p:cNvSpPr/>
          <p:nvPr/>
        </p:nvSpPr>
        <p:spPr>
          <a:xfrm>
            <a:off x="5724360" y="4005360"/>
            <a:ext cx="719280" cy="287280"/>
          </a:xfrm>
          <a:prstGeom prst="leftArrow">
            <a:avLst>
              <a:gd name="adj1" fmla="val 50000"/>
              <a:gd name="adj2" fmla="val 625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6084720" y="270828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al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or cuf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 joi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ingement syndr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ce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L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oracic outlet Syndro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104560" y="56088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locat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6283080" y="5608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lease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15" descr="Relocation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Relocation-Hand-off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276720" y="616572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 Crank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716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124720" y="573408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O’Brien’s Active Compress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16" descr="Active-Compression-1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Active-Compression-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9"/>
          <p:cNvSpPr/>
          <p:nvPr/>
        </p:nvSpPr>
        <p:spPr>
          <a:xfrm>
            <a:off x="2050920" y="350028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AutoShape 20"/>
          <p:cNvSpPr/>
          <p:nvPr/>
        </p:nvSpPr>
        <p:spPr>
          <a:xfrm>
            <a:off x="6156360" y="364500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2" name="Picture 13" descr="pain provacative test 1"/>
          <p:cNvPicPr/>
          <p:nvPr/>
        </p:nvPicPr>
        <p:blipFill>
          <a:blip r:embed="rId1"/>
          <a:stretch/>
        </p:blipFill>
        <p:spPr>
          <a:xfrm>
            <a:off x="457200" y="2222640"/>
            <a:ext cx="4038480" cy="3279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pain provacative test 2"/>
          <p:cNvPicPr/>
          <p:nvPr/>
        </p:nvPicPr>
        <p:blipFill>
          <a:blip r:embed="rId2"/>
          <a:stretch/>
        </p:blipFill>
        <p:spPr>
          <a:xfrm>
            <a:off x="4648320" y="2173320"/>
            <a:ext cx="4038480" cy="3379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5"/>
          <p:cNvSpPr/>
          <p:nvPr/>
        </p:nvSpPr>
        <p:spPr>
          <a:xfrm>
            <a:off x="2841480" y="585144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pain provocation t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763640" y="55785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p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6012000" y="5589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ro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Picture 4" descr="Compression-Rotation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972160" y="623880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Garamond"/>
              </a:rPr>
              <a:t>Compression / rotat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904000" cy="4719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348000" y="6165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biceps load t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AC joi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464360" cy="52578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3924360" y="6400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carf 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Bic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7" name="Picture 5" descr="speed"/>
          <p:cNvPicPr/>
          <p:nvPr/>
        </p:nvPicPr>
        <p:blipFill>
          <a:blip r:embed="rId1"/>
          <a:stretch/>
        </p:blipFill>
        <p:spPr>
          <a:xfrm>
            <a:off x="1959120" y="1600200"/>
            <a:ext cx="5225760" cy="45259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710160" y="623736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peed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Bic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203640" y="623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ergason’s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di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bacromial impin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otator cuff rup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LAP Le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erior labral anterior-poster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pecial Tests - Insta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lcus 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4" descr="Sulcus-Sign"/>
          <p:cNvPicPr/>
          <p:nvPr/>
        </p:nvPicPr>
        <p:blipFill>
          <a:blip r:embed="rId1"/>
          <a:stretch/>
        </p:blipFill>
        <p:spPr>
          <a:xfrm>
            <a:off x="1905120" y="17524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5"/>
          <p:cNvSpPr/>
          <p:nvPr/>
        </p:nvSpPr>
        <p:spPr>
          <a:xfrm>
            <a:off x="5257800" y="556272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or cuff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OR CUFF INTEGR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ve ROM + strength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raspinat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raspina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capular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res min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g s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24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ubscapular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5" descr="Picture2"/>
          <p:cNvPicPr/>
          <p:nvPr/>
        </p:nvPicPr>
        <p:blipFill>
          <a:blip r:embed="rId1"/>
          <a:stretch/>
        </p:blipFill>
        <p:spPr>
          <a:xfrm>
            <a:off x="846000" y="1600200"/>
            <a:ext cx="32608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219640" y="6021360"/>
            <a:ext cx="36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ft-off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405800" y="60930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elly Press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11" descr="Liftoff-1"/>
          <p:cNvPicPr/>
          <p:nvPr/>
        </p:nvPicPr>
        <p:blipFill>
          <a:blip r:embed="rId2"/>
          <a:stretch/>
        </p:blipFill>
        <p:spPr>
          <a:xfrm>
            <a:off x="4572000" y="1916280"/>
            <a:ext cx="43210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upraspinatu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419640" y="609300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Jobe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9" descr="jobesimpingement-new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0"/>
          <p:cNvSpPr/>
          <p:nvPr/>
        </p:nvSpPr>
        <p:spPr>
          <a:xfrm>
            <a:off x="3924360" y="321300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fraspinat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6" descr="infraspinatus"/>
          <p:cNvPicPr/>
          <p:nvPr/>
        </p:nvPicPr>
        <p:blipFill>
          <a:blip r:embed="rId1"/>
          <a:stretch/>
        </p:blipFill>
        <p:spPr>
          <a:xfrm>
            <a:off x="1476360" y="148428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Teres minor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6" descr="internal impengemnt2"/>
          <p:cNvPicPr/>
          <p:nvPr/>
        </p:nvPicPr>
        <p:blipFill>
          <a:blip r:embed="rId1"/>
          <a:stretch/>
        </p:blipFill>
        <p:spPr>
          <a:xfrm>
            <a:off x="2233440" y="2138400"/>
            <a:ext cx="46771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2800"/>
            </a:br>
            <a:r>
              <a:rPr b="0" lang="en-US" sz="40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279240" y="5445000"/>
            <a:ext cx="25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rop sig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1" descr="Drop-Sign-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Drop-Sign-3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0:00:33Z</dcterms:created>
  <dc:creator>Azoz</dc:creator>
  <dc:description/>
  <dc:language>en-US</dc:language>
  <cp:lastModifiedBy>Macbookpro</cp:lastModifiedBy>
  <dcterms:modified xsi:type="dcterms:W3CDTF">2012-03-10T19:02:24Z</dcterms:modified>
  <cp:revision>27</cp:revision>
  <dc:subject/>
  <dc:title>Shoulder physical examination </dc:title>
</cp:coreProperties>
</file>