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wmf" ContentType="image/x-wmf"/>
  <Override PartName="/ppt/media/image27.wmf" ContentType="image/x-wmf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CC79-0386-4332-B4AE-3E942514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68ED-F3BE-41F2-9ADE-940739A8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37AB5-6CE8-4145-9C52-97AFB750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EB90B-F944-4143-8E2D-08B5CE7D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C62E-0CB9-4D71-B8A0-FA638FBE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87FC-A9EB-4404-95F8-50343EE6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BE7E-836A-4A56-909D-5FB02E1B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E6AD-8F13-4D04-ADDD-3A1C8BF1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C8EE-354D-44CE-8629-E31167B4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93EC-1595-45C3-84D8-020AA9E3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6D6D-BFC6-47A6-8E22-796EEE3C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17DB-4D61-42FF-90DF-CB4B7606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C019-EB89-4C7B-A5A3-36F5BC0D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93A1-F12B-475C-9914-95D1E0F6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3E3F-5121-4763-9B0F-7FEB8F41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07AA-2434-4199-94C1-A0B052EC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635C-B076-4818-ABD6-6D5D93DD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DA1A2-B422-479B-A023-8F29D9E6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EBAD8-D95C-4D2E-9C45-C6FE3F99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1E903-F92E-4A39-B862-7D50CFB1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4DA7-D9DB-4DA2-8C8D-808BC570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EB335-7BDE-4464-AB75-C846750B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A1E7-4CFA-408A-BE15-27D8B479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218D-B51D-41DB-B9A6-76C91C51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D404-C756-4401-AA78-ACC079B305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C391-1BD9-4BCF-A1C7-1F2E0BFA4A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houlder physical examination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bdulaziz Alomar, MD, MSc FRCS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stant Professor and consultant Orthopaedic surge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KUH, K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7" descr="ext lag sign a"/>
          <p:cNvPicPr/>
          <p:nvPr/>
        </p:nvPicPr>
        <p:blipFill>
          <a:blip r:embed="rId1"/>
          <a:stretch/>
        </p:blipFill>
        <p:spPr>
          <a:xfrm>
            <a:off x="457200" y="2162160"/>
            <a:ext cx="4038480" cy="340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ext lag sign b"/>
          <p:cNvPicPr/>
          <p:nvPr/>
        </p:nvPicPr>
        <p:blipFill>
          <a:blip r:embed="rId2"/>
          <a:stretch/>
        </p:blipFill>
        <p:spPr>
          <a:xfrm>
            <a:off x="4648320" y="2095560"/>
            <a:ext cx="4038480" cy="3535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2771280" y="57340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xternal Rotation Lag 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552040" y="580536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ft-off Test (Lag Sig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9" descr="Liftoff-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Liftoff-No-Drop-1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0920" y="640080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eer’s impingement sign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8" descr="Neer-Impingement"/>
          <p:cNvPicPr/>
          <p:nvPr/>
        </p:nvPicPr>
        <p:blipFill>
          <a:blip r:embed="rId1"/>
          <a:stretch/>
        </p:blipFill>
        <p:spPr>
          <a:xfrm>
            <a:off x="1042920" y="1052640"/>
            <a:ext cx="7215120" cy="54115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2"/>
          <p:cNvSpPr/>
          <p:nvPr/>
        </p:nvSpPr>
        <p:spPr>
          <a:xfrm rot="18847800">
            <a:off x="3771720" y="34365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Picture 7" descr="internal impengemnt2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2978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internal impengment 1"/>
          <p:cNvPicPr/>
          <p:nvPr/>
        </p:nvPicPr>
        <p:blipFill>
          <a:blip r:embed="rId2"/>
          <a:stretch/>
        </p:blipFill>
        <p:spPr>
          <a:xfrm>
            <a:off x="4648320" y="231300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693440" y="5589720"/>
            <a:ext cx="60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ternal Rotation Resistance Stress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626200" y="587700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awkin’s impingement tes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19" descr="Hawkins-Impingement"/>
          <p:cNvPicPr/>
          <p:nvPr/>
        </p:nvPicPr>
        <p:blipFill>
          <a:blip r:embed="rId1"/>
          <a:stretch/>
        </p:blipFill>
        <p:spPr>
          <a:xfrm>
            <a:off x="1547640" y="126828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0"/>
          <p:cNvSpPr/>
          <p:nvPr/>
        </p:nvSpPr>
        <p:spPr>
          <a:xfrm>
            <a:off x="4284720" y="4869000"/>
            <a:ext cx="257040" cy="609480"/>
          </a:xfrm>
          <a:prstGeom prst="downArrow">
            <a:avLst>
              <a:gd name="adj1" fmla="val 50000"/>
              <a:gd name="adj2" fmla="val 5927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689720" cy="463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3639600" y="60930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mpty Can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LAX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277440" y="6237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ulcus 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10" descr="Sulcus-Sign"/>
          <p:cNvPicPr/>
          <p:nvPr/>
        </p:nvPicPr>
        <p:blipFill>
          <a:blip r:embed="rId1"/>
          <a:stretch/>
        </p:blipFill>
        <p:spPr>
          <a:xfrm>
            <a:off x="1571760" y="137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5219640" y="5300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TRANSLATION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ant-post-laxity"/>
          <p:cNvPicPr/>
          <p:nvPr/>
        </p:nvPicPr>
        <p:blipFill>
          <a:blip r:embed="rId1"/>
          <a:stretch/>
        </p:blipFill>
        <p:spPr>
          <a:xfrm>
            <a:off x="2050920" y="184464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5638680" y="46483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4191120" y="480060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59960" y="61657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Garamond"/>
              </a:rPr>
              <a:t>Anterior and posterior dra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TRANSLATION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111120" y="596736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oad and Shift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278520" y="59500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pprehens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10" descr="Neer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1"/>
          <p:cNvSpPr/>
          <p:nvPr/>
        </p:nvSpPr>
        <p:spPr>
          <a:xfrm>
            <a:off x="5724360" y="4005360"/>
            <a:ext cx="719280" cy="287280"/>
          </a:xfrm>
          <a:prstGeom prst="leftArrow">
            <a:avLst>
              <a:gd name="adj1" fmla="val 50000"/>
              <a:gd name="adj2" fmla="val 625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6084720" y="270828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al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or cuf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 joi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ingement syndr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ce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L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oracic outlet Syndro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104560" y="56088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locat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6283080" y="5608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lease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15" descr="Relocation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Relocation-Hand-off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276720" y="616572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 Crank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716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124720" y="573408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O’Brien’s Active Compress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16" descr="Active-Compression-1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Active-Compression-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9"/>
          <p:cNvSpPr/>
          <p:nvPr/>
        </p:nvSpPr>
        <p:spPr>
          <a:xfrm>
            <a:off x="2050920" y="350028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AutoShape 20"/>
          <p:cNvSpPr/>
          <p:nvPr/>
        </p:nvSpPr>
        <p:spPr>
          <a:xfrm>
            <a:off x="6156360" y="364500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2" name="Picture 13" descr="pain provacative test 1"/>
          <p:cNvPicPr/>
          <p:nvPr/>
        </p:nvPicPr>
        <p:blipFill>
          <a:blip r:embed="rId1"/>
          <a:stretch/>
        </p:blipFill>
        <p:spPr>
          <a:xfrm>
            <a:off x="457200" y="2222640"/>
            <a:ext cx="4038480" cy="3279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pain provacative test 2"/>
          <p:cNvPicPr/>
          <p:nvPr/>
        </p:nvPicPr>
        <p:blipFill>
          <a:blip r:embed="rId2"/>
          <a:stretch/>
        </p:blipFill>
        <p:spPr>
          <a:xfrm>
            <a:off x="4648320" y="2173320"/>
            <a:ext cx="4038480" cy="3379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5"/>
          <p:cNvSpPr/>
          <p:nvPr/>
        </p:nvSpPr>
        <p:spPr>
          <a:xfrm>
            <a:off x="2841480" y="585144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pain provocation t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763640" y="55785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p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6012000" y="5589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ro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Picture 4" descr="Compression-Rotation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972160" y="623880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Garamond"/>
              </a:rPr>
              <a:t>Compression / rotat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904000" cy="4719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348000" y="6165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biceps load t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AC joi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464360" cy="52578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3924360" y="6400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carf 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Bic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7" name="Picture 5" descr="speed"/>
          <p:cNvPicPr/>
          <p:nvPr/>
        </p:nvPicPr>
        <p:blipFill>
          <a:blip r:embed="rId1"/>
          <a:stretch/>
        </p:blipFill>
        <p:spPr>
          <a:xfrm>
            <a:off x="1959120" y="1600200"/>
            <a:ext cx="5225760" cy="45259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710160" y="623736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peed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Bic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203640" y="623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ergason’s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di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bacromial impin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otator cuff rup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LAP Le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erior labral anterior-poster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pecial Tests - Insta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lcus 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4" descr="Sulcus-Sign"/>
          <p:cNvPicPr/>
          <p:nvPr/>
        </p:nvPicPr>
        <p:blipFill>
          <a:blip r:embed="rId1"/>
          <a:stretch/>
        </p:blipFill>
        <p:spPr>
          <a:xfrm>
            <a:off x="1905120" y="17524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5"/>
          <p:cNvSpPr/>
          <p:nvPr/>
        </p:nvSpPr>
        <p:spPr>
          <a:xfrm>
            <a:off x="5257800" y="556272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or cuff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OR CUFF INTEGR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ve ROM + strength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raspinat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raspina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capular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res min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g s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24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ubscapular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5" descr="Picture2"/>
          <p:cNvPicPr/>
          <p:nvPr/>
        </p:nvPicPr>
        <p:blipFill>
          <a:blip r:embed="rId1"/>
          <a:stretch/>
        </p:blipFill>
        <p:spPr>
          <a:xfrm>
            <a:off x="846000" y="1600200"/>
            <a:ext cx="32608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219640" y="6021360"/>
            <a:ext cx="36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ft-off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405800" y="60930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elly Press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11" descr="Liftoff-1"/>
          <p:cNvPicPr/>
          <p:nvPr/>
        </p:nvPicPr>
        <p:blipFill>
          <a:blip r:embed="rId2"/>
          <a:stretch/>
        </p:blipFill>
        <p:spPr>
          <a:xfrm>
            <a:off x="4572000" y="1916280"/>
            <a:ext cx="43210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upraspinatu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419640" y="609300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Jobe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9" descr="jobesimpingement-new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0"/>
          <p:cNvSpPr/>
          <p:nvPr/>
        </p:nvSpPr>
        <p:spPr>
          <a:xfrm>
            <a:off x="3924360" y="321300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fraspinat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6" descr="infraspinatus"/>
          <p:cNvPicPr/>
          <p:nvPr/>
        </p:nvPicPr>
        <p:blipFill>
          <a:blip r:embed="rId1"/>
          <a:stretch/>
        </p:blipFill>
        <p:spPr>
          <a:xfrm>
            <a:off x="1476360" y="148428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Teres minor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6" descr="internal impengemnt2"/>
          <p:cNvPicPr/>
          <p:nvPr/>
        </p:nvPicPr>
        <p:blipFill>
          <a:blip r:embed="rId1"/>
          <a:stretch/>
        </p:blipFill>
        <p:spPr>
          <a:xfrm>
            <a:off x="2233440" y="2138400"/>
            <a:ext cx="46771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2800"/>
            </a:br>
            <a:r>
              <a:rPr b="0" lang="en-US" sz="40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279240" y="5445000"/>
            <a:ext cx="25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rop sig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1" descr="Drop-Sign-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Drop-Sign-3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0:00:33Z</dcterms:created>
  <dc:creator>Azoz</dc:creator>
  <dc:description/>
  <dc:language>en-US</dc:language>
  <cp:lastModifiedBy>Macbookpro</cp:lastModifiedBy>
  <dcterms:modified xsi:type="dcterms:W3CDTF">2012-03-10T19:02:24Z</dcterms:modified>
  <cp:revision>27</cp:revision>
  <dc:subject/>
  <dc:title>Shoulder physical examination </dc:title>
</cp:coreProperties>
</file>