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wmf" ContentType="image/x-wmf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ED03-6977-4FFC-93D6-00250500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B196-FABE-4CEF-828A-652B24CF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B84F-1F32-4947-A761-B12EEBA1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D644-C782-4F04-B234-650CFC89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8777-2F96-422C-A4BC-77DE47F5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4367-1BFC-4513-9914-C9DDA022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AAA6-AB20-4D51-8F0F-2743104F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9741-7CD1-4C2E-B773-646B64D9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94C9-CFFC-4082-844E-4EA50334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194-504E-42FA-A1C3-CD0988D6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4F36-D671-44B1-B510-66FA4DF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D278-CE7B-429E-BD74-01B23B38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61DD-6A32-4DAC-B49D-D22A8015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7C7C-2BA1-4526-83FB-130E94D0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CD3B-3DE7-468C-8D16-CA97E327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CF89-EDA8-4621-84BB-7BC98F7B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008E-1313-4396-8E85-07F78C7D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8B7D-8307-4685-943C-F30F288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7F7E-1E47-42C6-8D94-BD725E13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4641-2DC9-4E6C-9371-79BD8E5D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ED08-1FA7-423F-8167-BDF59C34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9C0B-630E-4600-B2CA-3A370A0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64AD-85A9-4AE8-B50D-6F33099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77CC-32E1-4B09-8916-F1CAE719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C3A8-7600-456A-B73E-16A86ED59F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7746-427C-4303-8D9B-E4C23DABCE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oulder physical examination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7" descr="ext lag sign a"/>
          <p:cNvPicPr/>
          <p:nvPr/>
        </p:nvPicPr>
        <p:blipFill>
          <a:blip r:embed="rId1"/>
          <a:stretch/>
        </p:blipFill>
        <p:spPr>
          <a:xfrm>
            <a:off x="457200" y="2162160"/>
            <a:ext cx="4038480" cy="340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xt lag sign b"/>
          <p:cNvPicPr/>
          <p:nvPr/>
        </p:nvPicPr>
        <p:blipFill>
          <a:blip r:embed="rId2"/>
          <a:stretch/>
        </p:blipFill>
        <p:spPr>
          <a:xfrm>
            <a:off x="4648320" y="2095560"/>
            <a:ext cx="4038480" cy="353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771280" y="57340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xternal Rotation Lag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52040" y="580536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 (Lag Sig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Liftoff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iftoff-No-Drop-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0920" y="64008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eer’s impingement sig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Neer-Impingement"/>
          <p:cNvPicPr/>
          <p:nvPr/>
        </p:nvPicPr>
        <p:blipFill>
          <a:blip r:embed="rId1"/>
          <a:stretch/>
        </p:blipFill>
        <p:spPr>
          <a:xfrm>
            <a:off x="1042920" y="1052640"/>
            <a:ext cx="7215120" cy="5411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2"/>
          <p:cNvSpPr/>
          <p:nvPr/>
        </p:nvSpPr>
        <p:spPr>
          <a:xfrm rot="18847800">
            <a:off x="3771720" y="34365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7" descr="internal impengemnt2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297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nternal impengment 1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693440" y="558972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ernal Rotation Resistance Stres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26200" y="58770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wkin’s impingement t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9" descr="Hawkins-Impingement"/>
          <p:cNvPicPr/>
          <p:nvPr/>
        </p:nvPicPr>
        <p:blipFill>
          <a:blip r:embed="rId1"/>
          <a:stretch/>
        </p:blipFill>
        <p:spPr>
          <a:xfrm>
            <a:off x="1547640" y="1268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0"/>
          <p:cNvSpPr/>
          <p:nvPr/>
        </p:nvSpPr>
        <p:spPr>
          <a:xfrm>
            <a:off x="4284720" y="4869000"/>
            <a:ext cx="257040" cy="609480"/>
          </a:xfrm>
          <a:prstGeom prst="downArrow">
            <a:avLst>
              <a:gd name="adj1" fmla="val 50000"/>
              <a:gd name="adj2" fmla="val 5927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972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39600" y="6093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mpty Can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LAX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277440" y="6237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lcus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Sulcus-Sign"/>
          <p:cNvPicPr/>
          <p:nvPr/>
        </p:nvPicPr>
        <p:blipFill>
          <a:blip r:embed="rId1"/>
          <a:stretch/>
        </p:blipFill>
        <p:spPr>
          <a:xfrm>
            <a:off x="1571760" y="137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5219640" y="5300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ant-post-laxity"/>
          <p:cNvPicPr/>
          <p:nvPr/>
        </p:nvPicPr>
        <p:blipFill>
          <a:blip r:embed="rId1"/>
          <a:stretch/>
        </p:blipFill>
        <p:spPr>
          <a:xfrm>
            <a:off x="2050920" y="184464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563868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191120" y="48006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59960" y="61657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Anterior and posterior dra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111120" y="59673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ad and Shift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78520" y="5950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pprehen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10" descr="Nee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5724360" y="4005360"/>
            <a:ext cx="719280" cy="287280"/>
          </a:xfrm>
          <a:prstGeom prst="leftArrow">
            <a:avLst>
              <a:gd name="adj1" fmla="val 50000"/>
              <a:gd name="adj2" fmla="val 625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6084720" y="270828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al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 jo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ingement synd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c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racic outlet Syndr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104560" y="56088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oc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283080" y="560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ease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5" descr="Relocation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Relocation-Hand-off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276720" y="61657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 Crank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16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124720" y="573408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’Brien’s Active Compres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16" descr="Active-Compression-1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Active-Compression-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9"/>
          <p:cNvSpPr/>
          <p:nvPr/>
        </p:nvSpPr>
        <p:spPr>
          <a:xfrm>
            <a:off x="2050920" y="35002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156360" y="364500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2" name="Picture 13" descr="pain provacative test 1"/>
          <p:cNvPicPr/>
          <p:nvPr/>
        </p:nvPicPr>
        <p:blipFill>
          <a:blip r:embed="rId1"/>
          <a:stretch/>
        </p:blipFill>
        <p:spPr>
          <a:xfrm>
            <a:off x="457200" y="2222640"/>
            <a:ext cx="4038480" cy="327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ain provacative test 2"/>
          <p:cNvPicPr/>
          <p:nvPr/>
        </p:nvPicPr>
        <p:blipFill>
          <a:blip r:embed="rId2"/>
          <a:stretch/>
        </p:blipFill>
        <p:spPr>
          <a:xfrm>
            <a:off x="4648320" y="2173320"/>
            <a:ext cx="4038480" cy="3379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2841480" y="585144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pain provocation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763640" y="5578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p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o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Compression-Rotation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72160" y="62388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Compression / rot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47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34800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biceps load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AC joi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43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924360" y="6400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carf 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5" descr="speed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10160" y="623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peed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03640" y="623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rgason’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d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bacromial impin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otator cuff ru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LAP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erior labral anterior-poster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pecial Tests - Ins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lcus 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4" descr="Sulcus-Sign"/>
          <p:cNvPicPr/>
          <p:nvPr/>
        </p:nvPicPr>
        <p:blipFill>
          <a:blip r:embed="rId1"/>
          <a:stretch/>
        </p:blipFill>
        <p:spPr>
          <a:xfrm>
            <a:off x="190512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5257800" y="5562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or cu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 INTEGR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ROM + strength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raspin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raspina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capul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res min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g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4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bscapular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Picture2"/>
          <p:cNvPicPr/>
          <p:nvPr/>
        </p:nvPicPr>
        <p:blipFill>
          <a:blip r:embed="rId1"/>
          <a:stretch/>
        </p:blipFill>
        <p:spPr>
          <a:xfrm>
            <a:off x="846000" y="160020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219640" y="6021360"/>
            <a:ext cx="36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05800" y="60930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elly Press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1" descr="Liftoff-1"/>
          <p:cNvPicPr/>
          <p:nvPr/>
        </p:nvPicPr>
        <p:blipFill>
          <a:blip r:embed="rId2"/>
          <a:stretch/>
        </p:blipFill>
        <p:spPr>
          <a:xfrm>
            <a:off x="4572000" y="1916280"/>
            <a:ext cx="4321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praspinatu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419640" y="6093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ob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9" descr="jobesimpingement-ne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3924360" y="3213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fraspina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6" descr="infraspinatus"/>
          <p:cNvPicPr/>
          <p:nvPr/>
        </p:nvPicPr>
        <p:blipFill>
          <a:blip r:embed="rId1"/>
          <a:stretch/>
        </p:blipFill>
        <p:spPr>
          <a:xfrm>
            <a:off x="1476360" y="148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Teres mino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6" descr="internal impengemnt2"/>
          <p:cNvPicPr/>
          <p:nvPr/>
        </p:nvPicPr>
        <p:blipFill>
          <a:blip r:embed="rId1"/>
          <a:stretch/>
        </p:blipFill>
        <p:spPr>
          <a:xfrm>
            <a:off x="2233440" y="2138400"/>
            <a:ext cx="4677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800"/>
            </a:br>
            <a:r>
              <a:rPr b="0" lang="en-US" sz="40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279240" y="544500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rop sig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1" descr="Drop-Sign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Drop-Sign-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0:00:33Z</dcterms:created>
  <dc:creator>Azoz</dc:creator>
  <dc:description/>
  <dc:language>en-US</dc:language>
  <cp:lastModifiedBy>Macbookpro</cp:lastModifiedBy>
  <dcterms:modified xsi:type="dcterms:W3CDTF">2012-03-10T19:02:24Z</dcterms:modified>
  <cp:revision>27</cp:revision>
  <dc:subject/>
  <dc:title>Shoulder physical examination </dc:title>
</cp:coreProperties>
</file>