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wmf" ContentType="image/x-wmf"/>
  <Override PartName="/ppt/media/image27.wmf" ContentType="image/x-wmf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13E2C-58A3-4237-8307-841D239F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3369-690D-4359-ADD7-6ED72AD6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8895-20FC-4F51-AB58-2026A997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7FB6-7D3E-4D87-8EA8-F844ADEC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9481-550E-4E4F-94DD-601626B9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C53D-1BE2-469C-B4BC-3BC612D7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B8BF-61CB-4C1C-9FE4-1883C1F0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B76E-EAEE-4B2B-9098-8887544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F4CE-065F-445A-AD47-A94F4A3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5B31-B027-4D92-BC05-DD78C9FB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76E5-5890-4561-887D-84964401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90C2B-B564-4830-9E17-64424A09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06B4-9EC7-4B31-B1E2-34F0306D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7D7F-F530-4DC0-AD7F-A54A0E27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DF94-4BCE-492B-9E1F-C6C31635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6AAF-DA2C-4FD4-B711-359A2694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DB45-080E-43D7-84E4-339585DBE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550C-1568-4585-B9D8-F91590D3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4280-2BA4-433D-ADE9-42A498BC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4E20D-337D-4BE4-84DB-9166F177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4E63-D874-404E-A4F9-CA250C82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890D-A754-4B5C-A3BD-2CD1CB8D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1E7B5-834A-4321-B24A-787F461C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2138-49FE-4F46-8E7A-C285CA6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319D-406B-48E7-8172-356FDA75F1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4686-F832-4859-BB5B-52456CB6FC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houlder physical examination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dulaziz Alomar, MD, MSc FRCS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sistant Professor and consultant Orthopaedic surge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KUH, K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7" descr="ext lag sign a"/>
          <p:cNvPicPr/>
          <p:nvPr/>
        </p:nvPicPr>
        <p:blipFill>
          <a:blip r:embed="rId1"/>
          <a:stretch/>
        </p:blipFill>
        <p:spPr>
          <a:xfrm>
            <a:off x="457200" y="2162160"/>
            <a:ext cx="4038480" cy="340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xt lag sign b"/>
          <p:cNvPicPr/>
          <p:nvPr/>
        </p:nvPicPr>
        <p:blipFill>
          <a:blip r:embed="rId2"/>
          <a:stretch/>
        </p:blipFill>
        <p:spPr>
          <a:xfrm>
            <a:off x="4648320" y="2095560"/>
            <a:ext cx="4038480" cy="3535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9"/>
          <p:cNvSpPr/>
          <p:nvPr/>
        </p:nvSpPr>
        <p:spPr>
          <a:xfrm>
            <a:off x="2771280" y="57340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xternal Rotation Lag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552040" y="580536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 (Lag Sig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9" descr="Liftoff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Liftoff-No-Drop-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0920" y="64008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eer’s impingement sig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8" descr="Neer-Impingement"/>
          <p:cNvPicPr/>
          <p:nvPr/>
        </p:nvPicPr>
        <p:blipFill>
          <a:blip r:embed="rId1"/>
          <a:stretch/>
        </p:blipFill>
        <p:spPr>
          <a:xfrm>
            <a:off x="1042920" y="1052640"/>
            <a:ext cx="7215120" cy="5411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2"/>
          <p:cNvSpPr/>
          <p:nvPr/>
        </p:nvSpPr>
        <p:spPr>
          <a:xfrm rot="18847800">
            <a:off x="3771720" y="343656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7" descr="internal impengemnt2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297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internal impengment 1"/>
          <p:cNvPicPr/>
          <p:nvPr/>
        </p:nvPicPr>
        <p:blipFill>
          <a:blip r:embed="rId2"/>
          <a:stretch/>
        </p:blipFill>
        <p:spPr>
          <a:xfrm>
            <a:off x="4648320" y="231300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1693440" y="5589720"/>
            <a:ext cx="60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ernal Rotation Resistance Stres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626200" y="587700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awkin’s impingement tes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19" descr="Hawkins-Impingement"/>
          <p:cNvPicPr/>
          <p:nvPr/>
        </p:nvPicPr>
        <p:blipFill>
          <a:blip r:embed="rId1"/>
          <a:stretch/>
        </p:blipFill>
        <p:spPr>
          <a:xfrm>
            <a:off x="1547640" y="1268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0"/>
          <p:cNvSpPr/>
          <p:nvPr/>
        </p:nvSpPr>
        <p:spPr>
          <a:xfrm>
            <a:off x="4284720" y="4869000"/>
            <a:ext cx="257040" cy="609480"/>
          </a:xfrm>
          <a:prstGeom prst="downArrow">
            <a:avLst>
              <a:gd name="adj1" fmla="val 50000"/>
              <a:gd name="adj2" fmla="val 5927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IMPINGEMENT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4689720" cy="463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3639600" y="609300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Empty Can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LAX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277440" y="6237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lcus sig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10" descr="Sulcus-Sign"/>
          <p:cNvPicPr/>
          <p:nvPr/>
        </p:nvPicPr>
        <p:blipFill>
          <a:blip r:embed="rId1"/>
          <a:stretch/>
        </p:blipFill>
        <p:spPr>
          <a:xfrm>
            <a:off x="1571760" y="137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5219640" y="530064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ant-post-laxity"/>
          <p:cNvPicPr/>
          <p:nvPr/>
        </p:nvPicPr>
        <p:blipFill>
          <a:blip r:embed="rId1"/>
          <a:stretch/>
        </p:blipFill>
        <p:spPr>
          <a:xfrm>
            <a:off x="2050920" y="1844640"/>
            <a:ext cx="5639040" cy="42292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563868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4191120" y="480060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59960" y="6165720"/>
            <a:ext cx="45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Anterior and posterior draw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TRANSLATION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111120" y="596736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ad and Shift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78520" y="5950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pprehen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10" descr="Neer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5724360" y="4005360"/>
            <a:ext cx="719280" cy="287280"/>
          </a:xfrm>
          <a:prstGeom prst="leftArrow">
            <a:avLst>
              <a:gd name="adj1" fmla="val 50000"/>
              <a:gd name="adj2" fmla="val 625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AutoShape 12"/>
          <p:cNvSpPr/>
          <p:nvPr/>
        </p:nvSpPr>
        <p:spPr>
          <a:xfrm>
            <a:off x="6084720" y="2708280"/>
            <a:ext cx="1008360" cy="289080"/>
          </a:xfrm>
          <a:prstGeom prst="rightArrow">
            <a:avLst>
              <a:gd name="adj1" fmla="val 50000"/>
              <a:gd name="adj2" fmla="val 8720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pecial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 joi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ingement syndrom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c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L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racic outlet Syndro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2104560" y="56088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oc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6283080" y="56088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lease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15" descr="Relocation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Relocation-Hand-off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STABILITY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276720" y="61657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 Crank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716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124720" y="5734080"/>
            <a:ext cx="52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O’Brien’s Active Compress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16" descr="Active-Compression-1"/>
          <p:cNvPicPr/>
          <p:nvPr/>
        </p:nvPicPr>
        <p:blipFill>
          <a:blip r:embed="rId1"/>
          <a:stretch/>
        </p:blipFill>
        <p:spPr>
          <a:xfrm>
            <a:off x="468360" y="2349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Active-Compression-2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9"/>
          <p:cNvSpPr/>
          <p:nvPr/>
        </p:nvSpPr>
        <p:spPr>
          <a:xfrm>
            <a:off x="2050920" y="350028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AutoShape 20"/>
          <p:cNvSpPr/>
          <p:nvPr/>
        </p:nvSpPr>
        <p:spPr>
          <a:xfrm>
            <a:off x="6156360" y="3645000"/>
            <a:ext cx="380880" cy="533160"/>
          </a:xfrm>
          <a:prstGeom prst="downArrow">
            <a:avLst>
              <a:gd name="adj1" fmla="val 50000"/>
              <a:gd name="adj2" fmla="val 34995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2" name="Picture 13" descr="pain provacative test 1"/>
          <p:cNvPicPr/>
          <p:nvPr/>
        </p:nvPicPr>
        <p:blipFill>
          <a:blip r:embed="rId1"/>
          <a:stretch/>
        </p:blipFill>
        <p:spPr>
          <a:xfrm>
            <a:off x="457200" y="2222640"/>
            <a:ext cx="4038480" cy="3279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pain provacative test 2"/>
          <p:cNvPicPr/>
          <p:nvPr/>
        </p:nvPicPr>
        <p:blipFill>
          <a:blip r:embed="rId2"/>
          <a:stretch/>
        </p:blipFill>
        <p:spPr>
          <a:xfrm>
            <a:off x="4648320" y="2173320"/>
            <a:ext cx="4038480" cy="3379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5"/>
          <p:cNvSpPr/>
          <p:nvPr/>
        </p:nvSpPr>
        <p:spPr>
          <a:xfrm>
            <a:off x="2841480" y="585144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pain provocation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763640" y="55785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Sup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12000" y="5589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Pro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Picture 4" descr="Compression-Rotation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72160" y="6238800"/>
            <a:ext cx="43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66"/>
                </a:solidFill>
                <a:latin typeface="Garamond"/>
              </a:rPr>
              <a:t>Compression / rotation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SLA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904000" cy="4719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34800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biceps load t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AC joi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464360" cy="52578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8"/>
          <p:cNvSpPr/>
          <p:nvPr/>
        </p:nvSpPr>
        <p:spPr>
          <a:xfrm>
            <a:off x="3924360" y="64008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carf 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Picture 5" descr="speed"/>
          <p:cNvPicPr/>
          <p:nvPr/>
        </p:nvPicPr>
        <p:blipFill>
          <a:blip r:embed="rId1"/>
          <a:stretch/>
        </p:blipFill>
        <p:spPr>
          <a:xfrm>
            <a:off x="1959120" y="1600200"/>
            <a:ext cx="5225760" cy="452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3710160" y="623736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peed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Bic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203640" y="623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Yergason’s t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nd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bacromial imping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otator cuff rup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LAP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uperior labral anterior-poster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pecial Tests - Instabi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lcus sig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Picture 4" descr="Sulcus-Sign"/>
          <p:cNvPicPr/>
          <p:nvPr/>
        </p:nvPicPr>
        <p:blipFill>
          <a:blip r:embed="rId1"/>
          <a:stretch/>
        </p:blipFill>
        <p:spPr>
          <a:xfrm>
            <a:off x="190512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5"/>
          <p:cNvSpPr/>
          <p:nvPr/>
        </p:nvSpPr>
        <p:spPr>
          <a:xfrm>
            <a:off x="5257800" y="556272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tator cuff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TATOR CUFF INTEGRIT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ive ROM + strength of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raspin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fraspinatu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bscapul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eres min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g s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4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bscapulari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5" descr="Picture2"/>
          <p:cNvPicPr/>
          <p:nvPr/>
        </p:nvPicPr>
        <p:blipFill>
          <a:blip r:embed="rId1"/>
          <a:stretch/>
        </p:blipFill>
        <p:spPr>
          <a:xfrm>
            <a:off x="846000" y="1600200"/>
            <a:ext cx="32608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219640" y="6021360"/>
            <a:ext cx="36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ft-off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405800" y="6093000"/>
            <a:ext cx="29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elly Press T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11" descr="Liftoff-1"/>
          <p:cNvPicPr/>
          <p:nvPr/>
        </p:nvPicPr>
        <p:blipFill>
          <a:blip r:embed="rId2"/>
          <a:stretch/>
        </p:blipFill>
        <p:spPr>
          <a:xfrm>
            <a:off x="4572000" y="1916280"/>
            <a:ext cx="43210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Supraspinatu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3419640" y="609300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Job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9" descr="jobesimpingement-new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0"/>
          <p:cNvSpPr/>
          <p:nvPr/>
        </p:nvSpPr>
        <p:spPr>
          <a:xfrm>
            <a:off x="3924360" y="321300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400" spc="-1" strike="noStrike">
                <a:solidFill>
                  <a:srgbClr val="ff0066"/>
                </a:solidFill>
                <a:latin typeface="Garamond"/>
              </a:rPr>
              <a:t>Infraspinat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Picture 6" descr="infraspinatus"/>
          <p:cNvPicPr/>
          <p:nvPr/>
        </p:nvPicPr>
        <p:blipFill>
          <a:blip r:embed="rId1"/>
          <a:stretch/>
        </p:blipFill>
        <p:spPr>
          <a:xfrm>
            <a:off x="1476360" y="148428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4000"/>
            </a:br>
            <a:r>
              <a:rPr b="0" lang="en-US" sz="4800" spc="-1" strike="noStrike">
                <a:solidFill>
                  <a:srgbClr val="ff0066"/>
                </a:solidFill>
                <a:latin typeface="Garamond"/>
              </a:rPr>
              <a:t>Teres minor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Picture 6" descr="internal impengemnt2"/>
          <p:cNvPicPr/>
          <p:nvPr/>
        </p:nvPicPr>
        <p:blipFill>
          <a:blip r:embed="rId1"/>
          <a:stretch/>
        </p:blipFill>
        <p:spPr>
          <a:xfrm>
            <a:off x="2233440" y="2138400"/>
            <a:ext cx="46771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Rotator cuff integrity</a:t>
            </a:r>
            <a:br>
              <a:rPr sz="2800"/>
            </a:br>
            <a:r>
              <a:rPr b="0" lang="en-US" sz="4000" spc="-1" strike="noStrike">
                <a:solidFill>
                  <a:srgbClr val="ff0066"/>
                </a:solidFill>
                <a:latin typeface="Garamond"/>
              </a:rPr>
              <a:t>Lag sig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279240" y="5445000"/>
            <a:ext cx="25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rop sig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1" descr="Drop-Sign-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Drop-Sign-3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00:00:33Z</dcterms:created>
  <dc:creator>Azoz</dc:creator>
  <dc:description/>
  <dc:language>en-US</dc:language>
  <cp:lastModifiedBy>Macbookpro</cp:lastModifiedBy>
  <dcterms:modified xsi:type="dcterms:W3CDTF">2012-03-10T19:02:24Z</dcterms:modified>
  <cp:revision>27</cp:revision>
  <dc:subject/>
  <dc:title>Shoulder physical examination </dc:title>
</cp:coreProperties>
</file>