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24F-AC12-46C7-9E68-9FE11041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5473-ADB7-4E17-AFF0-F9F6F296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7F1-E6DB-41A0-994C-C3F8C3D3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798-82DE-4774-B54A-71AC0EDC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11B4-883A-429B-AE02-3D1E2C96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5CA7-4BA0-4279-A38E-DA79757E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41F1-DAE4-416B-817F-9E042093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C336-6355-48FA-911D-3221FD70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ADE6-0ACD-446C-B425-81D43B3D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057C-9A88-4C92-AE1F-D3398715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EEE4-0949-49B7-9CDD-D04EDE9C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5C89-C3F9-4113-909A-8C34CEAA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F12C-56DD-4CFD-BAED-A0E11E34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40E5-212D-4610-8DAF-BDD39BD4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DA5B-8C61-417C-84D5-2B66CB4A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603F-59AC-4794-A575-230B0F1D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8467-8DDC-496D-8D2F-4AAEEA1F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962E9-6535-4AC6-8454-8CA4F572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6A590-7F38-479B-BC83-8432CDC8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B2D37-2C51-4384-BF40-8FAE3D68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CC917-BB16-471D-AAA3-48D3105F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8E02B-F2EC-4DDE-8FCB-D97E3658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9E7-6A47-4685-AF15-623FB473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FFBF5-58F9-41B1-9AAF-E427D5EE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44FC9-D075-4039-9D7F-5DAA01D9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10C15-B0B6-445B-A367-AFB26009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585A0-D218-4BCB-90A3-26A0EA19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095D7-07DE-48CE-B048-3AF1F01B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56C7F-F454-4BDF-9B18-D876F67F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DD3E2-3876-4C0D-A408-F4AAD4A2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421AC-0095-4EBD-A909-397D75BC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F1DC1-F96D-4946-9AF5-32E101FF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F9DDC-159D-42E1-8A04-EBC33DD4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DE0B-E002-4F20-B577-7E47C186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332DD-95BC-46AE-A2A6-7C14A7B1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F852F-79F9-4741-B02D-F96178FC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C887F-5242-469D-A5B4-95E808AA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139D0-C034-4049-A1A6-95ACDB2C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F654C-0BF4-4C36-9FB7-63D58BBA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FFA3E-1DCB-4339-B901-AF06566A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E70E4-F5B1-48D5-9D61-72EAA4BD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ABEFB-910A-4EC3-9A62-8F9CF03D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A51E9-58ED-4830-AA0A-7920E3FB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60491-2146-4A0A-84C3-3ADD8102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A56-6FE4-464F-A893-F02B1844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CC167-13E3-4381-917E-4AFCEE1F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DE4CC-A5CD-47EE-BC49-54C88DAC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0C8F5-3C08-45AA-A7E9-B6D05858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B96ED-A825-43A8-9DB7-E87551F5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F1DC2-A796-4288-B152-00A52306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4F3D8-88D1-4157-BF79-6D83A854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B3DE8-FF38-4DA6-B16A-0C055706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66018-43DE-4D13-8D8D-097F6CAD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006EC-8AF6-4E18-B8B8-D98DC586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5AED3-B9EE-477B-A7DF-CF168FB2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6692-41B8-4586-B3DC-E8478887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F61D7-9697-4E15-9BE1-A3456300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8EFA-9693-4270-9F1C-49E56B90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364-07B2-4D79-8645-C7F91919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3D3-0A45-4DE9-A0F6-5D1F7668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D190-0844-4CCB-96A6-17D60AE76A34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D61F-9D2B-4ED9-A153-80834473BF4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7B5F-E4F5-467F-AC3B-94417C35AC2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7D80-657B-42AD-9757-461313FFA7A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B0C7-9576-4DCC-96AE-7FD1F86FB19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42217"/>
                </a:solidFill>
                <a:latin typeface="Franklin Gothic Book"/>
              </a:rPr>
              <a:t>Simple Present</a:t>
            </a:r>
            <a:r>
              <a:rPr b="0" lang="en-US" sz="4000" spc="-1" strike="noStrike">
                <a:solidFill>
                  <a:srgbClr val="742217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isting condition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hear nois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need to read mor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believe in myself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gative stateme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Do not :   do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erpetua"/>
              </a:rPr>
              <a:t>I – we – you – they – plura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 don’t, we don’t, you don’t, they don’t, Ahmad and Hoda don’t, the boys don’t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Does not:  does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erpetua"/>
              </a:rPr>
              <a:t>He – she – it – singular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e doesn’t, she doesn’t, it doesn’t, the boy doesn’t, Noura does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Lu doesn’t speak Arabic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don’t like this girl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She doesn’t wake up at 7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ura and Hoda don’t hear the noise outsid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A form of do comes before the subject in yes/no questions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- Sara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peaks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hree languages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Does Sara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peak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hree languages??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Yes, she does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, she doesn’t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The boys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tudy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ogether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Do the boys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tudy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ogether every day?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Yes, they do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, they don’t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1a1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a6a1a1"/>
                </a:solidFill>
                <a:latin typeface="Perpetua"/>
              </a:rPr>
              <a:t>talk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– </a:t>
            </a:r>
            <a:r>
              <a:rPr b="0" lang="en-US" sz="3200" spc="-1" strike="noStrike">
                <a:solidFill>
                  <a:srgbClr val="7c6b4d"/>
                </a:solidFill>
                <a:latin typeface="Perpetua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c49f92"/>
                </a:solidFill>
                <a:latin typeface="Perpetua"/>
              </a:rPr>
              <a:t>listen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644646"/>
                </a:solidFill>
                <a:latin typeface="Perpetua"/>
              </a:rPr>
              <a:t>learn-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df6c5d"/>
                </a:solidFill>
                <a:latin typeface="Perpetua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6e6263"/>
                </a:solidFill>
                <a:latin typeface="Perpetua"/>
              </a:rPr>
              <a:t>speak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, you,  we,  they,  plural :   </a:t>
            </a: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verb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.g: I talk, you talk, we talk, they talk, Ahmad and Noura talk, the boys talk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he, he, it, singular : </a:t>
            </a: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verb + s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he talks, he talks, it talks, Sara talks, Ahmad talks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1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veryday activities and habit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I drink three cups of coffee a day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4" name="Picture 13" descr="imagescoffff.jpg"/>
          <p:cNvPicPr/>
          <p:nvPr/>
        </p:nvPicPr>
        <p:blipFill>
          <a:blip r:embed="rId1"/>
          <a:stretch/>
        </p:blipFill>
        <p:spPr>
          <a:xfrm>
            <a:off x="1592280" y="2505240"/>
            <a:ext cx="42130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wake up at 7 am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7" name="Picture 3" descr="wake up.jpg"/>
          <p:cNvPicPr/>
          <p:nvPr/>
        </p:nvPicPr>
        <p:blipFill>
          <a:blip r:embed="rId1"/>
          <a:stretch/>
        </p:blipFill>
        <p:spPr>
          <a:xfrm>
            <a:off x="2124000" y="2386080"/>
            <a:ext cx="354348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Noura and Lama always study English together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imagesffff.jpg"/>
          <p:cNvPicPr/>
          <p:nvPr/>
        </p:nvPicPr>
        <p:blipFill>
          <a:blip r:embed="rId1"/>
          <a:stretch/>
        </p:blipFill>
        <p:spPr>
          <a:xfrm>
            <a:off x="2484360" y="3141720"/>
            <a:ext cx="379728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ements of fact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Mark speaks three languages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3" descr="imagesff.jpg"/>
          <p:cNvPicPr/>
          <p:nvPr/>
        </p:nvPicPr>
        <p:blipFill>
          <a:blip r:embed="rId1"/>
          <a:stretch/>
        </p:blipFill>
        <p:spPr>
          <a:xfrm>
            <a:off x="1422360" y="2557440"/>
            <a:ext cx="44640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ara aldawood teaches grammar 1 and listening 1.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The moon revolves around the earth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Picture 3" descr="the miii.jpg"/>
          <p:cNvPicPr/>
          <p:nvPr/>
        </p:nvPicPr>
        <p:blipFill>
          <a:blip r:embed="rId1"/>
          <a:stretch/>
        </p:blipFill>
        <p:spPr>
          <a:xfrm>
            <a:off x="1692360" y="2414520"/>
            <a:ext cx="400824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3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pinion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eacher Jack doesn’t teach English very well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- I don’t like music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3:41:14Z</dcterms:created>
  <dc:creator>sony</dc:creator>
  <dc:description/>
  <dc:language>en-US</dc:language>
  <cp:lastModifiedBy>sony</cp:lastModifiedBy>
  <dcterms:modified xsi:type="dcterms:W3CDTF">2012-04-11T17:30:14Z</dcterms:modified>
  <cp:revision>27</cp:revision>
  <dc:subject/>
  <dc:title>Simple Present</dc:title>
</cp:coreProperties>
</file>