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F79B-6034-4064-9263-AC10FCBA6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E0EF-38FB-46C6-8FFE-EF295ECB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D8DD-0D56-439A-9967-7985D1BB0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41A4-A252-4631-BB14-17DEF900B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3D25-045C-4BB5-9EA8-E4F96C1C8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5238-8C5A-434F-865E-2E91BB6E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BBEC-9977-47B4-B402-4318F75D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1183-7874-4A9D-87FB-B61F0A01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9FC3-2EC0-427F-96D5-6AEE5F62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8F2D-0E2E-4FC9-B72D-5EB1CB84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6F95-BD35-4EA7-8EA4-D5E9565E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3C74-97F6-4A41-9EF2-DF857F3A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EC50-915D-4F0E-9277-39D1FE92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9983-980F-42CE-86AB-5A1D9C4D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725F-D3A0-4E4C-8E5B-695C6DC3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1C29-9B06-4071-B6FB-F5301F968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3D73-1CE6-470E-A5D2-971C9544A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0DED6-3A07-4DEE-81F0-7FE13264F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79132-8752-4D0C-A239-13456F16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BD71E-C1D2-41A6-93D3-55C5DDDA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E242B-579F-4340-8B3D-E9E2F5DA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16E7A-7FC5-4162-837B-999FBD21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177E-524F-4BE7-BCBD-954FE17F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F281D-8674-451A-9C39-7312AA29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6DEAC-31B0-4239-A7D9-4F689278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69CBE-E940-47AF-A7DE-0F31EC63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26791-2D43-4372-98DB-F9197473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E9970-23F7-480B-87CB-01FE7F48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7906E-A219-41E8-8995-6D16BC30A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41F5A-9F58-4D9C-96B0-852672FC8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53608-E732-4823-9866-98E2D2C4D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D206C-1D4D-492F-9EBB-7AA6A8A7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E2CDF-4254-4CB3-A6EF-AA22DB82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AFA7-7F3D-447E-8A93-20199F7A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7E597-9626-44C7-ABC4-D3708042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BD820-8B9E-4064-9D8B-B5B6AD96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2E089-D86C-4117-85CA-48FBCC36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B2FBB-83C5-43FA-B381-392ADB68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91384-0023-4E90-9D2E-0428EDDC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EDD6B-AA09-4ABB-9227-4F4C47E6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C2774-A7E2-41E0-A7D5-CC11829F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A4C3C-B847-4555-AEED-2B1EB13DA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CE4DD-57FE-42F2-BA95-8EC2E79E1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0CCEA-F894-48B0-862B-9FA5EAFF8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3140-9225-444D-9EB6-8FAC13A9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D4365-2766-4885-A66A-4130538A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30D0B-996F-42AE-8D92-76D01B93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AFE36-1E22-412A-9E7C-49EAB6AD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0C259-5FFF-4F54-A31C-EB1867A2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487B7-6E4B-4A12-847A-660EBD9D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25A26-5F60-4B27-9C94-3DF5CE4F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BAB06-FB22-4DEB-9C59-F99F4D52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1EA9B-9B14-43A2-B59D-D28880F4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52A44-E0A3-4D74-AB52-37432E9A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1195D-F44E-4CD2-BC2A-86709BA57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DA22-0F40-4C00-9D3E-AC8D2D2A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4CC79-17D6-4698-8FAA-584BC1F41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3240-4061-4BCD-ABE9-79784736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43C0-E8A7-4E4F-B94F-6542BFFF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4B66-5E39-4C07-AD79-022CC22C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0A6E-AFAA-4351-88AE-3DF8C736581E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A89A-D1FD-410F-8C3B-7E72E49D4B92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424E-9C7A-41DE-B8DF-E61BC68A6327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498D-122C-422E-B799-DA7CDCA9E84D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714B-FDBA-4609-BE30-32DC225BD2BE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42217"/>
                </a:solidFill>
                <a:latin typeface="Franklin Gothic Book"/>
              </a:rPr>
              <a:t>Simple Present</a:t>
            </a:r>
            <a:r>
              <a:rPr b="0" lang="en-US" sz="4000" spc="-1" strike="noStrike">
                <a:solidFill>
                  <a:srgbClr val="742217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xisting conditions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I hear noise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I need to read more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I believe in myself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egative statemen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Perpetua"/>
              </a:rPr>
              <a:t>Do not :   don’t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Perpetua"/>
              </a:rPr>
              <a:t>I – we – you – they – plura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I don’t, we don’t, you don’t, they don’t, Ahmad and Hoda don’t, the boys don’t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Perpetua"/>
              </a:rPr>
              <a:t>Does not:  doesn’t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Perpetua"/>
              </a:rPr>
              <a:t>He – she – it – singular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He doesn’t, she doesn’t, it doesn’t, the boy doesn’t, Noura doesn’t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Lu doesn’t speak Arabic.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I don’t like this girl.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She doesn’t wake up at 7 every day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Noura and Hoda don’t hear the noise outside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A form of do comes before the subject in yes/no questions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- Sara </a:t>
            </a:r>
            <a:r>
              <a:rPr b="0" lang="en-US" sz="4400" spc="-1" strike="noStrike">
                <a:solidFill>
                  <a:srgbClr val="00b050"/>
                </a:solidFill>
                <a:latin typeface="Perpetua"/>
              </a:rPr>
              <a:t>speaks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 three languages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Does Sara </a:t>
            </a:r>
            <a:r>
              <a:rPr b="0" lang="en-US" sz="4400" spc="-1" strike="noStrike">
                <a:solidFill>
                  <a:srgbClr val="00b050"/>
                </a:solidFill>
                <a:latin typeface="Perpetua"/>
              </a:rPr>
              <a:t>speak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 three languages??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Yes, she does.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No, she doesn’t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The boys </a:t>
            </a:r>
            <a:r>
              <a:rPr b="0" lang="en-US" sz="4400" spc="-1" strike="noStrike">
                <a:solidFill>
                  <a:srgbClr val="00b050"/>
                </a:solidFill>
                <a:latin typeface="Perpetua"/>
              </a:rPr>
              <a:t>study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 together every day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Do the boys </a:t>
            </a:r>
            <a:r>
              <a:rPr b="0" lang="en-US" sz="4400" spc="-1" strike="noStrike">
                <a:solidFill>
                  <a:srgbClr val="00b050"/>
                </a:solidFill>
                <a:latin typeface="Perpetua"/>
              </a:rPr>
              <a:t>study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 together every day?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Yes, they do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No, they don’t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a1a1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a6a1a1"/>
                </a:solidFill>
                <a:latin typeface="Perpetua"/>
              </a:rPr>
              <a:t>talk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– </a:t>
            </a:r>
            <a:r>
              <a:rPr b="0" lang="en-US" sz="3200" spc="-1" strike="noStrike">
                <a:solidFill>
                  <a:srgbClr val="7c6b4d"/>
                </a:solidFill>
                <a:latin typeface="Perpetua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– </a:t>
            </a:r>
            <a:r>
              <a:rPr b="0" lang="en-US" sz="3200" spc="-1" strike="noStrike">
                <a:solidFill>
                  <a:srgbClr val="c49f92"/>
                </a:solidFill>
                <a:latin typeface="Perpetua"/>
              </a:rPr>
              <a:t>listen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– </a:t>
            </a:r>
            <a:r>
              <a:rPr b="0" lang="en-US" sz="3200" spc="-1" strike="noStrike">
                <a:solidFill>
                  <a:srgbClr val="644646"/>
                </a:solidFill>
                <a:latin typeface="Perpetua"/>
              </a:rPr>
              <a:t>learn-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df6c5d"/>
                </a:solidFill>
                <a:latin typeface="Perpetua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– </a:t>
            </a:r>
            <a:r>
              <a:rPr b="0" lang="en-US" sz="3200" spc="-1" strike="noStrike">
                <a:solidFill>
                  <a:srgbClr val="6e6263"/>
                </a:solidFill>
                <a:latin typeface="Perpetua"/>
              </a:rPr>
              <a:t>speak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I, you,  we,  they,  plural :   </a:t>
            </a:r>
            <a:r>
              <a:rPr b="1" lang="en-US" sz="3200" spc="-1" strike="noStrike">
                <a:solidFill>
                  <a:srgbClr val="ff0000"/>
                </a:solidFill>
                <a:latin typeface="Perpetua"/>
              </a:rPr>
              <a:t>verb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e.g: I talk, you talk, we talk, they talk, Ahmad and Noura talk, the boys talk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She, he, it, singular : </a:t>
            </a:r>
            <a:r>
              <a:rPr b="1" lang="en-US" sz="3200" spc="-1" strike="noStrike">
                <a:solidFill>
                  <a:srgbClr val="ff0000"/>
                </a:solidFill>
                <a:latin typeface="Perpetua"/>
              </a:rPr>
              <a:t>verb + s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he talks, he talks, it talks, Sara talks, Ahmad talks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1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. 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veryday activities and habits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I drink three cups of coffee a day. 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4" name="Picture 13" descr="imagescoffff.jpg"/>
          <p:cNvPicPr/>
          <p:nvPr/>
        </p:nvPicPr>
        <p:blipFill>
          <a:blip r:embed="rId1"/>
          <a:stretch/>
        </p:blipFill>
        <p:spPr>
          <a:xfrm>
            <a:off x="1592280" y="2505240"/>
            <a:ext cx="421308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I wake up at 7 am every day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7" name="Picture 3" descr="wake up.jpg"/>
          <p:cNvPicPr/>
          <p:nvPr/>
        </p:nvPicPr>
        <p:blipFill>
          <a:blip r:embed="rId1"/>
          <a:stretch/>
        </p:blipFill>
        <p:spPr>
          <a:xfrm>
            <a:off x="2124000" y="2386080"/>
            <a:ext cx="3543480" cy="33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Noura and Lama always study English together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0" name="Picture 3" descr="imagesffff.jpg"/>
          <p:cNvPicPr/>
          <p:nvPr/>
        </p:nvPicPr>
        <p:blipFill>
          <a:blip r:embed="rId1"/>
          <a:stretch/>
        </p:blipFill>
        <p:spPr>
          <a:xfrm>
            <a:off x="2484360" y="3141720"/>
            <a:ext cx="379728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2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. 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atements of facts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Mark speaks three languages. 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3" name="Picture 3" descr="imagesff.jpg"/>
          <p:cNvPicPr/>
          <p:nvPr/>
        </p:nvPicPr>
        <p:blipFill>
          <a:blip r:embed="rId1"/>
          <a:stretch/>
        </p:blipFill>
        <p:spPr>
          <a:xfrm>
            <a:off x="1422360" y="2557440"/>
            <a:ext cx="446400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ara aldawood teaches grammar 1 and listening 1.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The moon revolves around the earth. 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8" name="Picture 3" descr="the miii.jpg"/>
          <p:cNvPicPr/>
          <p:nvPr/>
        </p:nvPicPr>
        <p:blipFill>
          <a:blip r:embed="rId1"/>
          <a:stretch/>
        </p:blipFill>
        <p:spPr>
          <a:xfrm>
            <a:off x="1692360" y="2414520"/>
            <a:ext cx="400824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3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. 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Opinions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eacher Jack doesn’t teach English very well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- I don’t like music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13:41:14Z</dcterms:created>
  <dc:creator>sony</dc:creator>
  <dc:description/>
  <dc:language>en-US</dc:language>
  <cp:lastModifiedBy>sony</cp:lastModifiedBy>
  <dcterms:modified xsi:type="dcterms:W3CDTF">2012-04-11T17:30:14Z</dcterms:modified>
  <cp:revision>27</cp:revision>
  <dc:subject/>
  <dc:title>Simple Present</dc:title>
</cp:coreProperties>
</file>