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F4F-7E28-4A6E-BCC1-8CDAA858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F53-3B11-4CA4-8BA1-DFD63C05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D7A-EE2B-47F9-832E-FF9B4550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EB9-36EA-4675-B91B-3612AA01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33F8-68C7-41C7-B759-90C105FA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BF9B-56C0-419A-ADF6-361A7D34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B1FA-D592-4D2E-BF74-C7ACFD08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2431-9238-4426-A160-B8E5DCF9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115C-70D5-48D2-A4F3-E92F454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03D0-EC63-41D8-9F72-9223670D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F11B-AA05-45C4-B436-547D12F7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64C-8D5D-4507-BAE9-5D166219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8445-E7F5-406B-96B6-16260B31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6A55-DCDC-4FBA-BDC7-F185A908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0742-B713-413A-A8E5-D7753921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66C8-C268-4BC9-B152-2A90985D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497B-5702-4192-B4F2-800FC64E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A7886-876C-4315-88CE-2A728C19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4FCD-67D9-4D89-A0CA-78E43557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21F4-DB53-49A3-ADC0-715D0BBF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C680-AF76-46DB-9714-9109DD00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809A-F2AB-4560-9574-31FCAB3F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69F-E34C-49C6-8566-1D7658EB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F6CE-3FBA-420B-B180-9589507D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9B6C-D9CC-40F7-B253-92233029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E805-15E3-42A3-8FD0-D7178421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4F23-ED70-4EA1-92BF-D29C2ED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B265F-6AD2-4F29-BD5A-09E84F5E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08DA-F3C2-46B7-A645-A9E56EB4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C8DE-2145-4188-A81C-19AC5E5A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A889-89E7-4E08-876C-935B3564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DB70-A36F-46C5-84F3-B9840425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8F97-C4A1-4D5E-A239-942D573E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B52-5E72-4D5B-8579-0553B8CE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37FA-3097-45B7-B5F0-4AC55477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2392-7793-4FB1-9C4D-70FDCC38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7A5BB-7439-4313-B710-CD183990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0946-A3D6-4FCD-97F6-22E8AD34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C2FA-DEFC-4E20-B4B3-3CF77364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B517-5394-4F2D-9B7F-E84A3CB1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6E61B-4820-4567-88E8-1D812D8A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FEDAA-62F1-45C6-AB4E-6FA950B5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5589-F920-4299-AF30-F50B5CC0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EA5CD-94D7-48EA-80AA-82A9EDE6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E2F-389B-4771-A68D-6DA463C3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A3F6F-776E-4C18-90E8-BC725896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C7EF-8A16-40F6-8555-357F87AB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398B2-BC32-4654-AA2E-007C1CA5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E75B7-2A12-4CDC-A361-1EDA823A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741DF-14F3-481B-AFE8-1BCFBBE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BA2E-F722-4F96-BF9D-0CB9E9B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413F-850D-474B-9327-40654B5D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8EC8B-F79D-4AC4-9C34-4866ACFE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920A3-105C-46D3-9E3E-C6DAF7F2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B1922-10E0-4BD7-A22D-69AF47E9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3EB-982B-4080-A58E-D064D7D4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A369F-874D-4B0B-90C0-04C16A3E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1D3-EFDF-4E5E-AAFD-EFC7189F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4DC-A4FB-4F5B-83C5-B03DB8F6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90B-289E-4F61-8576-DF2AC02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2E78-33EF-422F-BBF7-1B87E3CF6E6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1E38-609D-4DB3-B1E3-3BC856E56E2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54EB-584F-443A-91E8-6949C3FD6F6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B282-4F23-480D-8A52-240AAC46E9F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BD63-954B-49F7-9265-733C6BA17E0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Simple Present</a:t>
            </a: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isting condit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hear nois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need to read mor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believe in myself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gative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Do not :   do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I – we – you – they – plur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 don’t, we don’t, you don’t, they don’t, Ahmad and Hoda don’t, the boys don’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Does not: 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He – she – it – singula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 doesn’t, she doesn’t, it doesn’t, the boy doesn’t, Noura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Lu doesn’t speak Arabic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don’t like this girl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he doesn’t wake up at 7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ura and Hoda don’t hear the noise outsid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 form of do comes before the subject in yes/no question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-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s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es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?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she doe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she doesn’t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 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they do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they don’t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en-US" sz="3200" spc="-1" strike="noStrike">
                <a:solidFill>
                  <a:srgbClr val="7c6b4d"/>
                </a:solidFill>
                <a:latin typeface="Perpetu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c49f92"/>
                </a:solidFill>
                <a:latin typeface="Perpetua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44646"/>
                </a:solidFill>
                <a:latin typeface="Perpetua"/>
              </a:rPr>
              <a:t>learn-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df6c5d"/>
                </a:solidFill>
                <a:latin typeface="Perpetua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e6263"/>
                </a:solidFill>
                <a:latin typeface="Perpetua"/>
              </a:rPr>
              <a:t>speak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, you,  we,  they,  plural :  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.g: I talk, you talk, we talk, they talk, Ahmad and Noura talk, the boys tal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he, he, it, singular :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 + 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e talks, he talks, it talks, Sara talks, Ahmad talks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veryday activities and habi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 drink three cups of coffee a day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13" descr="imagescoffff.jpg"/>
          <p:cNvPicPr/>
          <p:nvPr/>
        </p:nvPicPr>
        <p:blipFill>
          <a:blip r:embed="rId1"/>
          <a:stretch/>
        </p:blipFill>
        <p:spPr>
          <a:xfrm>
            <a:off x="1592280" y="2505240"/>
            <a:ext cx="4213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wake up at 7 am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3" descr="wake up.jpg"/>
          <p:cNvPicPr/>
          <p:nvPr/>
        </p:nvPicPr>
        <p:blipFill>
          <a:blip r:embed="rId1"/>
          <a:stretch/>
        </p:blipFill>
        <p:spPr>
          <a:xfrm>
            <a:off x="2124000" y="2386080"/>
            <a:ext cx="3543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ura and Lama always study English togethe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imagesffff.jpg"/>
          <p:cNvPicPr/>
          <p:nvPr/>
        </p:nvPicPr>
        <p:blipFill>
          <a:blip r:embed="rId1"/>
          <a:stretch/>
        </p:blipFill>
        <p:spPr>
          <a:xfrm>
            <a:off x="2484360" y="3141720"/>
            <a:ext cx="3797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s of fac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rk speaks three languages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imagesff.jpg"/>
          <p:cNvPicPr/>
          <p:nvPr/>
        </p:nvPicPr>
        <p:blipFill>
          <a:blip r:embed="rId1"/>
          <a:stretch/>
        </p:blipFill>
        <p:spPr>
          <a:xfrm>
            <a:off x="1422360" y="2557440"/>
            <a:ext cx="4464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ara aldawood teaches grammar 1 and listening 1.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moon revolves around the earth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the miii.jpg"/>
          <p:cNvPicPr/>
          <p:nvPr/>
        </p:nvPicPr>
        <p:blipFill>
          <a:blip r:embed="rId1"/>
          <a:stretch/>
        </p:blipFill>
        <p:spPr>
          <a:xfrm>
            <a:off x="1692360" y="2414520"/>
            <a:ext cx="40082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pin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eacher Jack doesn’t teach English very well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I don’t like music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41:14Z</dcterms:created>
  <dc:creator>sony</dc:creator>
  <dc:description/>
  <dc:language>en-US</dc:language>
  <cp:lastModifiedBy>sony</cp:lastModifiedBy>
  <dcterms:modified xsi:type="dcterms:W3CDTF">2012-04-11T17:30:14Z</dcterms:modified>
  <cp:revision>27</cp:revision>
  <dc:subject/>
  <dc:title>Simple Present</dc:title>
</cp:coreProperties>
</file>