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424-BF68-473A-A33E-63E695D9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730-F32E-4F13-B6C3-E9B5B6AF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2C2-89F4-4C44-AC7F-DC20551D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612-D227-4419-856F-F222072C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ECE6-FBE4-4E72-8172-ED9296BF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28EE-A6C4-4EFD-87F8-7C3B3704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F15A-429C-4B8B-BFE5-2DCEDDB5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04BE-B222-4EAF-89C5-E81EB473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2BED-7A93-4675-9D82-93C02771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649B-1C56-4BA6-AFAF-DDA48F33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8DEF-58EE-4590-9B04-7B9F250E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EB9-CCD8-4F2F-B176-370B02D0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F57B-BE52-4D0A-A2E9-A3628D10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5A04-15D0-47B2-8718-82CAC49C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0099-2016-4F28-9B29-4C21A626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EAFF-E62B-4553-8645-71D33F5A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0E57-B0C7-4EAB-A598-932E80F6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D9C50-AD73-4E77-9AE2-4902BDF9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D017-7DA7-4727-B306-8D8B5FA1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FD97B-0218-4774-86AF-D72729FA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FF225-AB84-45A6-9C1E-1EF62E49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E66D-1BF2-48BB-A8B3-3817C3E7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73E-454F-4029-B1B0-65281C6A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9F1D8-98CA-494B-81EA-63DE4CCB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CD5AC-93A9-4B12-9481-555BFDC2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501A6-3C4A-4433-9DDD-186F439C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C96E8-A59A-4D10-99D0-1E09BAA7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58B7-0A58-47F5-8985-93EEC5CA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9B27-16D3-4110-A564-F3CC68D2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0A8E-BD43-4DBD-B015-77D210D9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5EE45-58F8-461E-B846-156BD786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15200-73F8-4339-B205-62E02C16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8D7F5-DFBF-4D5D-B53C-A0065239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560-66BF-45C4-94E5-B308F84C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4BBB7-ACBE-4396-BD5B-310C4C0F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A2FE4-32CB-4ABE-8837-3891E4A9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876C0-6875-4978-AF55-BC287DE3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621B0-3F4D-47A5-9600-6A78C47B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1D771-98BE-46CC-AE2B-8A9B54CE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671A7-669C-42F8-9F98-A2881B6C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0B0E0-FEB4-4DE7-AD83-D995942F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ACCF1-27C5-421F-BBB9-E44DF861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20E4D-6D04-4272-BB59-41C377E2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7B465-832E-44CC-8277-9F6F24E1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BE9-B211-4C08-9612-F3B08CA4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9E480-21E3-4340-A5AF-9B6BD293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0331C-E78E-4AAB-912B-B7C7B698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CE81A-6ED6-437F-B39E-0214EE3B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7F23C-110D-466E-8451-401260AA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6D1C8-8BCA-4DBA-BB38-ED0B27DC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DE728-8E62-4F70-A56F-8A5F655D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31DCC-1B03-4B29-8B14-0E6E04AD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849F2-89C5-4FAF-B867-CD6A3994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FCB50-BBA5-488B-8CF5-D31BC6EA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20406-7418-4A79-8FD1-A9A0AD81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A05-A3A3-4DBC-9193-C90F7DE1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7EE88-404C-49FA-8B40-3688181C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B16-8AC5-4C5B-9390-80152E5B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616-95CF-4CC4-9888-81C44DA6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4DB-6F21-434A-819E-0040898E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104C-012E-4A55-B4DA-02355C34DF5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56B4-89D6-4926-A933-981D02F8B71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06CD-FB4D-40E8-A71F-513473AA554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F733-49E5-4103-B600-28B8DB9A853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3CBC-8FCB-47A9-9369-08F6CCDBE18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42217"/>
                </a:solidFill>
                <a:latin typeface="Franklin Gothic Book"/>
              </a:rPr>
              <a:t>Simple Present</a:t>
            </a:r>
            <a:r>
              <a:rPr b="0" lang="en-US" sz="4000" spc="-1" strike="noStrike">
                <a:solidFill>
                  <a:srgbClr val="742217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isting condition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hear nois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need to read mor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believe in myself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gative state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Do not :   do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erpetua"/>
              </a:rPr>
              <a:t>I – we – you – they – plura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 don’t, we don’t, you don’t, they don’t, Ahmad and Hoda don’t, the boys don’t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Does not:  does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Perpetua"/>
              </a:rPr>
              <a:t>He – she – it – singula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e doesn’t, she doesn’t, it doesn’t, the boy doesn’t, Noura doesn’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Lu doesn’t speak Arabic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don’t like this girl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he doesn’t wake up at 7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ura and Hoda don’t hear the noise outside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A form of do comes before the subject in yes/no questions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- Sara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peaks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hree languages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Does Sara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peak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hree languages?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es, she does.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, she doesn’t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The boys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tudy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ogether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Do the boys </a:t>
            </a:r>
            <a:r>
              <a:rPr b="0" lang="en-US" sz="4400" spc="-1" strike="noStrike">
                <a:solidFill>
                  <a:srgbClr val="00b050"/>
                </a:solidFill>
                <a:latin typeface="Perpetua"/>
              </a:rPr>
              <a:t>study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together every day?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es, they do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No, they don’t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1a1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a6a1a1"/>
                </a:solidFill>
                <a:latin typeface="Perpetua"/>
              </a:rPr>
              <a:t>talk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– </a:t>
            </a:r>
            <a:r>
              <a:rPr b="0" lang="en-US" sz="3200" spc="-1" strike="noStrike">
                <a:solidFill>
                  <a:srgbClr val="7c6b4d"/>
                </a:solidFill>
                <a:latin typeface="Perpetua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c49f92"/>
                </a:solidFill>
                <a:latin typeface="Perpetua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644646"/>
                </a:solidFill>
                <a:latin typeface="Perpetua"/>
              </a:rPr>
              <a:t>learn-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df6c5d"/>
                </a:solidFill>
                <a:latin typeface="Perpetua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3200" spc="-1" strike="noStrike">
                <a:solidFill>
                  <a:srgbClr val="6e6263"/>
                </a:solidFill>
                <a:latin typeface="Perpetua"/>
              </a:rPr>
              <a:t>speak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, you,  we,  they,  plural :  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verb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.g: I talk, you talk, we talk, they talk, Ahmad and Noura talk, the boys tal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he, he, it, singular :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verb + 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he talks, he talks, it talks, Sara talks, Ahmad talks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veryday activities and habit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I drink three cups of coffee a day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Picture 13" descr="imagescoffff.jpg"/>
          <p:cNvPicPr/>
          <p:nvPr/>
        </p:nvPicPr>
        <p:blipFill>
          <a:blip r:embed="rId1"/>
          <a:stretch/>
        </p:blipFill>
        <p:spPr>
          <a:xfrm>
            <a:off x="1592280" y="2505240"/>
            <a:ext cx="42130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I wake up at 7 am every day.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Picture 3" descr="wake up.jpg"/>
          <p:cNvPicPr/>
          <p:nvPr/>
        </p:nvPicPr>
        <p:blipFill>
          <a:blip r:embed="rId1"/>
          <a:stretch/>
        </p:blipFill>
        <p:spPr>
          <a:xfrm>
            <a:off x="2124000" y="2386080"/>
            <a:ext cx="354348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Noura and Lama always study English together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imagesffff.jpg"/>
          <p:cNvPicPr/>
          <p:nvPr/>
        </p:nvPicPr>
        <p:blipFill>
          <a:blip r:embed="rId1"/>
          <a:stretch/>
        </p:blipFill>
        <p:spPr>
          <a:xfrm>
            <a:off x="2484360" y="3141720"/>
            <a:ext cx="379728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ements of fact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Mark speaks three languages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3" descr="imagesff.jpg"/>
          <p:cNvPicPr/>
          <p:nvPr/>
        </p:nvPicPr>
        <p:blipFill>
          <a:blip r:embed="rId1"/>
          <a:stretch/>
        </p:blipFill>
        <p:spPr>
          <a:xfrm>
            <a:off x="1422360" y="2557440"/>
            <a:ext cx="44640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Sara aldawood teaches grammar 1 and listening 1.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The moon revolves around the earth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Picture 3" descr="the miii.jpg"/>
          <p:cNvPicPr/>
          <p:nvPr/>
        </p:nvPicPr>
        <p:blipFill>
          <a:blip r:embed="rId1"/>
          <a:stretch/>
        </p:blipFill>
        <p:spPr>
          <a:xfrm>
            <a:off x="1692360" y="2414520"/>
            <a:ext cx="40082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3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.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pinion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eacher Jack doesn’t teach English very well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- I don’t like music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3:41:14Z</dcterms:created>
  <dc:creator>sony</dc:creator>
  <dc:description/>
  <dc:language>en-US</dc:language>
  <cp:lastModifiedBy>sony</cp:lastModifiedBy>
  <dcterms:modified xsi:type="dcterms:W3CDTF">2012-04-11T17:30:14Z</dcterms:modified>
  <cp:revision>27</cp:revision>
  <dc:subject/>
  <dc:title>Simple Present</dc:title>
</cp:coreProperties>
</file>