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0773-F10F-461B-9F91-56BAAC0D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88ED-4105-44C8-80B9-B6C3488E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7160-029D-4D60-BE0E-EEB36EA8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E8EC-0A16-4DAA-B9EB-B6857B80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8451-8CB6-4C00-8D29-83E75126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7AAD-A818-4CDE-8D5F-DA212ADB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62CD-3682-4B12-92F7-9297F569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5601-D24A-4935-BE95-B4302310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A2DC-5036-4057-B823-690FEF4B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B894-620D-40BC-8262-EAD086AE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A0DC-63E4-4227-AEEE-B159CEEB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6ECE-90BC-4E88-9CAD-8C7C36D1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2CE7-BBFA-47F0-8C2F-1D279A00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393C-42E5-4A8E-AC99-67DDD964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4965-825E-4EF8-AB47-3AA8332D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8F11-2211-41B6-9860-ABE0EF9E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B3A9-3ED6-4C26-9B99-0052D158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3A5C4-D3D6-4879-80C3-17DB755A8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90F4C-6950-4966-9E8A-CBA83509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6C6B3-CDEB-4666-B183-D3320A0D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87980-6B62-4C98-8168-E359EAC1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6A96D-7689-4C9B-85F9-51822F0C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CB3-9584-481C-B613-06C21838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2CB72-0E09-4DC3-AD6B-53741D88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8239C-ACCC-40E9-9C52-3509313E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73252-E495-4F24-9A33-41DBD027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21C5F-5BE5-4F4E-873F-43F96DD5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9AD86-635F-4ADC-8541-99474B5B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13E12-F885-4D8B-AC4B-B6C19221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D4810-91CB-4F02-BF54-C0DF469F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B36AA-B7B7-45C0-83EA-FE641913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F5961-24EE-4ACB-9D43-62FECBE0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AF4DB-5E67-4BC0-9A3F-627B8EB8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CC6A-A329-433E-AABE-0DA3B938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A935F-B0BC-4A95-89D2-389EFB70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A9278-49FA-4969-8B5E-29B29BDE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4EB8E-A2F9-48EB-B1E3-E668C4F9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1304F-5283-4550-83AC-8E87B36F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96AB2-24D3-412D-B0B6-035063FF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276EB-262E-4333-9F77-0691558D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EC93C-F601-4168-B0E4-11C6206E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13042-09AE-4BF2-A0F7-DFD083D0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1910E-C5C9-4F5C-9650-919E90E0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7AC03-CFFD-4B2C-9060-7B9F2685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9DA9-39A0-4F30-924B-5D4D0C00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95AA8-9183-4887-93B1-BE20A315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5AD29-0109-4B90-84EE-29F8D18B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18B29-02A9-4D93-9B1A-29956520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5C14D-25B5-486A-B380-BA11F27A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E31E0-DE17-45EA-A2D8-04A38DE7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A99B9-77BE-490E-9056-F040786C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62DDD-2501-4BA7-95EA-983B76DF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D2ACC-B5E1-405E-8F33-55149A95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EB388-3202-4361-A564-B3EDF192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4B892-B9B7-4748-8924-7365F2A4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DFD0-F31C-4C7D-A1EB-2D6F3856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85A1D-E14D-4B12-A63A-BE648966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9F638-EF4E-4553-812D-0BE80C80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A3DEA-1B55-488A-9BCD-0F16E145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B71F1-5748-4BA1-8D78-314B154B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DCF6C-11E4-4C20-B1D4-EC46E85B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BA8F6-2E9E-4BA0-A882-F12D7B6B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49875-52B3-42C8-A216-04209DDC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68748-135A-4C41-9956-6E422CAB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99F10-FFAF-48F9-9CD4-927EB019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D9DD1-4779-4E9F-A7F4-62E1D2C2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B6A2-8101-44F6-AE3A-A8CA639D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512FF-5D7D-4534-B9AF-3F44DBDE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C5A4B-98A1-434B-A64C-D4DB9542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7E419-39E9-4487-875C-782EBFC5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A47D4-FF64-4561-8D7C-71110ACC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64C17-1EEF-4428-A613-F631078C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B3BDD-CCCA-43B4-AD60-AE1B44C1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BCD87-04AF-4ADF-BA91-81C04CF5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110A4-49E2-4422-9DBD-0566D55D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14DC8-4DE3-4914-95EE-8E345587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B606F-74F8-4E0C-BD6C-560E8964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409-3244-4EF2-B173-25A1E855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79697-A386-4590-92EF-C470ADB2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D0AAF-27B3-4206-A62B-6D89C0B9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00C7E-D838-4448-A11E-F9E422F0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562DE-D4DA-418B-99BC-F1332060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29834-C323-45D8-88CA-4B155EB2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9F48D-1886-415D-9816-FC71CF9F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53A20-9A92-431B-9B5D-90347388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11ACE-1A02-436D-A89E-9DEA4543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48861-B217-4240-8DCE-C082C2E5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BFA8F-E292-47AF-8C8A-7D66D849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2B3E-4CF6-4697-910A-F1EF1B39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AD8CF-D4A5-4904-A013-F885C4CA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F28FD-69EF-4E2F-9127-6CE8818D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9CDEA-DDA5-4C28-A155-F5DEC43F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2E236-4223-405F-BC43-E631B4C4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1FADB-2072-4087-9820-E169E86F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7BBDE-038F-44A0-B3C0-4A70988E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A5C77-0235-4827-A0B0-1B5A04B4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7AD7-2B64-409B-B1CE-FAF58F765BFE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ae1500"/>
              </a:gs>
              <a:gs pos="50000">
                <a:srgbClr val="f7593d"/>
              </a:gs>
              <a:gs pos="100000">
                <a:srgbClr val="ae15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9a49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21E6-6CF9-4852-A9AD-0AC94F954FF6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C5EB-C915-4F0B-BFB4-1A911B46FB2B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533E-74EB-43C8-90C5-FE16D7C4B37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CE90-8DCD-47EC-8543-3E6BB207984A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B474-7DFD-4905-9332-D5CBBF89AFAD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DE76-19B8-485D-82F2-740E80463EA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5EFA-09DD-4E3C-8170-046B07045526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964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700" spc="-1" strike="noStrike">
              <a:solidFill>
                <a:srgbClr val="696464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d to + the simple form of the verb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describe something that happened regularly in the past but no longer happe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sed t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rea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 lot of book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n used t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trave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 lot in his job but now, since his promotion, he doesn'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add used to + the simple form of the verb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sed t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liv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Brazi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used t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cook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every da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the negative statements, there is no –d ending on use to + we add didn’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y parents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did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use t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lk much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less the question word who or what is the grammatical subject of a question. There is no –d ending on use after did or didn’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i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your parents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use t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cuss things often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id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your best friend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use t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ve in New York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o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used to help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with your homework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e3611"/>
                </a:solidFill>
                <a:latin typeface="Lucida Sans Unicode"/>
              </a:rPr>
              <a:t>My sister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d to help me with my homewor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i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you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use t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v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sed to live in Franc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gular and irregular past tense verb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gular verbs: we add only –ed to the verb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nted – played – arrived – visit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rregular verbs: page 14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ught – went – spent – had – took – at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464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 Be ) &gt;&gt;&gt; was or wer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a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ith singular nouns and with pronouns: I, he, she, it, this and tha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a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the school yesterda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ri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a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home last week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a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the kitch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as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n the internet last night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e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ith plural nouns and with pronou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, we, they, these and thos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r children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e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orn in KSA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y 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e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home yesterda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ere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ungry last nig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464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13:56:55Z</dcterms:created>
  <dc:creator>sony</dc:creator>
  <dc:description/>
  <dc:language>en-US</dc:language>
  <cp:lastModifiedBy>sony</cp:lastModifiedBy>
  <dcterms:modified xsi:type="dcterms:W3CDTF">2012-04-11T17:27:59Z</dcterms:modified>
  <cp:revision>7</cp:revision>
  <dc:subject/>
  <dc:title>Slide 1</dc:title>
</cp:coreProperties>
</file>