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368-10DC-4565-9AAB-4219B7E6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25A-A9F3-416E-A4A9-42AE3B9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766-BBA3-402D-9C48-913FA34B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0CF-6AC5-430F-8C5B-6D2AD6A4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DF93-80C0-44C9-8768-F35F544B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C0CC-F6F8-4FD6-9D11-5A740E9D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1B5D-B254-45FE-AF6A-8B10F25B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082B-250C-4781-91CD-1A9C11E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E86-6530-4C1D-BF33-63F38A8D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3E5E-956F-492B-B6E8-44FF244A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1440-B5D1-4BF2-AA3C-9FF3CC2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E8C-B6EA-4223-B476-BC7590B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3334-7FB3-4AA1-BAB2-8FDD724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B80-606A-4407-856F-BF2C175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753-F425-4021-8EF8-92E1835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D2FD-8AE6-45A6-B75F-523ADFAD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3DC-D351-45F7-93C0-B35F4FD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0E8A-64D5-4075-A26F-F77295D7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4B96-B7A9-4A72-B33B-DB43121E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1E75-3AC3-4F9A-B7EE-3BA804A0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215E-B043-4736-BEC7-FB54B7D3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18EB-D5A5-4F8F-8AEB-2C24BC2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F5E-68BD-4E12-AA7B-449FC5C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5971-37B9-413C-B747-EE0800A8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8188-A2E6-4664-BB01-095A9AA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711E-892C-4A50-802F-5453BD5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C214-6584-4666-92B9-3EE66315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B959-448C-4767-B9D7-E0956E1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8336-D4A8-44EF-ACC6-17AB5D95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5885-DCD2-4549-9FE4-52D29EA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5674-CBDD-41E9-80F9-9BD4824A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0E54-0590-405D-A090-933F1898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7BA2-6058-4B3F-8200-AEC1CA93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7BB-C318-4B6F-96FD-CA18CE2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E9962-3607-4FDE-9C98-A9273BEE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F6E7-5616-4735-AE9A-69129CFA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0338-C5C2-4A71-AF11-86BA79F1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75AE-922B-40D9-8CE6-DBAF6C7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5674-E9D6-48E1-A117-FBD3085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4EBE-F4E2-418D-8694-72E9C91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8456-1322-45F1-87D1-7A142CAD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E0DB-2B49-4E17-8AAE-DEEA71D0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73DD-BD8F-47C8-85AD-8C0FD7D4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34C2D-7C61-402E-A2CA-4FF3D77C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C9C-CAE1-4B9C-A927-90E9440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B17E-1C4C-41FE-BCCD-4D46F9F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8D3D9-02C3-4C34-A624-F662195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C904-4044-4655-A411-0FA56F7D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B06C9-5AE1-4665-A321-32DE094F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851F8-6E99-4DAA-A222-2D06CDC6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43D5-263F-49E8-8218-295002C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B445-043F-41FB-9DCC-52728CF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750C-2D43-4B4D-A915-10D6C617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AB3FA-8687-44FD-B84B-8233A536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4F1E-44F2-4C90-906B-9D5A3C0E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CFC-B06E-4BBB-93AF-73A736B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E14C-3491-450E-A4B4-CD08E11E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CB240-E36B-4B9D-8FCE-C9182CF9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4C91-A304-471B-9CE3-84D5142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C7784-14DA-46C9-96DA-418EF93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3F7D-2E95-4A10-BA51-C8BE0E2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CE4C-6164-4B1C-B586-0E15A75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6586A-C37F-4A32-A179-6E4846E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6CE3-95BC-47A0-A00D-B62DD79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AC58-DB14-4E6C-9315-0EF8721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EE6C1-57D4-4C9C-A6A0-99C3937B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C54-71B5-45D7-8C7A-83D225F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6E85C-2DF1-4922-8F38-26529A68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A8A3-5C92-4F4A-9FD8-B3DF3B0C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7A5F4-A687-435B-AFC3-57324418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BA8E4-1EC0-4898-8950-5A89A6FD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D503-7E39-496A-B151-CCC43BDF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BEEAC-7DDD-4FEE-9BCD-B917B224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EA2D-C291-47B1-814A-6D69367B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C675-917D-41A0-A47F-CF339F0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22829-C29C-47A5-B2A7-E6F1834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D489-9364-4742-AB14-95E043E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FF0-FABA-4502-A6F3-557F017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EE29-1B1D-4E37-9D2F-F378525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B2CA4-F530-4DB5-A169-41FA6E9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9D55-0674-475E-84FE-E6D6E312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7D574-4FB3-4291-93C4-7912770A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E587-21C7-45DE-AFFC-8F0CF03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A1C89-9F51-4958-B8AF-D9C6C682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46AC2-D54B-4A8D-AEE7-D5490B8E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DD53B-7D01-4177-BD32-0EFE9E9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378F-9902-4118-8242-4484594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D6C8-80EA-4B5D-AE13-B64BCD2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410-4284-48AF-AC78-FE6588D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30A7-9550-4A3B-8787-04FF1D0A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281B-F104-4391-A2C4-426CF7E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4314-679B-4CF1-B59C-7B55274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0A9D8-2E84-451B-BA85-FDCF45A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2CD5-6A88-4263-AB2D-5BD61C5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09F4-995A-4C6D-94E5-993FC410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1A9F-BDB3-4A00-A3BE-2BE473B7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966C-8CEA-46A7-9620-B83C1218D4F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A74C-CD4E-40A0-928B-84F3C722606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2A6-0B27-4C2B-B8D6-FBDED653CF2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916D-2D01-415B-A2EF-C5D69F93756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883-3F10-471D-BAE5-F2176C26E89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83DF-AC85-4062-98C8-0216BAA8B8C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6A3-6FE7-4D86-8310-924AEE9FDE9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D867-9704-4569-8FC3-E125158703C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+ the simple form of the verb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describe something that happened regularly in the past but no longer happe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rea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of book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trave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 lot in his job but now, since his promotion, he doesn'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add used to + the simple form of the verb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liv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Brazi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used t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coo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very 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he negative statements, there is no –d ending on use to + we add didn’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y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lk much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ess the question word who or what is the grammatical subject of a question. There is no –d ending on use after did or didn’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parents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cuss things ofte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r best friend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 in New Y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d to hel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with your homework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e3611"/>
                </a:solidFill>
                <a:latin typeface="Lucida Sans Unicode"/>
              </a:rPr>
              <a:t>My sist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help me with my home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di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you 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use to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sed to live in Fra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and irregular past tense verb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gular verbs: we add only –ed to the verb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nted – played – arrived – visite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rregular verbs: page 1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ught – went – spent – had – took – at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Be ) &gt;&gt;&gt; was or w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singular nouns and with pronouns: I, he, she, it, this and tha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school yesterday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o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last week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kitch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as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n the internet last night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th plural nouns and with pronoun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, we, they, these and tho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children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orn in KS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y 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t home yesterda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weren’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ngry las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696464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6:55Z</dcterms:created>
  <dc:creator>sony</dc:creator>
  <dc:description/>
  <dc:language>en-US</dc:language>
  <cp:lastModifiedBy>sony</cp:lastModifiedBy>
  <dcterms:modified xsi:type="dcterms:W3CDTF">2012-04-11T17:27:59Z</dcterms:modified>
  <cp:revision>7</cp:revision>
  <dc:subject/>
  <dc:title>Slide 1</dc:title>
</cp:coreProperties>
</file>