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5926-6F7D-4E5B-A4CA-39D3D38B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1AFF-CADD-4DAD-B09A-9963E648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644-E5DC-4741-B9B7-8CA03831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B7AB-0B19-4AA1-B99A-387FA4E7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6AB8-7E35-4F8F-9064-2492223B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DC7A-C387-44AB-95E5-D0CFA130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B0BA-8D53-4388-8615-7AD73970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E329-B6D9-4F85-B700-CF57316F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D3E6-22AF-478F-92E6-EB51642D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16CD-3B28-47A8-A429-F7C5B5DA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8314-B8C0-4B8C-8C83-57C1E036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BE36-5E27-40E6-8B59-CC1EBE2B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BF1F-DA84-401D-BB6C-EE7EE950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79AB-BDF6-4AA4-95AF-202DD20E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27E8-63E4-438B-8E78-AE7960CC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BE63-3E48-42B4-8430-2A1C7A84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9740-0BD2-40DF-85D7-9CB554BD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71C70-7360-4FBD-8A19-5894B913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34C30-4CE7-4F20-8C75-6126103E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B473A-A1D4-47B1-92FD-DB486A76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FF6E7-E4D6-49A6-B12D-EDCBD704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BA03D-011A-4EBE-8FCC-21A2FC08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A80C-216D-410E-8321-B2CEC2DD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0B7D5-ADF1-48BA-AA81-455658FC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2F23B-1234-4000-98D3-40B6C943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1EBA9-ECE3-4634-AFEC-D51DEA4D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84F86-D1A2-4F46-8FAD-31535AD4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1C1A4-EE93-4EEE-9FD6-7BD63B9F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4C57F-2B8E-443A-879E-4E8B2517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86FC2-4E6F-4ABE-8F84-95124048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B828C-3662-4C73-B2E4-03AE355A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7444F-3402-4539-98D9-FA718A78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EBA40-FF11-46DC-96A5-CBD18A51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ED74-A656-4EFA-92F5-65292734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6D5DD-FDD9-4779-834C-68F89421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AF5A8-6881-4E4D-A521-5454D504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7F345-26D6-4139-AA2D-96003682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6B283-2914-4666-AF3F-2D15C668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0FA8B-FAFD-49D7-BEC0-B29D0D0D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B4C8A-DC83-43BA-9012-3E30BE04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7000A-F4EE-48D4-B2EF-93E8C152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40004-B06D-495C-B05A-05A809F2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1625D-91BB-4A9F-9017-2909EAB1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C5993-C161-420B-ACBF-F1EE49CF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B5B2-881F-43EE-BA02-4B113BE1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A3AD5-2BB7-49D8-A7FD-9FB4204A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0A972-4CCF-4307-A30B-A653CE37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8DE23-B54E-4936-A24B-F6DD7263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4FB32-BD57-44D5-B26D-F66682B3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37073-BE89-4379-BC05-30B44B21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A3C22-E214-4EE3-95A0-BDF5F876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8F3CA-9F53-4089-9D17-6EAD714F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1CDF9-C130-4BC8-9785-9F855A07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BE43E-01EF-451B-A81A-0146548F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A4FA3-45B1-41FB-A5CF-041B6372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DED4-DF79-4613-8687-C808395F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57724-0836-4912-A79F-A5B50B3F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779C3-09DF-4C6F-A153-BFC3943C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B8BC3-74BE-4F1B-B638-C2BDCCA0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15B83-3A12-45D5-A382-3F8AF83C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37D98-B107-4C55-A031-65CE49CA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BB1D8-439F-46C5-9605-E301B7CD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295AB-7C99-42B4-9A2D-AEB56FE7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6E75D-0D2C-487C-A03E-9F107FB7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F649E-83C3-4931-AA67-D7E2E436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68C9B-6CFE-4D9D-BEFE-9B2AA9A1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716-0DD0-443B-BCA5-554B26A0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B3E86-C804-4A7D-9A9A-882F1B8A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CB16B-51B6-4259-97EE-C3B98859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D3EA4-C774-4CEF-B5F5-404B5EA6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61161-042D-46E8-848D-18C3A2CD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E0CEB-BAF3-47C8-8DF0-A9F79A5A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41401-CB68-4F6B-974C-CBCBD2DF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6EA27-5306-4F27-8F2E-D6443A40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1E1A6-2EE6-48F7-BE7D-9859BC3E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90505-51D3-4F25-9344-3E7A9FD2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2E0CA-33BB-4F62-AA38-28C4ABEF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1373-3054-4154-B916-6A305C65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D5502-2B29-4B8A-B843-9F84750B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4F31A-AD0E-4135-8D06-87AC8795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F7DF0-CC1D-4EFF-B4AD-81B5B5D1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B9A7E-94CE-425E-B21F-C9071FC8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0A1F6-C1B4-4043-86A4-D5460E6D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34DA6-D988-4BE7-A9EA-658B6E1E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093A1-5F89-4E07-834A-C49FD8E6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94BDE-6191-46FF-9140-8F9A601B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9AC82-59C9-4FA8-B73E-988EE8C9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79137-08D9-4FBA-8101-F0F5E974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064-1253-4904-9408-449A789A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BA10F-4754-46C9-8C47-A3A20619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0F2F1-682B-423D-809C-F09A6084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B5076-125D-4194-BAB2-F8FB2D87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0E00B-8F10-4ABA-B102-1FAF53A1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78C87-287D-480C-98CF-F055FEAD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3BF71-70B5-4EE4-87E2-416154C3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EECE8-7D1B-4AC6-8ECA-24556AEB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4374-3CD9-4786-B69A-ADB95562D07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ae1500"/>
              </a:gs>
              <a:gs pos="50000">
                <a:srgbClr val="f7593d"/>
              </a:gs>
              <a:gs pos="100000">
                <a:srgbClr val="ae15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9a49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6FF2-A987-4780-809F-E8333051AB0F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3DD7-F424-4624-9D25-54D35B41468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4828-124B-4C4E-829B-371919DAAA2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9C5A-65C5-4969-8725-4B2F1E25195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F168-4413-4D51-A8CA-67ABB3C4E71D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3736-AC5E-42F9-BA21-7AFD4A6F39E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D6BB-90CA-4A67-AB6E-FEA2132B0D3C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964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to + the simple form of the verb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describe something that happened regularly in the past but no longer happe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rea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 lot of book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n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trave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 lot in his job but now, since his promotion, he doesn'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add used to + the simple form of the verb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li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Brazi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cook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very 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the negative statements, there is no –d ending on use to + we add didn’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y parents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did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lk much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less the question word who or what is the grammatical subject of a question. There is no –d ending on use after did or didn’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r parents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cuss things often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r best friend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ve in New York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d to help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with your homework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e3611"/>
                </a:solidFill>
                <a:latin typeface="Lucida Sans Unicode"/>
              </a:rPr>
              <a:t>My sist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to help me with my homewor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v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live in Franc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gular and irregular past tense verb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gular verbs: we add only –ed to the verb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nted – played – arrived – visit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rregular verbs: page 14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ught – went – spent – had – took – at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 Be ) &gt;&gt;&gt; was or we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th singular nouns and with pronouns: I, he, she, it, this and tha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school yester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ri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home last week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kitch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n the internet last night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th plural nouns and with pronou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, we, they, these and tho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childr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orn in KSA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y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home yesterda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ngry last nig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3:56:55Z</dcterms:created>
  <dc:creator>sony</dc:creator>
  <dc:description/>
  <dc:language>en-US</dc:language>
  <cp:lastModifiedBy>sony</cp:lastModifiedBy>
  <dcterms:modified xsi:type="dcterms:W3CDTF">2012-04-11T17:27:59Z</dcterms:modified>
  <cp:revision>7</cp:revision>
  <dc:subject/>
  <dc:title>Slide 1</dc:title>
</cp:coreProperties>
</file>