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0.png" ContentType="image/png"/>
  <Override PartName="/ppt/media/image11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B8B30-75C9-428A-80AF-7AFF27415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755D7-CF6F-4A21-8694-9129D838D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EB67C-CDBF-4A4E-9DC5-896D5CCFF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6B5E8-CF35-48CA-A1F2-812C3C628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82AA2-29BC-4FDC-9B78-B9F5C0070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6CF69-C475-44BF-A0BE-53501C8DD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89BE6-4177-4A18-BD2A-B860530DB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8CAD7-EBD7-4FF1-B78E-0ED93310F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7CE57-0C77-4FAF-80B9-C8186D0BB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6ED61-B0F9-4DBE-AAEE-B9394B668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7250D-4462-4E37-957C-FCA9E9033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78572-C816-4300-9F55-37BF9637A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17F1A-F348-4C27-A8CD-0285F22F6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3E013-BF1B-4360-B4D0-F0AB1530D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6ECD8-D359-46DC-A43F-2A3718DDE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1B1CA-4AF3-4016-A6E3-BB1DF1214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CF114-591F-4B04-8ACF-222918986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1AC36A-4677-4D03-AE67-A176AF5E8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7380B2-9143-4FB9-8BB9-E44CF530E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4C8FA8-8924-40BC-964B-B72B8D497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6887A9-DAC9-4E05-BD95-06F84479B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5C7BE2-B756-47D7-9266-C64418B32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32BA6-9D15-4B73-8C0E-E74589304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3DBA23-8811-4EE5-B6CD-15B5B2809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6FBEBF-936E-461C-B439-F7A3226E0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0E7B1F-2F96-42F6-B755-DD886BC57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AD802B-F336-467D-9CFA-FF30E93E2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635ABD-0D75-4A65-BA63-F2C4B1F33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BD3B0C-2D54-4BCC-B863-00BBF0BCF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22381F-EFF9-4DC1-8B37-DC293167E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239095-CFB9-4BAE-B7FB-F7F7091D6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09848F-4F35-4D17-B81F-163D5E7D5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0D7A32-3295-4F26-9097-49C6FFF95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C67D2-6FD7-4ECB-B375-EC43D9203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4F4637-5F65-42F7-8B31-946B81203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416FEE-5840-40FB-A0D2-9CECF5C7A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005045-35CE-4887-AD53-E8282A014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0AD67B-9AD2-4976-A432-697AC884E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B6718A-F7D6-4997-B7EF-14B24BF07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DA858D-85B9-4B9B-B3EF-1C18FF1FF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F0BA63-8F4B-4AB8-AC5A-4720F7DFB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ADCBD1-05BB-421B-B12B-AA3CB2ABE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01A936-3FC6-4D8C-A22F-CFFF9A19A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9C9191-79BE-4E41-B4AE-25AE6F5FA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CC3EE-78C4-44B3-94F3-1D8953194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9D2AA3-E3FA-413A-8D91-80D40EF80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CCE199-8DA5-49CC-AE33-BD0A9E712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910999-ABF9-4E78-B557-6B8339A6C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E70C65-1327-4B10-A605-BCFDFD106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38FEFB-EA83-479C-B86D-ECF93FEE7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A71A63-6B68-47F5-B553-EA24AE4D6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F245CA-BA63-4FAA-9EF3-7712E1FA6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CAD7A6-F2B9-41FE-A71B-C8BFA0B49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43644A-D1DD-47BB-BE01-417B6DA64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A50441-F867-4B1F-BD3D-522E18B2F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39E86-5BC3-4DB3-A9E7-3EC83189B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BA330B-6242-4E05-822A-DA195BE27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C5B54F-28E5-4C7A-8FB5-4D6188EF6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AABE34-429E-4BC8-869D-E13DD6182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D94146-C8C5-4169-925D-B6BC078D5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654FCC-0EED-4755-95AC-30882F003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A275BF-004D-4EE9-B881-7A44DE500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9F4340-B6B7-41E5-A119-F8C2AD437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BAF5FD-3962-42BD-825E-628A6C3A0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CA9141-6B9D-4678-BF10-B319E2C02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FBAFDC-0D78-4F31-B316-829321A13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78775-6672-47DF-8C58-17B5C02C5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4F74B6-119A-4F24-B37E-840686BFB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2010FA-3CE0-4C7C-B9B8-FB0F68205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7E67AB-AEF6-4094-B2B3-9686A2DDB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4AD117-6EFE-41F8-B37C-986E57E0C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39FB19-A490-4A29-AC04-7C906D45C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4B5A16-9F5A-4750-B7DD-7BEE77245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F3505E-77B9-4B42-AF4E-0F3179739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8041E9-2AD4-44B9-BDF0-936376650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DCED28-B15E-4F46-9C53-92C208E4E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1E6DF9-9C63-4072-AFA0-39F8E9C90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2C0C4-63B9-467A-AF9C-E3DA754F8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37020E-7B4C-4791-A276-E503CA7C3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37BDD7-E27C-427B-AEDD-6151F978B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C73F1D-E4F2-4436-B7FD-59C89EE1C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605A36-4FCA-44A2-AEC2-EF4ACCA29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DEE7C9-60B4-491E-942A-F1F4A1A64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AC0D75-85CA-4F64-A0EA-43792E7DA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19EA40-E325-49BD-8F23-36AAD1ECC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1529EE-763A-4709-958A-25D7A38F0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89939E-D19B-477F-87B8-82B018201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960234-A0D5-4C66-B5CC-59048F827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DF98C-EBB4-42F5-A95F-F1B6CF66E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13F6DC-8235-4985-99C7-24F66630A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F50C06-5986-4EE8-A4B1-C5A48B6CC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F43621-3381-49FA-B064-52D38FA5D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B602B2-AF6D-4209-9AA9-F48CB30CF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B53E9A-1D7B-4FDB-8309-4385EB1D3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8E4216-CCC6-46D7-8E65-39C17AAFE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BAF0B3-A111-4EE9-B018-4A9907E21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e9a49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696464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d34817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d3481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9DFA5-6350-45A9-9B92-6B8AC5966376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ae1500"/>
              </a:gs>
              <a:gs pos="50000">
                <a:srgbClr val="f7593d"/>
              </a:gs>
              <a:gs pos="100000">
                <a:srgbClr val="ae1500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72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720"/>
                <a:gd name="textAreaBottom" fmla="*/ 487080 h 48672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e9a49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4280" y="5236560"/>
              <a:ext cx="9093600" cy="786240"/>
            </a:xfrm>
            <a:custGeom>
              <a:avLst/>
              <a:gdLst>
                <a:gd name="textAreaLeft" fmla="*/ 0 w 9093600"/>
                <a:gd name="textAreaRight" fmla="*/ 9093960 w 9093600"/>
                <a:gd name="textAreaTop" fmla="*/ 0 h 786240"/>
                <a:gd name="textAreaBottom" fmla="*/ 786600 h 78624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828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696464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d34817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d3481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DAF54-AA44-440A-8F10-FA70E43F78C8}" type="slidenum">
              <a:rPr b="0" lang="ar-SA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e9a49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bb2e00"/>
              </a:gs>
              <a:gs pos="100000">
                <a:srgbClr val="ee8779"/>
              </a:gs>
            </a:gsLst>
            <a:lin ang="16200000"/>
          </a:gradFill>
          <a:ln cap="rnd" w="3240">
            <a:solidFill>
              <a:srgbClr val="9b320e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bb2e00"/>
              </a:gs>
              <a:gs pos="100000">
                <a:srgbClr val="ee8779"/>
              </a:gs>
            </a:gsLst>
            <a:lin ang="16200000"/>
          </a:gradFill>
          <a:ln cap="rnd" w="3240">
            <a:solidFill>
              <a:srgbClr val="9b320e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e9e5dc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e9e5dc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d34817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d3481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B67B7-2242-4788-A35B-7AB71DCB93DA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e9a49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e9e5dc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e9e5dc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d34817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d3481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F9BAF-4EE4-40DB-9AC3-B630F42037D7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696464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d34817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d3481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14BC6-CB5D-46C9-9396-5DE1B3821FDF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e9a49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e9e5dc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e9e5dc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d34817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d3481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8E2C2-C06C-4EBA-A501-15FFDF191688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696464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d34817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d3481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38E8E-77DE-4555-84BB-DA6B8EAE18E3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e9a49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bb2e00"/>
              </a:gs>
              <a:gs pos="100000">
                <a:srgbClr val="ee8779"/>
              </a:gs>
            </a:gsLst>
            <a:lin ang="16200000"/>
          </a:gradFill>
          <a:ln cap="rnd" w="3240">
            <a:solidFill>
              <a:srgbClr val="9b320e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bb2e00"/>
              </a:gs>
              <a:gs pos="100000">
                <a:srgbClr val="ee8779"/>
              </a:gs>
            </a:gsLst>
            <a:lin ang="16200000"/>
          </a:gradFill>
          <a:ln cap="rnd" w="3240">
            <a:solidFill>
              <a:srgbClr val="9b320e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e9e5dc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e9e5dc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d34817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d3481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FE8CB-0B49-4818-BCD8-F114DE3565AF}" type="slidenum">
              <a:rPr b="0" lang="ar-SA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le 1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096400" cy="18414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2700" spc="-1" strike="noStrike">
              <a:solidFill>
                <a:srgbClr val="696464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Used to + the simple form of the verb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: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o describe something that happened regularly in the past but no longer happens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 used to </a:t>
            </a:r>
            <a:r>
              <a:rPr b="0" lang="en-US" sz="2700" spc="-1" strike="noStrike">
                <a:solidFill>
                  <a:srgbClr val="ff0000"/>
                </a:solidFill>
                <a:latin typeface="Lucida Sans Unicode"/>
              </a:rPr>
              <a:t>read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a lot of books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Ben used to </a:t>
            </a:r>
            <a:r>
              <a:rPr b="0" lang="en-US" sz="2700" spc="-1" strike="noStrike">
                <a:solidFill>
                  <a:srgbClr val="ff0000"/>
                </a:solidFill>
                <a:latin typeface="Lucida Sans Unicode"/>
              </a:rPr>
              <a:t>travel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a lot in his job but now, since his promotion, he doesn't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3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e add used to + the simple form of the verb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 used to </a:t>
            </a:r>
            <a:r>
              <a:rPr b="0" lang="en-US" sz="2700" spc="-1" strike="noStrike">
                <a:solidFill>
                  <a:srgbClr val="ff0000"/>
                </a:solidFill>
                <a:latin typeface="Lucida Sans Unicode"/>
              </a:rPr>
              <a:t>live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in Brazil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e used to </a:t>
            </a:r>
            <a:r>
              <a:rPr b="0" lang="en-US" sz="2700" spc="-1" strike="noStrike">
                <a:solidFill>
                  <a:srgbClr val="ff0000"/>
                </a:solidFill>
                <a:latin typeface="Lucida Sans Unicode"/>
              </a:rPr>
              <a:t>cook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every day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5" name="Title 1" descr=""/>
          <p:cNvPicPr/>
          <p:nvPr/>
        </p:nvPicPr>
        <p:blipFill>
          <a:blip r:embed="rId1"/>
          <a:stretch/>
        </p:blipFill>
        <p:spPr>
          <a:xfrm>
            <a:off x="201600" y="268200"/>
            <a:ext cx="849168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r the negative statements, there is no –d ending on use to + we add didn’t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y parents </a:t>
            </a:r>
            <a:r>
              <a:rPr b="0" lang="en-US" sz="2700" spc="-1" strike="noStrike">
                <a:solidFill>
                  <a:srgbClr val="00b050"/>
                </a:solidFill>
                <a:latin typeface="Lucida Sans Unicode"/>
              </a:rPr>
              <a:t>didn’t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ff0000"/>
                </a:solidFill>
                <a:latin typeface="Lucida Sans Unicode"/>
              </a:rPr>
              <a:t>use to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alk much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7" name="Title 1" descr=""/>
          <p:cNvPicPr/>
          <p:nvPr/>
        </p:nvPicPr>
        <p:blipFill>
          <a:blip r:embed="rId1"/>
          <a:stretch/>
        </p:blipFill>
        <p:spPr>
          <a:xfrm>
            <a:off x="201600" y="268200"/>
            <a:ext cx="849168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Unless the question word who or what is the grammatical subject of a question. There is no –d ending on use after did or didn’t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0000"/>
                </a:solidFill>
                <a:latin typeface="Lucida Sans Unicode"/>
              </a:rPr>
              <a:t>Did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your parents </a:t>
            </a:r>
            <a:r>
              <a:rPr b="0" lang="en-US" sz="2700" spc="-1" strike="noStrike">
                <a:solidFill>
                  <a:srgbClr val="00b050"/>
                </a:solidFill>
                <a:latin typeface="Lucida Sans Unicode"/>
              </a:rPr>
              <a:t>use to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iscuss things often?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0000"/>
                </a:solidFill>
                <a:latin typeface="Lucida Sans Unicode"/>
              </a:rPr>
              <a:t>Didn’t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your best friend </a:t>
            </a:r>
            <a:r>
              <a:rPr b="0" lang="en-US" sz="2700" spc="-1" strike="noStrike">
                <a:solidFill>
                  <a:srgbClr val="00b050"/>
                </a:solidFill>
                <a:latin typeface="Lucida Sans Unicode"/>
              </a:rPr>
              <a:t>use to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live in New York?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ho </a:t>
            </a:r>
            <a:r>
              <a:rPr b="0" lang="en-US" sz="2700" spc="-1" strike="noStrike">
                <a:solidFill>
                  <a:srgbClr val="00b050"/>
                </a:solidFill>
                <a:latin typeface="Lucida Sans Unicode"/>
              </a:rPr>
              <a:t>used to help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you with your homework?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9e3611"/>
                </a:solidFill>
                <a:latin typeface="Lucida Sans Unicode"/>
              </a:rPr>
              <a:t>My sister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used to help me with my homework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here </a:t>
            </a:r>
            <a:r>
              <a:rPr b="0" lang="en-US" sz="2700" spc="-1" strike="noStrike">
                <a:solidFill>
                  <a:srgbClr val="ff0000"/>
                </a:solidFill>
                <a:latin typeface="Lucida Sans Unicode"/>
              </a:rPr>
              <a:t>did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you </a:t>
            </a:r>
            <a:r>
              <a:rPr b="0" lang="en-US" sz="2700" spc="-1" strike="noStrike">
                <a:solidFill>
                  <a:srgbClr val="00b050"/>
                </a:solidFill>
                <a:latin typeface="Lucida Sans Unicode"/>
              </a:rPr>
              <a:t>use to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live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 used to live in France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9" name="Title 1" descr=""/>
          <p:cNvPicPr/>
          <p:nvPr/>
        </p:nvPicPr>
        <p:blipFill>
          <a:blip r:embed="rId1"/>
          <a:stretch/>
        </p:blipFill>
        <p:spPr>
          <a:xfrm>
            <a:off x="201600" y="268200"/>
            <a:ext cx="849168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d34817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Regular and irregular past tense verbs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Regular verbs: we add only –ed to the verb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anted – played – arrived – visited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rregular verbs: page 147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ought – went – spent – had – took – ate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ar-SA" sz="4100" spc="-1" strike="noStrike">
              <a:solidFill>
                <a:srgbClr val="696464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d34817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( Be ) &gt;&gt;&gt; was or were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34817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Use </a:t>
            </a:r>
            <a:r>
              <a:rPr b="0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was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with singular nouns and with pronouns: I, he, she, it, this and that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He </a:t>
            </a:r>
            <a:r>
              <a:rPr b="0" lang="en-US" sz="2700" spc="-1" strike="noStrike">
                <a:solidFill>
                  <a:srgbClr val="ff0000"/>
                </a:solidFill>
                <a:latin typeface="Lucida Sans Unicode"/>
              </a:rPr>
              <a:t>was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in the school yesterday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ario </a:t>
            </a:r>
            <a:r>
              <a:rPr b="0" lang="en-US" sz="2700" spc="-1" strike="noStrike">
                <a:solidFill>
                  <a:srgbClr val="ff0000"/>
                </a:solidFill>
                <a:latin typeface="Lucida Sans Unicode"/>
              </a:rPr>
              <a:t>was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at home last week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he </a:t>
            </a:r>
            <a:r>
              <a:rPr b="0" lang="en-US" sz="2700" spc="-1" strike="noStrike">
                <a:solidFill>
                  <a:srgbClr val="ff0000"/>
                </a:solidFill>
                <a:latin typeface="Lucida Sans Unicode"/>
              </a:rPr>
              <a:t>was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in the kitche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 </a:t>
            </a:r>
            <a:r>
              <a:rPr b="0" lang="en-US" sz="2700" spc="-1" strike="noStrike">
                <a:solidFill>
                  <a:srgbClr val="ff0000"/>
                </a:solidFill>
                <a:latin typeface="Lucida Sans Unicode"/>
              </a:rPr>
              <a:t>wasn’t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on the internet last night.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3" name="Title 1" descr=""/>
          <p:cNvPicPr/>
          <p:nvPr/>
        </p:nvPicPr>
        <p:blipFill>
          <a:blip r:embed="rId1"/>
          <a:stretch/>
        </p:blipFill>
        <p:spPr>
          <a:xfrm>
            <a:off x="201600" y="268200"/>
            <a:ext cx="849168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Use </a:t>
            </a:r>
            <a:r>
              <a:rPr b="0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were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with plural nouns and with pronouns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: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you, we, they, these and those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Our children </a:t>
            </a:r>
            <a:r>
              <a:rPr b="0" lang="en-US" sz="2700" spc="-1" strike="noStrike">
                <a:solidFill>
                  <a:srgbClr val="ff0000"/>
                </a:solidFill>
                <a:latin typeface="Lucida Sans Unicode"/>
              </a:rPr>
              <a:t>were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born in KSA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y  </a:t>
            </a:r>
            <a:r>
              <a:rPr b="0" lang="en-US" sz="2700" spc="-1" strike="noStrike">
                <a:solidFill>
                  <a:srgbClr val="ff0000"/>
                </a:solidFill>
                <a:latin typeface="Lucida Sans Unicode"/>
              </a:rPr>
              <a:t>were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at home yesterday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e </a:t>
            </a:r>
            <a:r>
              <a:rPr b="0" lang="en-US" sz="2700" spc="-1" strike="noStrike">
                <a:solidFill>
                  <a:srgbClr val="ff0000"/>
                </a:solidFill>
                <a:latin typeface="Lucida Sans Unicode"/>
              </a:rPr>
              <a:t>weren’t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hungry last night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ar-SA" sz="4100" spc="-1" strike="noStrike">
              <a:solidFill>
                <a:srgbClr val="696464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2T13:56:55Z</dcterms:created>
  <dc:creator>sony</dc:creator>
  <dc:description/>
  <dc:language>en-US</dc:language>
  <cp:lastModifiedBy>sony</cp:lastModifiedBy>
  <dcterms:modified xsi:type="dcterms:W3CDTF">2012-04-11T17:27:59Z</dcterms:modified>
  <cp:revision>7</cp:revision>
  <dc:subject/>
  <dc:title>Slide 1</dc:title>
</cp:coreProperties>
</file>